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AFE-80B4-47C5-9DDC-0D697903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CE3-8813-4F64-B5B3-47A3658D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99E-D9A6-438D-8B8B-DAF4BC5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2DF-B7F8-4280-A49E-353AA5A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D53-785A-4177-9E40-19CFD5B3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850-4A99-462A-A827-282B59B1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A07-FB48-4712-9A44-7B4A8FE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966-A091-4382-912A-FEB65F58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B2F-C000-4810-91C8-8CE2306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747-8876-482B-BA78-95855F1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236-8389-4D80-A2B8-AAF307D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DE5-4627-4D8D-8A5C-E8FD421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D35-8043-4F1C-85DA-306F46FD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A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45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716120" y="14112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6080" y="207648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54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62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8500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76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3320" y="141120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689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86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94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102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110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0520" y="297036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2280" y="58356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564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00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131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144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153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161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65760" y="29797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95440" y="876240"/>
            <a:ext cx="3318120" cy="1741680"/>
            <a:chOff x="1495440" y="876240"/>
            <a:chExt cx="3318120" cy="1741680"/>
          </a:xfrm>
        </p:grpSpPr>
        <p:sp>
          <p:nvSpPr>
            <p:cNvPr id="171" name=""/>
            <p:cNvSpPr/>
            <p:nvPr/>
          </p:nvSpPr>
          <p:spPr>
            <a:xfrm>
              <a:off x="1495440" y="1114560"/>
              <a:ext cx="3314520" cy="1503360"/>
            </a:xfrm>
            <a:custGeom>
              <a:avLst/>
              <a:gdLst/>
              <a:ahLst/>
              <a:rect l="l" t="t" r="r" b="b"/>
              <a:pathLst>
                <a:path w="2340" h="1079">
                  <a:moveTo>
                    <a:pt x="0" y="438"/>
                  </a:moveTo>
                  <a:cubicBezTo>
                    <a:pt x="28" y="480"/>
                    <a:pt x="12" y="466"/>
                    <a:pt x="42" y="486"/>
                  </a:cubicBezTo>
                  <a:cubicBezTo>
                    <a:pt x="76" y="538"/>
                    <a:pt x="31" y="477"/>
                    <a:pt x="72" y="510"/>
                  </a:cubicBezTo>
                  <a:cubicBezTo>
                    <a:pt x="78" y="515"/>
                    <a:pt x="79" y="523"/>
                    <a:pt x="84" y="528"/>
                  </a:cubicBezTo>
                  <a:cubicBezTo>
                    <a:pt x="89" y="533"/>
                    <a:pt x="97" y="535"/>
                    <a:pt x="102" y="540"/>
                  </a:cubicBezTo>
                  <a:cubicBezTo>
                    <a:pt x="133" y="567"/>
                    <a:pt x="152" y="601"/>
                    <a:pt x="186" y="624"/>
                  </a:cubicBezTo>
                  <a:cubicBezTo>
                    <a:pt x="201" y="669"/>
                    <a:pt x="179" y="615"/>
                    <a:pt x="210" y="654"/>
                  </a:cubicBezTo>
                  <a:cubicBezTo>
                    <a:pt x="233" y="683"/>
                    <a:pt x="195" y="665"/>
                    <a:pt x="234" y="678"/>
                  </a:cubicBezTo>
                  <a:cubicBezTo>
                    <a:pt x="236" y="684"/>
                    <a:pt x="236" y="691"/>
                    <a:pt x="240" y="696"/>
                  </a:cubicBezTo>
                  <a:cubicBezTo>
                    <a:pt x="245" y="702"/>
                    <a:pt x="254" y="702"/>
                    <a:pt x="258" y="708"/>
                  </a:cubicBezTo>
                  <a:cubicBezTo>
                    <a:pt x="294" y="765"/>
                    <a:pt x="247" y="729"/>
                    <a:pt x="288" y="756"/>
                  </a:cubicBezTo>
                  <a:cubicBezTo>
                    <a:pt x="300" y="791"/>
                    <a:pt x="310" y="819"/>
                    <a:pt x="342" y="840"/>
                  </a:cubicBezTo>
                  <a:cubicBezTo>
                    <a:pt x="344" y="846"/>
                    <a:pt x="344" y="854"/>
                    <a:pt x="348" y="858"/>
                  </a:cubicBezTo>
                  <a:cubicBezTo>
                    <a:pt x="358" y="868"/>
                    <a:pt x="384" y="882"/>
                    <a:pt x="384" y="882"/>
                  </a:cubicBezTo>
                  <a:cubicBezTo>
                    <a:pt x="399" y="905"/>
                    <a:pt x="429" y="921"/>
                    <a:pt x="456" y="930"/>
                  </a:cubicBezTo>
                  <a:cubicBezTo>
                    <a:pt x="484" y="973"/>
                    <a:pt x="586" y="993"/>
                    <a:pt x="636" y="1002"/>
                  </a:cubicBezTo>
                  <a:cubicBezTo>
                    <a:pt x="796" y="1031"/>
                    <a:pt x="952" y="1050"/>
                    <a:pt x="1116" y="1056"/>
                  </a:cubicBezTo>
                  <a:cubicBezTo>
                    <a:pt x="1302" y="1079"/>
                    <a:pt x="1485" y="1065"/>
                    <a:pt x="1674" y="1062"/>
                  </a:cubicBezTo>
                  <a:cubicBezTo>
                    <a:pt x="1764" y="1059"/>
                    <a:pt x="1841" y="1059"/>
                    <a:pt x="1926" y="1038"/>
                  </a:cubicBezTo>
                  <a:cubicBezTo>
                    <a:pt x="1970" y="1027"/>
                    <a:pt x="2007" y="1004"/>
                    <a:pt x="2052" y="996"/>
                  </a:cubicBezTo>
                  <a:cubicBezTo>
                    <a:pt x="2068" y="985"/>
                    <a:pt x="2106" y="972"/>
                    <a:pt x="2106" y="972"/>
                  </a:cubicBezTo>
                  <a:cubicBezTo>
                    <a:pt x="2128" y="950"/>
                    <a:pt x="2154" y="937"/>
                    <a:pt x="2184" y="930"/>
                  </a:cubicBezTo>
                  <a:cubicBezTo>
                    <a:pt x="2203" y="911"/>
                    <a:pt x="2226" y="900"/>
                    <a:pt x="2244" y="882"/>
                  </a:cubicBezTo>
                  <a:cubicBezTo>
                    <a:pt x="2256" y="870"/>
                    <a:pt x="2264" y="854"/>
                    <a:pt x="2274" y="840"/>
                  </a:cubicBezTo>
                  <a:cubicBezTo>
                    <a:pt x="2282" y="815"/>
                    <a:pt x="2291" y="799"/>
                    <a:pt x="2310" y="780"/>
                  </a:cubicBezTo>
                  <a:cubicBezTo>
                    <a:pt x="2316" y="762"/>
                    <a:pt x="2322" y="744"/>
                    <a:pt x="2328" y="726"/>
                  </a:cubicBezTo>
                  <a:cubicBezTo>
                    <a:pt x="2332" y="714"/>
                    <a:pt x="2340" y="690"/>
                    <a:pt x="2340" y="690"/>
                  </a:cubicBezTo>
                  <a:cubicBezTo>
                    <a:pt x="2338" y="554"/>
                    <a:pt x="2338" y="418"/>
                    <a:pt x="2334" y="282"/>
                  </a:cubicBezTo>
                  <a:cubicBezTo>
                    <a:pt x="2333" y="231"/>
                    <a:pt x="2304" y="148"/>
                    <a:pt x="2262" y="120"/>
                  </a:cubicBezTo>
                  <a:cubicBezTo>
                    <a:pt x="2248" y="98"/>
                    <a:pt x="2228" y="68"/>
                    <a:pt x="2208" y="54"/>
                  </a:cubicBezTo>
                  <a:cubicBezTo>
                    <a:pt x="2201" y="34"/>
                    <a:pt x="2178" y="0"/>
                    <a:pt x="2178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2600" y="8762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27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440" y="5907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840" y="590724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6800" y="59072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8600" y="5907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6592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186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199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208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216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1360" y="297972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52920" y="3276720"/>
            <a:ext cx="355680" cy="1020600"/>
            <a:chOff x="4552920" y="3276720"/>
            <a:chExt cx="355680" cy="1020600"/>
          </a:xfrm>
        </p:grpSpPr>
        <p:sp>
          <p:nvSpPr>
            <p:cNvPr id="227" name=""/>
            <p:cNvSpPr/>
            <p:nvPr/>
          </p:nvSpPr>
          <p:spPr>
            <a:xfrm>
              <a:off x="4552920" y="39434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30760" y="32767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3120" y="38606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618080" y="4089240"/>
              <a:ext cx="232920" cy="73080"/>
              <a:chOff x="4618080" y="4089240"/>
              <a:chExt cx="232920" cy="73080"/>
            </a:xfrm>
          </p:grpSpPr>
          <p:sp>
            <p:nvSpPr>
              <p:cNvPr id="231" name=""/>
              <p:cNvSpPr/>
              <p:nvPr/>
            </p:nvSpPr>
            <p:spPr>
              <a:xfrm>
                <a:off x="461808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97280" y="40892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7180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9720" y="4292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9840" y="394020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48440" y="43592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63960" y="3187800"/>
            <a:ext cx="1509840" cy="1154160"/>
            <a:chOff x="4863960" y="3187800"/>
            <a:chExt cx="1509840" cy="1154160"/>
          </a:xfrm>
        </p:grpSpPr>
        <p:sp>
          <p:nvSpPr>
            <p:cNvPr id="239" name=""/>
            <p:cNvSpPr/>
            <p:nvPr/>
          </p:nvSpPr>
          <p:spPr>
            <a:xfrm>
              <a:off x="6018120" y="398772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63960" y="3187800"/>
              <a:ext cx="123372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1080" y="397188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076800" y="4140360"/>
              <a:ext cx="244440" cy="72720"/>
              <a:chOff x="6076800" y="4140360"/>
              <a:chExt cx="244440" cy="72720"/>
            </a:xfrm>
          </p:grpSpPr>
          <p:sp>
            <p:nvSpPr>
              <p:cNvPr id="243" name=""/>
              <p:cNvSpPr/>
              <p:nvPr/>
            </p:nvSpPr>
            <p:spPr>
              <a:xfrm>
                <a:off x="6076800" y="414036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57800" y="414036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24400" y="4140360"/>
                <a:ext cx="96840" cy="72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37012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352680" y="3187800"/>
            <a:ext cx="1199880" cy="1066680"/>
            <a:chOff x="3352680" y="3187800"/>
            <a:chExt cx="1199880" cy="1066680"/>
          </a:xfrm>
        </p:grpSpPr>
        <p:sp>
          <p:nvSpPr>
            <p:cNvPr id="248" name=""/>
            <p:cNvSpPr/>
            <p:nvPr/>
          </p:nvSpPr>
          <p:spPr>
            <a:xfrm>
              <a:off x="3352680" y="389880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671640" y="31878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72000" y="3876840"/>
              <a:ext cx="66600" cy="5868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97320" y="4049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2480" y="4049640"/>
              <a:ext cx="7272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43480" y="40496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396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52520" y="1409760"/>
            <a:ext cx="4061160" cy="1990800"/>
            <a:chOff x="1352520" y="1409760"/>
            <a:chExt cx="4061160" cy="1990800"/>
          </a:xfrm>
        </p:grpSpPr>
        <p:sp>
          <p:nvSpPr>
            <p:cNvPr id="256" name=""/>
            <p:cNvSpPr/>
            <p:nvPr/>
          </p:nvSpPr>
          <p:spPr>
            <a:xfrm>
              <a:off x="1352520" y="1666800"/>
              <a:ext cx="4029120" cy="1733760"/>
            </a:xfrm>
            <a:custGeom>
              <a:avLst/>
              <a:gdLst/>
              <a:ahLst/>
              <a:rect l="l" t="t" r="r" b="b"/>
              <a:pathLst>
                <a:path w="2538" h="1092">
                  <a:moveTo>
                    <a:pt x="0" y="150"/>
                  </a:moveTo>
                  <a:cubicBezTo>
                    <a:pt x="17" y="200"/>
                    <a:pt x="30" y="232"/>
                    <a:pt x="60" y="276"/>
                  </a:cubicBezTo>
                  <a:cubicBezTo>
                    <a:pt x="68" y="288"/>
                    <a:pt x="72" y="304"/>
                    <a:pt x="84" y="312"/>
                  </a:cubicBezTo>
                  <a:cubicBezTo>
                    <a:pt x="112" y="330"/>
                    <a:pt x="101" y="335"/>
                    <a:pt x="138" y="360"/>
                  </a:cubicBezTo>
                  <a:cubicBezTo>
                    <a:pt x="150" y="368"/>
                    <a:pt x="174" y="384"/>
                    <a:pt x="174" y="384"/>
                  </a:cubicBezTo>
                  <a:cubicBezTo>
                    <a:pt x="195" y="416"/>
                    <a:pt x="251" y="468"/>
                    <a:pt x="288" y="480"/>
                  </a:cubicBezTo>
                  <a:cubicBezTo>
                    <a:pt x="317" y="509"/>
                    <a:pt x="341" y="522"/>
                    <a:pt x="378" y="534"/>
                  </a:cubicBezTo>
                  <a:cubicBezTo>
                    <a:pt x="396" y="540"/>
                    <a:pt x="414" y="556"/>
                    <a:pt x="432" y="564"/>
                  </a:cubicBezTo>
                  <a:cubicBezTo>
                    <a:pt x="527" y="606"/>
                    <a:pt x="637" y="617"/>
                    <a:pt x="738" y="630"/>
                  </a:cubicBezTo>
                  <a:cubicBezTo>
                    <a:pt x="843" y="643"/>
                    <a:pt x="945" y="675"/>
                    <a:pt x="1050" y="690"/>
                  </a:cubicBezTo>
                  <a:cubicBezTo>
                    <a:pt x="1109" y="710"/>
                    <a:pt x="1173" y="720"/>
                    <a:pt x="1230" y="744"/>
                  </a:cubicBezTo>
                  <a:cubicBezTo>
                    <a:pt x="1238" y="748"/>
                    <a:pt x="1246" y="752"/>
                    <a:pt x="1254" y="756"/>
                  </a:cubicBezTo>
                  <a:cubicBezTo>
                    <a:pt x="1260" y="760"/>
                    <a:pt x="1265" y="765"/>
                    <a:pt x="1272" y="768"/>
                  </a:cubicBezTo>
                  <a:cubicBezTo>
                    <a:pt x="1294" y="778"/>
                    <a:pt x="1321" y="784"/>
                    <a:pt x="1344" y="792"/>
                  </a:cubicBezTo>
                  <a:cubicBezTo>
                    <a:pt x="1389" y="807"/>
                    <a:pt x="1432" y="823"/>
                    <a:pt x="1476" y="840"/>
                  </a:cubicBezTo>
                  <a:cubicBezTo>
                    <a:pt x="1488" y="845"/>
                    <a:pt x="1501" y="845"/>
                    <a:pt x="1512" y="852"/>
                  </a:cubicBezTo>
                  <a:cubicBezTo>
                    <a:pt x="1535" y="868"/>
                    <a:pt x="1592" y="894"/>
                    <a:pt x="1620" y="906"/>
                  </a:cubicBezTo>
                  <a:cubicBezTo>
                    <a:pt x="1632" y="911"/>
                    <a:pt x="1645" y="911"/>
                    <a:pt x="1656" y="918"/>
                  </a:cubicBezTo>
                  <a:cubicBezTo>
                    <a:pt x="1797" y="1012"/>
                    <a:pt x="1964" y="1059"/>
                    <a:pt x="2130" y="1092"/>
                  </a:cubicBezTo>
                  <a:cubicBezTo>
                    <a:pt x="2172" y="1090"/>
                    <a:pt x="2214" y="1091"/>
                    <a:pt x="2256" y="1086"/>
                  </a:cubicBezTo>
                  <a:cubicBezTo>
                    <a:pt x="2269" y="1085"/>
                    <a:pt x="2292" y="1074"/>
                    <a:pt x="2292" y="1074"/>
                  </a:cubicBezTo>
                  <a:cubicBezTo>
                    <a:pt x="2296" y="1068"/>
                    <a:pt x="2298" y="1060"/>
                    <a:pt x="2304" y="1056"/>
                  </a:cubicBezTo>
                  <a:cubicBezTo>
                    <a:pt x="2315" y="1049"/>
                    <a:pt x="2340" y="1044"/>
                    <a:pt x="2340" y="1044"/>
                  </a:cubicBezTo>
                  <a:cubicBezTo>
                    <a:pt x="2346" y="1038"/>
                    <a:pt x="2351" y="1031"/>
                    <a:pt x="2358" y="1026"/>
                  </a:cubicBezTo>
                  <a:cubicBezTo>
                    <a:pt x="2363" y="1022"/>
                    <a:pt x="2371" y="1024"/>
                    <a:pt x="2376" y="1020"/>
                  </a:cubicBezTo>
                  <a:cubicBezTo>
                    <a:pt x="2382" y="1015"/>
                    <a:pt x="2383" y="1007"/>
                    <a:pt x="2388" y="1002"/>
                  </a:cubicBezTo>
                  <a:cubicBezTo>
                    <a:pt x="2408" y="982"/>
                    <a:pt x="2448" y="940"/>
                    <a:pt x="2472" y="924"/>
                  </a:cubicBezTo>
                  <a:cubicBezTo>
                    <a:pt x="2483" y="892"/>
                    <a:pt x="2503" y="866"/>
                    <a:pt x="2514" y="834"/>
                  </a:cubicBezTo>
                  <a:cubicBezTo>
                    <a:pt x="2522" y="772"/>
                    <a:pt x="2526" y="709"/>
                    <a:pt x="2538" y="648"/>
                  </a:cubicBezTo>
                  <a:cubicBezTo>
                    <a:pt x="2536" y="526"/>
                    <a:pt x="2536" y="404"/>
                    <a:pt x="2532" y="282"/>
                  </a:cubicBezTo>
                  <a:cubicBezTo>
                    <a:pt x="2531" y="236"/>
                    <a:pt x="2498" y="190"/>
                    <a:pt x="2496" y="144"/>
                  </a:cubicBezTo>
                  <a:cubicBezTo>
                    <a:pt x="2494" y="96"/>
                    <a:pt x="2496" y="48"/>
                    <a:pt x="2496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22720" y="1409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3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1000" y="589932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1720" y="589932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7120" y="58993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90840" y="14209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2360" y="208584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4984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2280" y="297036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323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327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59120" y="395928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2920" y="3997440"/>
            <a:ext cx="84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57960" y="40543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61040" y="52135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560" y="5165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7800" y="586584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80" y="58658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0680" y="586584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61560" y="62946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si continua fino a trovare il go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4-10-21T22:29:08Z</dcterms:modified>
  <cp:revision>390</cp:revision>
  <dc:subject/>
  <dc:title>Diapositiva 1</dc:title>
</cp:coreProperties>
</file>