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9479-FF88-44CC-9DFA-DF204BCE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8413-CCC1-459D-BE0B-8C793953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488-C3C3-43D9-9789-8D8CBFFD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2BB-1712-4C8A-B87C-B7093EF0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0DD-E5E3-4016-BD25-50974C57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35BF-382F-4524-B3DE-E4458ED3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CC2-4281-424C-8967-A3B2B27B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198-36F0-495F-A94F-5DD38A2D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3E05-98F2-4AD8-B6DD-E63E6316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9B5A-ACD2-4F1D-86AD-8700E624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6B8-A602-4423-A012-BA3E9F9F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666-A764-41DA-B7EF-E7C1410E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4394-D97F-4609-9D3C-E144E47F6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476280"/>
            <a:ext cx="884556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6960" y="30463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erca Gr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to iniziale: ROC, Goal: K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39880" y="366840"/>
            <a:ext cx="354240" cy="35532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28800" y="51768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05120" y="51768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81440" y="517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928880" y="677880"/>
            <a:ext cx="755640" cy="711360"/>
            <a:chOff x="1928880" y="677880"/>
            <a:chExt cx="755640" cy="711360"/>
          </a:xfrm>
        </p:grpSpPr>
        <p:sp>
          <p:nvSpPr>
            <p:cNvPr id="49" name=""/>
            <p:cNvSpPr/>
            <p:nvPr/>
          </p:nvSpPr>
          <p:spPr>
            <a:xfrm>
              <a:off x="1928880" y="103356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203560" y="677880"/>
              <a:ext cx="48096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03560" y="1012680"/>
              <a:ext cx="64800" cy="6048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17800" y="1184400"/>
              <a:ext cx="6336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89080" y="118440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65400" y="118440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949480" y="677880"/>
            <a:ext cx="711360" cy="711360"/>
            <a:chOff x="2949480" y="677880"/>
            <a:chExt cx="711360" cy="711360"/>
          </a:xfrm>
        </p:grpSpPr>
        <p:sp>
          <p:nvSpPr>
            <p:cNvPr id="56" name=""/>
            <p:cNvSpPr/>
            <p:nvPr/>
          </p:nvSpPr>
          <p:spPr>
            <a:xfrm>
              <a:off x="3305160" y="103356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9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9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49480" y="677880"/>
              <a:ext cx="39384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78160" y="100656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17"/>
                  </a:moveTo>
                  <a:lnTo>
                    <a:pt x="41" y="40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94080" y="1184400"/>
              <a:ext cx="6516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1" y="21"/>
                  </a:moveTo>
                  <a:lnTo>
                    <a:pt x="34" y="23"/>
                  </a:lnTo>
                  <a:lnTo>
                    <a:pt x="38" y="24"/>
                  </a:lnTo>
                  <a:lnTo>
                    <a:pt x="41" y="29"/>
                  </a:lnTo>
                  <a:lnTo>
                    <a:pt x="41" y="32"/>
                  </a:lnTo>
                  <a:lnTo>
                    <a:pt x="41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9"/>
                  </a:lnTo>
                  <a:lnTo>
                    <a:pt x="39" y="12"/>
                  </a:lnTo>
                  <a:lnTo>
                    <a:pt x="38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7" y="42"/>
                  </a:lnTo>
                  <a:lnTo>
                    <a:pt x="30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70400" y="1184400"/>
              <a:ext cx="6660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7" y="0"/>
                  </a:lnTo>
                  <a:lnTo>
                    <a:pt x="32" y="3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2" y="21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8"/>
                  </a:lnTo>
                  <a:lnTo>
                    <a:pt x="32" y="43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7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0"/>
                  </a:lnTo>
                  <a:close/>
                  <a:moveTo>
                    <a:pt x="21" y="1"/>
                  </a:moveTo>
                  <a:lnTo>
                    <a:pt x="18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8" y="29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2"/>
                  </a:lnTo>
                  <a:lnTo>
                    <a:pt x="18" y="43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5" y="29"/>
                  </a:lnTo>
                  <a:lnTo>
                    <a:pt x="35" y="23"/>
                  </a:lnTo>
                  <a:lnTo>
                    <a:pt x="35" y="15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49600" y="1184400"/>
              <a:ext cx="44640" cy="712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7" y="0"/>
                  </a:moveTo>
                  <a:lnTo>
                    <a:pt x="27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0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6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49560" y="403200"/>
            <a:ext cx="4932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83160" y="94608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00960" y="4208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84920" y="11239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2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53360" y="109548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1480" y="57103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99080" y="181620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506680" y="1344600"/>
            <a:ext cx="843120" cy="887400"/>
            <a:chOff x="2506680" y="1344600"/>
            <a:chExt cx="843120" cy="887400"/>
          </a:xfrm>
        </p:grpSpPr>
        <p:sp>
          <p:nvSpPr>
            <p:cNvPr id="70" name=""/>
            <p:cNvSpPr/>
            <p:nvPr/>
          </p:nvSpPr>
          <p:spPr>
            <a:xfrm>
              <a:off x="2506680" y="187632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779560" y="1344600"/>
              <a:ext cx="570240" cy="525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9560" y="1808280"/>
              <a:ext cx="6516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25" y="0"/>
                  </a:moveTo>
                  <a:lnTo>
                    <a:pt x="0" y="39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5600" y="202716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71920" y="2027160"/>
              <a:ext cx="7596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2" y="2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27"/>
                  </a:lnTo>
                  <a:lnTo>
                    <a:pt x="40" y="33"/>
                  </a:lnTo>
                  <a:lnTo>
                    <a:pt x="40" y="37"/>
                  </a:lnTo>
                  <a:lnTo>
                    <a:pt x="37" y="40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18" y="45"/>
                  </a:lnTo>
                  <a:lnTo>
                    <a:pt x="14" y="44"/>
                  </a:lnTo>
                  <a:lnTo>
                    <a:pt x="11" y="40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8" y="2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8"/>
                  </a:lnTo>
                  <a:lnTo>
                    <a:pt x="14" y="31"/>
                  </a:lnTo>
                  <a:lnTo>
                    <a:pt x="14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2" y="42"/>
                  </a:lnTo>
                  <a:lnTo>
                    <a:pt x="36" y="39"/>
                  </a:lnTo>
                  <a:lnTo>
                    <a:pt x="37" y="37"/>
                  </a:lnTo>
                  <a:lnTo>
                    <a:pt x="39" y="33"/>
                  </a:lnTo>
                  <a:lnTo>
                    <a:pt x="39" y="27"/>
                  </a:lnTo>
                  <a:lnTo>
                    <a:pt x="39" y="8"/>
                  </a:lnTo>
                  <a:lnTo>
                    <a:pt x="39" y="5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52560" y="2027160"/>
              <a:ext cx="7164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41" y="14"/>
                  </a:lnTo>
                  <a:lnTo>
                    <a:pt x="39" y="14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5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14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9" y="34"/>
                  </a:lnTo>
                  <a:lnTo>
                    <a:pt x="13" y="39"/>
                  </a:lnTo>
                  <a:lnTo>
                    <a:pt x="17" y="4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4" y="28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1" y="28"/>
                  </a:lnTo>
                  <a:lnTo>
                    <a:pt x="41" y="42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5" y="45"/>
                  </a:lnTo>
                  <a:lnTo>
                    <a:pt x="19" y="45"/>
                  </a:lnTo>
                  <a:lnTo>
                    <a:pt x="14" y="44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3"/>
                  </a:lnTo>
                  <a:lnTo>
                    <a:pt x="6" y="6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616200" y="1344600"/>
            <a:ext cx="1067040" cy="932040"/>
            <a:chOff x="3616200" y="1344600"/>
            <a:chExt cx="1067040" cy="932040"/>
          </a:xfrm>
        </p:grpSpPr>
        <p:sp>
          <p:nvSpPr>
            <p:cNvPr id="77" name=""/>
            <p:cNvSpPr/>
            <p:nvPr/>
          </p:nvSpPr>
          <p:spPr>
            <a:xfrm>
              <a:off x="4327560" y="192096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6200" y="1344600"/>
              <a:ext cx="747720" cy="614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97320" y="1898640"/>
              <a:ext cx="66600" cy="6048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16480" y="207180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4" y="22"/>
                  </a:moveTo>
                  <a:lnTo>
                    <a:pt x="35" y="22"/>
                  </a:lnTo>
                  <a:lnTo>
                    <a:pt x="35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6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5" y="37"/>
                  </a:lnTo>
                  <a:lnTo>
                    <a:pt x="35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94240" y="207180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2" y="0"/>
                  </a:moveTo>
                  <a:lnTo>
                    <a:pt x="47" y="0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8" y="9"/>
                  </a:lnTo>
                  <a:lnTo>
                    <a:pt x="27" y="25"/>
                  </a:lnTo>
                  <a:lnTo>
                    <a:pt x="27" y="37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9" y="44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28"/>
                  </a:lnTo>
                  <a:lnTo>
                    <a:pt x="8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5" y="23"/>
                  </a:lnTo>
                  <a:lnTo>
                    <a:pt x="35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68760" y="207180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3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7"/>
                  </a:lnTo>
                  <a:lnTo>
                    <a:pt x="42" y="40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1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916640" y="1941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07360" y="19796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25720" y="182556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171960" y="2187720"/>
            <a:ext cx="1199520" cy="1066680"/>
            <a:chOff x="3171960" y="2187720"/>
            <a:chExt cx="1199520" cy="1066680"/>
          </a:xfrm>
        </p:grpSpPr>
        <p:sp>
          <p:nvSpPr>
            <p:cNvPr id="87" name=""/>
            <p:cNvSpPr/>
            <p:nvPr/>
          </p:nvSpPr>
          <p:spPr>
            <a:xfrm>
              <a:off x="3171960" y="289872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1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2" y="32"/>
                  </a:lnTo>
                  <a:lnTo>
                    <a:pt x="209" y="56"/>
                  </a:lnTo>
                  <a:lnTo>
                    <a:pt x="220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490560" y="2187720"/>
              <a:ext cx="880920" cy="747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90920" y="2876400"/>
              <a:ext cx="66600" cy="5904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26" y="0"/>
                  </a:moveTo>
                  <a:lnTo>
                    <a:pt x="0" y="37"/>
                  </a:lnTo>
                  <a:lnTo>
                    <a:pt x="42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16240" y="304956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8" y="32"/>
                  </a:moveTo>
                  <a:lnTo>
                    <a:pt x="39" y="32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7" y="43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5" y="38"/>
                  </a:lnTo>
                  <a:lnTo>
                    <a:pt x="36" y="37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81400" y="3049560"/>
              <a:ext cx="73080" cy="71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29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3"/>
                  </a:lnTo>
                  <a:lnTo>
                    <a:pt x="3" y="43"/>
                  </a:lnTo>
                  <a:lnTo>
                    <a:pt x="4" y="40"/>
                  </a:lnTo>
                  <a:lnTo>
                    <a:pt x="6" y="3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9" y="37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5" y="43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29" y="31"/>
                  </a:lnTo>
                  <a:close/>
                  <a:moveTo>
                    <a:pt x="29" y="27"/>
                  </a:moveTo>
                  <a:lnTo>
                    <a:pt x="22" y="10"/>
                  </a:lnTo>
                  <a:lnTo>
                    <a:pt x="14" y="27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62400" y="304956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39" y="14"/>
                  </a:lnTo>
                  <a:lnTo>
                    <a:pt x="39" y="14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8" y="14"/>
                  </a:lnTo>
                  <a:lnTo>
                    <a:pt x="6" y="21"/>
                  </a:lnTo>
                  <a:lnTo>
                    <a:pt x="8" y="27"/>
                  </a:lnTo>
                  <a:lnTo>
                    <a:pt x="9" y="34"/>
                  </a:lnTo>
                  <a:lnTo>
                    <a:pt x="12" y="38"/>
                  </a:lnTo>
                  <a:lnTo>
                    <a:pt x="16" y="41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6" y="43"/>
                  </a:lnTo>
                  <a:lnTo>
                    <a:pt x="30" y="43"/>
                  </a:lnTo>
                  <a:lnTo>
                    <a:pt x="31" y="41"/>
                  </a:lnTo>
                  <a:lnTo>
                    <a:pt x="34" y="41"/>
                  </a:lnTo>
                  <a:lnTo>
                    <a:pt x="34" y="27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7"/>
                  </a:lnTo>
                  <a:lnTo>
                    <a:pt x="40" y="41"/>
                  </a:lnTo>
                  <a:lnTo>
                    <a:pt x="36" y="43"/>
                  </a:lnTo>
                  <a:lnTo>
                    <a:pt x="33" y="45"/>
                  </a:lnTo>
                  <a:lnTo>
                    <a:pt x="28" y="45"/>
                  </a:lnTo>
                  <a:lnTo>
                    <a:pt x="23" y="45"/>
                  </a:lnTo>
                  <a:lnTo>
                    <a:pt x="19" y="45"/>
                  </a:lnTo>
                  <a:lnTo>
                    <a:pt x="12" y="43"/>
                  </a:lnTo>
                  <a:lnTo>
                    <a:pt x="8" y="40"/>
                  </a:lnTo>
                  <a:lnTo>
                    <a:pt x="5" y="37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3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83240" y="2187720"/>
            <a:ext cx="1509480" cy="1153800"/>
            <a:chOff x="4683240" y="2187720"/>
            <a:chExt cx="1509480" cy="1153800"/>
          </a:xfrm>
        </p:grpSpPr>
        <p:sp>
          <p:nvSpPr>
            <p:cNvPr id="94" name=""/>
            <p:cNvSpPr/>
            <p:nvPr/>
          </p:nvSpPr>
          <p:spPr>
            <a:xfrm>
              <a:off x="5837400" y="2987640"/>
              <a:ext cx="35532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3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3240" y="2187720"/>
              <a:ext cx="1233360" cy="839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50000" y="297180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19"/>
                  </a:moveTo>
                  <a:lnTo>
                    <a:pt x="43" y="35"/>
                  </a:lnTo>
                  <a:lnTo>
                    <a:pt x="1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896080" y="3139920"/>
              <a:ext cx="244440" cy="73080"/>
              <a:chOff x="5896080" y="3139920"/>
              <a:chExt cx="244440" cy="73080"/>
            </a:xfrm>
          </p:grpSpPr>
          <p:sp>
            <p:nvSpPr>
              <p:cNvPr id="98" name=""/>
              <p:cNvSpPr/>
              <p:nvPr/>
            </p:nvSpPr>
            <p:spPr>
              <a:xfrm>
                <a:off x="5896080" y="3139920"/>
                <a:ext cx="7956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3" y="0"/>
                    </a:lnTo>
                    <a:lnTo>
                      <a:pt x="41" y="35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13" y="10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977080" y="3139920"/>
                <a:ext cx="61920" cy="73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3" y="4"/>
                    </a:moveTo>
                    <a:lnTo>
                      <a:pt x="13" y="21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28" y="18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7"/>
                    </a:lnTo>
                    <a:lnTo>
                      <a:pt x="28" y="25"/>
                    </a:lnTo>
                    <a:lnTo>
                      <a:pt x="28" y="24"/>
                    </a:lnTo>
                    <a:lnTo>
                      <a:pt x="27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3" y="24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3" y="41"/>
                    </a:lnTo>
                    <a:lnTo>
                      <a:pt x="35" y="38"/>
                    </a:lnTo>
                    <a:lnTo>
                      <a:pt x="38" y="35"/>
                    </a:lnTo>
                    <a:lnTo>
                      <a:pt x="39" y="35"/>
                    </a:lnTo>
                    <a:lnTo>
                      <a:pt x="35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7" y="38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43680" y="3139920"/>
                <a:ext cx="96840" cy="7308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4"/>
                    </a:lnTo>
                    <a:lnTo>
                      <a:pt x="55" y="5"/>
                    </a:lnTo>
                    <a:lnTo>
                      <a:pt x="55" y="7"/>
                    </a:lnTo>
                    <a:lnTo>
                      <a:pt x="53" y="10"/>
                    </a:lnTo>
                    <a:lnTo>
                      <a:pt x="42" y="46"/>
                    </a:lnTo>
                    <a:lnTo>
                      <a:pt x="41" y="46"/>
                    </a:lnTo>
                    <a:lnTo>
                      <a:pt x="30" y="19"/>
                    </a:lnTo>
                    <a:lnTo>
                      <a:pt x="22" y="46"/>
                    </a:lnTo>
                    <a:lnTo>
                      <a:pt x="19" y="46"/>
                    </a:lnTo>
                    <a:lnTo>
                      <a:pt x="7" y="10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4" y="10"/>
                    </a:lnTo>
                    <a:lnTo>
                      <a:pt x="22" y="35"/>
                    </a:lnTo>
                    <a:lnTo>
                      <a:pt x="28" y="14"/>
                    </a:lnTo>
                    <a:lnTo>
                      <a:pt x="27" y="10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38" y="0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3" y="7"/>
                    </a:lnTo>
                    <a:lnTo>
                      <a:pt x="35" y="11"/>
                    </a:lnTo>
                    <a:lnTo>
                      <a:pt x="42" y="35"/>
                    </a:lnTo>
                    <a:lnTo>
                      <a:pt x="50" y="10"/>
                    </a:lnTo>
                    <a:lnTo>
                      <a:pt x="52" y="7"/>
                    </a:lnTo>
                    <a:lnTo>
                      <a:pt x="52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4371840" y="2276640"/>
            <a:ext cx="355680" cy="1020600"/>
            <a:chOff x="4371840" y="2276640"/>
            <a:chExt cx="355680" cy="1020600"/>
          </a:xfrm>
        </p:grpSpPr>
        <p:sp>
          <p:nvSpPr>
            <p:cNvPr id="102" name=""/>
            <p:cNvSpPr/>
            <p:nvPr/>
          </p:nvSpPr>
          <p:spPr>
            <a:xfrm>
              <a:off x="4371840" y="2943360"/>
              <a:ext cx="35568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3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1"/>
                  </a:lnTo>
                  <a:lnTo>
                    <a:pt x="0" y="112"/>
                  </a:lnTo>
                  <a:lnTo>
                    <a:pt x="4" y="82"/>
                  </a:lnTo>
                  <a:lnTo>
                    <a:pt x="15" y="56"/>
                  </a:lnTo>
                  <a:lnTo>
                    <a:pt x="32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9680" y="2276640"/>
              <a:ext cx="180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32400" y="28605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lnTo>
                    <a:pt x="11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437000" y="3089160"/>
              <a:ext cx="232920" cy="73080"/>
              <a:chOff x="4437000" y="3089160"/>
              <a:chExt cx="232920" cy="73080"/>
            </a:xfrm>
          </p:grpSpPr>
          <p:sp>
            <p:nvSpPr>
              <p:cNvPr id="106" name=""/>
              <p:cNvSpPr/>
              <p:nvPr/>
            </p:nvSpPr>
            <p:spPr>
              <a:xfrm>
                <a:off x="4437000" y="308916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3" y="0"/>
                    </a:lnTo>
                    <a:lnTo>
                      <a:pt x="41" y="35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13" y="10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8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6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3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16200" y="3089160"/>
                <a:ext cx="75960" cy="7308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31" y="32"/>
                    </a:moveTo>
                    <a:lnTo>
                      <a:pt x="13" y="32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6" y="41"/>
                    </a:lnTo>
                    <a:lnTo>
                      <a:pt x="8" y="36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41" y="38"/>
                    </a:lnTo>
                    <a:lnTo>
                      <a:pt x="42" y="41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9"/>
                    </a:lnTo>
                    <a:lnTo>
                      <a:pt x="33" y="36"/>
                    </a:lnTo>
                    <a:lnTo>
                      <a:pt x="31" y="32"/>
                    </a:lnTo>
                    <a:close/>
                    <a:moveTo>
                      <a:pt x="30" y="28"/>
                    </a:moveTo>
                    <a:lnTo>
                      <a:pt x="22" y="11"/>
                    </a:lnTo>
                    <a:lnTo>
                      <a:pt x="1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90720" y="308916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2" y="0"/>
                    </a:lnTo>
                    <a:lnTo>
                      <a:pt x="40" y="35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4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6"/>
                    </a:lnTo>
                    <a:lnTo>
                      <a:pt x="42" y="46"/>
                    </a:lnTo>
                    <a:lnTo>
                      <a:pt x="12" y="10"/>
                    </a:lnTo>
                    <a:lnTo>
                      <a:pt x="12" y="38"/>
                    </a:lnTo>
                    <a:lnTo>
                      <a:pt x="12" y="41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2581920" y="29592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47040" y="2997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37720" y="30542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62440" y="29034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97880" y="41940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45520" y="3870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06840" y="294336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6320" y="3776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373480" y="3209760"/>
            <a:ext cx="842400" cy="976320"/>
            <a:chOff x="2373480" y="3209760"/>
            <a:chExt cx="842400" cy="976320"/>
          </a:xfrm>
        </p:grpSpPr>
        <p:sp>
          <p:nvSpPr>
            <p:cNvPr id="118" name=""/>
            <p:cNvSpPr/>
            <p:nvPr/>
          </p:nvSpPr>
          <p:spPr>
            <a:xfrm>
              <a:off x="2373480" y="3830760"/>
              <a:ext cx="35532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646000" y="3209760"/>
              <a:ext cx="569880" cy="65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46360" y="3801960"/>
              <a:ext cx="6048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1" y="0"/>
                  </a:moveTo>
                  <a:lnTo>
                    <a:pt x="0" y="42"/>
                  </a:lnTo>
                  <a:lnTo>
                    <a:pt x="38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22440" y="398160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7" y="0"/>
                  </a:moveTo>
                  <a:lnTo>
                    <a:pt x="37" y="16"/>
                  </a:lnTo>
                  <a:lnTo>
                    <a:pt x="37" y="16"/>
                  </a:lnTo>
                  <a:lnTo>
                    <a:pt x="34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11"/>
                  </a:lnTo>
                  <a:lnTo>
                    <a:pt x="8" y="17"/>
                  </a:lnTo>
                  <a:lnTo>
                    <a:pt x="8" y="23"/>
                  </a:lnTo>
                  <a:lnTo>
                    <a:pt x="8" y="30"/>
                  </a:lnTo>
                  <a:lnTo>
                    <a:pt x="9" y="34"/>
                  </a:lnTo>
                  <a:lnTo>
                    <a:pt x="11" y="37"/>
                  </a:lnTo>
                  <a:lnTo>
                    <a:pt x="15" y="40"/>
                  </a:lnTo>
                  <a:lnTo>
                    <a:pt x="19" y="42"/>
                  </a:lnTo>
                  <a:lnTo>
                    <a:pt x="23" y="44"/>
                  </a:lnTo>
                  <a:lnTo>
                    <a:pt x="28" y="42"/>
                  </a:lnTo>
                  <a:lnTo>
                    <a:pt x="31" y="40"/>
                  </a:lnTo>
                  <a:lnTo>
                    <a:pt x="34" y="39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4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89040" y="3981600"/>
              <a:ext cx="73080" cy="7128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12" y="22"/>
                  </a:moveTo>
                  <a:lnTo>
                    <a:pt x="34" y="22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0" y="5"/>
                  </a:lnTo>
                  <a:lnTo>
                    <a:pt x="40" y="8"/>
                  </a:lnTo>
                  <a:lnTo>
                    <a:pt x="40" y="37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4" y="37"/>
                  </a:lnTo>
                  <a:lnTo>
                    <a:pt x="34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65360" y="398160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47" y="0"/>
                  </a:moveTo>
                  <a:lnTo>
                    <a:pt x="47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40" y="8"/>
                  </a:lnTo>
                  <a:lnTo>
                    <a:pt x="26" y="45"/>
                  </a:lnTo>
                  <a:lnTo>
                    <a:pt x="25" y="4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6" y="36"/>
                  </a:lnTo>
                  <a:lnTo>
                    <a:pt x="37" y="9"/>
                  </a:lnTo>
                  <a:lnTo>
                    <a:pt x="37" y="6"/>
                  </a:lnTo>
                  <a:lnTo>
                    <a:pt x="39" y="5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776960" y="38606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4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53360" y="41940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94400" y="36813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7440" y="3343320"/>
            <a:ext cx="355680" cy="829800"/>
            <a:chOff x="5797440" y="3343320"/>
            <a:chExt cx="355680" cy="829800"/>
          </a:xfrm>
        </p:grpSpPr>
        <p:grpSp>
          <p:nvGrpSpPr>
            <p:cNvPr id="128" name=""/>
            <p:cNvGrpSpPr/>
            <p:nvPr/>
          </p:nvGrpSpPr>
          <p:grpSpPr>
            <a:xfrm>
              <a:off x="5797440" y="3817800"/>
              <a:ext cx="355680" cy="355320"/>
              <a:chOff x="5797440" y="3817800"/>
              <a:chExt cx="355680" cy="355320"/>
            </a:xfrm>
          </p:grpSpPr>
          <p:sp>
            <p:nvSpPr>
              <p:cNvPr id="129" name=""/>
              <p:cNvSpPr/>
              <p:nvPr/>
            </p:nvSpPr>
            <p:spPr>
              <a:xfrm>
                <a:off x="5797440" y="3817800"/>
                <a:ext cx="355680" cy="355320"/>
              </a:xfrm>
              <a:custGeom>
                <a:avLst/>
                <a:gdLst/>
                <a:ahLst/>
                <a:rect l="l" t="t" r="r" b="b"/>
                <a:pathLst>
                  <a:path w="224" h="224">
                    <a:moveTo>
                      <a:pt x="224" y="112"/>
                    </a:moveTo>
                    <a:lnTo>
                      <a:pt x="219" y="142"/>
                    </a:lnTo>
                    <a:lnTo>
                      <a:pt x="208" y="168"/>
                    </a:lnTo>
                    <a:lnTo>
                      <a:pt x="191" y="191"/>
                    </a:lnTo>
                    <a:lnTo>
                      <a:pt x="168" y="208"/>
                    </a:lnTo>
                    <a:lnTo>
                      <a:pt x="141" y="219"/>
                    </a:lnTo>
                    <a:lnTo>
                      <a:pt x="112" y="224"/>
                    </a:lnTo>
                    <a:lnTo>
                      <a:pt x="82" y="219"/>
                    </a:lnTo>
                    <a:lnTo>
                      <a:pt x="56" y="208"/>
                    </a:lnTo>
                    <a:lnTo>
                      <a:pt x="33" y="191"/>
                    </a:lnTo>
                    <a:lnTo>
                      <a:pt x="15" y="168"/>
                    </a:lnTo>
                    <a:lnTo>
                      <a:pt x="5" y="142"/>
                    </a:lnTo>
                    <a:lnTo>
                      <a:pt x="0" y="112"/>
                    </a:lnTo>
                    <a:lnTo>
                      <a:pt x="5" y="83"/>
                    </a:lnTo>
                    <a:lnTo>
                      <a:pt x="15" y="56"/>
                    </a:lnTo>
                    <a:lnTo>
                      <a:pt x="33" y="33"/>
                    </a:lnTo>
                    <a:lnTo>
                      <a:pt x="56" y="16"/>
                    </a:lnTo>
                    <a:lnTo>
                      <a:pt x="82" y="5"/>
                    </a:lnTo>
                    <a:lnTo>
                      <a:pt x="112" y="0"/>
                    </a:lnTo>
                    <a:lnTo>
                      <a:pt x="141" y="5"/>
                    </a:lnTo>
                    <a:lnTo>
                      <a:pt x="168" y="16"/>
                    </a:lnTo>
                    <a:lnTo>
                      <a:pt x="191" y="33"/>
                    </a:lnTo>
                    <a:lnTo>
                      <a:pt x="208" y="56"/>
                    </a:lnTo>
                    <a:lnTo>
                      <a:pt x="219" y="83"/>
                    </a:lnTo>
                    <a:lnTo>
                      <a:pt x="224" y="1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86360" y="3968280"/>
                <a:ext cx="76320" cy="7164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18" y="20"/>
                    </a:moveTo>
                    <a:lnTo>
                      <a:pt x="36" y="37"/>
                    </a:lnTo>
                    <a:lnTo>
                      <a:pt x="40" y="40"/>
                    </a:lnTo>
                    <a:lnTo>
                      <a:pt x="43" y="42"/>
                    </a:lnTo>
                    <a:lnTo>
                      <a:pt x="45" y="44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9" y="44"/>
                    </a:lnTo>
                    <a:lnTo>
                      <a:pt x="31" y="44"/>
                    </a:lnTo>
                    <a:lnTo>
                      <a:pt x="31" y="42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40"/>
                    </a:lnTo>
                    <a:lnTo>
                      <a:pt x="31" y="39"/>
                    </a:lnTo>
                    <a:lnTo>
                      <a:pt x="29" y="37"/>
                    </a:lnTo>
                    <a:lnTo>
                      <a:pt x="14" y="23"/>
                    </a:lnTo>
                    <a:lnTo>
                      <a:pt x="14" y="37"/>
                    </a:lnTo>
                    <a:lnTo>
                      <a:pt x="14" y="40"/>
                    </a:lnTo>
                    <a:lnTo>
                      <a:pt x="14" y="42"/>
                    </a:lnTo>
                    <a:lnTo>
                      <a:pt x="14" y="44"/>
                    </a:lnTo>
                    <a:lnTo>
                      <a:pt x="15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5"/>
                    </a:lnTo>
                    <a:lnTo>
                      <a:pt x="2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4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8"/>
                    </a:lnTo>
                    <a:lnTo>
                      <a:pt x="14" y="22"/>
                    </a:lnTo>
                    <a:lnTo>
                      <a:pt x="15" y="20"/>
                    </a:lnTo>
                    <a:lnTo>
                      <a:pt x="18" y="17"/>
                    </a:lnTo>
                    <a:lnTo>
                      <a:pt x="23" y="12"/>
                    </a:lnTo>
                    <a:lnTo>
                      <a:pt x="28" y="8"/>
                    </a:lnTo>
                    <a:lnTo>
                      <a:pt x="29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43" y="0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2" y="6"/>
                    </a:lnTo>
                    <a:lnTo>
                      <a:pt x="32" y="8"/>
                    </a:lnTo>
                    <a:lnTo>
                      <a:pt x="29" y="9"/>
                    </a:lnTo>
                    <a:lnTo>
                      <a:pt x="26" y="12"/>
                    </a:ln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62680" y="3968280"/>
                <a:ext cx="63360" cy="71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14" y="3"/>
                    </a:moveTo>
                    <a:lnTo>
                      <a:pt x="14" y="20"/>
                    </a:lnTo>
                    <a:lnTo>
                      <a:pt x="23" y="20"/>
                    </a:lnTo>
                    <a:lnTo>
                      <a:pt x="26" y="20"/>
                    </a:lnTo>
                    <a:lnTo>
                      <a:pt x="30" y="20"/>
                    </a:lnTo>
                    <a:lnTo>
                      <a:pt x="30" y="17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26"/>
                    </a:lnTo>
                    <a:lnTo>
                      <a:pt x="30" y="25"/>
                    </a:lnTo>
                    <a:lnTo>
                      <a:pt x="30" y="23"/>
                    </a:lnTo>
                    <a:lnTo>
                      <a:pt x="28" y="23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14" y="23"/>
                    </a:lnTo>
                    <a:lnTo>
                      <a:pt x="14" y="37"/>
                    </a:lnTo>
                    <a:lnTo>
                      <a:pt x="14" y="40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4"/>
                    </a:lnTo>
                    <a:lnTo>
                      <a:pt x="17" y="44"/>
                    </a:lnTo>
                    <a:lnTo>
                      <a:pt x="25" y="44"/>
                    </a:lnTo>
                    <a:lnTo>
                      <a:pt x="28" y="44"/>
                    </a:lnTo>
                    <a:lnTo>
                      <a:pt x="31" y="42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6" y="37"/>
                    </a:lnTo>
                    <a:lnTo>
                      <a:pt x="39" y="34"/>
                    </a:lnTo>
                    <a:lnTo>
                      <a:pt x="40" y="34"/>
                    </a:lnTo>
                    <a:lnTo>
                      <a:pt x="36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3" y="45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8" y="37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3" y="3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6" y="3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29280" y="3968280"/>
                <a:ext cx="61920" cy="716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2" y="3"/>
                    </a:moveTo>
                    <a:lnTo>
                      <a:pt x="12" y="20"/>
                    </a:lnTo>
                    <a:lnTo>
                      <a:pt x="23" y="20"/>
                    </a:lnTo>
                    <a:lnTo>
                      <a:pt x="26" y="20"/>
                    </a:lnTo>
                    <a:lnTo>
                      <a:pt x="28" y="20"/>
                    </a:lnTo>
                    <a:lnTo>
                      <a:pt x="30" y="17"/>
                    </a:lnTo>
                    <a:lnTo>
                      <a:pt x="30" y="14"/>
                    </a:lnTo>
                    <a:lnTo>
                      <a:pt x="31" y="14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30" y="25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5" y="23"/>
                    </a:lnTo>
                    <a:lnTo>
                      <a:pt x="23" y="23"/>
                    </a:lnTo>
                    <a:lnTo>
                      <a:pt x="12" y="23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4"/>
                    </a:lnTo>
                    <a:lnTo>
                      <a:pt x="17" y="44"/>
                    </a:lnTo>
                    <a:lnTo>
                      <a:pt x="25" y="44"/>
                    </a:lnTo>
                    <a:lnTo>
                      <a:pt x="28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4" y="40"/>
                    </a:lnTo>
                    <a:lnTo>
                      <a:pt x="36" y="37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36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9"/>
                    </a:lnTo>
                    <a:lnTo>
                      <a:pt x="34" y="9"/>
                    </a:lnTo>
                    <a:lnTo>
                      <a:pt x="34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5991120" y="3343320"/>
              <a:ext cx="0" cy="4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858280" y="419400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83920" y="39196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9120" y="280836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8600" y="5710320"/>
            <a:ext cx="24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OS,74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8600" y="5710320"/>
            <a:ext cx="25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3360" y="49370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46560" y="4245120"/>
            <a:ext cx="355320" cy="976320"/>
            <a:chOff x="3346560" y="4245120"/>
            <a:chExt cx="355320" cy="976320"/>
          </a:xfrm>
        </p:grpSpPr>
        <p:sp>
          <p:nvSpPr>
            <p:cNvPr id="141" name=""/>
            <p:cNvSpPr/>
            <p:nvPr/>
          </p:nvSpPr>
          <p:spPr>
            <a:xfrm>
              <a:off x="3346560" y="486576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35480" y="4245120"/>
              <a:ext cx="44280" cy="610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56000" y="4784760"/>
              <a:ext cx="36360" cy="71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409920" y="4970520"/>
              <a:ext cx="244440" cy="71280"/>
              <a:chOff x="3409920" y="4970520"/>
              <a:chExt cx="244440" cy="71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409920" y="4970520"/>
                <a:ext cx="7920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490560" y="497052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3" y="3"/>
                    </a:moveTo>
                    <a:lnTo>
                      <a:pt x="13" y="20"/>
                    </a:lnTo>
                    <a:lnTo>
                      <a:pt x="22" y="20"/>
                    </a:lnTo>
                    <a:lnTo>
                      <a:pt x="25" y="20"/>
                    </a:lnTo>
                    <a:lnTo>
                      <a:pt x="28" y="20"/>
                    </a:lnTo>
                    <a:lnTo>
                      <a:pt x="28" y="17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2" y="23"/>
                    </a:lnTo>
                    <a:lnTo>
                      <a:pt x="13" y="23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8" y="34"/>
                    </a:lnTo>
                    <a:lnTo>
                      <a:pt x="39" y="34"/>
                    </a:lnTo>
                    <a:lnTo>
                      <a:pt x="3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57520" y="4970520"/>
                <a:ext cx="96840" cy="7128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5" y="6"/>
                    </a:lnTo>
                    <a:lnTo>
                      <a:pt x="53" y="9"/>
                    </a:lnTo>
                    <a:lnTo>
                      <a:pt x="42" y="45"/>
                    </a:lnTo>
                    <a:lnTo>
                      <a:pt x="41" y="45"/>
                    </a:lnTo>
                    <a:lnTo>
                      <a:pt x="30" y="19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6" y="9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14" y="9"/>
                    </a:lnTo>
                    <a:lnTo>
                      <a:pt x="22" y="34"/>
                    </a:lnTo>
                    <a:lnTo>
                      <a:pt x="28" y="14"/>
                    </a:lnTo>
                    <a:lnTo>
                      <a:pt x="27" y="9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11"/>
                    </a:lnTo>
                    <a:lnTo>
                      <a:pt x="42" y="34"/>
                    </a:lnTo>
                    <a:lnTo>
                      <a:pt x="50" y="9"/>
                    </a:lnTo>
                    <a:lnTo>
                      <a:pt x="51" y="6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3908880" y="48308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4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091200" y="3713040"/>
            <a:ext cx="124920" cy="98280"/>
            <a:chOff x="6091200" y="3713040"/>
            <a:chExt cx="124920" cy="98280"/>
          </a:xfrm>
        </p:grpSpPr>
        <p:sp>
          <p:nvSpPr>
            <p:cNvPr id="150" name=""/>
            <p:cNvSpPr/>
            <p:nvPr/>
          </p:nvSpPr>
          <p:spPr>
            <a:xfrm>
              <a:off x="6091200" y="371304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57800" y="3713040"/>
              <a:ext cx="5832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7" y="31"/>
                  </a:moveTo>
                  <a:lnTo>
                    <a:pt x="37" y="38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31" y="54"/>
                  </a:lnTo>
                  <a:lnTo>
                    <a:pt x="27" y="57"/>
                  </a:lnTo>
                  <a:lnTo>
                    <a:pt x="24" y="59"/>
                  </a:lnTo>
                  <a:lnTo>
                    <a:pt x="21" y="60"/>
                  </a:lnTo>
                  <a:lnTo>
                    <a:pt x="18" y="62"/>
                  </a:lnTo>
                  <a:lnTo>
                    <a:pt x="14" y="60"/>
                  </a:lnTo>
                  <a:lnTo>
                    <a:pt x="10" y="59"/>
                  </a:lnTo>
                  <a:lnTo>
                    <a:pt x="7" y="56"/>
                  </a:lnTo>
                  <a:lnTo>
                    <a:pt x="4" y="52"/>
                  </a:lnTo>
                  <a:lnTo>
                    <a:pt x="3" y="49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4" y="12"/>
                  </a:lnTo>
                  <a:lnTo>
                    <a:pt x="37" y="21"/>
                  </a:lnTo>
                  <a:lnTo>
                    <a:pt x="37" y="31"/>
                  </a:lnTo>
                  <a:close/>
                  <a:moveTo>
                    <a:pt x="24" y="31"/>
                  </a:moveTo>
                  <a:lnTo>
                    <a:pt x="24" y="21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2" y="18"/>
                  </a:lnTo>
                  <a:lnTo>
                    <a:pt x="12" y="35"/>
                  </a:lnTo>
                  <a:lnTo>
                    <a:pt x="12" y="43"/>
                  </a:lnTo>
                  <a:lnTo>
                    <a:pt x="12" y="49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21480" y="57103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5720" y="5710320"/>
            <a:ext cx="347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HYA,135), (AUG,15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8600" y="5710320"/>
            <a:ext cx="25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4640" y="5710320"/>
            <a:ext cx="34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LAG,17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120" y="5710320"/>
            <a:ext cx="44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NAN,159), (LAG,17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9240" y="5710320"/>
            <a:ext cx="543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NAN,159), (LAG,177),  (NEW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120" y="5710320"/>
            <a:ext cx="44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,159), (LAG,177),  (NEW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5000" y="5710320"/>
            <a:ext cx="35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,177),  (NEW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1040" y="5710320"/>
            <a:ext cx="465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,177),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 (NEW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357800" y="3294000"/>
            <a:ext cx="355320" cy="863640"/>
            <a:chOff x="4357800" y="3294000"/>
            <a:chExt cx="355320" cy="863640"/>
          </a:xfrm>
        </p:grpSpPr>
        <p:sp>
          <p:nvSpPr>
            <p:cNvPr id="162" name=""/>
            <p:cNvSpPr/>
            <p:nvPr/>
          </p:nvSpPr>
          <p:spPr>
            <a:xfrm>
              <a:off x="4357800" y="380196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1000" y="3294000"/>
              <a:ext cx="1800" cy="498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73720" y="37209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lnTo>
                    <a:pt x="11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391280" y="3905280"/>
              <a:ext cx="304200" cy="242640"/>
              <a:chOff x="4391280" y="3905280"/>
              <a:chExt cx="304200" cy="24264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4446720" y="3905280"/>
                <a:ext cx="217440" cy="71640"/>
                <a:chOff x="4446720" y="3905280"/>
                <a:chExt cx="217440" cy="716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46720" y="3905280"/>
                  <a:ext cx="61920" cy="71640"/>
                </a:xfrm>
                <a:custGeom>
                  <a:avLst/>
                  <a:gdLst/>
                  <a:ahLst/>
                  <a:rect l="l" t="t" r="r" b="b"/>
                  <a:pathLst>
                    <a:path w="39" h="45">
                      <a:moveTo>
                        <a:pt x="37" y="33"/>
                      </a:moveTo>
                      <a:lnTo>
                        <a:pt x="39" y="33"/>
                      </a:lnTo>
                      <a:lnTo>
                        <a:pt x="36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3" y="45"/>
                      </a:lnTo>
                      <a:lnTo>
                        <a:pt x="5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8" y="37"/>
                      </a:lnTo>
                      <a:lnTo>
                        <a:pt x="8" y="8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14" y="8"/>
                      </a:lnTo>
                      <a:lnTo>
                        <a:pt x="14" y="37"/>
                      </a:lnTo>
                      <a:lnTo>
                        <a:pt x="14" y="40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20" y="44"/>
                      </a:lnTo>
                      <a:lnTo>
                        <a:pt x="23" y="44"/>
                      </a:lnTo>
                      <a:lnTo>
                        <a:pt x="28" y="44"/>
                      </a:lnTo>
                      <a:lnTo>
                        <a:pt x="29" y="42"/>
                      </a:lnTo>
                      <a:lnTo>
                        <a:pt x="33" y="40"/>
                      </a:lnTo>
                      <a:lnTo>
                        <a:pt x="34" y="39"/>
                      </a:lnTo>
                      <a:lnTo>
                        <a:pt x="36" y="37"/>
                      </a:lnTo>
                      <a:lnTo>
                        <a:pt x="37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510080" y="3905280"/>
                  <a:ext cx="74520" cy="7164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30" y="31"/>
                      </a:moveTo>
                      <a:lnTo>
                        <a:pt x="13" y="31"/>
                      </a:lnTo>
                      <a:lnTo>
                        <a:pt x="10" y="37"/>
                      </a:lnTo>
                      <a:lnTo>
                        <a:pt x="8" y="40"/>
                      </a:lnTo>
                      <a:lnTo>
                        <a:pt x="8" y="42"/>
                      </a:lnTo>
                      <a:lnTo>
                        <a:pt x="8" y="42"/>
                      </a:lnTo>
                      <a:lnTo>
                        <a:pt x="10" y="44"/>
                      </a:lnTo>
                      <a:lnTo>
                        <a:pt x="11" y="44"/>
                      </a:lnTo>
                      <a:lnTo>
                        <a:pt x="14" y="45"/>
                      </a:lnTo>
                      <a:lnTo>
                        <a:pt x="14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2" y="44"/>
                      </a:lnTo>
                      <a:lnTo>
                        <a:pt x="3" y="44"/>
                      </a:lnTo>
                      <a:lnTo>
                        <a:pt x="5" y="40"/>
                      </a:lnTo>
                      <a:lnTo>
                        <a:pt x="7" y="3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39" y="37"/>
                      </a:lnTo>
                      <a:lnTo>
                        <a:pt x="41" y="40"/>
                      </a:lnTo>
                      <a:lnTo>
                        <a:pt x="42" y="44"/>
                      </a:lnTo>
                      <a:lnTo>
                        <a:pt x="45" y="44"/>
                      </a:lnTo>
                      <a:lnTo>
                        <a:pt x="47" y="45"/>
                      </a:lnTo>
                      <a:lnTo>
                        <a:pt x="47" y="45"/>
                      </a:lnTo>
                      <a:lnTo>
                        <a:pt x="30" y="45"/>
                      </a:lnTo>
                      <a:lnTo>
                        <a:pt x="30" y="45"/>
                      </a:lnTo>
                      <a:lnTo>
                        <a:pt x="31" y="44"/>
                      </a:lnTo>
                      <a:lnTo>
                        <a:pt x="33" y="44"/>
                      </a:lnTo>
                      <a:lnTo>
                        <a:pt x="35" y="42"/>
                      </a:lnTo>
                      <a:lnTo>
                        <a:pt x="35" y="42"/>
                      </a:lnTo>
                      <a:lnTo>
                        <a:pt x="35" y="39"/>
                      </a:lnTo>
                      <a:lnTo>
                        <a:pt x="33" y="36"/>
                      </a:lnTo>
                      <a:lnTo>
                        <a:pt x="30" y="31"/>
                      </a:lnTo>
                      <a:close/>
                      <a:moveTo>
                        <a:pt x="30" y="28"/>
                      </a:moveTo>
                      <a:lnTo>
                        <a:pt x="22" y="11"/>
                      </a:lnTo>
                      <a:lnTo>
                        <a:pt x="14" y="28"/>
                      </a:lnTo>
                      <a:lnTo>
                        <a:pt x="3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592520" y="390528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39" y="0"/>
                      </a:moveTo>
                      <a:lnTo>
                        <a:pt x="39" y="14"/>
                      </a:lnTo>
                      <a:lnTo>
                        <a:pt x="39" y="14"/>
                      </a:lnTo>
                      <a:lnTo>
                        <a:pt x="35" y="9"/>
                      </a:lnTo>
                      <a:lnTo>
                        <a:pt x="34" y="6"/>
                      </a:lnTo>
                      <a:lnTo>
                        <a:pt x="29" y="3"/>
                      </a:lnTo>
                      <a:lnTo>
                        <a:pt x="23" y="2"/>
                      </a:lnTo>
                      <a:lnTo>
                        <a:pt x="18" y="3"/>
                      </a:lnTo>
                      <a:lnTo>
                        <a:pt x="14" y="5"/>
                      </a:lnTo>
                      <a:lnTo>
                        <a:pt x="11" y="8"/>
                      </a:lnTo>
                      <a:lnTo>
                        <a:pt x="7" y="14"/>
                      </a:lnTo>
                      <a:lnTo>
                        <a:pt x="6" y="22"/>
                      </a:lnTo>
                      <a:lnTo>
                        <a:pt x="7" y="28"/>
                      </a:lnTo>
                      <a:lnTo>
                        <a:pt x="9" y="34"/>
                      </a:lnTo>
                      <a:lnTo>
                        <a:pt x="12" y="39"/>
                      </a:lnTo>
                      <a:lnTo>
                        <a:pt x="15" y="42"/>
                      </a:lnTo>
                      <a:lnTo>
                        <a:pt x="20" y="44"/>
                      </a:lnTo>
                      <a:lnTo>
                        <a:pt x="25" y="44"/>
                      </a:lnTo>
                      <a:lnTo>
                        <a:pt x="26" y="44"/>
                      </a:lnTo>
                      <a:lnTo>
                        <a:pt x="29" y="44"/>
                      </a:lnTo>
                      <a:lnTo>
                        <a:pt x="31" y="42"/>
                      </a:lnTo>
                      <a:lnTo>
                        <a:pt x="34" y="42"/>
                      </a:lnTo>
                      <a:lnTo>
                        <a:pt x="34" y="28"/>
                      </a:lnTo>
                      <a:lnTo>
                        <a:pt x="32" y="25"/>
                      </a:lnTo>
                      <a:lnTo>
                        <a:pt x="32" y="23"/>
                      </a:lnTo>
                      <a:lnTo>
                        <a:pt x="32" y="23"/>
                      </a:lnTo>
                      <a:lnTo>
                        <a:pt x="31" y="22"/>
                      </a:lnTo>
                      <a:lnTo>
                        <a:pt x="29" y="22"/>
                      </a:lnTo>
                      <a:lnTo>
                        <a:pt x="28" y="22"/>
                      </a:lnTo>
                      <a:lnTo>
                        <a:pt x="28" y="20"/>
                      </a:lnTo>
                      <a:lnTo>
                        <a:pt x="45" y="20"/>
                      </a:lnTo>
                      <a:lnTo>
                        <a:pt x="45" y="22"/>
                      </a:lnTo>
                      <a:lnTo>
                        <a:pt x="43" y="22"/>
                      </a:lnTo>
                      <a:lnTo>
                        <a:pt x="42" y="22"/>
                      </a:lnTo>
                      <a:lnTo>
                        <a:pt x="40" y="23"/>
                      </a:lnTo>
                      <a:lnTo>
                        <a:pt x="40" y="25"/>
                      </a:lnTo>
                      <a:lnTo>
                        <a:pt x="40" y="28"/>
                      </a:lnTo>
                      <a:lnTo>
                        <a:pt x="40" y="42"/>
                      </a:lnTo>
                      <a:lnTo>
                        <a:pt x="35" y="44"/>
                      </a:lnTo>
                      <a:lnTo>
                        <a:pt x="32" y="45"/>
                      </a:lnTo>
                      <a:lnTo>
                        <a:pt x="28" y="45"/>
                      </a:lnTo>
                      <a:lnTo>
                        <a:pt x="23" y="45"/>
                      </a:lnTo>
                      <a:lnTo>
                        <a:pt x="18" y="45"/>
                      </a:lnTo>
                      <a:lnTo>
                        <a:pt x="12" y="44"/>
                      </a:lnTo>
                      <a:lnTo>
                        <a:pt x="7" y="40"/>
                      </a:lnTo>
                      <a:lnTo>
                        <a:pt x="4" y="37"/>
                      </a:lnTo>
                      <a:lnTo>
                        <a:pt x="1" y="33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1" y="12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17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5" y="3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4391280" y="3932280"/>
                <a:ext cx="304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4678200" y="3235320"/>
            <a:ext cx="1011240" cy="929880"/>
            <a:chOff x="4678200" y="3235320"/>
            <a:chExt cx="1011240" cy="929880"/>
          </a:xfrm>
        </p:grpSpPr>
        <p:sp>
          <p:nvSpPr>
            <p:cNvPr id="172" name=""/>
            <p:cNvSpPr/>
            <p:nvPr/>
          </p:nvSpPr>
          <p:spPr>
            <a:xfrm>
              <a:off x="5335560" y="3801960"/>
              <a:ext cx="353880" cy="35568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7" y="208"/>
                  </a:lnTo>
                  <a:lnTo>
                    <a:pt x="141" y="219"/>
                  </a:lnTo>
                  <a:lnTo>
                    <a:pt x="111" y="224"/>
                  </a:lnTo>
                  <a:lnTo>
                    <a:pt x="82" y="219"/>
                  </a:lnTo>
                  <a:lnTo>
                    <a:pt x="55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5" y="16"/>
                  </a:lnTo>
                  <a:lnTo>
                    <a:pt x="82" y="5"/>
                  </a:lnTo>
                  <a:lnTo>
                    <a:pt x="111" y="0"/>
                  </a:lnTo>
                  <a:lnTo>
                    <a:pt x="141" y="5"/>
                  </a:lnTo>
                  <a:lnTo>
                    <a:pt x="167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3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78200" y="3235320"/>
              <a:ext cx="738360" cy="604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49960" y="3780000"/>
              <a:ext cx="66600" cy="6012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383080" y="3914640"/>
              <a:ext cx="244440" cy="71640"/>
              <a:chOff x="5383080" y="3914640"/>
              <a:chExt cx="244440" cy="71640"/>
            </a:xfrm>
          </p:grpSpPr>
          <p:sp>
            <p:nvSpPr>
              <p:cNvPr id="176" name=""/>
              <p:cNvSpPr/>
              <p:nvPr/>
            </p:nvSpPr>
            <p:spPr>
              <a:xfrm>
                <a:off x="5383080" y="3914640"/>
                <a:ext cx="79560" cy="7164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64080" y="3914640"/>
                <a:ext cx="61920" cy="716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3" y="3"/>
                    </a:moveTo>
                    <a:lnTo>
                      <a:pt x="13" y="20"/>
                    </a:lnTo>
                    <a:lnTo>
                      <a:pt x="22" y="20"/>
                    </a:lnTo>
                    <a:lnTo>
                      <a:pt x="25" y="20"/>
                    </a:lnTo>
                    <a:lnTo>
                      <a:pt x="28" y="20"/>
                    </a:lnTo>
                    <a:lnTo>
                      <a:pt x="28" y="17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2" y="23"/>
                    </a:lnTo>
                    <a:lnTo>
                      <a:pt x="13" y="23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8" y="34"/>
                    </a:lnTo>
                    <a:lnTo>
                      <a:pt x="39" y="34"/>
                    </a:lnTo>
                    <a:lnTo>
                      <a:pt x="3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530680" y="3914640"/>
                <a:ext cx="96840" cy="7164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5" y="6"/>
                    </a:lnTo>
                    <a:lnTo>
                      <a:pt x="53" y="9"/>
                    </a:lnTo>
                    <a:lnTo>
                      <a:pt x="42" y="45"/>
                    </a:lnTo>
                    <a:lnTo>
                      <a:pt x="41" y="45"/>
                    </a:lnTo>
                    <a:lnTo>
                      <a:pt x="30" y="19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6" y="9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14" y="9"/>
                    </a:lnTo>
                    <a:lnTo>
                      <a:pt x="22" y="34"/>
                    </a:lnTo>
                    <a:lnTo>
                      <a:pt x="28" y="14"/>
                    </a:lnTo>
                    <a:lnTo>
                      <a:pt x="27" y="9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11"/>
                    </a:lnTo>
                    <a:lnTo>
                      <a:pt x="42" y="34"/>
                    </a:lnTo>
                    <a:lnTo>
                      <a:pt x="50" y="9"/>
                    </a:lnTo>
                    <a:lnTo>
                      <a:pt x="51" y="6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5370840" y="394956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260880" y="3254400"/>
            <a:ext cx="355320" cy="995040"/>
            <a:chOff x="3260880" y="3254400"/>
            <a:chExt cx="355320" cy="995040"/>
          </a:xfrm>
        </p:grpSpPr>
        <p:sp>
          <p:nvSpPr>
            <p:cNvPr id="181" name=""/>
            <p:cNvSpPr/>
            <p:nvPr/>
          </p:nvSpPr>
          <p:spPr>
            <a:xfrm>
              <a:off x="3260880" y="38750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9800" y="3254400"/>
              <a:ext cx="44280" cy="611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70320" y="3794040"/>
              <a:ext cx="36360" cy="716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328920" y="3987720"/>
              <a:ext cx="231840" cy="71280"/>
              <a:chOff x="3328920" y="3987720"/>
              <a:chExt cx="231840" cy="71280"/>
            </a:xfrm>
          </p:grpSpPr>
          <p:sp>
            <p:nvSpPr>
              <p:cNvPr id="185" name=""/>
              <p:cNvSpPr/>
              <p:nvPr/>
            </p:nvSpPr>
            <p:spPr>
              <a:xfrm>
                <a:off x="3328920" y="3987720"/>
                <a:ext cx="77760" cy="712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49" y="0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6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7" y="5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06680" y="3987720"/>
                <a:ext cx="77760" cy="712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32" y="31"/>
                    </a:moveTo>
                    <a:lnTo>
                      <a:pt x="13" y="31"/>
                    </a:lnTo>
                    <a:lnTo>
                      <a:pt x="10" y="37"/>
                    </a:lnTo>
                    <a:lnTo>
                      <a:pt x="10" y="40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7" y="40"/>
                    </a:lnTo>
                    <a:lnTo>
                      <a:pt x="8" y="36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41" y="37"/>
                    </a:lnTo>
                    <a:lnTo>
                      <a:pt x="42" y="40"/>
                    </a:lnTo>
                    <a:lnTo>
                      <a:pt x="44" y="44"/>
                    </a:lnTo>
                    <a:lnTo>
                      <a:pt x="46" y="44"/>
                    </a:lnTo>
                    <a:lnTo>
                      <a:pt x="49" y="45"/>
                    </a:lnTo>
                    <a:lnTo>
                      <a:pt x="49" y="45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3" y="44"/>
                    </a:lnTo>
                    <a:lnTo>
                      <a:pt x="35" y="44"/>
                    </a:lnTo>
                    <a:lnTo>
                      <a:pt x="35" y="42"/>
                    </a:lnTo>
                    <a:lnTo>
                      <a:pt x="35" y="42"/>
                    </a:lnTo>
                    <a:lnTo>
                      <a:pt x="35" y="39"/>
                    </a:lnTo>
                    <a:lnTo>
                      <a:pt x="33" y="36"/>
                    </a:lnTo>
                    <a:lnTo>
                      <a:pt x="32" y="31"/>
                    </a:lnTo>
                    <a:close/>
                    <a:moveTo>
                      <a:pt x="30" y="28"/>
                    </a:moveTo>
                    <a:lnTo>
                      <a:pt x="22" y="11"/>
                    </a:lnTo>
                    <a:lnTo>
                      <a:pt x="1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81200" y="398772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3" y="0"/>
                    </a:lnTo>
                    <a:lnTo>
                      <a:pt x="41" y="34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5"/>
                    </a:lnTo>
                    <a:lnTo>
                      <a:pt x="42" y="45"/>
                    </a:lnTo>
                    <a:lnTo>
                      <a:pt x="13" y="9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3302280" y="403380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376800" y="5022720"/>
            <a:ext cx="30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419720" y="4157640"/>
            <a:ext cx="355320" cy="977760"/>
            <a:chOff x="4419720" y="4157640"/>
            <a:chExt cx="355320" cy="977760"/>
          </a:xfrm>
        </p:grpSpPr>
        <p:sp>
          <p:nvSpPr>
            <p:cNvPr id="191" name=""/>
            <p:cNvSpPr/>
            <p:nvPr/>
          </p:nvSpPr>
          <p:spPr>
            <a:xfrm>
              <a:off x="4529160" y="4157640"/>
              <a:ext cx="44280" cy="611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49680" y="4697280"/>
              <a:ext cx="36720" cy="716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19720" y="4772160"/>
              <a:ext cx="35532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4487760" y="4875120"/>
              <a:ext cx="217080" cy="71280"/>
              <a:chOff x="4487760" y="4875120"/>
              <a:chExt cx="217080" cy="71280"/>
            </a:xfrm>
          </p:grpSpPr>
          <p:sp>
            <p:nvSpPr>
              <p:cNvPr id="195" name=""/>
              <p:cNvSpPr/>
              <p:nvPr/>
            </p:nvSpPr>
            <p:spPr>
              <a:xfrm>
                <a:off x="4487760" y="4875120"/>
                <a:ext cx="6156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37" y="0"/>
                    </a:moveTo>
                    <a:lnTo>
                      <a:pt x="37" y="16"/>
                    </a:lnTo>
                    <a:lnTo>
                      <a:pt x="37" y="16"/>
                    </a:lnTo>
                    <a:lnTo>
                      <a:pt x="34" y="9"/>
                    </a:lnTo>
                    <a:lnTo>
                      <a:pt x="31" y="5"/>
                    </a:lnTo>
                    <a:lnTo>
                      <a:pt x="26" y="3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2" y="6"/>
                    </a:lnTo>
                    <a:lnTo>
                      <a:pt x="9" y="11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9" y="34"/>
                    </a:lnTo>
                    <a:lnTo>
                      <a:pt x="11" y="37"/>
                    </a:lnTo>
                    <a:lnTo>
                      <a:pt x="15" y="40"/>
                    </a:lnTo>
                    <a:lnTo>
                      <a:pt x="19" y="42"/>
                    </a:lnTo>
                    <a:lnTo>
                      <a:pt x="23" y="44"/>
                    </a:lnTo>
                    <a:lnTo>
                      <a:pt x="28" y="42"/>
                    </a:lnTo>
                    <a:lnTo>
                      <a:pt x="31" y="40"/>
                    </a:lnTo>
                    <a:lnTo>
                      <a:pt x="34" y="39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36" y="39"/>
                    </a:lnTo>
                    <a:lnTo>
                      <a:pt x="31" y="44"/>
                    </a:lnTo>
                    <a:lnTo>
                      <a:pt x="26" y="45"/>
                    </a:lnTo>
                    <a:lnTo>
                      <a:pt x="20" y="45"/>
                    </a:lnTo>
                    <a:lnTo>
                      <a:pt x="14" y="45"/>
                    </a:lnTo>
                    <a:lnTo>
                      <a:pt x="9" y="42"/>
                    </a:lnTo>
                    <a:lnTo>
                      <a:pt x="5" y="37"/>
                    </a:lnTo>
                    <a:lnTo>
                      <a:pt x="1" y="33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1" y="3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54360" y="4875120"/>
                <a:ext cx="7236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12" y="22"/>
                    </a:moveTo>
                    <a:lnTo>
                      <a:pt x="34" y="22"/>
                    </a:lnTo>
                    <a:lnTo>
                      <a:pt x="34" y="8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46" y="0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0" y="5"/>
                    </a:lnTo>
                    <a:lnTo>
                      <a:pt x="40" y="8"/>
                    </a:lnTo>
                    <a:lnTo>
                      <a:pt x="40" y="37"/>
                    </a:lnTo>
                    <a:lnTo>
                      <a:pt x="40" y="40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3" y="44"/>
                    </a:lnTo>
                    <a:lnTo>
                      <a:pt x="45" y="45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9" y="45"/>
                    </a:lnTo>
                    <a:lnTo>
                      <a:pt x="32" y="44"/>
                    </a:lnTo>
                    <a:lnTo>
                      <a:pt x="34" y="42"/>
                    </a:lnTo>
                    <a:lnTo>
                      <a:pt x="34" y="40"/>
                    </a:lnTo>
                    <a:lnTo>
                      <a:pt x="34" y="37"/>
                    </a:lnTo>
                    <a:lnTo>
                      <a:pt x="34" y="23"/>
                    </a:lnTo>
                    <a:lnTo>
                      <a:pt x="12" y="23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5" y="44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4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30320" y="487512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47" y="0"/>
                    </a:moveTo>
                    <a:lnTo>
                      <a:pt x="47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2" y="5"/>
                    </a:lnTo>
                    <a:lnTo>
                      <a:pt x="40" y="8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6" y="9"/>
                    </a:lnTo>
                    <a:lnTo>
                      <a:pt x="26" y="36"/>
                    </a:lnTo>
                    <a:lnTo>
                      <a:pt x="37" y="9"/>
                    </a:lnTo>
                    <a:lnTo>
                      <a:pt x="37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4445280" y="491976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159600" y="3282840"/>
            <a:ext cx="664920" cy="934920"/>
            <a:chOff x="6159600" y="3282840"/>
            <a:chExt cx="664920" cy="934920"/>
          </a:xfrm>
        </p:grpSpPr>
        <p:sp>
          <p:nvSpPr>
            <p:cNvPr id="200" name=""/>
            <p:cNvSpPr/>
            <p:nvPr/>
          </p:nvSpPr>
          <p:spPr>
            <a:xfrm>
              <a:off x="6159600" y="328284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69200" y="38592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99080" y="378288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537240" y="3962520"/>
              <a:ext cx="231840" cy="71280"/>
              <a:chOff x="6537240" y="3962520"/>
              <a:chExt cx="231840" cy="71280"/>
            </a:xfrm>
          </p:grpSpPr>
          <p:sp>
            <p:nvSpPr>
              <p:cNvPr id="204" name=""/>
              <p:cNvSpPr/>
              <p:nvPr/>
            </p:nvSpPr>
            <p:spPr>
              <a:xfrm>
                <a:off x="6537240" y="396252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16800" y="3962520"/>
                <a:ext cx="75960" cy="7128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31" y="31"/>
                    </a:moveTo>
                    <a:lnTo>
                      <a:pt x="12" y="31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6" y="40"/>
                    </a:lnTo>
                    <a:lnTo>
                      <a:pt x="7" y="36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40" y="37"/>
                    </a:lnTo>
                    <a:lnTo>
                      <a:pt x="42" y="40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29" y="45"/>
                    </a:lnTo>
                    <a:lnTo>
                      <a:pt x="29" y="45"/>
                    </a:lnTo>
                    <a:lnTo>
                      <a:pt x="32" y="44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9"/>
                    </a:lnTo>
                    <a:lnTo>
                      <a:pt x="32" y="36"/>
                    </a:lnTo>
                    <a:lnTo>
                      <a:pt x="31" y="31"/>
                    </a:lnTo>
                    <a:close/>
                    <a:moveTo>
                      <a:pt x="29" y="28"/>
                    </a:moveTo>
                    <a:lnTo>
                      <a:pt x="21" y="11"/>
                    </a:lnTo>
                    <a:lnTo>
                      <a:pt x="14" y="28"/>
                    </a:lnTo>
                    <a:lnTo>
                      <a:pt x="29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689520" y="396252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3" y="0"/>
                    </a:lnTo>
                    <a:lnTo>
                      <a:pt x="41" y="34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5"/>
                    </a:lnTo>
                    <a:lnTo>
                      <a:pt x="42" y="45"/>
                    </a:lnTo>
                    <a:lnTo>
                      <a:pt x="13" y="9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6508800" y="400212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08880" y="5710320"/>
            <a:ext cx="57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,177),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840" y="5710320"/>
            <a:ext cx="484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9960" y="5710320"/>
            <a:ext cx="57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7440" y="5710320"/>
            <a:ext cx="69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59),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9960" y="5710320"/>
            <a:ext cx="57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7440" y="5710320"/>
            <a:ext cx="695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1400" y="5710320"/>
            <a:ext cx="58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8880" y="5710320"/>
            <a:ext cx="697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1400" y="5710320"/>
            <a:ext cx="59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9240" y="5710320"/>
            <a:ext cx="67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KEE,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6000" y="5710320"/>
            <a:ext cx="78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KEE,0), (NAN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 159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8160" y="5710320"/>
            <a:ext cx="71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 159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735280" y="15667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24200" y="171756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00520" y="1717560"/>
            <a:ext cx="66600" cy="7164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6480" y="171756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023920" y="1878120"/>
            <a:ext cx="755640" cy="710640"/>
            <a:chOff x="2023920" y="1878120"/>
            <a:chExt cx="755640" cy="710640"/>
          </a:xfrm>
        </p:grpSpPr>
        <p:sp>
          <p:nvSpPr>
            <p:cNvPr id="225" name=""/>
            <p:cNvSpPr/>
            <p:nvPr/>
          </p:nvSpPr>
          <p:spPr>
            <a:xfrm>
              <a:off x="2023920" y="22334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298600" y="1878120"/>
              <a:ext cx="480960" cy="39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98600" y="2212560"/>
              <a:ext cx="6480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12840" y="2384280"/>
              <a:ext cx="63360" cy="7092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84120" y="2384280"/>
              <a:ext cx="74520" cy="7092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60440" y="2384280"/>
              <a:ext cx="71280" cy="7092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400560" y="22334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1878120"/>
            <a:ext cx="39348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73560" y="2206800"/>
            <a:ext cx="6480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89480" y="2384280"/>
            <a:ext cx="64800" cy="7164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5440" y="2384280"/>
            <a:ext cx="66600" cy="7164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45000" y="2384280"/>
            <a:ext cx="44280" cy="7164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44960" y="160344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78200" y="214632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96000" y="1620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79960" y="23241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2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48760" y="229536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94120" y="301608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602080" y="2544840"/>
            <a:ext cx="842040" cy="887400"/>
            <a:chOff x="2602080" y="2544840"/>
            <a:chExt cx="842040" cy="887400"/>
          </a:xfrm>
        </p:grpSpPr>
        <p:sp>
          <p:nvSpPr>
            <p:cNvPr id="244" name=""/>
            <p:cNvSpPr/>
            <p:nvPr/>
          </p:nvSpPr>
          <p:spPr>
            <a:xfrm>
              <a:off x="2602080" y="307656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874240" y="2544840"/>
              <a:ext cx="569880" cy="525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74600" y="3008520"/>
              <a:ext cx="6480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25" y="0"/>
                  </a:moveTo>
                  <a:lnTo>
                    <a:pt x="0" y="39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90640" y="3227400"/>
              <a:ext cx="7596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66960" y="3227400"/>
              <a:ext cx="7560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2" y="2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27"/>
                  </a:lnTo>
                  <a:lnTo>
                    <a:pt x="40" y="33"/>
                  </a:lnTo>
                  <a:lnTo>
                    <a:pt x="40" y="37"/>
                  </a:lnTo>
                  <a:lnTo>
                    <a:pt x="37" y="40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18" y="45"/>
                  </a:lnTo>
                  <a:lnTo>
                    <a:pt x="14" y="44"/>
                  </a:lnTo>
                  <a:lnTo>
                    <a:pt x="11" y="40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8" y="2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8"/>
                  </a:lnTo>
                  <a:lnTo>
                    <a:pt x="14" y="31"/>
                  </a:lnTo>
                  <a:lnTo>
                    <a:pt x="14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2" y="42"/>
                  </a:lnTo>
                  <a:lnTo>
                    <a:pt x="36" y="39"/>
                  </a:lnTo>
                  <a:lnTo>
                    <a:pt x="37" y="37"/>
                  </a:lnTo>
                  <a:lnTo>
                    <a:pt x="39" y="33"/>
                  </a:lnTo>
                  <a:lnTo>
                    <a:pt x="39" y="27"/>
                  </a:lnTo>
                  <a:lnTo>
                    <a:pt x="39" y="8"/>
                  </a:lnTo>
                  <a:lnTo>
                    <a:pt x="39" y="5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47600" y="322740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41" y="14"/>
                  </a:lnTo>
                  <a:lnTo>
                    <a:pt x="39" y="14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5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14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9" y="34"/>
                  </a:lnTo>
                  <a:lnTo>
                    <a:pt x="13" y="39"/>
                  </a:lnTo>
                  <a:lnTo>
                    <a:pt x="17" y="4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4" y="28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1" y="28"/>
                  </a:lnTo>
                  <a:lnTo>
                    <a:pt x="41" y="42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5" y="45"/>
                  </a:lnTo>
                  <a:lnTo>
                    <a:pt x="19" y="45"/>
                  </a:lnTo>
                  <a:lnTo>
                    <a:pt x="14" y="44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3"/>
                  </a:lnTo>
                  <a:lnTo>
                    <a:pt x="6" y="6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422600" y="3121200"/>
            <a:ext cx="355680" cy="35532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11600" y="2544840"/>
            <a:ext cx="747720" cy="614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92720" y="3098880"/>
            <a:ext cx="6660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11520" y="327168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89640" y="32716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64160" y="327168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12040" y="3141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02760" y="31798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21120" y="3025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267000" y="3387600"/>
            <a:ext cx="1199520" cy="1066680"/>
            <a:chOff x="3267000" y="3387600"/>
            <a:chExt cx="1199520" cy="1066680"/>
          </a:xfrm>
        </p:grpSpPr>
        <p:sp>
          <p:nvSpPr>
            <p:cNvPr id="260" name=""/>
            <p:cNvSpPr/>
            <p:nvPr/>
          </p:nvSpPr>
          <p:spPr>
            <a:xfrm>
              <a:off x="3267000" y="40986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1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2" y="32"/>
                  </a:lnTo>
                  <a:lnTo>
                    <a:pt x="209" y="56"/>
                  </a:lnTo>
                  <a:lnTo>
                    <a:pt x="220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3585600" y="3387600"/>
              <a:ext cx="880920" cy="747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85960" y="4076280"/>
              <a:ext cx="66600" cy="5904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26" y="0"/>
                  </a:moveTo>
                  <a:lnTo>
                    <a:pt x="0" y="37"/>
                  </a:lnTo>
                  <a:lnTo>
                    <a:pt x="42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11280" y="424944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8" y="32"/>
                  </a:moveTo>
                  <a:lnTo>
                    <a:pt x="39" y="32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7" y="43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5" y="38"/>
                  </a:lnTo>
                  <a:lnTo>
                    <a:pt x="36" y="37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76440" y="4249440"/>
              <a:ext cx="73080" cy="71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29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3"/>
                  </a:lnTo>
                  <a:lnTo>
                    <a:pt x="3" y="43"/>
                  </a:lnTo>
                  <a:lnTo>
                    <a:pt x="4" y="40"/>
                  </a:lnTo>
                  <a:lnTo>
                    <a:pt x="6" y="3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9" y="37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5" y="43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29" y="31"/>
                  </a:lnTo>
                  <a:close/>
                  <a:moveTo>
                    <a:pt x="29" y="27"/>
                  </a:moveTo>
                  <a:lnTo>
                    <a:pt x="22" y="10"/>
                  </a:lnTo>
                  <a:lnTo>
                    <a:pt x="14" y="27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57440" y="424944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39" y="14"/>
                  </a:lnTo>
                  <a:lnTo>
                    <a:pt x="39" y="14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8" y="14"/>
                  </a:lnTo>
                  <a:lnTo>
                    <a:pt x="6" y="21"/>
                  </a:lnTo>
                  <a:lnTo>
                    <a:pt x="8" y="27"/>
                  </a:lnTo>
                  <a:lnTo>
                    <a:pt x="9" y="34"/>
                  </a:lnTo>
                  <a:lnTo>
                    <a:pt x="12" y="38"/>
                  </a:lnTo>
                  <a:lnTo>
                    <a:pt x="16" y="41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6" y="43"/>
                  </a:lnTo>
                  <a:lnTo>
                    <a:pt x="30" y="43"/>
                  </a:lnTo>
                  <a:lnTo>
                    <a:pt x="31" y="41"/>
                  </a:lnTo>
                  <a:lnTo>
                    <a:pt x="34" y="41"/>
                  </a:lnTo>
                  <a:lnTo>
                    <a:pt x="34" y="27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7"/>
                  </a:lnTo>
                  <a:lnTo>
                    <a:pt x="40" y="41"/>
                  </a:lnTo>
                  <a:lnTo>
                    <a:pt x="36" y="43"/>
                  </a:lnTo>
                  <a:lnTo>
                    <a:pt x="33" y="45"/>
                  </a:lnTo>
                  <a:lnTo>
                    <a:pt x="28" y="45"/>
                  </a:lnTo>
                  <a:lnTo>
                    <a:pt x="23" y="45"/>
                  </a:lnTo>
                  <a:lnTo>
                    <a:pt x="19" y="45"/>
                  </a:lnTo>
                  <a:lnTo>
                    <a:pt x="12" y="43"/>
                  </a:lnTo>
                  <a:lnTo>
                    <a:pt x="8" y="40"/>
                  </a:lnTo>
                  <a:lnTo>
                    <a:pt x="5" y="37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3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932440" y="418788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78280" y="3387600"/>
            <a:ext cx="1233720" cy="83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5040" y="4172040"/>
            <a:ext cx="6840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991120" y="4340160"/>
            <a:ext cx="244440" cy="73080"/>
            <a:chOff x="5991120" y="4340160"/>
            <a:chExt cx="244440" cy="73080"/>
          </a:xfrm>
        </p:grpSpPr>
        <p:sp>
          <p:nvSpPr>
            <p:cNvPr id="270" name=""/>
            <p:cNvSpPr/>
            <p:nvPr/>
          </p:nvSpPr>
          <p:spPr>
            <a:xfrm>
              <a:off x="5991120" y="4340160"/>
              <a:ext cx="7956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72120" y="434016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8720" y="4340160"/>
              <a:ext cx="96840" cy="7308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67240" y="3476520"/>
            <a:ext cx="355680" cy="1020600"/>
            <a:chOff x="4467240" y="3476520"/>
            <a:chExt cx="355680" cy="1020600"/>
          </a:xfrm>
        </p:grpSpPr>
        <p:sp>
          <p:nvSpPr>
            <p:cNvPr id="274" name=""/>
            <p:cNvSpPr/>
            <p:nvPr/>
          </p:nvSpPr>
          <p:spPr>
            <a:xfrm>
              <a:off x="4467240" y="4143240"/>
              <a:ext cx="35568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3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1"/>
                  </a:lnTo>
                  <a:lnTo>
                    <a:pt x="0" y="112"/>
                  </a:lnTo>
                  <a:lnTo>
                    <a:pt x="4" y="82"/>
                  </a:lnTo>
                  <a:lnTo>
                    <a:pt x="15" y="56"/>
                  </a:lnTo>
                  <a:lnTo>
                    <a:pt x="32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45080" y="3476520"/>
              <a:ext cx="180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27800" y="406044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lnTo>
                    <a:pt x="11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4532400" y="4289040"/>
              <a:ext cx="232920" cy="73080"/>
              <a:chOff x="4532400" y="4289040"/>
              <a:chExt cx="232920" cy="73080"/>
            </a:xfrm>
          </p:grpSpPr>
          <p:sp>
            <p:nvSpPr>
              <p:cNvPr id="278" name=""/>
              <p:cNvSpPr/>
              <p:nvPr/>
            </p:nvSpPr>
            <p:spPr>
              <a:xfrm>
                <a:off x="4532400" y="428904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3" y="0"/>
                    </a:lnTo>
                    <a:lnTo>
                      <a:pt x="41" y="35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13" y="10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8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6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3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611600" y="4289040"/>
                <a:ext cx="75960" cy="7308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31" y="32"/>
                    </a:moveTo>
                    <a:lnTo>
                      <a:pt x="13" y="32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6" y="41"/>
                    </a:lnTo>
                    <a:lnTo>
                      <a:pt x="8" y="36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41" y="38"/>
                    </a:lnTo>
                    <a:lnTo>
                      <a:pt x="42" y="41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9"/>
                    </a:lnTo>
                    <a:lnTo>
                      <a:pt x="33" y="36"/>
                    </a:lnTo>
                    <a:lnTo>
                      <a:pt x="31" y="32"/>
                    </a:lnTo>
                    <a:close/>
                    <a:moveTo>
                      <a:pt x="30" y="28"/>
                    </a:moveTo>
                    <a:lnTo>
                      <a:pt x="22" y="11"/>
                    </a:lnTo>
                    <a:lnTo>
                      <a:pt x="1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86120" y="428904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2" y="0"/>
                    </a:lnTo>
                    <a:lnTo>
                      <a:pt x="40" y="35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4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6"/>
                    </a:lnTo>
                    <a:lnTo>
                      <a:pt x="42" y="46"/>
                    </a:lnTo>
                    <a:lnTo>
                      <a:pt x="12" y="10"/>
                    </a:lnTo>
                    <a:lnTo>
                      <a:pt x="12" y="38"/>
                    </a:lnTo>
                    <a:lnTo>
                      <a:pt x="12" y="41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2676960" y="41590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42440" y="41972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33120" y="4254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57840" y="4103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93280" y="53942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40560" y="50706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01880" y="414324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81360" y="4976640"/>
            <a:ext cx="61920" cy="9396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468520" y="4410000"/>
            <a:ext cx="842400" cy="976320"/>
            <a:chOff x="2468520" y="4410000"/>
            <a:chExt cx="842400" cy="976320"/>
          </a:xfrm>
        </p:grpSpPr>
        <p:sp>
          <p:nvSpPr>
            <p:cNvPr id="290" name=""/>
            <p:cNvSpPr/>
            <p:nvPr/>
          </p:nvSpPr>
          <p:spPr>
            <a:xfrm>
              <a:off x="2468520" y="5031000"/>
              <a:ext cx="35532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741040" y="4410000"/>
              <a:ext cx="569880" cy="65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41400" y="5002200"/>
              <a:ext cx="6048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1" y="0"/>
                  </a:moveTo>
                  <a:lnTo>
                    <a:pt x="0" y="42"/>
                  </a:lnTo>
                  <a:lnTo>
                    <a:pt x="38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17480" y="518184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7" y="0"/>
                  </a:moveTo>
                  <a:lnTo>
                    <a:pt x="37" y="16"/>
                  </a:lnTo>
                  <a:lnTo>
                    <a:pt x="37" y="16"/>
                  </a:lnTo>
                  <a:lnTo>
                    <a:pt x="34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11"/>
                  </a:lnTo>
                  <a:lnTo>
                    <a:pt x="8" y="17"/>
                  </a:lnTo>
                  <a:lnTo>
                    <a:pt x="8" y="23"/>
                  </a:lnTo>
                  <a:lnTo>
                    <a:pt x="8" y="30"/>
                  </a:lnTo>
                  <a:lnTo>
                    <a:pt x="9" y="34"/>
                  </a:lnTo>
                  <a:lnTo>
                    <a:pt x="11" y="37"/>
                  </a:lnTo>
                  <a:lnTo>
                    <a:pt x="15" y="40"/>
                  </a:lnTo>
                  <a:lnTo>
                    <a:pt x="19" y="42"/>
                  </a:lnTo>
                  <a:lnTo>
                    <a:pt x="23" y="44"/>
                  </a:lnTo>
                  <a:lnTo>
                    <a:pt x="28" y="42"/>
                  </a:lnTo>
                  <a:lnTo>
                    <a:pt x="31" y="40"/>
                  </a:lnTo>
                  <a:lnTo>
                    <a:pt x="34" y="39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4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84080" y="5181840"/>
              <a:ext cx="73080" cy="7128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12" y="22"/>
                  </a:moveTo>
                  <a:lnTo>
                    <a:pt x="34" y="22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0" y="5"/>
                  </a:lnTo>
                  <a:lnTo>
                    <a:pt x="40" y="8"/>
                  </a:lnTo>
                  <a:lnTo>
                    <a:pt x="40" y="37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4" y="37"/>
                  </a:lnTo>
                  <a:lnTo>
                    <a:pt x="34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0400" y="518184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47" y="0"/>
                  </a:moveTo>
                  <a:lnTo>
                    <a:pt x="47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40" y="8"/>
                  </a:lnTo>
                  <a:lnTo>
                    <a:pt x="26" y="45"/>
                  </a:lnTo>
                  <a:lnTo>
                    <a:pt x="25" y="4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6" y="36"/>
                  </a:lnTo>
                  <a:lnTo>
                    <a:pt x="37" y="9"/>
                  </a:lnTo>
                  <a:lnTo>
                    <a:pt x="37" y="6"/>
                  </a:lnTo>
                  <a:lnTo>
                    <a:pt x="39" y="5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872360" y="50608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4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48400" y="53942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89440" y="488160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892840" y="5018040"/>
            <a:ext cx="355680" cy="355320"/>
            <a:chOff x="5892840" y="5018040"/>
            <a:chExt cx="355680" cy="355320"/>
          </a:xfrm>
        </p:grpSpPr>
        <p:sp>
          <p:nvSpPr>
            <p:cNvPr id="300" name=""/>
            <p:cNvSpPr/>
            <p:nvPr/>
          </p:nvSpPr>
          <p:spPr>
            <a:xfrm>
              <a:off x="5892840" y="50180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81760" y="51685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58080" y="51685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24680" y="51685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086520" y="4543560"/>
            <a:ext cx="0" cy="447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53680" y="539424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79320" y="5119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94520" y="400860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48400" y="6137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441600" y="5445000"/>
            <a:ext cx="355320" cy="976320"/>
            <a:chOff x="3441600" y="5445000"/>
            <a:chExt cx="355320" cy="976320"/>
          </a:xfrm>
        </p:grpSpPr>
        <p:sp>
          <p:nvSpPr>
            <p:cNvPr id="310" name=""/>
            <p:cNvSpPr/>
            <p:nvPr/>
          </p:nvSpPr>
          <p:spPr>
            <a:xfrm>
              <a:off x="3441600" y="60656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30520" y="5445000"/>
              <a:ext cx="44280" cy="610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51040" y="5984640"/>
              <a:ext cx="36360" cy="71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3504960" y="6170400"/>
              <a:ext cx="244440" cy="71280"/>
              <a:chOff x="3504960" y="6170400"/>
              <a:chExt cx="244440" cy="71280"/>
            </a:xfrm>
          </p:grpSpPr>
          <p:sp>
            <p:nvSpPr>
              <p:cNvPr id="314" name=""/>
              <p:cNvSpPr/>
              <p:nvPr/>
            </p:nvSpPr>
            <p:spPr>
              <a:xfrm>
                <a:off x="3504960" y="6170400"/>
                <a:ext cx="7920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85600" y="617040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3" y="3"/>
                    </a:moveTo>
                    <a:lnTo>
                      <a:pt x="13" y="20"/>
                    </a:lnTo>
                    <a:lnTo>
                      <a:pt x="22" y="20"/>
                    </a:lnTo>
                    <a:lnTo>
                      <a:pt x="25" y="20"/>
                    </a:lnTo>
                    <a:lnTo>
                      <a:pt x="28" y="20"/>
                    </a:lnTo>
                    <a:lnTo>
                      <a:pt x="28" y="17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2" y="23"/>
                    </a:lnTo>
                    <a:lnTo>
                      <a:pt x="13" y="23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8" y="34"/>
                    </a:lnTo>
                    <a:lnTo>
                      <a:pt x="39" y="34"/>
                    </a:lnTo>
                    <a:lnTo>
                      <a:pt x="3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652560" y="6170400"/>
                <a:ext cx="96840" cy="7128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5" y="6"/>
                    </a:lnTo>
                    <a:lnTo>
                      <a:pt x="53" y="9"/>
                    </a:lnTo>
                    <a:lnTo>
                      <a:pt x="42" y="45"/>
                    </a:lnTo>
                    <a:lnTo>
                      <a:pt x="41" y="45"/>
                    </a:lnTo>
                    <a:lnTo>
                      <a:pt x="30" y="19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6" y="9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14" y="9"/>
                    </a:lnTo>
                    <a:lnTo>
                      <a:pt x="22" y="34"/>
                    </a:lnTo>
                    <a:lnTo>
                      <a:pt x="28" y="14"/>
                    </a:lnTo>
                    <a:lnTo>
                      <a:pt x="27" y="9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11"/>
                    </a:lnTo>
                    <a:lnTo>
                      <a:pt x="42" y="34"/>
                    </a:lnTo>
                    <a:lnTo>
                      <a:pt x="50" y="9"/>
                    </a:lnTo>
                    <a:lnTo>
                      <a:pt x="51" y="6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4004280" y="60310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4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186600" y="4913280"/>
            <a:ext cx="124920" cy="98280"/>
            <a:chOff x="6186600" y="4913280"/>
            <a:chExt cx="124920" cy="98280"/>
          </a:xfrm>
        </p:grpSpPr>
        <p:sp>
          <p:nvSpPr>
            <p:cNvPr id="319" name=""/>
            <p:cNvSpPr/>
            <p:nvPr/>
          </p:nvSpPr>
          <p:spPr>
            <a:xfrm>
              <a:off x="6186600" y="491328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53200" y="4913280"/>
              <a:ext cx="5832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7" y="31"/>
                  </a:moveTo>
                  <a:lnTo>
                    <a:pt x="37" y="38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31" y="54"/>
                  </a:lnTo>
                  <a:lnTo>
                    <a:pt x="27" y="57"/>
                  </a:lnTo>
                  <a:lnTo>
                    <a:pt x="24" y="59"/>
                  </a:lnTo>
                  <a:lnTo>
                    <a:pt x="21" y="60"/>
                  </a:lnTo>
                  <a:lnTo>
                    <a:pt x="18" y="62"/>
                  </a:lnTo>
                  <a:lnTo>
                    <a:pt x="14" y="60"/>
                  </a:lnTo>
                  <a:lnTo>
                    <a:pt x="10" y="59"/>
                  </a:lnTo>
                  <a:lnTo>
                    <a:pt x="7" y="56"/>
                  </a:lnTo>
                  <a:lnTo>
                    <a:pt x="4" y="52"/>
                  </a:lnTo>
                  <a:lnTo>
                    <a:pt x="3" y="49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4" y="12"/>
                  </a:lnTo>
                  <a:lnTo>
                    <a:pt x="37" y="21"/>
                  </a:lnTo>
                  <a:lnTo>
                    <a:pt x="37" y="31"/>
                  </a:lnTo>
                  <a:close/>
                  <a:moveTo>
                    <a:pt x="24" y="31"/>
                  </a:moveTo>
                  <a:lnTo>
                    <a:pt x="24" y="21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2" y="18"/>
                  </a:lnTo>
                  <a:lnTo>
                    <a:pt x="12" y="35"/>
                  </a:lnTo>
                  <a:lnTo>
                    <a:pt x="12" y="43"/>
                  </a:lnTo>
                  <a:lnTo>
                    <a:pt x="12" y="49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4452840" y="4494240"/>
            <a:ext cx="355320" cy="863640"/>
            <a:chOff x="4452840" y="4494240"/>
            <a:chExt cx="355320" cy="863640"/>
          </a:xfrm>
        </p:grpSpPr>
        <p:sp>
          <p:nvSpPr>
            <p:cNvPr id="322" name=""/>
            <p:cNvSpPr/>
            <p:nvPr/>
          </p:nvSpPr>
          <p:spPr>
            <a:xfrm>
              <a:off x="4452840" y="50022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86040" y="4494240"/>
              <a:ext cx="1800" cy="498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68760" y="492120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lnTo>
                    <a:pt x="11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4486320" y="5105520"/>
              <a:ext cx="304200" cy="242640"/>
              <a:chOff x="4486320" y="5105520"/>
              <a:chExt cx="304200" cy="2426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4541760" y="5105520"/>
                <a:ext cx="217440" cy="71640"/>
                <a:chOff x="4541760" y="5105520"/>
                <a:chExt cx="217440" cy="716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4541760" y="5105520"/>
                  <a:ext cx="61920" cy="71640"/>
                </a:xfrm>
                <a:custGeom>
                  <a:avLst/>
                  <a:gdLst/>
                  <a:ahLst/>
                  <a:rect l="l" t="t" r="r" b="b"/>
                  <a:pathLst>
                    <a:path w="39" h="45">
                      <a:moveTo>
                        <a:pt x="37" y="33"/>
                      </a:moveTo>
                      <a:lnTo>
                        <a:pt x="39" y="33"/>
                      </a:lnTo>
                      <a:lnTo>
                        <a:pt x="36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3" y="45"/>
                      </a:lnTo>
                      <a:lnTo>
                        <a:pt x="5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8" y="37"/>
                      </a:lnTo>
                      <a:lnTo>
                        <a:pt x="8" y="8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14" y="8"/>
                      </a:lnTo>
                      <a:lnTo>
                        <a:pt x="14" y="37"/>
                      </a:lnTo>
                      <a:lnTo>
                        <a:pt x="14" y="40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20" y="44"/>
                      </a:lnTo>
                      <a:lnTo>
                        <a:pt x="23" y="44"/>
                      </a:lnTo>
                      <a:lnTo>
                        <a:pt x="28" y="44"/>
                      </a:lnTo>
                      <a:lnTo>
                        <a:pt x="29" y="42"/>
                      </a:lnTo>
                      <a:lnTo>
                        <a:pt x="33" y="40"/>
                      </a:lnTo>
                      <a:lnTo>
                        <a:pt x="34" y="39"/>
                      </a:lnTo>
                      <a:lnTo>
                        <a:pt x="36" y="37"/>
                      </a:lnTo>
                      <a:lnTo>
                        <a:pt x="37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605120" y="5105520"/>
                  <a:ext cx="74520" cy="7164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30" y="31"/>
                      </a:moveTo>
                      <a:lnTo>
                        <a:pt x="13" y="31"/>
                      </a:lnTo>
                      <a:lnTo>
                        <a:pt x="10" y="37"/>
                      </a:lnTo>
                      <a:lnTo>
                        <a:pt x="8" y="40"/>
                      </a:lnTo>
                      <a:lnTo>
                        <a:pt x="8" y="42"/>
                      </a:lnTo>
                      <a:lnTo>
                        <a:pt x="8" y="42"/>
                      </a:lnTo>
                      <a:lnTo>
                        <a:pt x="10" y="44"/>
                      </a:lnTo>
                      <a:lnTo>
                        <a:pt x="11" y="44"/>
                      </a:lnTo>
                      <a:lnTo>
                        <a:pt x="14" y="45"/>
                      </a:lnTo>
                      <a:lnTo>
                        <a:pt x="14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2" y="44"/>
                      </a:lnTo>
                      <a:lnTo>
                        <a:pt x="3" y="44"/>
                      </a:lnTo>
                      <a:lnTo>
                        <a:pt x="5" y="40"/>
                      </a:lnTo>
                      <a:lnTo>
                        <a:pt x="7" y="3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39" y="37"/>
                      </a:lnTo>
                      <a:lnTo>
                        <a:pt x="41" y="40"/>
                      </a:lnTo>
                      <a:lnTo>
                        <a:pt x="42" y="44"/>
                      </a:lnTo>
                      <a:lnTo>
                        <a:pt x="45" y="44"/>
                      </a:lnTo>
                      <a:lnTo>
                        <a:pt x="47" y="45"/>
                      </a:lnTo>
                      <a:lnTo>
                        <a:pt x="47" y="45"/>
                      </a:lnTo>
                      <a:lnTo>
                        <a:pt x="30" y="45"/>
                      </a:lnTo>
                      <a:lnTo>
                        <a:pt x="30" y="45"/>
                      </a:lnTo>
                      <a:lnTo>
                        <a:pt x="31" y="44"/>
                      </a:lnTo>
                      <a:lnTo>
                        <a:pt x="33" y="44"/>
                      </a:lnTo>
                      <a:lnTo>
                        <a:pt x="35" y="42"/>
                      </a:lnTo>
                      <a:lnTo>
                        <a:pt x="35" y="42"/>
                      </a:lnTo>
                      <a:lnTo>
                        <a:pt x="35" y="39"/>
                      </a:lnTo>
                      <a:lnTo>
                        <a:pt x="33" y="36"/>
                      </a:lnTo>
                      <a:lnTo>
                        <a:pt x="30" y="31"/>
                      </a:lnTo>
                      <a:close/>
                      <a:moveTo>
                        <a:pt x="30" y="28"/>
                      </a:moveTo>
                      <a:lnTo>
                        <a:pt x="22" y="11"/>
                      </a:lnTo>
                      <a:lnTo>
                        <a:pt x="14" y="28"/>
                      </a:lnTo>
                      <a:lnTo>
                        <a:pt x="3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687560" y="510552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39" y="0"/>
                      </a:moveTo>
                      <a:lnTo>
                        <a:pt x="39" y="14"/>
                      </a:lnTo>
                      <a:lnTo>
                        <a:pt x="39" y="14"/>
                      </a:lnTo>
                      <a:lnTo>
                        <a:pt x="35" y="9"/>
                      </a:lnTo>
                      <a:lnTo>
                        <a:pt x="34" y="6"/>
                      </a:lnTo>
                      <a:lnTo>
                        <a:pt x="29" y="3"/>
                      </a:lnTo>
                      <a:lnTo>
                        <a:pt x="23" y="2"/>
                      </a:lnTo>
                      <a:lnTo>
                        <a:pt x="18" y="3"/>
                      </a:lnTo>
                      <a:lnTo>
                        <a:pt x="14" y="5"/>
                      </a:lnTo>
                      <a:lnTo>
                        <a:pt x="11" y="8"/>
                      </a:lnTo>
                      <a:lnTo>
                        <a:pt x="7" y="14"/>
                      </a:lnTo>
                      <a:lnTo>
                        <a:pt x="6" y="22"/>
                      </a:lnTo>
                      <a:lnTo>
                        <a:pt x="7" y="28"/>
                      </a:lnTo>
                      <a:lnTo>
                        <a:pt x="9" y="34"/>
                      </a:lnTo>
                      <a:lnTo>
                        <a:pt x="12" y="39"/>
                      </a:lnTo>
                      <a:lnTo>
                        <a:pt x="15" y="42"/>
                      </a:lnTo>
                      <a:lnTo>
                        <a:pt x="20" y="44"/>
                      </a:lnTo>
                      <a:lnTo>
                        <a:pt x="25" y="44"/>
                      </a:lnTo>
                      <a:lnTo>
                        <a:pt x="26" y="44"/>
                      </a:lnTo>
                      <a:lnTo>
                        <a:pt x="29" y="44"/>
                      </a:lnTo>
                      <a:lnTo>
                        <a:pt x="31" y="42"/>
                      </a:lnTo>
                      <a:lnTo>
                        <a:pt x="34" y="42"/>
                      </a:lnTo>
                      <a:lnTo>
                        <a:pt x="34" y="28"/>
                      </a:lnTo>
                      <a:lnTo>
                        <a:pt x="32" y="25"/>
                      </a:lnTo>
                      <a:lnTo>
                        <a:pt x="32" y="23"/>
                      </a:lnTo>
                      <a:lnTo>
                        <a:pt x="32" y="23"/>
                      </a:lnTo>
                      <a:lnTo>
                        <a:pt x="31" y="22"/>
                      </a:lnTo>
                      <a:lnTo>
                        <a:pt x="29" y="22"/>
                      </a:lnTo>
                      <a:lnTo>
                        <a:pt x="28" y="22"/>
                      </a:lnTo>
                      <a:lnTo>
                        <a:pt x="28" y="20"/>
                      </a:lnTo>
                      <a:lnTo>
                        <a:pt x="45" y="20"/>
                      </a:lnTo>
                      <a:lnTo>
                        <a:pt x="45" y="22"/>
                      </a:lnTo>
                      <a:lnTo>
                        <a:pt x="43" y="22"/>
                      </a:lnTo>
                      <a:lnTo>
                        <a:pt x="42" y="22"/>
                      </a:lnTo>
                      <a:lnTo>
                        <a:pt x="40" y="23"/>
                      </a:lnTo>
                      <a:lnTo>
                        <a:pt x="40" y="25"/>
                      </a:lnTo>
                      <a:lnTo>
                        <a:pt x="40" y="28"/>
                      </a:lnTo>
                      <a:lnTo>
                        <a:pt x="40" y="42"/>
                      </a:lnTo>
                      <a:lnTo>
                        <a:pt x="35" y="44"/>
                      </a:lnTo>
                      <a:lnTo>
                        <a:pt x="32" y="45"/>
                      </a:lnTo>
                      <a:lnTo>
                        <a:pt x="28" y="45"/>
                      </a:lnTo>
                      <a:lnTo>
                        <a:pt x="23" y="45"/>
                      </a:lnTo>
                      <a:lnTo>
                        <a:pt x="18" y="45"/>
                      </a:lnTo>
                      <a:lnTo>
                        <a:pt x="12" y="44"/>
                      </a:lnTo>
                      <a:lnTo>
                        <a:pt x="7" y="40"/>
                      </a:lnTo>
                      <a:lnTo>
                        <a:pt x="4" y="37"/>
                      </a:lnTo>
                      <a:lnTo>
                        <a:pt x="1" y="33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1" y="12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17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5" y="3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4486320" y="5132520"/>
                <a:ext cx="304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4773600" y="4435560"/>
            <a:ext cx="1011240" cy="929520"/>
            <a:chOff x="4773600" y="4435560"/>
            <a:chExt cx="1011240" cy="929520"/>
          </a:xfrm>
        </p:grpSpPr>
        <p:sp>
          <p:nvSpPr>
            <p:cNvPr id="332" name=""/>
            <p:cNvSpPr/>
            <p:nvPr/>
          </p:nvSpPr>
          <p:spPr>
            <a:xfrm>
              <a:off x="5430960" y="500184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7" y="208"/>
                  </a:lnTo>
                  <a:lnTo>
                    <a:pt x="141" y="219"/>
                  </a:lnTo>
                  <a:lnTo>
                    <a:pt x="111" y="224"/>
                  </a:lnTo>
                  <a:lnTo>
                    <a:pt x="82" y="219"/>
                  </a:lnTo>
                  <a:lnTo>
                    <a:pt x="55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5" y="16"/>
                  </a:lnTo>
                  <a:lnTo>
                    <a:pt x="82" y="5"/>
                  </a:lnTo>
                  <a:lnTo>
                    <a:pt x="111" y="0"/>
                  </a:lnTo>
                  <a:lnTo>
                    <a:pt x="141" y="5"/>
                  </a:lnTo>
                  <a:lnTo>
                    <a:pt x="167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3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73600" y="4435560"/>
              <a:ext cx="738360" cy="604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45360" y="4979880"/>
              <a:ext cx="66600" cy="597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5478480" y="5114520"/>
              <a:ext cx="244440" cy="71280"/>
              <a:chOff x="5478480" y="5114520"/>
              <a:chExt cx="244440" cy="71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478480" y="511452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9480" y="511452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3" y="3"/>
                    </a:moveTo>
                    <a:lnTo>
                      <a:pt x="13" y="20"/>
                    </a:lnTo>
                    <a:lnTo>
                      <a:pt x="22" y="20"/>
                    </a:lnTo>
                    <a:lnTo>
                      <a:pt x="25" y="20"/>
                    </a:lnTo>
                    <a:lnTo>
                      <a:pt x="28" y="20"/>
                    </a:lnTo>
                    <a:lnTo>
                      <a:pt x="28" y="17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2" y="23"/>
                    </a:lnTo>
                    <a:lnTo>
                      <a:pt x="13" y="23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8" y="34"/>
                    </a:lnTo>
                    <a:lnTo>
                      <a:pt x="39" y="34"/>
                    </a:lnTo>
                    <a:lnTo>
                      <a:pt x="3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626080" y="5114520"/>
                <a:ext cx="96840" cy="7128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5" y="6"/>
                    </a:lnTo>
                    <a:lnTo>
                      <a:pt x="53" y="9"/>
                    </a:lnTo>
                    <a:lnTo>
                      <a:pt x="42" y="45"/>
                    </a:lnTo>
                    <a:lnTo>
                      <a:pt x="41" y="45"/>
                    </a:lnTo>
                    <a:lnTo>
                      <a:pt x="30" y="19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6" y="9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14" y="9"/>
                    </a:lnTo>
                    <a:lnTo>
                      <a:pt x="22" y="34"/>
                    </a:lnTo>
                    <a:lnTo>
                      <a:pt x="28" y="14"/>
                    </a:lnTo>
                    <a:lnTo>
                      <a:pt x="27" y="9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11"/>
                    </a:lnTo>
                    <a:lnTo>
                      <a:pt x="42" y="34"/>
                    </a:lnTo>
                    <a:lnTo>
                      <a:pt x="50" y="9"/>
                    </a:lnTo>
                    <a:lnTo>
                      <a:pt x="51" y="6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466240" y="514944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355920" y="4454640"/>
            <a:ext cx="355320" cy="995040"/>
            <a:chOff x="3355920" y="4454640"/>
            <a:chExt cx="355320" cy="995040"/>
          </a:xfrm>
        </p:grpSpPr>
        <p:sp>
          <p:nvSpPr>
            <p:cNvPr id="341" name=""/>
            <p:cNvSpPr/>
            <p:nvPr/>
          </p:nvSpPr>
          <p:spPr>
            <a:xfrm>
              <a:off x="3355920" y="507528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44840" y="4454640"/>
              <a:ext cx="44280" cy="611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65360" y="4994280"/>
              <a:ext cx="36360" cy="716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3423960" y="5187960"/>
              <a:ext cx="231840" cy="71280"/>
              <a:chOff x="3423960" y="5187960"/>
              <a:chExt cx="231840" cy="71280"/>
            </a:xfrm>
          </p:grpSpPr>
          <p:sp>
            <p:nvSpPr>
              <p:cNvPr id="345" name=""/>
              <p:cNvSpPr/>
              <p:nvPr/>
            </p:nvSpPr>
            <p:spPr>
              <a:xfrm>
                <a:off x="3423960" y="5187960"/>
                <a:ext cx="77760" cy="712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49" y="0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6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7" y="5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501720" y="5187960"/>
                <a:ext cx="77760" cy="712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32" y="31"/>
                    </a:moveTo>
                    <a:lnTo>
                      <a:pt x="13" y="31"/>
                    </a:lnTo>
                    <a:lnTo>
                      <a:pt x="10" y="37"/>
                    </a:lnTo>
                    <a:lnTo>
                      <a:pt x="10" y="40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7" y="40"/>
                    </a:lnTo>
                    <a:lnTo>
                      <a:pt x="8" y="36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41" y="37"/>
                    </a:lnTo>
                    <a:lnTo>
                      <a:pt x="42" y="40"/>
                    </a:lnTo>
                    <a:lnTo>
                      <a:pt x="44" y="44"/>
                    </a:lnTo>
                    <a:lnTo>
                      <a:pt x="46" y="44"/>
                    </a:lnTo>
                    <a:lnTo>
                      <a:pt x="49" y="45"/>
                    </a:lnTo>
                    <a:lnTo>
                      <a:pt x="49" y="45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3" y="44"/>
                    </a:lnTo>
                    <a:lnTo>
                      <a:pt x="35" y="44"/>
                    </a:lnTo>
                    <a:lnTo>
                      <a:pt x="35" y="42"/>
                    </a:lnTo>
                    <a:lnTo>
                      <a:pt x="35" y="42"/>
                    </a:lnTo>
                    <a:lnTo>
                      <a:pt x="35" y="39"/>
                    </a:lnTo>
                    <a:lnTo>
                      <a:pt x="33" y="36"/>
                    </a:lnTo>
                    <a:lnTo>
                      <a:pt x="32" y="31"/>
                    </a:lnTo>
                    <a:close/>
                    <a:moveTo>
                      <a:pt x="30" y="28"/>
                    </a:moveTo>
                    <a:lnTo>
                      <a:pt x="22" y="11"/>
                    </a:lnTo>
                    <a:lnTo>
                      <a:pt x="1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76240" y="518796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3" y="0"/>
                    </a:lnTo>
                    <a:lnTo>
                      <a:pt x="41" y="34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5"/>
                    </a:lnTo>
                    <a:lnTo>
                      <a:pt x="42" y="45"/>
                    </a:lnTo>
                    <a:lnTo>
                      <a:pt x="13" y="9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3397320" y="523404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472200" y="6222960"/>
            <a:ext cx="30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514760" y="5357880"/>
            <a:ext cx="355320" cy="977760"/>
            <a:chOff x="4514760" y="5357880"/>
            <a:chExt cx="355320" cy="977760"/>
          </a:xfrm>
        </p:grpSpPr>
        <p:sp>
          <p:nvSpPr>
            <p:cNvPr id="351" name=""/>
            <p:cNvSpPr/>
            <p:nvPr/>
          </p:nvSpPr>
          <p:spPr>
            <a:xfrm>
              <a:off x="4624200" y="5357880"/>
              <a:ext cx="44280" cy="611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44720" y="5897520"/>
              <a:ext cx="36720" cy="716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14760" y="5972400"/>
              <a:ext cx="35532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4582800" y="6075360"/>
              <a:ext cx="217080" cy="71280"/>
              <a:chOff x="4582800" y="6075360"/>
              <a:chExt cx="217080" cy="71280"/>
            </a:xfrm>
          </p:grpSpPr>
          <p:sp>
            <p:nvSpPr>
              <p:cNvPr id="355" name=""/>
              <p:cNvSpPr/>
              <p:nvPr/>
            </p:nvSpPr>
            <p:spPr>
              <a:xfrm>
                <a:off x="4582800" y="6075360"/>
                <a:ext cx="6156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37" y="0"/>
                    </a:moveTo>
                    <a:lnTo>
                      <a:pt x="37" y="16"/>
                    </a:lnTo>
                    <a:lnTo>
                      <a:pt x="37" y="16"/>
                    </a:lnTo>
                    <a:lnTo>
                      <a:pt x="34" y="9"/>
                    </a:lnTo>
                    <a:lnTo>
                      <a:pt x="31" y="5"/>
                    </a:lnTo>
                    <a:lnTo>
                      <a:pt x="26" y="3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2" y="6"/>
                    </a:lnTo>
                    <a:lnTo>
                      <a:pt x="9" y="11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9" y="34"/>
                    </a:lnTo>
                    <a:lnTo>
                      <a:pt x="11" y="37"/>
                    </a:lnTo>
                    <a:lnTo>
                      <a:pt x="15" y="40"/>
                    </a:lnTo>
                    <a:lnTo>
                      <a:pt x="19" y="42"/>
                    </a:lnTo>
                    <a:lnTo>
                      <a:pt x="23" y="44"/>
                    </a:lnTo>
                    <a:lnTo>
                      <a:pt x="28" y="42"/>
                    </a:lnTo>
                    <a:lnTo>
                      <a:pt x="31" y="40"/>
                    </a:lnTo>
                    <a:lnTo>
                      <a:pt x="34" y="39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36" y="39"/>
                    </a:lnTo>
                    <a:lnTo>
                      <a:pt x="31" y="44"/>
                    </a:lnTo>
                    <a:lnTo>
                      <a:pt x="26" y="45"/>
                    </a:lnTo>
                    <a:lnTo>
                      <a:pt x="20" y="45"/>
                    </a:lnTo>
                    <a:lnTo>
                      <a:pt x="14" y="45"/>
                    </a:lnTo>
                    <a:lnTo>
                      <a:pt x="9" y="42"/>
                    </a:lnTo>
                    <a:lnTo>
                      <a:pt x="5" y="37"/>
                    </a:lnTo>
                    <a:lnTo>
                      <a:pt x="1" y="33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1" y="3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649400" y="6075360"/>
                <a:ext cx="7236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12" y="22"/>
                    </a:moveTo>
                    <a:lnTo>
                      <a:pt x="34" y="22"/>
                    </a:lnTo>
                    <a:lnTo>
                      <a:pt x="34" y="8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46" y="0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0" y="5"/>
                    </a:lnTo>
                    <a:lnTo>
                      <a:pt x="40" y="8"/>
                    </a:lnTo>
                    <a:lnTo>
                      <a:pt x="40" y="37"/>
                    </a:lnTo>
                    <a:lnTo>
                      <a:pt x="40" y="40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3" y="44"/>
                    </a:lnTo>
                    <a:lnTo>
                      <a:pt x="45" y="45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9" y="45"/>
                    </a:lnTo>
                    <a:lnTo>
                      <a:pt x="32" y="44"/>
                    </a:lnTo>
                    <a:lnTo>
                      <a:pt x="34" y="42"/>
                    </a:lnTo>
                    <a:lnTo>
                      <a:pt x="34" y="40"/>
                    </a:lnTo>
                    <a:lnTo>
                      <a:pt x="34" y="37"/>
                    </a:lnTo>
                    <a:lnTo>
                      <a:pt x="34" y="23"/>
                    </a:lnTo>
                    <a:lnTo>
                      <a:pt x="12" y="23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5" y="44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4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25360" y="607536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47" y="0"/>
                    </a:moveTo>
                    <a:lnTo>
                      <a:pt x="47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2" y="5"/>
                    </a:lnTo>
                    <a:lnTo>
                      <a:pt x="40" y="8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6" y="9"/>
                    </a:lnTo>
                    <a:lnTo>
                      <a:pt x="26" y="36"/>
                    </a:lnTo>
                    <a:lnTo>
                      <a:pt x="37" y="9"/>
                    </a:lnTo>
                    <a:lnTo>
                      <a:pt x="37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540320" y="612000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254640" y="4483080"/>
            <a:ext cx="664920" cy="934920"/>
            <a:chOff x="6254640" y="4483080"/>
            <a:chExt cx="664920" cy="934920"/>
          </a:xfrm>
        </p:grpSpPr>
        <p:sp>
          <p:nvSpPr>
            <p:cNvPr id="360" name=""/>
            <p:cNvSpPr/>
            <p:nvPr/>
          </p:nvSpPr>
          <p:spPr>
            <a:xfrm>
              <a:off x="6254640" y="448308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64240" y="50594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94120" y="498312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6632280" y="5162760"/>
              <a:ext cx="231840" cy="71280"/>
              <a:chOff x="6632280" y="5162760"/>
              <a:chExt cx="231840" cy="71280"/>
            </a:xfrm>
          </p:grpSpPr>
          <p:sp>
            <p:nvSpPr>
              <p:cNvPr id="364" name=""/>
              <p:cNvSpPr/>
              <p:nvPr/>
            </p:nvSpPr>
            <p:spPr>
              <a:xfrm>
                <a:off x="6632280" y="516276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711840" y="5162760"/>
                <a:ext cx="75960" cy="7128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31" y="31"/>
                    </a:moveTo>
                    <a:lnTo>
                      <a:pt x="12" y="31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6" y="40"/>
                    </a:lnTo>
                    <a:lnTo>
                      <a:pt x="7" y="36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40" y="37"/>
                    </a:lnTo>
                    <a:lnTo>
                      <a:pt x="42" y="40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29" y="45"/>
                    </a:lnTo>
                    <a:lnTo>
                      <a:pt x="29" y="45"/>
                    </a:lnTo>
                    <a:lnTo>
                      <a:pt x="32" y="44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9"/>
                    </a:lnTo>
                    <a:lnTo>
                      <a:pt x="32" y="36"/>
                    </a:lnTo>
                    <a:lnTo>
                      <a:pt x="31" y="31"/>
                    </a:lnTo>
                    <a:close/>
                    <a:moveTo>
                      <a:pt x="29" y="28"/>
                    </a:moveTo>
                    <a:lnTo>
                      <a:pt x="21" y="11"/>
                    </a:lnTo>
                    <a:lnTo>
                      <a:pt x="14" y="28"/>
                    </a:lnTo>
                    <a:lnTo>
                      <a:pt x="29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784560" y="516276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3" y="0"/>
                    </a:lnTo>
                    <a:lnTo>
                      <a:pt x="41" y="34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5"/>
                    </a:lnTo>
                    <a:lnTo>
                      <a:pt x="42" y="45"/>
                    </a:lnTo>
                    <a:lnTo>
                      <a:pt x="13" y="9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6603840" y="520236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16960" y="30463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to iniziale: ROC, Goal: K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63880" y="194616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935000" y="144000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64960" y="210492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12760" y="207648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10680" y="58658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27200" y="205416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61760" y="294156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33360" y="29797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426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430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65040" y="394956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22+177=5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878000" y="39974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45+159=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4640" y="404496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30+180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914360" y="51944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61+180=6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81080" y="51944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52+177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554200" y="48308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441600" y="4875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827080" y="4210200"/>
            <a:ext cx="56988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27440" y="4802040"/>
            <a:ext cx="60120" cy="6696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530520" y="4254480"/>
            <a:ext cx="4464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51400" y="479412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603520" y="4981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670120" y="49816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746440" y="49816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52908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0684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81360" y="502596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4752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21444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53760" y="519444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724+469=11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69840" y="51944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29+159=7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13320" y="385272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978520" y="4818240"/>
            <a:ext cx="355680" cy="355320"/>
            <a:chOff x="5978520" y="4818240"/>
            <a:chExt cx="355680" cy="355320"/>
          </a:xfrm>
        </p:grpSpPr>
        <p:sp>
          <p:nvSpPr>
            <p:cNvPr id="476" name=""/>
            <p:cNvSpPr/>
            <p:nvPr/>
          </p:nvSpPr>
          <p:spPr>
            <a:xfrm>
              <a:off x="5978520" y="48182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67440" y="49687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43760" y="49687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10360" y="49687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6340320" y="4282920"/>
            <a:ext cx="665280" cy="932040"/>
            <a:chOff x="6340320" y="4282920"/>
            <a:chExt cx="665280" cy="932040"/>
          </a:xfrm>
        </p:grpSpPr>
        <p:sp>
          <p:nvSpPr>
            <p:cNvPr id="481" name=""/>
            <p:cNvSpPr/>
            <p:nvPr/>
          </p:nvSpPr>
          <p:spPr>
            <a:xfrm>
              <a:off x="6340320" y="428292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49920" y="485928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80160" y="47829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737040" y="5010120"/>
              <a:ext cx="7956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16600" y="501012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89680" y="5010120"/>
              <a:ext cx="7920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172200" y="434340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83380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50052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915880" y="51944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10+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990840" y="491976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46+159=8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289560" y="467532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7080" y="586584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OS,229),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10680" y="58658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07440" y="5865840"/>
            <a:ext cx="25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, (AUG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04560" y="5865840"/>
            <a:ext cx="347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, (HYA,353), (AUG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07440" y="5865840"/>
            <a:ext cx="25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HYA,353), (AUG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10320" y="586584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06360" y="586584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461), (LAG,5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03840" y="5865840"/>
            <a:ext cx="347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,404), (AUG,461), (LAG,5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01320" y="5865840"/>
            <a:ext cx="44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,404), (AUG,461), (LAG,599), (NEW,6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3480" y="586584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AUG,461), (LAG,599), (NEW,6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9520" y="5865840"/>
            <a:ext cx="448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AUG,461), (LAG,599), (NEW,610), (LAG,62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97000" y="5865840"/>
            <a:ext cx="546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AUG,461), (LAG,599), (NEW,610), (LAG,629), (NEW,6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00240" y="5865840"/>
            <a:ext cx="451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LAG,599), (NEW,610), (LAG,629), (NEW,6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03480" y="586584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NEW,610), (LAG,629), (NEW,6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00240" y="5865840"/>
            <a:ext cx="46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NEW,610), (LAG,629), (NEW,641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97720" y="5865840"/>
            <a:ext cx="56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NEW,610), (LAG,629), (NEW,641), (NAN,788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00600" y="5865840"/>
            <a:ext cx="46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LAG,629), (NEW,641), (NAN,788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7360" y="5865840"/>
            <a:ext cx="55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KEE,610), (LAG,629), (NEW,641), (NAN,788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94840" y="5865840"/>
            <a:ext cx="65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KEE,610), (LAG,629), (NEW,641), (NAN,788), (NAN,805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97360" y="5865840"/>
            <a:ext cx="56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 (LAG,629), (NEW,641), (NAN,788), (NAN,805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0" y="1276200"/>
            <a:ext cx="1316160" cy="552600"/>
          </a:xfrm>
          <a:custGeom>
            <a:avLst/>
            <a:gdLst/>
            <a:ahLst/>
            <a:rect l="l" t="t" r="r" b="b"/>
            <a:pathLst>
              <a:path w="829" h="348">
                <a:moveTo>
                  <a:pt x="804" y="0"/>
                </a:moveTo>
                <a:cubicBezTo>
                  <a:pt x="802" y="42"/>
                  <a:pt x="829" y="196"/>
                  <a:pt x="750" y="222"/>
                </a:cubicBezTo>
                <a:cubicBezTo>
                  <a:pt x="736" y="243"/>
                  <a:pt x="726" y="250"/>
                  <a:pt x="702" y="258"/>
                </a:cubicBezTo>
                <a:cubicBezTo>
                  <a:pt x="683" y="287"/>
                  <a:pt x="697" y="274"/>
                  <a:pt x="654" y="288"/>
                </a:cubicBezTo>
                <a:cubicBezTo>
                  <a:pt x="636" y="294"/>
                  <a:pt x="618" y="310"/>
                  <a:pt x="600" y="318"/>
                </a:cubicBezTo>
                <a:cubicBezTo>
                  <a:pt x="562" y="335"/>
                  <a:pt x="515" y="342"/>
                  <a:pt x="474" y="348"/>
                </a:cubicBezTo>
                <a:cubicBezTo>
                  <a:pt x="344" y="346"/>
                  <a:pt x="214" y="346"/>
                  <a:pt x="84" y="342"/>
                </a:cubicBezTo>
                <a:cubicBezTo>
                  <a:pt x="59" y="341"/>
                  <a:pt x="19" y="337"/>
                  <a:pt x="0" y="3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076480" y="1352520"/>
            <a:ext cx="2181240" cy="1152720"/>
          </a:xfrm>
          <a:custGeom>
            <a:avLst/>
            <a:gdLst/>
            <a:ahLst/>
            <a:rect l="l" t="t" r="r" b="b"/>
            <a:pathLst>
              <a:path w="1374" h="726">
                <a:moveTo>
                  <a:pt x="0" y="252"/>
                </a:moveTo>
                <a:cubicBezTo>
                  <a:pt x="2" y="258"/>
                  <a:pt x="2" y="266"/>
                  <a:pt x="6" y="270"/>
                </a:cubicBezTo>
                <a:cubicBezTo>
                  <a:pt x="16" y="280"/>
                  <a:pt x="42" y="294"/>
                  <a:pt x="42" y="294"/>
                </a:cubicBezTo>
                <a:cubicBezTo>
                  <a:pt x="56" y="316"/>
                  <a:pt x="69" y="316"/>
                  <a:pt x="90" y="330"/>
                </a:cubicBezTo>
                <a:cubicBezTo>
                  <a:pt x="108" y="356"/>
                  <a:pt x="143" y="374"/>
                  <a:pt x="174" y="384"/>
                </a:cubicBezTo>
                <a:cubicBezTo>
                  <a:pt x="178" y="390"/>
                  <a:pt x="180" y="398"/>
                  <a:pt x="186" y="402"/>
                </a:cubicBezTo>
                <a:cubicBezTo>
                  <a:pt x="197" y="409"/>
                  <a:pt x="222" y="414"/>
                  <a:pt x="222" y="414"/>
                </a:cubicBezTo>
                <a:cubicBezTo>
                  <a:pt x="242" y="444"/>
                  <a:pt x="276" y="460"/>
                  <a:pt x="306" y="480"/>
                </a:cubicBezTo>
                <a:cubicBezTo>
                  <a:pt x="318" y="488"/>
                  <a:pt x="342" y="504"/>
                  <a:pt x="342" y="504"/>
                </a:cubicBezTo>
                <a:cubicBezTo>
                  <a:pt x="358" y="528"/>
                  <a:pt x="382" y="535"/>
                  <a:pt x="408" y="552"/>
                </a:cubicBezTo>
                <a:cubicBezTo>
                  <a:pt x="463" y="589"/>
                  <a:pt x="511" y="620"/>
                  <a:pt x="576" y="636"/>
                </a:cubicBezTo>
                <a:cubicBezTo>
                  <a:pt x="604" y="655"/>
                  <a:pt x="634" y="657"/>
                  <a:pt x="666" y="666"/>
                </a:cubicBezTo>
                <a:cubicBezTo>
                  <a:pt x="728" y="683"/>
                  <a:pt x="788" y="699"/>
                  <a:pt x="852" y="708"/>
                </a:cubicBezTo>
                <a:cubicBezTo>
                  <a:pt x="883" y="718"/>
                  <a:pt x="916" y="721"/>
                  <a:pt x="948" y="726"/>
                </a:cubicBezTo>
                <a:cubicBezTo>
                  <a:pt x="1101" y="720"/>
                  <a:pt x="1079" y="724"/>
                  <a:pt x="1182" y="690"/>
                </a:cubicBezTo>
                <a:cubicBezTo>
                  <a:pt x="1188" y="684"/>
                  <a:pt x="1193" y="677"/>
                  <a:pt x="1200" y="672"/>
                </a:cubicBezTo>
                <a:cubicBezTo>
                  <a:pt x="1211" y="663"/>
                  <a:pt x="1236" y="648"/>
                  <a:pt x="1236" y="648"/>
                </a:cubicBezTo>
                <a:cubicBezTo>
                  <a:pt x="1251" y="626"/>
                  <a:pt x="1284" y="606"/>
                  <a:pt x="1308" y="594"/>
                </a:cubicBezTo>
                <a:cubicBezTo>
                  <a:pt x="1340" y="546"/>
                  <a:pt x="1298" y="604"/>
                  <a:pt x="1338" y="564"/>
                </a:cubicBezTo>
                <a:cubicBezTo>
                  <a:pt x="1352" y="550"/>
                  <a:pt x="1357" y="527"/>
                  <a:pt x="1368" y="510"/>
                </a:cubicBezTo>
                <a:cubicBezTo>
                  <a:pt x="1370" y="500"/>
                  <a:pt x="1374" y="490"/>
                  <a:pt x="1374" y="480"/>
                </a:cubicBezTo>
                <a:cubicBezTo>
                  <a:pt x="1374" y="394"/>
                  <a:pt x="1372" y="308"/>
                  <a:pt x="1368" y="222"/>
                </a:cubicBezTo>
                <a:cubicBezTo>
                  <a:pt x="1366" y="176"/>
                  <a:pt x="1324" y="34"/>
                  <a:pt x="1290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495440" y="1114560"/>
            <a:ext cx="3314520" cy="1503360"/>
          </a:xfrm>
          <a:custGeom>
            <a:avLst/>
            <a:gdLst/>
            <a:ahLst/>
            <a:rect l="l" t="t" r="r" b="b"/>
            <a:pathLst>
              <a:path w="2340" h="1079">
                <a:moveTo>
                  <a:pt x="0" y="438"/>
                </a:moveTo>
                <a:cubicBezTo>
                  <a:pt x="28" y="480"/>
                  <a:pt x="12" y="466"/>
                  <a:pt x="42" y="486"/>
                </a:cubicBezTo>
                <a:cubicBezTo>
                  <a:pt x="76" y="538"/>
                  <a:pt x="31" y="477"/>
                  <a:pt x="72" y="510"/>
                </a:cubicBezTo>
                <a:cubicBezTo>
                  <a:pt x="78" y="515"/>
                  <a:pt x="79" y="523"/>
                  <a:pt x="84" y="528"/>
                </a:cubicBezTo>
                <a:cubicBezTo>
                  <a:pt x="89" y="533"/>
                  <a:pt x="97" y="535"/>
                  <a:pt x="102" y="540"/>
                </a:cubicBezTo>
                <a:cubicBezTo>
                  <a:pt x="133" y="567"/>
                  <a:pt x="152" y="601"/>
                  <a:pt x="186" y="624"/>
                </a:cubicBezTo>
                <a:cubicBezTo>
                  <a:pt x="201" y="669"/>
                  <a:pt x="179" y="615"/>
                  <a:pt x="210" y="654"/>
                </a:cubicBezTo>
                <a:cubicBezTo>
                  <a:pt x="233" y="683"/>
                  <a:pt x="195" y="665"/>
                  <a:pt x="234" y="678"/>
                </a:cubicBezTo>
                <a:cubicBezTo>
                  <a:pt x="236" y="684"/>
                  <a:pt x="236" y="691"/>
                  <a:pt x="240" y="696"/>
                </a:cubicBezTo>
                <a:cubicBezTo>
                  <a:pt x="245" y="702"/>
                  <a:pt x="254" y="702"/>
                  <a:pt x="258" y="708"/>
                </a:cubicBezTo>
                <a:cubicBezTo>
                  <a:pt x="294" y="765"/>
                  <a:pt x="247" y="729"/>
                  <a:pt x="288" y="756"/>
                </a:cubicBezTo>
                <a:cubicBezTo>
                  <a:pt x="300" y="791"/>
                  <a:pt x="310" y="819"/>
                  <a:pt x="342" y="840"/>
                </a:cubicBezTo>
                <a:cubicBezTo>
                  <a:pt x="344" y="846"/>
                  <a:pt x="344" y="854"/>
                  <a:pt x="348" y="858"/>
                </a:cubicBezTo>
                <a:cubicBezTo>
                  <a:pt x="358" y="868"/>
                  <a:pt x="384" y="882"/>
                  <a:pt x="384" y="882"/>
                </a:cubicBezTo>
                <a:cubicBezTo>
                  <a:pt x="399" y="905"/>
                  <a:pt x="429" y="921"/>
                  <a:pt x="456" y="930"/>
                </a:cubicBezTo>
                <a:cubicBezTo>
                  <a:pt x="484" y="973"/>
                  <a:pt x="586" y="993"/>
                  <a:pt x="636" y="1002"/>
                </a:cubicBezTo>
                <a:cubicBezTo>
                  <a:pt x="796" y="1031"/>
                  <a:pt x="952" y="1050"/>
                  <a:pt x="1116" y="1056"/>
                </a:cubicBezTo>
                <a:cubicBezTo>
                  <a:pt x="1302" y="1079"/>
                  <a:pt x="1485" y="1065"/>
                  <a:pt x="1674" y="1062"/>
                </a:cubicBezTo>
                <a:cubicBezTo>
                  <a:pt x="1764" y="1059"/>
                  <a:pt x="1841" y="1059"/>
                  <a:pt x="1926" y="1038"/>
                </a:cubicBezTo>
                <a:cubicBezTo>
                  <a:pt x="1970" y="1027"/>
                  <a:pt x="2007" y="1004"/>
                  <a:pt x="2052" y="996"/>
                </a:cubicBezTo>
                <a:cubicBezTo>
                  <a:pt x="2068" y="985"/>
                  <a:pt x="2106" y="972"/>
                  <a:pt x="2106" y="972"/>
                </a:cubicBezTo>
                <a:cubicBezTo>
                  <a:pt x="2128" y="950"/>
                  <a:pt x="2154" y="937"/>
                  <a:pt x="2184" y="930"/>
                </a:cubicBezTo>
                <a:cubicBezTo>
                  <a:pt x="2203" y="911"/>
                  <a:pt x="2226" y="900"/>
                  <a:pt x="2244" y="882"/>
                </a:cubicBezTo>
                <a:cubicBezTo>
                  <a:pt x="2256" y="870"/>
                  <a:pt x="2264" y="854"/>
                  <a:pt x="2274" y="840"/>
                </a:cubicBezTo>
                <a:cubicBezTo>
                  <a:pt x="2282" y="815"/>
                  <a:pt x="2291" y="799"/>
                  <a:pt x="2310" y="780"/>
                </a:cubicBezTo>
                <a:cubicBezTo>
                  <a:pt x="2316" y="762"/>
                  <a:pt x="2322" y="744"/>
                  <a:pt x="2328" y="726"/>
                </a:cubicBezTo>
                <a:cubicBezTo>
                  <a:pt x="2332" y="714"/>
                  <a:pt x="2340" y="690"/>
                  <a:pt x="2340" y="690"/>
                </a:cubicBezTo>
                <a:cubicBezTo>
                  <a:pt x="2338" y="554"/>
                  <a:pt x="2338" y="418"/>
                  <a:pt x="2334" y="282"/>
                </a:cubicBezTo>
                <a:cubicBezTo>
                  <a:pt x="2333" y="231"/>
                  <a:pt x="2304" y="148"/>
                  <a:pt x="2262" y="120"/>
                </a:cubicBezTo>
                <a:cubicBezTo>
                  <a:pt x="2248" y="98"/>
                  <a:pt x="2228" y="68"/>
                  <a:pt x="2208" y="54"/>
                </a:cubicBezTo>
                <a:cubicBezTo>
                  <a:pt x="2201" y="34"/>
                  <a:pt x="2178" y="0"/>
                  <a:pt x="2178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352520" y="1666800"/>
            <a:ext cx="4029120" cy="1733760"/>
          </a:xfrm>
          <a:custGeom>
            <a:avLst/>
            <a:gdLst/>
            <a:ahLst/>
            <a:rect l="l" t="t" r="r" b="b"/>
            <a:pathLst>
              <a:path w="2538" h="1092">
                <a:moveTo>
                  <a:pt x="0" y="150"/>
                </a:moveTo>
                <a:cubicBezTo>
                  <a:pt x="17" y="200"/>
                  <a:pt x="30" y="232"/>
                  <a:pt x="60" y="276"/>
                </a:cubicBezTo>
                <a:cubicBezTo>
                  <a:pt x="68" y="288"/>
                  <a:pt x="72" y="304"/>
                  <a:pt x="84" y="312"/>
                </a:cubicBezTo>
                <a:cubicBezTo>
                  <a:pt x="112" y="330"/>
                  <a:pt x="101" y="335"/>
                  <a:pt x="138" y="360"/>
                </a:cubicBezTo>
                <a:cubicBezTo>
                  <a:pt x="150" y="368"/>
                  <a:pt x="174" y="384"/>
                  <a:pt x="174" y="384"/>
                </a:cubicBezTo>
                <a:cubicBezTo>
                  <a:pt x="195" y="416"/>
                  <a:pt x="251" y="468"/>
                  <a:pt x="288" y="480"/>
                </a:cubicBezTo>
                <a:cubicBezTo>
                  <a:pt x="317" y="509"/>
                  <a:pt x="341" y="522"/>
                  <a:pt x="378" y="534"/>
                </a:cubicBezTo>
                <a:cubicBezTo>
                  <a:pt x="396" y="540"/>
                  <a:pt x="414" y="556"/>
                  <a:pt x="432" y="564"/>
                </a:cubicBezTo>
                <a:cubicBezTo>
                  <a:pt x="527" y="606"/>
                  <a:pt x="637" y="617"/>
                  <a:pt x="738" y="630"/>
                </a:cubicBezTo>
                <a:cubicBezTo>
                  <a:pt x="843" y="643"/>
                  <a:pt x="945" y="675"/>
                  <a:pt x="1050" y="690"/>
                </a:cubicBezTo>
                <a:cubicBezTo>
                  <a:pt x="1109" y="710"/>
                  <a:pt x="1173" y="720"/>
                  <a:pt x="1230" y="744"/>
                </a:cubicBezTo>
                <a:cubicBezTo>
                  <a:pt x="1238" y="748"/>
                  <a:pt x="1246" y="752"/>
                  <a:pt x="1254" y="756"/>
                </a:cubicBezTo>
                <a:cubicBezTo>
                  <a:pt x="1260" y="760"/>
                  <a:pt x="1265" y="765"/>
                  <a:pt x="1272" y="768"/>
                </a:cubicBezTo>
                <a:cubicBezTo>
                  <a:pt x="1294" y="778"/>
                  <a:pt x="1321" y="784"/>
                  <a:pt x="1344" y="792"/>
                </a:cubicBezTo>
                <a:cubicBezTo>
                  <a:pt x="1389" y="807"/>
                  <a:pt x="1432" y="823"/>
                  <a:pt x="1476" y="840"/>
                </a:cubicBezTo>
                <a:cubicBezTo>
                  <a:pt x="1488" y="845"/>
                  <a:pt x="1501" y="845"/>
                  <a:pt x="1512" y="852"/>
                </a:cubicBezTo>
                <a:cubicBezTo>
                  <a:pt x="1535" y="868"/>
                  <a:pt x="1592" y="894"/>
                  <a:pt x="1620" y="906"/>
                </a:cubicBezTo>
                <a:cubicBezTo>
                  <a:pt x="1632" y="911"/>
                  <a:pt x="1645" y="911"/>
                  <a:pt x="1656" y="918"/>
                </a:cubicBezTo>
                <a:cubicBezTo>
                  <a:pt x="1797" y="1012"/>
                  <a:pt x="1964" y="1059"/>
                  <a:pt x="2130" y="1092"/>
                </a:cubicBezTo>
                <a:cubicBezTo>
                  <a:pt x="2172" y="1090"/>
                  <a:pt x="2214" y="1091"/>
                  <a:pt x="2256" y="1086"/>
                </a:cubicBezTo>
                <a:cubicBezTo>
                  <a:pt x="2269" y="1085"/>
                  <a:pt x="2292" y="1074"/>
                  <a:pt x="2292" y="1074"/>
                </a:cubicBezTo>
                <a:cubicBezTo>
                  <a:pt x="2296" y="1068"/>
                  <a:pt x="2298" y="1060"/>
                  <a:pt x="2304" y="1056"/>
                </a:cubicBezTo>
                <a:cubicBezTo>
                  <a:pt x="2315" y="1049"/>
                  <a:pt x="2340" y="1044"/>
                  <a:pt x="2340" y="1044"/>
                </a:cubicBezTo>
                <a:cubicBezTo>
                  <a:pt x="2346" y="1038"/>
                  <a:pt x="2351" y="1031"/>
                  <a:pt x="2358" y="1026"/>
                </a:cubicBezTo>
                <a:cubicBezTo>
                  <a:pt x="2363" y="1022"/>
                  <a:pt x="2371" y="1024"/>
                  <a:pt x="2376" y="1020"/>
                </a:cubicBezTo>
                <a:cubicBezTo>
                  <a:pt x="2382" y="1015"/>
                  <a:pt x="2383" y="1007"/>
                  <a:pt x="2388" y="1002"/>
                </a:cubicBezTo>
                <a:cubicBezTo>
                  <a:pt x="2408" y="982"/>
                  <a:pt x="2448" y="940"/>
                  <a:pt x="2472" y="924"/>
                </a:cubicBezTo>
                <a:cubicBezTo>
                  <a:pt x="2483" y="892"/>
                  <a:pt x="2503" y="866"/>
                  <a:pt x="2514" y="834"/>
                </a:cubicBezTo>
                <a:cubicBezTo>
                  <a:pt x="2522" y="772"/>
                  <a:pt x="2526" y="709"/>
                  <a:pt x="2538" y="648"/>
                </a:cubicBezTo>
                <a:cubicBezTo>
                  <a:pt x="2536" y="526"/>
                  <a:pt x="2536" y="404"/>
                  <a:pt x="2532" y="282"/>
                </a:cubicBezTo>
                <a:cubicBezTo>
                  <a:pt x="2531" y="236"/>
                  <a:pt x="2498" y="190"/>
                  <a:pt x="2496" y="144"/>
                </a:cubicBezTo>
                <a:cubicBezTo>
                  <a:pt x="2494" y="96"/>
                  <a:pt x="2496" y="48"/>
                  <a:pt x="2496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57480" y="1600200"/>
            <a:ext cx="4483080" cy="2800440"/>
          </a:xfrm>
          <a:custGeom>
            <a:avLst/>
            <a:gdLst/>
            <a:ahLst/>
            <a:rect l="l" t="t" r="r" b="b"/>
            <a:pathLst>
              <a:path w="2824" h="1764">
                <a:moveTo>
                  <a:pt x="0" y="258"/>
                </a:moveTo>
                <a:cubicBezTo>
                  <a:pt x="9" y="284"/>
                  <a:pt x="20" y="302"/>
                  <a:pt x="36" y="324"/>
                </a:cubicBezTo>
                <a:cubicBezTo>
                  <a:pt x="44" y="348"/>
                  <a:pt x="51" y="358"/>
                  <a:pt x="72" y="372"/>
                </a:cubicBezTo>
                <a:cubicBezTo>
                  <a:pt x="87" y="417"/>
                  <a:pt x="65" y="363"/>
                  <a:pt x="96" y="402"/>
                </a:cubicBezTo>
                <a:cubicBezTo>
                  <a:pt x="129" y="443"/>
                  <a:pt x="68" y="398"/>
                  <a:pt x="120" y="432"/>
                </a:cubicBezTo>
                <a:cubicBezTo>
                  <a:pt x="134" y="473"/>
                  <a:pt x="115" y="429"/>
                  <a:pt x="144" y="462"/>
                </a:cubicBezTo>
                <a:cubicBezTo>
                  <a:pt x="169" y="491"/>
                  <a:pt x="178" y="525"/>
                  <a:pt x="210" y="546"/>
                </a:cubicBezTo>
                <a:cubicBezTo>
                  <a:pt x="215" y="562"/>
                  <a:pt x="233" y="582"/>
                  <a:pt x="246" y="594"/>
                </a:cubicBezTo>
                <a:cubicBezTo>
                  <a:pt x="257" y="603"/>
                  <a:pt x="282" y="618"/>
                  <a:pt x="282" y="618"/>
                </a:cubicBezTo>
                <a:cubicBezTo>
                  <a:pt x="303" y="650"/>
                  <a:pt x="360" y="654"/>
                  <a:pt x="396" y="666"/>
                </a:cubicBezTo>
                <a:cubicBezTo>
                  <a:pt x="485" y="696"/>
                  <a:pt x="573" y="728"/>
                  <a:pt x="666" y="738"/>
                </a:cubicBezTo>
                <a:cubicBezTo>
                  <a:pt x="722" y="757"/>
                  <a:pt x="794" y="757"/>
                  <a:pt x="852" y="762"/>
                </a:cubicBezTo>
                <a:cubicBezTo>
                  <a:pt x="928" y="781"/>
                  <a:pt x="1009" y="789"/>
                  <a:pt x="1086" y="804"/>
                </a:cubicBezTo>
                <a:cubicBezTo>
                  <a:pt x="1112" y="809"/>
                  <a:pt x="1154" y="813"/>
                  <a:pt x="1176" y="828"/>
                </a:cubicBezTo>
                <a:cubicBezTo>
                  <a:pt x="1188" y="836"/>
                  <a:pt x="1212" y="852"/>
                  <a:pt x="1212" y="852"/>
                </a:cubicBezTo>
                <a:cubicBezTo>
                  <a:pt x="1232" y="882"/>
                  <a:pt x="1218" y="866"/>
                  <a:pt x="1260" y="894"/>
                </a:cubicBezTo>
                <a:cubicBezTo>
                  <a:pt x="1266" y="898"/>
                  <a:pt x="1278" y="906"/>
                  <a:pt x="1278" y="906"/>
                </a:cubicBezTo>
                <a:cubicBezTo>
                  <a:pt x="1292" y="928"/>
                  <a:pt x="1305" y="928"/>
                  <a:pt x="1326" y="942"/>
                </a:cubicBezTo>
                <a:cubicBezTo>
                  <a:pt x="1341" y="965"/>
                  <a:pt x="1360" y="993"/>
                  <a:pt x="1386" y="1002"/>
                </a:cubicBezTo>
                <a:cubicBezTo>
                  <a:pt x="1388" y="1008"/>
                  <a:pt x="1388" y="1016"/>
                  <a:pt x="1392" y="1020"/>
                </a:cubicBezTo>
                <a:cubicBezTo>
                  <a:pt x="1402" y="1030"/>
                  <a:pt x="1428" y="1044"/>
                  <a:pt x="1428" y="1044"/>
                </a:cubicBezTo>
                <a:cubicBezTo>
                  <a:pt x="1437" y="1071"/>
                  <a:pt x="1464" y="1087"/>
                  <a:pt x="1482" y="1110"/>
                </a:cubicBezTo>
                <a:cubicBezTo>
                  <a:pt x="1522" y="1162"/>
                  <a:pt x="1556" y="1220"/>
                  <a:pt x="1596" y="1272"/>
                </a:cubicBezTo>
                <a:cubicBezTo>
                  <a:pt x="1623" y="1307"/>
                  <a:pt x="1635" y="1352"/>
                  <a:pt x="1662" y="1386"/>
                </a:cubicBezTo>
                <a:cubicBezTo>
                  <a:pt x="1673" y="1399"/>
                  <a:pt x="1698" y="1422"/>
                  <a:pt x="1698" y="1422"/>
                </a:cubicBezTo>
                <a:cubicBezTo>
                  <a:pt x="1714" y="1470"/>
                  <a:pt x="1690" y="1414"/>
                  <a:pt x="1722" y="1446"/>
                </a:cubicBezTo>
                <a:cubicBezTo>
                  <a:pt x="1726" y="1450"/>
                  <a:pt x="1724" y="1459"/>
                  <a:pt x="1728" y="1464"/>
                </a:cubicBezTo>
                <a:cubicBezTo>
                  <a:pt x="1733" y="1470"/>
                  <a:pt x="1740" y="1472"/>
                  <a:pt x="1746" y="1476"/>
                </a:cubicBezTo>
                <a:cubicBezTo>
                  <a:pt x="1774" y="1518"/>
                  <a:pt x="1758" y="1504"/>
                  <a:pt x="1788" y="1524"/>
                </a:cubicBezTo>
                <a:cubicBezTo>
                  <a:pt x="1792" y="1530"/>
                  <a:pt x="1795" y="1537"/>
                  <a:pt x="1800" y="1542"/>
                </a:cubicBezTo>
                <a:cubicBezTo>
                  <a:pt x="1811" y="1551"/>
                  <a:pt x="1836" y="1566"/>
                  <a:pt x="1836" y="1566"/>
                </a:cubicBezTo>
                <a:cubicBezTo>
                  <a:pt x="1840" y="1572"/>
                  <a:pt x="1843" y="1579"/>
                  <a:pt x="1848" y="1584"/>
                </a:cubicBezTo>
                <a:cubicBezTo>
                  <a:pt x="1853" y="1589"/>
                  <a:pt x="1861" y="1590"/>
                  <a:pt x="1866" y="1596"/>
                </a:cubicBezTo>
                <a:cubicBezTo>
                  <a:pt x="1889" y="1625"/>
                  <a:pt x="1851" y="1607"/>
                  <a:pt x="1890" y="1620"/>
                </a:cubicBezTo>
                <a:cubicBezTo>
                  <a:pt x="1898" y="1644"/>
                  <a:pt x="1931" y="1662"/>
                  <a:pt x="1956" y="1668"/>
                </a:cubicBezTo>
                <a:cubicBezTo>
                  <a:pt x="1960" y="1674"/>
                  <a:pt x="1962" y="1682"/>
                  <a:pt x="1968" y="1686"/>
                </a:cubicBezTo>
                <a:cubicBezTo>
                  <a:pt x="1979" y="1693"/>
                  <a:pt x="1992" y="1694"/>
                  <a:pt x="2004" y="1698"/>
                </a:cubicBezTo>
                <a:cubicBezTo>
                  <a:pt x="2026" y="1705"/>
                  <a:pt x="2058" y="1728"/>
                  <a:pt x="2076" y="1740"/>
                </a:cubicBezTo>
                <a:cubicBezTo>
                  <a:pt x="2092" y="1751"/>
                  <a:pt x="2112" y="1752"/>
                  <a:pt x="2130" y="1758"/>
                </a:cubicBezTo>
                <a:cubicBezTo>
                  <a:pt x="2136" y="1760"/>
                  <a:pt x="2148" y="1764"/>
                  <a:pt x="2148" y="1764"/>
                </a:cubicBezTo>
                <a:cubicBezTo>
                  <a:pt x="2242" y="1761"/>
                  <a:pt x="2323" y="1762"/>
                  <a:pt x="2412" y="1740"/>
                </a:cubicBezTo>
                <a:cubicBezTo>
                  <a:pt x="2444" y="1732"/>
                  <a:pt x="2460" y="1710"/>
                  <a:pt x="2484" y="1692"/>
                </a:cubicBezTo>
                <a:cubicBezTo>
                  <a:pt x="2495" y="1683"/>
                  <a:pt x="2520" y="1668"/>
                  <a:pt x="2520" y="1668"/>
                </a:cubicBezTo>
                <a:cubicBezTo>
                  <a:pt x="2535" y="1646"/>
                  <a:pt x="2558" y="1623"/>
                  <a:pt x="2580" y="1608"/>
                </a:cubicBezTo>
                <a:cubicBezTo>
                  <a:pt x="2595" y="1563"/>
                  <a:pt x="2573" y="1617"/>
                  <a:pt x="2604" y="1578"/>
                </a:cubicBezTo>
                <a:cubicBezTo>
                  <a:pt x="2608" y="1573"/>
                  <a:pt x="2606" y="1565"/>
                  <a:pt x="2610" y="1560"/>
                </a:cubicBezTo>
                <a:cubicBezTo>
                  <a:pt x="2615" y="1553"/>
                  <a:pt x="2622" y="1548"/>
                  <a:pt x="2628" y="1542"/>
                </a:cubicBezTo>
                <a:cubicBezTo>
                  <a:pt x="2643" y="1496"/>
                  <a:pt x="2670" y="1452"/>
                  <a:pt x="2694" y="1410"/>
                </a:cubicBezTo>
                <a:cubicBezTo>
                  <a:pt x="2705" y="1391"/>
                  <a:pt x="2729" y="1371"/>
                  <a:pt x="2736" y="1350"/>
                </a:cubicBezTo>
                <a:cubicBezTo>
                  <a:pt x="2744" y="1325"/>
                  <a:pt x="2738" y="1337"/>
                  <a:pt x="2754" y="1314"/>
                </a:cubicBezTo>
                <a:cubicBezTo>
                  <a:pt x="2824" y="891"/>
                  <a:pt x="2769" y="1011"/>
                  <a:pt x="2760" y="108"/>
                </a:cubicBezTo>
                <a:cubicBezTo>
                  <a:pt x="2760" y="84"/>
                  <a:pt x="2747" y="40"/>
                  <a:pt x="2736" y="18"/>
                </a:cubicBezTo>
                <a:cubicBezTo>
                  <a:pt x="2733" y="12"/>
                  <a:pt x="2724" y="0"/>
                  <a:pt x="2724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019160" y="1685880"/>
            <a:ext cx="5016600" cy="2949480"/>
          </a:xfrm>
          <a:custGeom>
            <a:avLst/>
            <a:gdLst/>
            <a:ahLst/>
            <a:rect l="l" t="t" r="r" b="b"/>
            <a:pathLst>
              <a:path w="3160" h="1858">
                <a:moveTo>
                  <a:pt x="0" y="240"/>
                </a:moveTo>
                <a:cubicBezTo>
                  <a:pt x="43" y="254"/>
                  <a:pt x="64" y="287"/>
                  <a:pt x="102" y="306"/>
                </a:cubicBezTo>
                <a:cubicBezTo>
                  <a:pt x="106" y="312"/>
                  <a:pt x="109" y="319"/>
                  <a:pt x="114" y="324"/>
                </a:cubicBezTo>
                <a:cubicBezTo>
                  <a:pt x="125" y="333"/>
                  <a:pt x="150" y="348"/>
                  <a:pt x="150" y="348"/>
                </a:cubicBezTo>
                <a:cubicBezTo>
                  <a:pt x="178" y="389"/>
                  <a:pt x="160" y="379"/>
                  <a:pt x="192" y="390"/>
                </a:cubicBezTo>
                <a:cubicBezTo>
                  <a:pt x="204" y="427"/>
                  <a:pt x="231" y="470"/>
                  <a:pt x="264" y="492"/>
                </a:cubicBezTo>
                <a:cubicBezTo>
                  <a:pt x="271" y="514"/>
                  <a:pt x="321" y="585"/>
                  <a:pt x="336" y="600"/>
                </a:cubicBezTo>
                <a:cubicBezTo>
                  <a:pt x="349" y="613"/>
                  <a:pt x="358" y="619"/>
                  <a:pt x="366" y="636"/>
                </a:cubicBezTo>
                <a:cubicBezTo>
                  <a:pt x="380" y="664"/>
                  <a:pt x="394" y="703"/>
                  <a:pt x="420" y="720"/>
                </a:cubicBezTo>
                <a:cubicBezTo>
                  <a:pt x="428" y="744"/>
                  <a:pt x="435" y="754"/>
                  <a:pt x="456" y="768"/>
                </a:cubicBezTo>
                <a:cubicBezTo>
                  <a:pt x="484" y="810"/>
                  <a:pt x="468" y="796"/>
                  <a:pt x="498" y="816"/>
                </a:cubicBezTo>
                <a:cubicBezTo>
                  <a:pt x="514" y="839"/>
                  <a:pt x="553" y="878"/>
                  <a:pt x="576" y="894"/>
                </a:cubicBezTo>
                <a:cubicBezTo>
                  <a:pt x="580" y="900"/>
                  <a:pt x="583" y="907"/>
                  <a:pt x="588" y="912"/>
                </a:cubicBezTo>
                <a:cubicBezTo>
                  <a:pt x="599" y="921"/>
                  <a:pt x="624" y="936"/>
                  <a:pt x="624" y="936"/>
                </a:cubicBezTo>
                <a:cubicBezTo>
                  <a:pt x="633" y="964"/>
                  <a:pt x="659" y="964"/>
                  <a:pt x="684" y="978"/>
                </a:cubicBezTo>
                <a:cubicBezTo>
                  <a:pt x="722" y="999"/>
                  <a:pt x="755" y="1027"/>
                  <a:pt x="798" y="1038"/>
                </a:cubicBezTo>
                <a:cubicBezTo>
                  <a:pt x="868" y="1084"/>
                  <a:pt x="946" y="1106"/>
                  <a:pt x="1026" y="1128"/>
                </a:cubicBezTo>
                <a:cubicBezTo>
                  <a:pt x="1087" y="1145"/>
                  <a:pt x="1143" y="1167"/>
                  <a:pt x="1206" y="1176"/>
                </a:cubicBezTo>
                <a:cubicBezTo>
                  <a:pt x="1309" y="1210"/>
                  <a:pt x="1416" y="1238"/>
                  <a:pt x="1524" y="1248"/>
                </a:cubicBezTo>
                <a:cubicBezTo>
                  <a:pt x="1556" y="1259"/>
                  <a:pt x="1588" y="1267"/>
                  <a:pt x="1620" y="1278"/>
                </a:cubicBezTo>
                <a:cubicBezTo>
                  <a:pt x="1634" y="1283"/>
                  <a:pt x="1644" y="1294"/>
                  <a:pt x="1656" y="1302"/>
                </a:cubicBezTo>
                <a:cubicBezTo>
                  <a:pt x="1662" y="1306"/>
                  <a:pt x="1674" y="1314"/>
                  <a:pt x="1674" y="1314"/>
                </a:cubicBezTo>
                <a:cubicBezTo>
                  <a:pt x="1678" y="1320"/>
                  <a:pt x="1680" y="1327"/>
                  <a:pt x="1686" y="1332"/>
                </a:cubicBezTo>
                <a:cubicBezTo>
                  <a:pt x="1691" y="1336"/>
                  <a:pt x="1700" y="1334"/>
                  <a:pt x="1704" y="1338"/>
                </a:cubicBezTo>
                <a:cubicBezTo>
                  <a:pt x="1774" y="1408"/>
                  <a:pt x="1695" y="1352"/>
                  <a:pt x="1746" y="1386"/>
                </a:cubicBezTo>
                <a:cubicBezTo>
                  <a:pt x="1759" y="1425"/>
                  <a:pt x="1741" y="1387"/>
                  <a:pt x="1770" y="1410"/>
                </a:cubicBezTo>
                <a:cubicBezTo>
                  <a:pt x="1809" y="1441"/>
                  <a:pt x="1755" y="1419"/>
                  <a:pt x="1800" y="1434"/>
                </a:cubicBezTo>
                <a:cubicBezTo>
                  <a:pt x="1823" y="1469"/>
                  <a:pt x="1836" y="1512"/>
                  <a:pt x="1872" y="1536"/>
                </a:cubicBezTo>
                <a:cubicBezTo>
                  <a:pt x="1876" y="1542"/>
                  <a:pt x="1878" y="1549"/>
                  <a:pt x="1884" y="1554"/>
                </a:cubicBezTo>
                <a:cubicBezTo>
                  <a:pt x="1889" y="1558"/>
                  <a:pt x="1898" y="1556"/>
                  <a:pt x="1902" y="1560"/>
                </a:cubicBezTo>
                <a:cubicBezTo>
                  <a:pt x="1906" y="1564"/>
                  <a:pt x="1904" y="1574"/>
                  <a:pt x="1908" y="1578"/>
                </a:cubicBezTo>
                <a:cubicBezTo>
                  <a:pt x="1912" y="1582"/>
                  <a:pt x="1920" y="1581"/>
                  <a:pt x="1926" y="1584"/>
                </a:cubicBezTo>
                <a:cubicBezTo>
                  <a:pt x="1939" y="1591"/>
                  <a:pt x="1962" y="1608"/>
                  <a:pt x="1962" y="1608"/>
                </a:cubicBezTo>
                <a:cubicBezTo>
                  <a:pt x="1983" y="1639"/>
                  <a:pt x="2014" y="1660"/>
                  <a:pt x="2040" y="1686"/>
                </a:cubicBezTo>
                <a:cubicBezTo>
                  <a:pt x="2053" y="1725"/>
                  <a:pt x="2035" y="1687"/>
                  <a:pt x="2064" y="1710"/>
                </a:cubicBezTo>
                <a:cubicBezTo>
                  <a:pt x="2103" y="1741"/>
                  <a:pt x="2049" y="1719"/>
                  <a:pt x="2094" y="1734"/>
                </a:cubicBezTo>
                <a:cubicBezTo>
                  <a:pt x="2138" y="1778"/>
                  <a:pt x="2206" y="1793"/>
                  <a:pt x="2262" y="1818"/>
                </a:cubicBezTo>
                <a:cubicBezTo>
                  <a:pt x="2291" y="1831"/>
                  <a:pt x="2295" y="1828"/>
                  <a:pt x="2322" y="1836"/>
                </a:cubicBezTo>
                <a:cubicBezTo>
                  <a:pt x="2334" y="1840"/>
                  <a:pt x="2358" y="1848"/>
                  <a:pt x="2358" y="1848"/>
                </a:cubicBezTo>
                <a:cubicBezTo>
                  <a:pt x="2639" y="1841"/>
                  <a:pt x="2531" y="1858"/>
                  <a:pt x="2670" y="1812"/>
                </a:cubicBezTo>
                <a:cubicBezTo>
                  <a:pt x="2688" y="1794"/>
                  <a:pt x="2703" y="1790"/>
                  <a:pt x="2724" y="1776"/>
                </a:cubicBezTo>
                <a:cubicBezTo>
                  <a:pt x="2751" y="1735"/>
                  <a:pt x="2792" y="1732"/>
                  <a:pt x="2826" y="1704"/>
                </a:cubicBezTo>
                <a:cubicBezTo>
                  <a:pt x="2845" y="1688"/>
                  <a:pt x="2857" y="1667"/>
                  <a:pt x="2874" y="1650"/>
                </a:cubicBezTo>
                <a:cubicBezTo>
                  <a:pt x="2886" y="1615"/>
                  <a:pt x="2871" y="1647"/>
                  <a:pt x="2898" y="1620"/>
                </a:cubicBezTo>
                <a:cubicBezTo>
                  <a:pt x="2911" y="1607"/>
                  <a:pt x="2932" y="1559"/>
                  <a:pt x="2940" y="1542"/>
                </a:cubicBezTo>
                <a:cubicBezTo>
                  <a:pt x="2969" y="1476"/>
                  <a:pt x="2965" y="1397"/>
                  <a:pt x="3018" y="1344"/>
                </a:cubicBezTo>
                <a:cubicBezTo>
                  <a:pt x="3027" y="1317"/>
                  <a:pt x="3050" y="1296"/>
                  <a:pt x="3066" y="1272"/>
                </a:cubicBezTo>
                <a:cubicBezTo>
                  <a:pt x="3079" y="1252"/>
                  <a:pt x="3085" y="1212"/>
                  <a:pt x="3090" y="1188"/>
                </a:cubicBezTo>
                <a:cubicBezTo>
                  <a:pt x="3094" y="1114"/>
                  <a:pt x="3090" y="1032"/>
                  <a:pt x="3114" y="960"/>
                </a:cubicBezTo>
                <a:cubicBezTo>
                  <a:pt x="3160" y="638"/>
                  <a:pt x="3132" y="357"/>
                  <a:pt x="3132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314360" y="1933560"/>
            <a:ext cx="5019840" cy="2800440"/>
          </a:xfrm>
          <a:custGeom>
            <a:avLst/>
            <a:gdLst/>
            <a:ahLst/>
            <a:rect l="l" t="t" r="r" b="b"/>
            <a:pathLst>
              <a:path w="3162" h="1764">
                <a:moveTo>
                  <a:pt x="0" y="744"/>
                </a:moveTo>
                <a:cubicBezTo>
                  <a:pt x="20" y="758"/>
                  <a:pt x="40" y="772"/>
                  <a:pt x="60" y="786"/>
                </a:cubicBezTo>
                <a:cubicBezTo>
                  <a:pt x="86" y="825"/>
                  <a:pt x="146" y="849"/>
                  <a:pt x="186" y="876"/>
                </a:cubicBezTo>
                <a:cubicBezTo>
                  <a:pt x="198" y="884"/>
                  <a:pt x="210" y="892"/>
                  <a:pt x="222" y="900"/>
                </a:cubicBezTo>
                <a:cubicBezTo>
                  <a:pt x="228" y="904"/>
                  <a:pt x="240" y="912"/>
                  <a:pt x="240" y="912"/>
                </a:cubicBezTo>
                <a:cubicBezTo>
                  <a:pt x="251" y="946"/>
                  <a:pt x="313" y="996"/>
                  <a:pt x="348" y="1008"/>
                </a:cubicBezTo>
                <a:cubicBezTo>
                  <a:pt x="367" y="1037"/>
                  <a:pt x="403" y="1043"/>
                  <a:pt x="432" y="1062"/>
                </a:cubicBezTo>
                <a:cubicBezTo>
                  <a:pt x="448" y="1086"/>
                  <a:pt x="472" y="1093"/>
                  <a:pt x="498" y="1110"/>
                </a:cubicBezTo>
                <a:cubicBezTo>
                  <a:pt x="504" y="1114"/>
                  <a:pt x="516" y="1122"/>
                  <a:pt x="516" y="1122"/>
                </a:cubicBezTo>
                <a:cubicBezTo>
                  <a:pt x="530" y="1143"/>
                  <a:pt x="540" y="1150"/>
                  <a:pt x="564" y="1158"/>
                </a:cubicBezTo>
                <a:cubicBezTo>
                  <a:pt x="580" y="1182"/>
                  <a:pt x="593" y="1179"/>
                  <a:pt x="618" y="1194"/>
                </a:cubicBezTo>
                <a:cubicBezTo>
                  <a:pt x="660" y="1219"/>
                  <a:pt x="695" y="1247"/>
                  <a:pt x="732" y="1278"/>
                </a:cubicBezTo>
                <a:cubicBezTo>
                  <a:pt x="750" y="1293"/>
                  <a:pt x="773" y="1301"/>
                  <a:pt x="792" y="1314"/>
                </a:cubicBezTo>
                <a:cubicBezTo>
                  <a:pt x="811" y="1343"/>
                  <a:pt x="797" y="1330"/>
                  <a:pt x="840" y="1344"/>
                </a:cubicBezTo>
                <a:cubicBezTo>
                  <a:pt x="854" y="1349"/>
                  <a:pt x="862" y="1363"/>
                  <a:pt x="876" y="1368"/>
                </a:cubicBezTo>
                <a:cubicBezTo>
                  <a:pt x="902" y="1377"/>
                  <a:pt x="888" y="1372"/>
                  <a:pt x="918" y="1380"/>
                </a:cubicBezTo>
                <a:cubicBezTo>
                  <a:pt x="954" y="1404"/>
                  <a:pt x="973" y="1418"/>
                  <a:pt x="1014" y="1428"/>
                </a:cubicBezTo>
                <a:cubicBezTo>
                  <a:pt x="1064" y="1462"/>
                  <a:pt x="1130" y="1475"/>
                  <a:pt x="1188" y="1494"/>
                </a:cubicBezTo>
                <a:cubicBezTo>
                  <a:pt x="1201" y="1498"/>
                  <a:pt x="1211" y="1508"/>
                  <a:pt x="1224" y="1512"/>
                </a:cubicBezTo>
                <a:cubicBezTo>
                  <a:pt x="1249" y="1520"/>
                  <a:pt x="1277" y="1521"/>
                  <a:pt x="1302" y="1530"/>
                </a:cubicBezTo>
                <a:cubicBezTo>
                  <a:pt x="1355" y="1550"/>
                  <a:pt x="1406" y="1574"/>
                  <a:pt x="1458" y="1596"/>
                </a:cubicBezTo>
                <a:cubicBezTo>
                  <a:pt x="1499" y="1614"/>
                  <a:pt x="1547" y="1624"/>
                  <a:pt x="1590" y="1638"/>
                </a:cubicBezTo>
                <a:cubicBezTo>
                  <a:pt x="1597" y="1640"/>
                  <a:pt x="1601" y="1647"/>
                  <a:pt x="1608" y="1650"/>
                </a:cubicBezTo>
                <a:cubicBezTo>
                  <a:pt x="1657" y="1672"/>
                  <a:pt x="1705" y="1681"/>
                  <a:pt x="1758" y="1686"/>
                </a:cubicBezTo>
                <a:cubicBezTo>
                  <a:pt x="1805" y="1698"/>
                  <a:pt x="1854" y="1716"/>
                  <a:pt x="1902" y="1722"/>
                </a:cubicBezTo>
                <a:cubicBezTo>
                  <a:pt x="1944" y="1727"/>
                  <a:pt x="2028" y="1734"/>
                  <a:pt x="2028" y="1734"/>
                </a:cubicBezTo>
                <a:cubicBezTo>
                  <a:pt x="2064" y="1741"/>
                  <a:pt x="2100" y="1746"/>
                  <a:pt x="2136" y="1752"/>
                </a:cubicBezTo>
                <a:cubicBezTo>
                  <a:pt x="2156" y="1756"/>
                  <a:pt x="2196" y="1764"/>
                  <a:pt x="2196" y="1764"/>
                </a:cubicBezTo>
                <a:cubicBezTo>
                  <a:pt x="2342" y="1761"/>
                  <a:pt x="2442" y="1759"/>
                  <a:pt x="2574" y="1740"/>
                </a:cubicBezTo>
                <a:cubicBezTo>
                  <a:pt x="2621" y="1724"/>
                  <a:pt x="2658" y="1708"/>
                  <a:pt x="2700" y="1680"/>
                </a:cubicBezTo>
                <a:cubicBezTo>
                  <a:pt x="2712" y="1672"/>
                  <a:pt x="2724" y="1664"/>
                  <a:pt x="2736" y="1656"/>
                </a:cubicBezTo>
                <a:cubicBezTo>
                  <a:pt x="2742" y="1652"/>
                  <a:pt x="2754" y="1644"/>
                  <a:pt x="2754" y="1644"/>
                </a:cubicBezTo>
                <a:cubicBezTo>
                  <a:pt x="2770" y="1620"/>
                  <a:pt x="2796" y="1594"/>
                  <a:pt x="2820" y="1578"/>
                </a:cubicBezTo>
                <a:cubicBezTo>
                  <a:pt x="2846" y="1539"/>
                  <a:pt x="2859" y="1494"/>
                  <a:pt x="2880" y="1452"/>
                </a:cubicBezTo>
                <a:cubicBezTo>
                  <a:pt x="2893" y="1426"/>
                  <a:pt x="2897" y="1402"/>
                  <a:pt x="2922" y="1386"/>
                </a:cubicBezTo>
                <a:cubicBezTo>
                  <a:pt x="2934" y="1349"/>
                  <a:pt x="2959" y="1315"/>
                  <a:pt x="2970" y="1278"/>
                </a:cubicBezTo>
                <a:cubicBezTo>
                  <a:pt x="2981" y="1240"/>
                  <a:pt x="2982" y="1201"/>
                  <a:pt x="2994" y="1164"/>
                </a:cubicBezTo>
                <a:cubicBezTo>
                  <a:pt x="3001" y="1108"/>
                  <a:pt x="3025" y="1062"/>
                  <a:pt x="3036" y="1008"/>
                </a:cubicBezTo>
                <a:cubicBezTo>
                  <a:pt x="3043" y="974"/>
                  <a:pt x="3046" y="940"/>
                  <a:pt x="3054" y="906"/>
                </a:cubicBezTo>
                <a:cubicBezTo>
                  <a:pt x="3068" y="847"/>
                  <a:pt x="3093" y="791"/>
                  <a:pt x="3108" y="732"/>
                </a:cubicBezTo>
                <a:cubicBezTo>
                  <a:pt x="3111" y="623"/>
                  <a:pt x="3103" y="352"/>
                  <a:pt x="3138" y="246"/>
                </a:cubicBezTo>
                <a:cubicBezTo>
                  <a:pt x="3145" y="165"/>
                  <a:pt x="3162" y="81"/>
                  <a:pt x="3162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85920" y="2552760"/>
            <a:ext cx="5648400" cy="2286000"/>
          </a:xfrm>
          <a:custGeom>
            <a:avLst/>
            <a:gdLst/>
            <a:ahLst/>
            <a:rect l="l" t="t" r="r" b="b"/>
            <a:pathLst>
              <a:path w="3558" h="1440">
                <a:moveTo>
                  <a:pt x="0" y="432"/>
                </a:moveTo>
                <a:cubicBezTo>
                  <a:pt x="18" y="444"/>
                  <a:pt x="36" y="456"/>
                  <a:pt x="54" y="468"/>
                </a:cubicBezTo>
                <a:cubicBezTo>
                  <a:pt x="66" y="476"/>
                  <a:pt x="90" y="492"/>
                  <a:pt x="90" y="492"/>
                </a:cubicBezTo>
                <a:cubicBezTo>
                  <a:pt x="105" y="514"/>
                  <a:pt x="128" y="537"/>
                  <a:pt x="150" y="552"/>
                </a:cubicBezTo>
                <a:cubicBezTo>
                  <a:pt x="172" y="585"/>
                  <a:pt x="184" y="573"/>
                  <a:pt x="216" y="594"/>
                </a:cubicBezTo>
                <a:cubicBezTo>
                  <a:pt x="246" y="614"/>
                  <a:pt x="276" y="634"/>
                  <a:pt x="306" y="654"/>
                </a:cubicBezTo>
                <a:cubicBezTo>
                  <a:pt x="323" y="665"/>
                  <a:pt x="343" y="673"/>
                  <a:pt x="360" y="684"/>
                </a:cubicBezTo>
                <a:cubicBezTo>
                  <a:pt x="366" y="688"/>
                  <a:pt x="378" y="696"/>
                  <a:pt x="378" y="696"/>
                </a:cubicBezTo>
                <a:cubicBezTo>
                  <a:pt x="389" y="730"/>
                  <a:pt x="400" y="735"/>
                  <a:pt x="432" y="756"/>
                </a:cubicBezTo>
                <a:cubicBezTo>
                  <a:pt x="438" y="760"/>
                  <a:pt x="450" y="768"/>
                  <a:pt x="450" y="768"/>
                </a:cubicBezTo>
                <a:cubicBezTo>
                  <a:pt x="465" y="791"/>
                  <a:pt x="479" y="792"/>
                  <a:pt x="504" y="804"/>
                </a:cubicBezTo>
                <a:cubicBezTo>
                  <a:pt x="519" y="826"/>
                  <a:pt x="544" y="837"/>
                  <a:pt x="570" y="846"/>
                </a:cubicBezTo>
                <a:cubicBezTo>
                  <a:pt x="591" y="878"/>
                  <a:pt x="635" y="906"/>
                  <a:pt x="672" y="918"/>
                </a:cubicBezTo>
                <a:cubicBezTo>
                  <a:pt x="691" y="947"/>
                  <a:pt x="677" y="934"/>
                  <a:pt x="720" y="948"/>
                </a:cubicBezTo>
                <a:cubicBezTo>
                  <a:pt x="734" y="953"/>
                  <a:pt x="744" y="964"/>
                  <a:pt x="756" y="972"/>
                </a:cubicBezTo>
                <a:cubicBezTo>
                  <a:pt x="762" y="976"/>
                  <a:pt x="774" y="984"/>
                  <a:pt x="774" y="984"/>
                </a:cubicBezTo>
                <a:cubicBezTo>
                  <a:pt x="786" y="1020"/>
                  <a:pt x="841" y="1028"/>
                  <a:pt x="876" y="1038"/>
                </a:cubicBezTo>
                <a:cubicBezTo>
                  <a:pt x="901" y="1045"/>
                  <a:pt x="938" y="1047"/>
                  <a:pt x="960" y="1062"/>
                </a:cubicBezTo>
                <a:cubicBezTo>
                  <a:pt x="997" y="1087"/>
                  <a:pt x="1029" y="1103"/>
                  <a:pt x="1068" y="1122"/>
                </a:cubicBezTo>
                <a:cubicBezTo>
                  <a:pt x="1100" y="1138"/>
                  <a:pt x="1133" y="1153"/>
                  <a:pt x="1164" y="1170"/>
                </a:cubicBezTo>
                <a:cubicBezTo>
                  <a:pt x="1177" y="1177"/>
                  <a:pt x="1186" y="1189"/>
                  <a:pt x="1200" y="1194"/>
                </a:cubicBezTo>
                <a:cubicBezTo>
                  <a:pt x="1324" y="1235"/>
                  <a:pt x="1454" y="1261"/>
                  <a:pt x="1578" y="1302"/>
                </a:cubicBezTo>
                <a:cubicBezTo>
                  <a:pt x="1619" y="1316"/>
                  <a:pt x="1632" y="1320"/>
                  <a:pt x="1668" y="1344"/>
                </a:cubicBezTo>
                <a:cubicBezTo>
                  <a:pt x="1677" y="1350"/>
                  <a:pt x="1785" y="1372"/>
                  <a:pt x="1794" y="1374"/>
                </a:cubicBezTo>
                <a:cubicBezTo>
                  <a:pt x="1829" y="1383"/>
                  <a:pt x="1871" y="1408"/>
                  <a:pt x="1908" y="1410"/>
                </a:cubicBezTo>
                <a:cubicBezTo>
                  <a:pt x="1980" y="1414"/>
                  <a:pt x="2052" y="1414"/>
                  <a:pt x="2124" y="1416"/>
                </a:cubicBezTo>
                <a:cubicBezTo>
                  <a:pt x="2336" y="1440"/>
                  <a:pt x="2545" y="1424"/>
                  <a:pt x="2754" y="1398"/>
                </a:cubicBezTo>
                <a:cubicBezTo>
                  <a:pt x="2783" y="1394"/>
                  <a:pt x="2825" y="1394"/>
                  <a:pt x="2856" y="1386"/>
                </a:cubicBezTo>
                <a:cubicBezTo>
                  <a:pt x="2928" y="1368"/>
                  <a:pt x="2990" y="1325"/>
                  <a:pt x="3060" y="1302"/>
                </a:cubicBezTo>
                <a:cubicBezTo>
                  <a:pt x="3071" y="1291"/>
                  <a:pt x="3078" y="1276"/>
                  <a:pt x="3090" y="1266"/>
                </a:cubicBezTo>
                <a:cubicBezTo>
                  <a:pt x="3102" y="1256"/>
                  <a:pt x="3118" y="1255"/>
                  <a:pt x="3132" y="1248"/>
                </a:cubicBezTo>
                <a:cubicBezTo>
                  <a:pt x="3136" y="1242"/>
                  <a:pt x="3139" y="1235"/>
                  <a:pt x="3144" y="1230"/>
                </a:cubicBezTo>
                <a:cubicBezTo>
                  <a:pt x="3155" y="1217"/>
                  <a:pt x="3170" y="1208"/>
                  <a:pt x="3180" y="1194"/>
                </a:cubicBezTo>
                <a:cubicBezTo>
                  <a:pt x="3200" y="1168"/>
                  <a:pt x="3212" y="1140"/>
                  <a:pt x="3240" y="1122"/>
                </a:cubicBezTo>
                <a:cubicBezTo>
                  <a:pt x="3268" y="1079"/>
                  <a:pt x="3279" y="1026"/>
                  <a:pt x="3324" y="996"/>
                </a:cubicBezTo>
                <a:cubicBezTo>
                  <a:pt x="3348" y="947"/>
                  <a:pt x="3361" y="878"/>
                  <a:pt x="3408" y="846"/>
                </a:cubicBezTo>
                <a:cubicBezTo>
                  <a:pt x="3419" y="813"/>
                  <a:pt x="3425" y="793"/>
                  <a:pt x="3450" y="768"/>
                </a:cubicBezTo>
                <a:cubicBezTo>
                  <a:pt x="3454" y="756"/>
                  <a:pt x="3458" y="744"/>
                  <a:pt x="3462" y="732"/>
                </a:cubicBezTo>
                <a:cubicBezTo>
                  <a:pt x="3464" y="726"/>
                  <a:pt x="3468" y="714"/>
                  <a:pt x="3468" y="714"/>
                </a:cubicBezTo>
                <a:cubicBezTo>
                  <a:pt x="3472" y="632"/>
                  <a:pt x="3455" y="595"/>
                  <a:pt x="3492" y="540"/>
                </a:cubicBezTo>
                <a:cubicBezTo>
                  <a:pt x="3536" y="362"/>
                  <a:pt x="3508" y="176"/>
                  <a:pt x="3552" y="0"/>
                </a:cubicBezTo>
                <a:cubicBezTo>
                  <a:pt x="3554" y="6"/>
                  <a:pt x="3558" y="18"/>
                  <a:pt x="3558" y="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66840" y="2505240"/>
            <a:ext cx="5762520" cy="2766960"/>
          </a:xfrm>
          <a:custGeom>
            <a:avLst/>
            <a:gdLst/>
            <a:ahLst/>
            <a:rect l="l" t="t" r="r" b="b"/>
            <a:pathLst>
              <a:path w="3690" h="1731">
                <a:moveTo>
                  <a:pt x="0" y="558"/>
                </a:moveTo>
                <a:cubicBezTo>
                  <a:pt x="28" y="599"/>
                  <a:pt x="10" y="589"/>
                  <a:pt x="42" y="600"/>
                </a:cubicBezTo>
                <a:cubicBezTo>
                  <a:pt x="55" y="639"/>
                  <a:pt x="37" y="601"/>
                  <a:pt x="66" y="624"/>
                </a:cubicBezTo>
                <a:cubicBezTo>
                  <a:pt x="72" y="629"/>
                  <a:pt x="72" y="638"/>
                  <a:pt x="78" y="642"/>
                </a:cubicBezTo>
                <a:cubicBezTo>
                  <a:pt x="89" y="649"/>
                  <a:pt x="114" y="654"/>
                  <a:pt x="114" y="654"/>
                </a:cubicBezTo>
                <a:cubicBezTo>
                  <a:pt x="135" y="686"/>
                  <a:pt x="114" y="663"/>
                  <a:pt x="150" y="678"/>
                </a:cubicBezTo>
                <a:cubicBezTo>
                  <a:pt x="172" y="687"/>
                  <a:pt x="181" y="706"/>
                  <a:pt x="204" y="714"/>
                </a:cubicBezTo>
                <a:cubicBezTo>
                  <a:pt x="238" y="766"/>
                  <a:pt x="193" y="705"/>
                  <a:pt x="234" y="738"/>
                </a:cubicBezTo>
                <a:cubicBezTo>
                  <a:pt x="240" y="743"/>
                  <a:pt x="240" y="752"/>
                  <a:pt x="246" y="756"/>
                </a:cubicBezTo>
                <a:cubicBezTo>
                  <a:pt x="257" y="763"/>
                  <a:pt x="282" y="768"/>
                  <a:pt x="282" y="768"/>
                </a:cubicBezTo>
                <a:cubicBezTo>
                  <a:pt x="323" y="809"/>
                  <a:pt x="304" y="795"/>
                  <a:pt x="336" y="816"/>
                </a:cubicBezTo>
                <a:cubicBezTo>
                  <a:pt x="357" y="847"/>
                  <a:pt x="389" y="873"/>
                  <a:pt x="420" y="894"/>
                </a:cubicBezTo>
                <a:cubicBezTo>
                  <a:pt x="446" y="932"/>
                  <a:pt x="457" y="924"/>
                  <a:pt x="486" y="948"/>
                </a:cubicBezTo>
                <a:cubicBezTo>
                  <a:pt x="519" y="975"/>
                  <a:pt x="558" y="1000"/>
                  <a:pt x="600" y="1014"/>
                </a:cubicBezTo>
                <a:cubicBezTo>
                  <a:pt x="619" y="1043"/>
                  <a:pt x="605" y="1030"/>
                  <a:pt x="648" y="1044"/>
                </a:cubicBezTo>
                <a:cubicBezTo>
                  <a:pt x="693" y="1059"/>
                  <a:pt x="735" y="1087"/>
                  <a:pt x="780" y="1098"/>
                </a:cubicBezTo>
                <a:cubicBezTo>
                  <a:pt x="815" y="1121"/>
                  <a:pt x="851" y="1137"/>
                  <a:pt x="888" y="1158"/>
                </a:cubicBezTo>
                <a:cubicBezTo>
                  <a:pt x="956" y="1196"/>
                  <a:pt x="1015" y="1241"/>
                  <a:pt x="1086" y="1272"/>
                </a:cubicBezTo>
                <a:cubicBezTo>
                  <a:pt x="1164" y="1307"/>
                  <a:pt x="1251" y="1320"/>
                  <a:pt x="1332" y="1344"/>
                </a:cubicBezTo>
                <a:cubicBezTo>
                  <a:pt x="1360" y="1352"/>
                  <a:pt x="1379" y="1365"/>
                  <a:pt x="1404" y="1374"/>
                </a:cubicBezTo>
                <a:cubicBezTo>
                  <a:pt x="1427" y="1383"/>
                  <a:pt x="1453" y="1382"/>
                  <a:pt x="1476" y="1392"/>
                </a:cubicBezTo>
                <a:cubicBezTo>
                  <a:pt x="1515" y="1409"/>
                  <a:pt x="1565" y="1431"/>
                  <a:pt x="1608" y="1434"/>
                </a:cubicBezTo>
                <a:cubicBezTo>
                  <a:pt x="1650" y="1437"/>
                  <a:pt x="1692" y="1438"/>
                  <a:pt x="1734" y="1440"/>
                </a:cubicBezTo>
                <a:cubicBezTo>
                  <a:pt x="1799" y="1453"/>
                  <a:pt x="1866" y="1475"/>
                  <a:pt x="1932" y="1482"/>
                </a:cubicBezTo>
                <a:cubicBezTo>
                  <a:pt x="1958" y="1485"/>
                  <a:pt x="1984" y="1486"/>
                  <a:pt x="2010" y="1488"/>
                </a:cubicBezTo>
                <a:cubicBezTo>
                  <a:pt x="2026" y="1490"/>
                  <a:pt x="2042" y="1492"/>
                  <a:pt x="2058" y="1494"/>
                </a:cubicBezTo>
                <a:cubicBezTo>
                  <a:pt x="2156" y="1527"/>
                  <a:pt x="2470" y="1512"/>
                  <a:pt x="2472" y="1512"/>
                </a:cubicBezTo>
                <a:cubicBezTo>
                  <a:pt x="2606" y="1509"/>
                  <a:pt x="2741" y="1497"/>
                  <a:pt x="2874" y="1506"/>
                </a:cubicBezTo>
                <a:cubicBezTo>
                  <a:pt x="2886" y="1510"/>
                  <a:pt x="2903" y="1507"/>
                  <a:pt x="2910" y="1518"/>
                </a:cubicBezTo>
                <a:cubicBezTo>
                  <a:pt x="2938" y="1560"/>
                  <a:pt x="2922" y="1546"/>
                  <a:pt x="2952" y="1566"/>
                </a:cubicBezTo>
                <a:cubicBezTo>
                  <a:pt x="2961" y="1592"/>
                  <a:pt x="2972" y="1617"/>
                  <a:pt x="2994" y="1632"/>
                </a:cubicBezTo>
                <a:cubicBezTo>
                  <a:pt x="3010" y="1680"/>
                  <a:pt x="2986" y="1624"/>
                  <a:pt x="3018" y="1656"/>
                </a:cubicBezTo>
                <a:cubicBezTo>
                  <a:pt x="3050" y="1688"/>
                  <a:pt x="2994" y="1664"/>
                  <a:pt x="3042" y="1680"/>
                </a:cubicBezTo>
                <a:cubicBezTo>
                  <a:pt x="3044" y="1686"/>
                  <a:pt x="3043" y="1694"/>
                  <a:pt x="3048" y="1698"/>
                </a:cubicBezTo>
                <a:cubicBezTo>
                  <a:pt x="3065" y="1710"/>
                  <a:pt x="3104" y="1717"/>
                  <a:pt x="3126" y="1722"/>
                </a:cubicBezTo>
                <a:cubicBezTo>
                  <a:pt x="3199" y="1718"/>
                  <a:pt x="3227" y="1731"/>
                  <a:pt x="3276" y="1698"/>
                </a:cubicBezTo>
                <a:cubicBezTo>
                  <a:pt x="3304" y="1656"/>
                  <a:pt x="3288" y="1670"/>
                  <a:pt x="3318" y="1650"/>
                </a:cubicBezTo>
                <a:cubicBezTo>
                  <a:pt x="3334" y="1603"/>
                  <a:pt x="3356" y="1565"/>
                  <a:pt x="3384" y="1524"/>
                </a:cubicBezTo>
                <a:cubicBezTo>
                  <a:pt x="3384" y="1524"/>
                  <a:pt x="3399" y="1479"/>
                  <a:pt x="3402" y="1470"/>
                </a:cubicBezTo>
                <a:cubicBezTo>
                  <a:pt x="3406" y="1458"/>
                  <a:pt x="3414" y="1434"/>
                  <a:pt x="3414" y="1434"/>
                </a:cubicBezTo>
                <a:cubicBezTo>
                  <a:pt x="3423" y="1374"/>
                  <a:pt x="3440" y="1287"/>
                  <a:pt x="3474" y="1236"/>
                </a:cubicBezTo>
                <a:cubicBezTo>
                  <a:pt x="3496" y="1149"/>
                  <a:pt x="3530" y="1070"/>
                  <a:pt x="3552" y="984"/>
                </a:cubicBezTo>
                <a:cubicBezTo>
                  <a:pt x="3556" y="941"/>
                  <a:pt x="3556" y="899"/>
                  <a:pt x="3570" y="858"/>
                </a:cubicBezTo>
                <a:cubicBezTo>
                  <a:pt x="3575" y="803"/>
                  <a:pt x="3578" y="772"/>
                  <a:pt x="3606" y="726"/>
                </a:cubicBezTo>
                <a:cubicBezTo>
                  <a:pt x="3632" y="620"/>
                  <a:pt x="3593" y="506"/>
                  <a:pt x="3642" y="408"/>
                </a:cubicBezTo>
                <a:cubicBezTo>
                  <a:pt x="3651" y="356"/>
                  <a:pt x="3651" y="304"/>
                  <a:pt x="3660" y="252"/>
                </a:cubicBezTo>
                <a:cubicBezTo>
                  <a:pt x="3662" y="196"/>
                  <a:pt x="3662" y="140"/>
                  <a:pt x="3666" y="84"/>
                </a:cubicBezTo>
                <a:cubicBezTo>
                  <a:pt x="3667" y="61"/>
                  <a:pt x="3677" y="40"/>
                  <a:pt x="3684" y="18"/>
                </a:cubicBezTo>
                <a:cubicBezTo>
                  <a:pt x="3686" y="12"/>
                  <a:pt x="3690" y="0"/>
                  <a:pt x="3690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385800" y="1020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46320" y="11239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422600" y="87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22720" y="14097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412960" y="13906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803560" y="14572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127560" y="17240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5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555960" y="23814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946560" y="22953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773440" y="236700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62080" y="30337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38360" y="30337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336760" y="2678040"/>
            <a:ext cx="48096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336760" y="301320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3040" y="2678040"/>
            <a:ext cx="39348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11360" y="300672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62360" y="251784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38320" y="251784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14640" y="251784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51000" y="318456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222640" y="318456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98600" y="318456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527280" y="3184560"/>
            <a:ext cx="6516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603600" y="31845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683160" y="318456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82760" y="2403360"/>
            <a:ext cx="4932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16360" y="294624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887480" y="244008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117440" y="310500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765240" y="307656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98480" y="2733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93920" y="27050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479680" y="305424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639880" y="3876840"/>
            <a:ext cx="355680" cy="35532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460760" y="3921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912760" y="334476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13120" y="380844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749760" y="3344760"/>
            <a:ext cx="747720" cy="614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430880" y="389880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728800" y="402732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805120" y="402732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86120" y="402732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49680" y="407196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627440" y="4071960"/>
            <a:ext cx="7488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702320" y="407196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09760" y="34750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140000" y="3475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613880" y="39416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85840" y="397980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821120" y="382572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05160" y="489888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505400" y="494352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970600" y="498780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624120" y="4187880"/>
            <a:ext cx="88128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624120" y="4876920"/>
            <a:ext cx="6696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683240" y="427680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665600" y="486108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816440" y="4187880"/>
            <a:ext cx="1233360" cy="83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83200" y="4971960"/>
            <a:ext cx="68400" cy="5580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349800" y="5049720"/>
            <a:ext cx="6156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414600" y="5049720"/>
            <a:ext cx="7308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495600" y="504972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29280" y="5140440"/>
            <a:ext cx="244440" cy="73080"/>
            <a:chOff x="6029280" y="5140440"/>
            <a:chExt cx="244440" cy="73080"/>
          </a:xfrm>
        </p:grpSpPr>
        <p:sp>
          <p:nvSpPr>
            <p:cNvPr id="585" name=""/>
            <p:cNvSpPr/>
            <p:nvPr/>
          </p:nvSpPr>
          <p:spPr>
            <a:xfrm>
              <a:off x="6029280" y="5140440"/>
              <a:ext cx="7956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10280" y="514044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76880" y="5140440"/>
              <a:ext cx="96840" cy="7308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570560" y="5089680"/>
            <a:ext cx="232920" cy="72720"/>
            <a:chOff x="4570560" y="5089680"/>
            <a:chExt cx="232920" cy="72720"/>
          </a:xfrm>
        </p:grpSpPr>
        <p:sp>
          <p:nvSpPr>
            <p:cNvPr id="589" name=""/>
            <p:cNvSpPr/>
            <p:nvPr/>
          </p:nvSpPr>
          <p:spPr>
            <a:xfrm>
              <a:off x="4570560" y="5089680"/>
              <a:ext cx="7920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649760" y="5089680"/>
              <a:ext cx="75960" cy="7272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724280" y="5089680"/>
              <a:ext cx="7920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3646080" y="43876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376520" y="4387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22600" y="43876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17160" y="495000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22+177=5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30480" y="49975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45+159=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297120" y="50450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30+180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829040" y="4818240"/>
            <a:ext cx="59040" cy="9504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491000" y="5802480"/>
            <a:ext cx="355680" cy="35532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468760" y="5802480"/>
            <a:ext cx="354240" cy="35532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624560" y="529416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606920" y="572148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11760" y="5235480"/>
            <a:ext cx="73800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83160" y="5780160"/>
            <a:ext cx="6660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579920" y="595296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43280" y="5952960"/>
            <a:ext cx="7488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726080" y="595296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554800" y="595296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635800" y="5952960"/>
            <a:ext cx="6156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02400" y="595296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82920" y="53863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749480" y="53863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66840" y="61945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61+180=6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733200" y="61945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52+177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044880" y="391464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710160" y="493884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506680" y="58309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394080" y="58752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779560" y="5210280"/>
            <a:ext cx="57024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779560" y="5802480"/>
            <a:ext cx="60480" cy="6660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483000" y="5254560"/>
            <a:ext cx="4428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503520" y="5794200"/>
            <a:ext cx="3672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556000" y="5981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622600" y="598176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698920" y="598176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481560" y="602604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59320" y="602604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633840" y="602604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700000" y="53848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166920" y="53848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506240" y="619452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724+469=11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721960" y="61945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29+159=7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265800" y="485316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931000" y="5818320"/>
            <a:ext cx="355680" cy="355320"/>
            <a:chOff x="5931000" y="5818320"/>
            <a:chExt cx="355680" cy="355320"/>
          </a:xfrm>
        </p:grpSpPr>
        <p:sp>
          <p:nvSpPr>
            <p:cNvPr id="635" name=""/>
            <p:cNvSpPr/>
            <p:nvPr/>
          </p:nvSpPr>
          <p:spPr>
            <a:xfrm>
              <a:off x="5931000" y="581832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19920" y="596880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096240" y="596880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162840" y="596880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6292800" y="5283360"/>
            <a:ext cx="665280" cy="931320"/>
            <a:chOff x="6292800" y="5283360"/>
            <a:chExt cx="665280" cy="931320"/>
          </a:xfrm>
        </p:grpSpPr>
        <p:sp>
          <p:nvSpPr>
            <p:cNvPr id="640" name=""/>
            <p:cNvSpPr/>
            <p:nvPr/>
          </p:nvSpPr>
          <p:spPr>
            <a:xfrm>
              <a:off x="6292800" y="5283360"/>
              <a:ext cx="392040" cy="5666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602400" y="585936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632640" y="5783040"/>
              <a:ext cx="54000" cy="6948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689520" y="6010200"/>
              <a:ext cx="79560" cy="7092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769080" y="6010200"/>
              <a:ext cx="76320" cy="709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842160" y="6010200"/>
              <a:ext cx="79200" cy="7092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6124680" y="5343480"/>
            <a:ext cx="0" cy="447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86280" y="5394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453000" y="5394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868360" y="619452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10+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943320" y="59198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46+159=8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242040" y="567540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238480" y="2276640"/>
            <a:ext cx="1315800" cy="552240"/>
          </a:xfrm>
          <a:custGeom>
            <a:avLst/>
            <a:gdLst/>
            <a:ahLst/>
            <a:rect l="l" t="t" r="r" b="b"/>
            <a:pathLst>
              <a:path w="829" h="348">
                <a:moveTo>
                  <a:pt x="804" y="0"/>
                </a:moveTo>
                <a:cubicBezTo>
                  <a:pt x="802" y="42"/>
                  <a:pt x="829" y="196"/>
                  <a:pt x="750" y="222"/>
                </a:cubicBezTo>
                <a:cubicBezTo>
                  <a:pt x="736" y="243"/>
                  <a:pt x="726" y="250"/>
                  <a:pt x="702" y="258"/>
                </a:cubicBezTo>
                <a:cubicBezTo>
                  <a:pt x="683" y="287"/>
                  <a:pt x="697" y="274"/>
                  <a:pt x="654" y="288"/>
                </a:cubicBezTo>
                <a:cubicBezTo>
                  <a:pt x="636" y="294"/>
                  <a:pt x="618" y="310"/>
                  <a:pt x="600" y="318"/>
                </a:cubicBezTo>
                <a:cubicBezTo>
                  <a:pt x="562" y="335"/>
                  <a:pt x="515" y="342"/>
                  <a:pt x="474" y="348"/>
                </a:cubicBezTo>
                <a:cubicBezTo>
                  <a:pt x="344" y="346"/>
                  <a:pt x="214" y="346"/>
                  <a:pt x="84" y="342"/>
                </a:cubicBezTo>
                <a:cubicBezTo>
                  <a:pt x="59" y="341"/>
                  <a:pt x="19" y="337"/>
                  <a:pt x="0" y="3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028960" y="2352600"/>
            <a:ext cx="2181240" cy="1152720"/>
          </a:xfrm>
          <a:custGeom>
            <a:avLst/>
            <a:gdLst/>
            <a:ahLst/>
            <a:rect l="l" t="t" r="r" b="b"/>
            <a:pathLst>
              <a:path w="1374" h="726">
                <a:moveTo>
                  <a:pt x="0" y="252"/>
                </a:moveTo>
                <a:cubicBezTo>
                  <a:pt x="2" y="258"/>
                  <a:pt x="2" y="266"/>
                  <a:pt x="6" y="270"/>
                </a:cubicBezTo>
                <a:cubicBezTo>
                  <a:pt x="16" y="280"/>
                  <a:pt x="42" y="294"/>
                  <a:pt x="42" y="294"/>
                </a:cubicBezTo>
                <a:cubicBezTo>
                  <a:pt x="56" y="316"/>
                  <a:pt x="69" y="316"/>
                  <a:pt x="90" y="330"/>
                </a:cubicBezTo>
                <a:cubicBezTo>
                  <a:pt x="108" y="356"/>
                  <a:pt x="143" y="374"/>
                  <a:pt x="174" y="384"/>
                </a:cubicBezTo>
                <a:cubicBezTo>
                  <a:pt x="178" y="390"/>
                  <a:pt x="180" y="398"/>
                  <a:pt x="186" y="402"/>
                </a:cubicBezTo>
                <a:cubicBezTo>
                  <a:pt x="197" y="409"/>
                  <a:pt x="222" y="414"/>
                  <a:pt x="222" y="414"/>
                </a:cubicBezTo>
                <a:cubicBezTo>
                  <a:pt x="242" y="444"/>
                  <a:pt x="276" y="460"/>
                  <a:pt x="306" y="480"/>
                </a:cubicBezTo>
                <a:cubicBezTo>
                  <a:pt x="318" y="488"/>
                  <a:pt x="342" y="504"/>
                  <a:pt x="342" y="504"/>
                </a:cubicBezTo>
                <a:cubicBezTo>
                  <a:pt x="358" y="528"/>
                  <a:pt x="382" y="535"/>
                  <a:pt x="408" y="552"/>
                </a:cubicBezTo>
                <a:cubicBezTo>
                  <a:pt x="463" y="589"/>
                  <a:pt x="511" y="620"/>
                  <a:pt x="576" y="636"/>
                </a:cubicBezTo>
                <a:cubicBezTo>
                  <a:pt x="604" y="655"/>
                  <a:pt x="634" y="657"/>
                  <a:pt x="666" y="666"/>
                </a:cubicBezTo>
                <a:cubicBezTo>
                  <a:pt x="728" y="683"/>
                  <a:pt x="788" y="699"/>
                  <a:pt x="852" y="708"/>
                </a:cubicBezTo>
                <a:cubicBezTo>
                  <a:pt x="883" y="718"/>
                  <a:pt x="916" y="721"/>
                  <a:pt x="948" y="726"/>
                </a:cubicBezTo>
                <a:cubicBezTo>
                  <a:pt x="1101" y="720"/>
                  <a:pt x="1079" y="724"/>
                  <a:pt x="1182" y="690"/>
                </a:cubicBezTo>
                <a:cubicBezTo>
                  <a:pt x="1188" y="684"/>
                  <a:pt x="1193" y="677"/>
                  <a:pt x="1200" y="672"/>
                </a:cubicBezTo>
                <a:cubicBezTo>
                  <a:pt x="1211" y="663"/>
                  <a:pt x="1236" y="648"/>
                  <a:pt x="1236" y="648"/>
                </a:cubicBezTo>
                <a:cubicBezTo>
                  <a:pt x="1251" y="626"/>
                  <a:pt x="1284" y="606"/>
                  <a:pt x="1308" y="594"/>
                </a:cubicBezTo>
                <a:cubicBezTo>
                  <a:pt x="1340" y="546"/>
                  <a:pt x="1298" y="604"/>
                  <a:pt x="1338" y="564"/>
                </a:cubicBezTo>
                <a:cubicBezTo>
                  <a:pt x="1352" y="550"/>
                  <a:pt x="1357" y="527"/>
                  <a:pt x="1368" y="510"/>
                </a:cubicBezTo>
                <a:cubicBezTo>
                  <a:pt x="1370" y="500"/>
                  <a:pt x="1374" y="490"/>
                  <a:pt x="1374" y="480"/>
                </a:cubicBezTo>
                <a:cubicBezTo>
                  <a:pt x="1374" y="394"/>
                  <a:pt x="1372" y="308"/>
                  <a:pt x="1368" y="222"/>
                </a:cubicBezTo>
                <a:cubicBezTo>
                  <a:pt x="1366" y="176"/>
                  <a:pt x="1324" y="34"/>
                  <a:pt x="1290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447920" y="2114640"/>
            <a:ext cx="3314520" cy="1503360"/>
          </a:xfrm>
          <a:custGeom>
            <a:avLst/>
            <a:gdLst/>
            <a:ahLst/>
            <a:rect l="l" t="t" r="r" b="b"/>
            <a:pathLst>
              <a:path w="2340" h="1079">
                <a:moveTo>
                  <a:pt x="0" y="438"/>
                </a:moveTo>
                <a:cubicBezTo>
                  <a:pt x="28" y="480"/>
                  <a:pt x="12" y="466"/>
                  <a:pt x="42" y="486"/>
                </a:cubicBezTo>
                <a:cubicBezTo>
                  <a:pt x="76" y="538"/>
                  <a:pt x="31" y="477"/>
                  <a:pt x="72" y="510"/>
                </a:cubicBezTo>
                <a:cubicBezTo>
                  <a:pt x="78" y="515"/>
                  <a:pt x="79" y="523"/>
                  <a:pt x="84" y="528"/>
                </a:cubicBezTo>
                <a:cubicBezTo>
                  <a:pt x="89" y="533"/>
                  <a:pt x="97" y="535"/>
                  <a:pt x="102" y="540"/>
                </a:cubicBezTo>
                <a:cubicBezTo>
                  <a:pt x="133" y="567"/>
                  <a:pt x="152" y="601"/>
                  <a:pt x="186" y="624"/>
                </a:cubicBezTo>
                <a:cubicBezTo>
                  <a:pt x="201" y="669"/>
                  <a:pt x="179" y="615"/>
                  <a:pt x="210" y="654"/>
                </a:cubicBezTo>
                <a:cubicBezTo>
                  <a:pt x="233" y="683"/>
                  <a:pt x="195" y="665"/>
                  <a:pt x="234" y="678"/>
                </a:cubicBezTo>
                <a:cubicBezTo>
                  <a:pt x="236" y="684"/>
                  <a:pt x="236" y="691"/>
                  <a:pt x="240" y="696"/>
                </a:cubicBezTo>
                <a:cubicBezTo>
                  <a:pt x="245" y="702"/>
                  <a:pt x="254" y="702"/>
                  <a:pt x="258" y="708"/>
                </a:cubicBezTo>
                <a:cubicBezTo>
                  <a:pt x="294" y="765"/>
                  <a:pt x="247" y="729"/>
                  <a:pt x="288" y="756"/>
                </a:cubicBezTo>
                <a:cubicBezTo>
                  <a:pt x="300" y="791"/>
                  <a:pt x="310" y="819"/>
                  <a:pt x="342" y="840"/>
                </a:cubicBezTo>
                <a:cubicBezTo>
                  <a:pt x="344" y="846"/>
                  <a:pt x="344" y="854"/>
                  <a:pt x="348" y="858"/>
                </a:cubicBezTo>
                <a:cubicBezTo>
                  <a:pt x="358" y="868"/>
                  <a:pt x="384" y="882"/>
                  <a:pt x="384" y="882"/>
                </a:cubicBezTo>
                <a:cubicBezTo>
                  <a:pt x="399" y="905"/>
                  <a:pt x="429" y="921"/>
                  <a:pt x="456" y="930"/>
                </a:cubicBezTo>
                <a:cubicBezTo>
                  <a:pt x="484" y="973"/>
                  <a:pt x="586" y="993"/>
                  <a:pt x="636" y="1002"/>
                </a:cubicBezTo>
                <a:cubicBezTo>
                  <a:pt x="796" y="1031"/>
                  <a:pt x="952" y="1050"/>
                  <a:pt x="1116" y="1056"/>
                </a:cubicBezTo>
                <a:cubicBezTo>
                  <a:pt x="1302" y="1079"/>
                  <a:pt x="1485" y="1065"/>
                  <a:pt x="1674" y="1062"/>
                </a:cubicBezTo>
                <a:cubicBezTo>
                  <a:pt x="1764" y="1059"/>
                  <a:pt x="1841" y="1059"/>
                  <a:pt x="1926" y="1038"/>
                </a:cubicBezTo>
                <a:cubicBezTo>
                  <a:pt x="1970" y="1027"/>
                  <a:pt x="2007" y="1004"/>
                  <a:pt x="2052" y="996"/>
                </a:cubicBezTo>
                <a:cubicBezTo>
                  <a:pt x="2068" y="985"/>
                  <a:pt x="2106" y="972"/>
                  <a:pt x="2106" y="972"/>
                </a:cubicBezTo>
                <a:cubicBezTo>
                  <a:pt x="2128" y="950"/>
                  <a:pt x="2154" y="937"/>
                  <a:pt x="2184" y="930"/>
                </a:cubicBezTo>
                <a:cubicBezTo>
                  <a:pt x="2203" y="911"/>
                  <a:pt x="2226" y="900"/>
                  <a:pt x="2244" y="882"/>
                </a:cubicBezTo>
                <a:cubicBezTo>
                  <a:pt x="2256" y="870"/>
                  <a:pt x="2264" y="854"/>
                  <a:pt x="2274" y="840"/>
                </a:cubicBezTo>
                <a:cubicBezTo>
                  <a:pt x="2282" y="815"/>
                  <a:pt x="2291" y="799"/>
                  <a:pt x="2310" y="780"/>
                </a:cubicBezTo>
                <a:cubicBezTo>
                  <a:pt x="2316" y="762"/>
                  <a:pt x="2322" y="744"/>
                  <a:pt x="2328" y="726"/>
                </a:cubicBezTo>
                <a:cubicBezTo>
                  <a:pt x="2332" y="714"/>
                  <a:pt x="2340" y="690"/>
                  <a:pt x="2340" y="690"/>
                </a:cubicBezTo>
                <a:cubicBezTo>
                  <a:pt x="2338" y="554"/>
                  <a:pt x="2338" y="418"/>
                  <a:pt x="2334" y="282"/>
                </a:cubicBezTo>
                <a:cubicBezTo>
                  <a:pt x="2333" y="231"/>
                  <a:pt x="2304" y="148"/>
                  <a:pt x="2262" y="120"/>
                </a:cubicBezTo>
                <a:cubicBezTo>
                  <a:pt x="2248" y="98"/>
                  <a:pt x="2228" y="68"/>
                  <a:pt x="2208" y="54"/>
                </a:cubicBezTo>
                <a:cubicBezTo>
                  <a:pt x="2201" y="34"/>
                  <a:pt x="2178" y="0"/>
                  <a:pt x="2178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305000" y="2666880"/>
            <a:ext cx="4029120" cy="1733760"/>
          </a:xfrm>
          <a:custGeom>
            <a:avLst/>
            <a:gdLst/>
            <a:ahLst/>
            <a:rect l="l" t="t" r="r" b="b"/>
            <a:pathLst>
              <a:path w="2538" h="1092">
                <a:moveTo>
                  <a:pt x="0" y="150"/>
                </a:moveTo>
                <a:cubicBezTo>
                  <a:pt x="17" y="200"/>
                  <a:pt x="30" y="232"/>
                  <a:pt x="60" y="276"/>
                </a:cubicBezTo>
                <a:cubicBezTo>
                  <a:pt x="68" y="288"/>
                  <a:pt x="72" y="304"/>
                  <a:pt x="84" y="312"/>
                </a:cubicBezTo>
                <a:cubicBezTo>
                  <a:pt x="112" y="330"/>
                  <a:pt x="101" y="335"/>
                  <a:pt x="138" y="360"/>
                </a:cubicBezTo>
                <a:cubicBezTo>
                  <a:pt x="150" y="368"/>
                  <a:pt x="174" y="384"/>
                  <a:pt x="174" y="384"/>
                </a:cubicBezTo>
                <a:cubicBezTo>
                  <a:pt x="195" y="416"/>
                  <a:pt x="251" y="468"/>
                  <a:pt x="288" y="480"/>
                </a:cubicBezTo>
                <a:cubicBezTo>
                  <a:pt x="317" y="509"/>
                  <a:pt x="341" y="522"/>
                  <a:pt x="378" y="534"/>
                </a:cubicBezTo>
                <a:cubicBezTo>
                  <a:pt x="396" y="540"/>
                  <a:pt x="414" y="556"/>
                  <a:pt x="432" y="564"/>
                </a:cubicBezTo>
                <a:cubicBezTo>
                  <a:pt x="527" y="606"/>
                  <a:pt x="637" y="617"/>
                  <a:pt x="738" y="630"/>
                </a:cubicBezTo>
                <a:cubicBezTo>
                  <a:pt x="843" y="643"/>
                  <a:pt x="945" y="675"/>
                  <a:pt x="1050" y="690"/>
                </a:cubicBezTo>
                <a:cubicBezTo>
                  <a:pt x="1109" y="710"/>
                  <a:pt x="1173" y="720"/>
                  <a:pt x="1230" y="744"/>
                </a:cubicBezTo>
                <a:cubicBezTo>
                  <a:pt x="1238" y="748"/>
                  <a:pt x="1246" y="752"/>
                  <a:pt x="1254" y="756"/>
                </a:cubicBezTo>
                <a:cubicBezTo>
                  <a:pt x="1260" y="760"/>
                  <a:pt x="1265" y="765"/>
                  <a:pt x="1272" y="768"/>
                </a:cubicBezTo>
                <a:cubicBezTo>
                  <a:pt x="1294" y="778"/>
                  <a:pt x="1321" y="784"/>
                  <a:pt x="1344" y="792"/>
                </a:cubicBezTo>
                <a:cubicBezTo>
                  <a:pt x="1389" y="807"/>
                  <a:pt x="1432" y="823"/>
                  <a:pt x="1476" y="840"/>
                </a:cubicBezTo>
                <a:cubicBezTo>
                  <a:pt x="1488" y="845"/>
                  <a:pt x="1501" y="845"/>
                  <a:pt x="1512" y="852"/>
                </a:cubicBezTo>
                <a:cubicBezTo>
                  <a:pt x="1535" y="868"/>
                  <a:pt x="1592" y="894"/>
                  <a:pt x="1620" y="906"/>
                </a:cubicBezTo>
                <a:cubicBezTo>
                  <a:pt x="1632" y="911"/>
                  <a:pt x="1645" y="911"/>
                  <a:pt x="1656" y="918"/>
                </a:cubicBezTo>
                <a:cubicBezTo>
                  <a:pt x="1797" y="1012"/>
                  <a:pt x="1964" y="1059"/>
                  <a:pt x="2130" y="1092"/>
                </a:cubicBezTo>
                <a:cubicBezTo>
                  <a:pt x="2172" y="1090"/>
                  <a:pt x="2214" y="1091"/>
                  <a:pt x="2256" y="1086"/>
                </a:cubicBezTo>
                <a:cubicBezTo>
                  <a:pt x="2269" y="1085"/>
                  <a:pt x="2292" y="1074"/>
                  <a:pt x="2292" y="1074"/>
                </a:cubicBezTo>
                <a:cubicBezTo>
                  <a:pt x="2296" y="1068"/>
                  <a:pt x="2298" y="1060"/>
                  <a:pt x="2304" y="1056"/>
                </a:cubicBezTo>
                <a:cubicBezTo>
                  <a:pt x="2315" y="1049"/>
                  <a:pt x="2340" y="1044"/>
                  <a:pt x="2340" y="1044"/>
                </a:cubicBezTo>
                <a:cubicBezTo>
                  <a:pt x="2346" y="1038"/>
                  <a:pt x="2351" y="1031"/>
                  <a:pt x="2358" y="1026"/>
                </a:cubicBezTo>
                <a:cubicBezTo>
                  <a:pt x="2363" y="1022"/>
                  <a:pt x="2371" y="1024"/>
                  <a:pt x="2376" y="1020"/>
                </a:cubicBezTo>
                <a:cubicBezTo>
                  <a:pt x="2382" y="1015"/>
                  <a:pt x="2383" y="1007"/>
                  <a:pt x="2388" y="1002"/>
                </a:cubicBezTo>
                <a:cubicBezTo>
                  <a:pt x="2408" y="982"/>
                  <a:pt x="2448" y="940"/>
                  <a:pt x="2472" y="924"/>
                </a:cubicBezTo>
                <a:cubicBezTo>
                  <a:pt x="2483" y="892"/>
                  <a:pt x="2503" y="866"/>
                  <a:pt x="2514" y="834"/>
                </a:cubicBezTo>
                <a:cubicBezTo>
                  <a:pt x="2522" y="772"/>
                  <a:pt x="2526" y="709"/>
                  <a:pt x="2538" y="648"/>
                </a:cubicBezTo>
                <a:cubicBezTo>
                  <a:pt x="2536" y="526"/>
                  <a:pt x="2536" y="404"/>
                  <a:pt x="2532" y="282"/>
                </a:cubicBezTo>
                <a:cubicBezTo>
                  <a:pt x="2531" y="236"/>
                  <a:pt x="2498" y="190"/>
                  <a:pt x="2496" y="144"/>
                </a:cubicBezTo>
                <a:cubicBezTo>
                  <a:pt x="2494" y="96"/>
                  <a:pt x="2496" y="48"/>
                  <a:pt x="2496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209600" y="2600280"/>
            <a:ext cx="4483080" cy="2800440"/>
          </a:xfrm>
          <a:custGeom>
            <a:avLst/>
            <a:gdLst/>
            <a:ahLst/>
            <a:rect l="l" t="t" r="r" b="b"/>
            <a:pathLst>
              <a:path w="2824" h="1764">
                <a:moveTo>
                  <a:pt x="0" y="258"/>
                </a:moveTo>
                <a:cubicBezTo>
                  <a:pt x="9" y="284"/>
                  <a:pt x="20" y="302"/>
                  <a:pt x="36" y="324"/>
                </a:cubicBezTo>
                <a:cubicBezTo>
                  <a:pt x="44" y="348"/>
                  <a:pt x="51" y="358"/>
                  <a:pt x="72" y="372"/>
                </a:cubicBezTo>
                <a:cubicBezTo>
                  <a:pt x="87" y="417"/>
                  <a:pt x="65" y="363"/>
                  <a:pt x="96" y="402"/>
                </a:cubicBezTo>
                <a:cubicBezTo>
                  <a:pt x="129" y="443"/>
                  <a:pt x="68" y="398"/>
                  <a:pt x="120" y="432"/>
                </a:cubicBezTo>
                <a:cubicBezTo>
                  <a:pt x="134" y="473"/>
                  <a:pt x="115" y="429"/>
                  <a:pt x="144" y="462"/>
                </a:cubicBezTo>
                <a:cubicBezTo>
                  <a:pt x="169" y="491"/>
                  <a:pt x="178" y="525"/>
                  <a:pt x="210" y="546"/>
                </a:cubicBezTo>
                <a:cubicBezTo>
                  <a:pt x="215" y="562"/>
                  <a:pt x="233" y="582"/>
                  <a:pt x="246" y="594"/>
                </a:cubicBezTo>
                <a:cubicBezTo>
                  <a:pt x="257" y="603"/>
                  <a:pt x="282" y="618"/>
                  <a:pt x="282" y="618"/>
                </a:cubicBezTo>
                <a:cubicBezTo>
                  <a:pt x="303" y="650"/>
                  <a:pt x="360" y="654"/>
                  <a:pt x="396" y="666"/>
                </a:cubicBezTo>
                <a:cubicBezTo>
                  <a:pt x="485" y="696"/>
                  <a:pt x="573" y="728"/>
                  <a:pt x="666" y="738"/>
                </a:cubicBezTo>
                <a:cubicBezTo>
                  <a:pt x="722" y="757"/>
                  <a:pt x="794" y="757"/>
                  <a:pt x="852" y="762"/>
                </a:cubicBezTo>
                <a:cubicBezTo>
                  <a:pt x="928" y="781"/>
                  <a:pt x="1009" y="789"/>
                  <a:pt x="1086" y="804"/>
                </a:cubicBezTo>
                <a:cubicBezTo>
                  <a:pt x="1112" y="809"/>
                  <a:pt x="1154" y="813"/>
                  <a:pt x="1176" y="828"/>
                </a:cubicBezTo>
                <a:cubicBezTo>
                  <a:pt x="1188" y="836"/>
                  <a:pt x="1212" y="852"/>
                  <a:pt x="1212" y="852"/>
                </a:cubicBezTo>
                <a:cubicBezTo>
                  <a:pt x="1232" y="882"/>
                  <a:pt x="1218" y="866"/>
                  <a:pt x="1260" y="894"/>
                </a:cubicBezTo>
                <a:cubicBezTo>
                  <a:pt x="1266" y="898"/>
                  <a:pt x="1278" y="906"/>
                  <a:pt x="1278" y="906"/>
                </a:cubicBezTo>
                <a:cubicBezTo>
                  <a:pt x="1292" y="928"/>
                  <a:pt x="1305" y="928"/>
                  <a:pt x="1326" y="942"/>
                </a:cubicBezTo>
                <a:cubicBezTo>
                  <a:pt x="1341" y="965"/>
                  <a:pt x="1360" y="993"/>
                  <a:pt x="1386" y="1002"/>
                </a:cubicBezTo>
                <a:cubicBezTo>
                  <a:pt x="1388" y="1008"/>
                  <a:pt x="1388" y="1016"/>
                  <a:pt x="1392" y="1020"/>
                </a:cubicBezTo>
                <a:cubicBezTo>
                  <a:pt x="1402" y="1030"/>
                  <a:pt x="1428" y="1044"/>
                  <a:pt x="1428" y="1044"/>
                </a:cubicBezTo>
                <a:cubicBezTo>
                  <a:pt x="1437" y="1071"/>
                  <a:pt x="1464" y="1087"/>
                  <a:pt x="1482" y="1110"/>
                </a:cubicBezTo>
                <a:cubicBezTo>
                  <a:pt x="1522" y="1162"/>
                  <a:pt x="1556" y="1220"/>
                  <a:pt x="1596" y="1272"/>
                </a:cubicBezTo>
                <a:cubicBezTo>
                  <a:pt x="1623" y="1307"/>
                  <a:pt x="1635" y="1352"/>
                  <a:pt x="1662" y="1386"/>
                </a:cubicBezTo>
                <a:cubicBezTo>
                  <a:pt x="1673" y="1399"/>
                  <a:pt x="1698" y="1422"/>
                  <a:pt x="1698" y="1422"/>
                </a:cubicBezTo>
                <a:cubicBezTo>
                  <a:pt x="1714" y="1470"/>
                  <a:pt x="1690" y="1414"/>
                  <a:pt x="1722" y="1446"/>
                </a:cubicBezTo>
                <a:cubicBezTo>
                  <a:pt x="1726" y="1450"/>
                  <a:pt x="1724" y="1459"/>
                  <a:pt x="1728" y="1464"/>
                </a:cubicBezTo>
                <a:cubicBezTo>
                  <a:pt x="1733" y="1470"/>
                  <a:pt x="1740" y="1472"/>
                  <a:pt x="1746" y="1476"/>
                </a:cubicBezTo>
                <a:cubicBezTo>
                  <a:pt x="1774" y="1518"/>
                  <a:pt x="1758" y="1504"/>
                  <a:pt x="1788" y="1524"/>
                </a:cubicBezTo>
                <a:cubicBezTo>
                  <a:pt x="1792" y="1530"/>
                  <a:pt x="1795" y="1537"/>
                  <a:pt x="1800" y="1542"/>
                </a:cubicBezTo>
                <a:cubicBezTo>
                  <a:pt x="1811" y="1551"/>
                  <a:pt x="1836" y="1566"/>
                  <a:pt x="1836" y="1566"/>
                </a:cubicBezTo>
                <a:cubicBezTo>
                  <a:pt x="1840" y="1572"/>
                  <a:pt x="1843" y="1579"/>
                  <a:pt x="1848" y="1584"/>
                </a:cubicBezTo>
                <a:cubicBezTo>
                  <a:pt x="1853" y="1589"/>
                  <a:pt x="1861" y="1590"/>
                  <a:pt x="1866" y="1596"/>
                </a:cubicBezTo>
                <a:cubicBezTo>
                  <a:pt x="1889" y="1625"/>
                  <a:pt x="1851" y="1607"/>
                  <a:pt x="1890" y="1620"/>
                </a:cubicBezTo>
                <a:cubicBezTo>
                  <a:pt x="1898" y="1644"/>
                  <a:pt x="1931" y="1662"/>
                  <a:pt x="1956" y="1668"/>
                </a:cubicBezTo>
                <a:cubicBezTo>
                  <a:pt x="1960" y="1674"/>
                  <a:pt x="1962" y="1682"/>
                  <a:pt x="1968" y="1686"/>
                </a:cubicBezTo>
                <a:cubicBezTo>
                  <a:pt x="1979" y="1693"/>
                  <a:pt x="1992" y="1694"/>
                  <a:pt x="2004" y="1698"/>
                </a:cubicBezTo>
                <a:cubicBezTo>
                  <a:pt x="2026" y="1705"/>
                  <a:pt x="2058" y="1728"/>
                  <a:pt x="2076" y="1740"/>
                </a:cubicBezTo>
                <a:cubicBezTo>
                  <a:pt x="2092" y="1751"/>
                  <a:pt x="2112" y="1752"/>
                  <a:pt x="2130" y="1758"/>
                </a:cubicBezTo>
                <a:cubicBezTo>
                  <a:pt x="2136" y="1760"/>
                  <a:pt x="2148" y="1764"/>
                  <a:pt x="2148" y="1764"/>
                </a:cubicBezTo>
                <a:cubicBezTo>
                  <a:pt x="2242" y="1761"/>
                  <a:pt x="2323" y="1762"/>
                  <a:pt x="2412" y="1740"/>
                </a:cubicBezTo>
                <a:cubicBezTo>
                  <a:pt x="2444" y="1732"/>
                  <a:pt x="2460" y="1710"/>
                  <a:pt x="2484" y="1692"/>
                </a:cubicBezTo>
                <a:cubicBezTo>
                  <a:pt x="2495" y="1683"/>
                  <a:pt x="2520" y="1668"/>
                  <a:pt x="2520" y="1668"/>
                </a:cubicBezTo>
                <a:cubicBezTo>
                  <a:pt x="2535" y="1646"/>
                  <a:pt x="2558" y="1623"/>
                  <a:pt x="2580" y="1608"/>
                </a:cubicBezTo>
                <a:cubicBezTo>
                  <a:pt x="2595" y="1563"/>
                  <a:pt x="2573" y="1617"/>
                  <a:pt x="2604" y="1578"/>
                </a:cubicBezTo>
                <a:cubicBezTo>
                  <a:pt x="2608" y="1573"/>
                  <a:pt x="2606" y="1565"/>
                  <a:pt x="2610" y="1560"/>
                </a:cubicBezTo>
                <a:cubicBezTo>
                  <a:pt x="2615" y="1553"/>
                  <a:pt x="2622" y="1548"/>
                  <a:pt x="2628" y="1542"/>
                </a:cubicBezTo>
                <a:cubicBezTo>
                  <a:pt x="2643" y="1496"/>
                  <a:pt x="2670" y="1452"/>
                  <a:pt x="2694" y="1410"/>
                </a:cubicBezTo>
                <a:cubicBezTo>
                  <a:pt x="2705" y="1391"/>
                  <a:pt x="2729" y="1371"/>
                  <a:pt x="2736" y="1350"/>
                </a:cubicBezTo>
                <a:cubicBezTo>
                  <a:pt x="2744" y="1325"/>
                  <a:pt x="2738" y="1337"/>
                  <a:pt x="2754" y="1314"/>
                </a:cubicBezTo>
                <a:cubicBezTo>
                  <a:pt x="2824" y="891"/>
                  <a:pt x="2769" y="1011"/>
                  <a:pt x="2760" y="108"/>
                </a:cubicBezTo>
                <a:cubicBezTo>
                  <a:pt x="2760" y="84"/>
                  <a:pt x="2747" y="40"/>
                  <a:pt x="2736" y="18"/>
                </a:cubicBezTo>
                <a:cubicBezTo>
                  <a:pt x="2733" y="12"/>
                  <a:pt x="2724" y="0"/>
                  <a:pt x="2724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971640" y="2685960"/>
            <a:ext cx="5016240" cy="2949840"/>
          </a:xfrm>
          <a:custGeom>
            <a:avLst/>
            <a:gdLst/>
            <a:ahLst/>
            <a:rect l="l" t="t" r="r" b="b"/>
            <a:pathLst>
              <a:path w="3160" h="1858">
                <a:moveTo>
                  <a:pt x="0" y="240"/>
                </a:moveTo>
                <a:cubicBezTo>
                  <a:pt x="43" y="254"/>
                  <a:pt x="64" y="287"/>
                  <a:pt x="102" y="306"/>
                </a:cubicBezTo>
                <a:cubicBezTo>
                  <a:pt x="106" y="312"/>
                  <a:pt x="109" y="319"/>
                  <a:pt x="114" y="324"/>
                </a:cubicBezTo>
                <a:cubicBezTo>
                  <a:pt x="125" y="333"/>
                  <a:pt x="150" y="348"/>
                  <a:pt x="150" y="348"/>
                </a:cubicBezTo>
                <a:cubicBezTo>
                  <a:pt x="178" y="389"/>
                  <a:pt x="160" y="379"/>
                  <a:pt x="192" y="390"/>
                </a:cubicBezTo>
                <a:cubicBezTo>
                  <a:pt x="204" y="427"/>
                  <a:pt x="231" y="470"/>
                  <a:pt x="264" y="492"/>
                </a:cubicBezTo>
                <a:cubicBezTo>
                  <a:pt x="271" y="514"/>
                  <a:pt x="321" y="585"/>
                  <a:pt x="336" y="600"/>
                </a:cubicBezTo>
                <a:cubicBezTo>
                  <a:pt x="349" y="613"/>
                  <a:pt x="358" y="619"/>
                  <a:pt x="366" y="636"/>
                </a:cubicBezTo>
                <a:cubicBezTo>
                  <a:pt x="380" y="664"/>
                  <a:pt x="394" y="703"/>
                  <a:pt x="420" y="720"/>
                </a:cubicBezTo>
                <a:cubicBezTo>
                  <a:pt x="428" y="744"/>
                  <a:pt x="435" y="754"/>
                  <a:pt x="456" y="768"/>
                </a:cubicBezTo>
                <a:cubicBezTo>
                  <a:pt x="484" y="810"/>
                  <a:pt x="468" y="796"/>
                  <a:pt x="498" y="816"/>
                </a:cubicBezTo>
                <a:cubicBezTo>
                  <a:pt x="514" y="839"/>
                  <a:pt x="553" y="878"/>
                  <a:pt x="576" y="894"/>
                </a:cubicBezTo>
                <a:cubicBezTo>
                  <a:pt x="580" y="900"/>
                  <a:pt x="583" y="907"/>
                  <a:pt x="588" y="912"/>
                </a:cubicBezTo>
                <a:cubicBezTo>
                  <a:pt x="599" y="921"/>
                  <a:pt x="624" y="936"/>
                  <a:pt x="624" y="936"/>
                </a:cubicBezTo>
                <a:cubicBezTo>
                  <a:pt x="633" y="964"/>
                  <a:pt x="659" y="964"/>
                  <a:pt x="684" y="978"/>
                </a:cubicBezTo>
                <a:cubicBezTo>
                  <a:pt x="722" y="999"/>
                  <a:pt x="755" y="1027"/>
                  <a:pt x="798" y="1038"/>
                </a:cubicBezTo>
                <a:cubicBezTo>
                  <a:pt x="868" y="1084"/>
                  <a:pt x="946" y="1106"/>
                  <a:pt x="1026" y="1128"/>
                </a:cubicBezTo>
                <a:cubicBezTo>
                  <a:pt x="1087" y="1145"/>
                  <a:pt x="1143" y="1167"/>
                  <a:pt x="1206" y="1176"/>
                </a:cubicBezTo>
                <a:cubicBezTo>
                  <a:pt x="1309" y="1210"/>
                  <a:pt x="1416" y="1238"/>
                  <a:pt x="1524" y="1248"/>
                </a:cubicBezTo>
                <a:cubicBezTo>
                  <a:pt x="1556" y="1259"/>
                  <a:pt x="1588" y="1267"/>
                  <a:pt x="1620" y="1278"/>
                </a:cubicBezTo>
                <a:cubicBezTo>
                  <a:pt x="1634" y="1283"/>
                  <a:pt x="1644" y="1294"/>
                  <a:pt x="1656" y="1302"/>
                </a:cubicBezTo>
                <a:cubicBezTo>
                  <a:pt x="1662" y="1306"/>
                  <a:pt x="1674" y="1314"/>
                  <a:pt x="1674" y="1314"/>
                </a:cubicBezTo>
                <a:cubicBezTo>
                  <a:pt x="1678" y="1320"/>
                  <a:pt x="1680" y="1327"/>
                  <a:pt x="1686" y="1332"/>
                </a:cubicBezTo>
                <a:cubicBezTo>
                  <a:pt x="1691" y="1336"/>
                  <a:pt x="1700" y="1334"/>
                  <a:pt x="1704" y="1338"/>
                </a:cubicBezTo>
                <a:cubicBezTo>
                  <a:pt x="1774" y="1408"/>
                  <a:pt x="1695" y="1352"/>
                  <a:pt x="1746" y="1386"/>
                </a:cubicBezTo>
                <a:cubicBezTo>
                  <a:pt x="1759" y="1425"/>
                  <a:pt x="1741" y="1387"/>
                  <a:pt x="1770" y="1410"/>
                </a:cubicBezTo>
                <a:cubicBezTo>
                  <a:pt x="1809" y="1441"/>
                  <a:pt x="1755" y="1419"/>
                  <a:pt x="1800" y="1434"/>
                </a:cubicBezTo>
                <a:cubicBezTo>
                  <a:pt x="1823" y="1469"/>
                  <a:pt x="1836" y="1512"/>
                  <a:pt x="1872" y="1536"/>
                </a:cubicBezTo>
                <a:cubicBezTo>
                  <a:pt x="1876" y="1542"/>
                  <a:pt x="1878" y="1549"/>
                  <a:pt x="1884" y="1554"/>
                </a:cubicBezTo>
                <a:cubicBezTo>
                  <a:pt x="1889" y="1558"/>
                  <a:pt x="1898" y="1556"/>
                  <a:pt x="1902" y="1560"/>
                </a:cubicBezTo>
                <a:cubicBezTo>
                  <a:pt x="1906" y="1564"/>
                  <a:pt x="1904" y="1574"/>
                  <a:pt x="1908" y="1578"/>
                </a:cubicBezTo>
                <a:cubicBezTo>
                  <a:pt x="1912" y="1582"/>
                  <a:pt x="1920" y="1581"/>
                  <a:pt x="1926" y="1584"/>
                </a:cubicBezTo>
                <a:cubicBezTo>
                  <a:pt x="1939" y="1591"/>
                  <a:pt x="1962" y="1608"/>
                  <a:pt x="1962" y="1608"/>
                </a:cubicBezTo>
                <a:cubicBezTo>
                  <a:pt x="1983" y="1639"/>
                  <a:pt x="2014" y="1660"/>
                  <a:pt x="2040" y="1686"/>
                </a:cubicBezTo>
                <a:cubicBezTo>
                  <a:pt x="2053" y="1725"/>
                  <a:pt x="2035" y="1687"/>
                  <a:pt x="2064" y="1710"/>
                </a:cubicBezTo>
                <a:cubicBezTo>
                  <a:pt x="2103" y="1741"/>
                  <a:pt x="2049" y="1719"/>
                  <a:pt x="2094" y="1734"/>
                </a:cubicBezTo>
                <a:cubicBezTo>
                  <a:pt x="2138" y="1778"/>
                  <a:pt x="2206" y="1793"/>
                  <a:pt x="2262" y="1818"/>
                </a:cubicBezTo>
                <a:cubicBezTo>
                  <a:pt x="2291" y="1831"/>
                  <a:pt x="2295" y="1828"/>
                  <a:pt x="2322" y="1836"/>
                </a:cubicBezTo>
                <a:cubicBezTo>
                  <a:pt x="2334" y="1840"/>
                  <a:pt x="2358" y="1848"/>
                  <a:pt x="2358" y="1848"/>
                </a:cubicBezTo>
                <a:cubicBezTo>
                  <a:pt x="2639" y="1841"/>
                  <a:pt x="2531" y="1858"/>
                  <a:pt x="2670" y="1812"/>
                </a:cubicBezTo>
                <a:cubicBezTo>
                  <a:pt x="2688" y="1794"/>
                  <a:pt x="2703" y="1790"/>
                  <a:pt x="2724" y="1776"/>
                </a:cubicBezTo>
                <a:cubicBezTo>
                  <a:pt x="2751" y="1735"/>
                  <a:pt x="2792" y="1732"/>
                  <a:pt x="2826" y="1704"/>
                </a:cubicBezTo>
                <a:cubicBezTo>
                  <a:pt x="2845" y="1688"/>
                  <a:pt x="2857" y="1667"/>
                  <a:pt x="2874" y="1650"/>
                </a:cubicBezTo>
                <a:cubicBezTo>
                  <a:pt x="2886" y="1615"/>
                  <a:pt x="2871" y="1647"/>
                  <a:pt x="2898" y="1620"/>
                </a:cubicBezTo>
                <a:cubicBezTo>
                  <a:pt x="2911" y="1607"/>
                  <a:pt x="2932" y="1559"/>
                  <a:pt x="2940" y="1542"/>
                </a:cubicBezTo>
                <a:cubicBezTo>
                  <a:pt x="2969" y="1476"/>
                  <a:pt x="2965" y="1397"/>
                  <a:pt x="3018" y="1344"/>
                </a:cubicBezTo>
                <a:cubicBezTo>
                  <a:pt x="3027" y="1317"/>
                  <a:pt x="3050" y="1296"/>
                  <a:pt x="3066" y="1272"/>
                </a:cubicBezTo>
                <a:cubicBezTo>
                  <a:pt x="3079" y="1252"/>
                  <a:pt x="3085" y="1212"/>
                  <a:pt x="3090" y="1188"/>
                </a:cubicBezTo>
                <a:cubicBezTo>
                  <a:pt x="3094" y="1114"/>
                  <a:pt x="3090" y="1032"/>
                  <a:pt x="3114" y="960"/>
                </a:cubicBezTo>
                <a:cubicBezTo>
                  <a:pt x="3160" y="638"/>
                  <a:pt x="3132" y="357"/>
                  <a:pt x="3132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266840" y="2933640"/>
            <a:ext cx="5019840" cy="2800440"/>
          </a:xfrm>
          <a:custGeom>
            <a:avLst/>
            <a:gdLst/>
            <a:ahLst/>
            <a:rect l="l" t="t" r="r" b="b"/>
            <a:pathLst>
              <a:path w="3162" h="1764">
                <a:moveTo>
                  <a:pt x="0" y="744"/>
                </a:moveTo>
                <a:cubicBezTo>
                  <a:pt x="20" y="758"/>
                  <a:pt x="40" y="772"/>
                  <a:pt x="60" y="786"/>
                </a:cubicBezTo>
                <a:cubicBezTo>
                  <a:pt x="86" y="825"/>
                  <a:pt x="146" y="849"/>
                  <a:pt x="186" y="876"/>
                </a:cubicBezTo>
                <a:cubicBezTo>
                  <a:pt x="198" y="884"/>
                  <a:pt x="210" y="892"/>
                  <a:pt x="222" y="900"/>
                </a:cubicBezTo>
                <a:cubicBezTo>
                  <a:pt x="228" y="904"/>
                  <a:pt x="240" y="912"/>
                  <a:pt x="240" y="912"/>
                </a:cubicBezTo>
                <a:cubicBezTo>
                  <a:pt x="251" y="946"/>
                  <a:pt x="313" y="996"/>
                  <a:pt x="348" y="1008"/>
                </a:cubicBezTo>
                <a:cubicBezTo>
                  <a:pt x="367" y="1037"/>
                  <a:pt x="403" y="1043"/>
                  <a:pt x="432" y="1062"/>
                </a:cubicBezTo>
                <a:cubicBezTo>
                  <a:pt x="448" y="1086"/>
                  <a:pt x="472" y="1093"/>
                  <a:pt x="498" y="1110"/>
                </a:cubicBezTo>
                <a:cubicBezTo>
                  <a:pt x="504" y="1114"/>
                  <a:pt x="516" y="1122"/>
                  <a:pt x="516" y="1122"/>
                </a:cubicBezTo>
                <a:cubicBezTo>
                  <a:pt x="530" y="1143"/>
                  <a:pt x="540" y="1150"/>
                  <a:pt x="564" y="1158"/>
                </a:cubicBezTo>
                <a:cubicBezTo>
                  <a:pt x="580" y="1182"/>
                  <a:pt x="593" y="1179"/>
                  <a:pt x="618" y="1194"/>
                </a:cubicBezTo>
                <a:cubicBezTo>
                  <a:pt x="660" y="1219"/>
                  <a:pt x="695" y="1247"/>
                  <a:pt x="732" y="1278"/>
                </a:cubicBezTo>
                <a:cubicBezTo>
                  <a:pt x="750" y="1293"/>
                  <a:pt x="773" y="1301"/>
                  <a:pt x="792" y="1314"/>
                </a:cubicBezTo>
                <a:cubicBezTo>
                  <a:pt x="811" y="1343"/>
                  <a:pt x="797" y="1330"/>
                  <a:pt x="840" y="1344"/>
                </a:cubicBezTo>
                <a:cubicBezTo>
                  <a:pt x="854" y="1349"/>
                  <a:pt x="862" y="1363"/>
                  <a:pt x="876" y="1368"/>
                </a:cubicBezTo>
                <a:cubicBezTo>
                  <a:pt x="902" y="1377"/>
                  <a:pt x="888" y="1372"/>
                  <a:pt x="918" y="1380"/>
                </a:cubicBezTo>
                <a:cubicBezTo>
                  <a:pt x="954" y="1404"/>
                  <a:pt x="973" y="1418"/>
                  <a:pt x="1014" y="1428"/>
                </a:cubicBezTo>
                <a:cubicBezTo>
                  <a:pt x="1064" y="1462"/>
                  <a:pt x="1130" y="1475"/>
                  <a:pt x="1188" y="1494"/>
                </a:cubicBezTo>
                <a:cubicBezTo>
                  <a:pt x="1201" y="1498"/>
                  <a:pt x="1211" y="1508"/>
                  <a:pt x="1224" y="1512"/>
                </a:cubicBezTo>
                <a:cubicBezTo>
                  <a:pt x="1249" y="1520"/>
                  <a:pt x="1277" y="1521"/>
                  <a:pt x="1302" y="1530"/>
                </a:cubicBezTo>
                <a:cubicBezTo>
                  <a:pt x="1355" y="1550"/>
                  <a:pt x="1406" y="1574"/>
                  <a:pt x="1458" y="1596"/>
                </a:cubicBezTo>
                <a:cubicBezTo>
                  <a:pt x="1499" y="1614"/>
                  <a:pt x="1547" y="1624"/>
                  <a:pt x="1590" y="1638"/>
                </a:cubicBezTo>
                <a:cubicBezTo>
                  <a:pt x="1597" y="1640"/>
                  <a:pt x="1601" y="1647"/>
                  <a:pt x="1608" y="1650"/>
                </a:cubicBezTo>
                <a:cubicBezTo>
                  <a:pt x="1657" y="1672"/>
                  <a:pt x="1705" y="1681"/>
                  <a:pt x="1758" y="1686"/>
                </a:cubicBezTo>
                <a:cubicBezTo>
                  <a:pt x="1805" y="1698"/>
                  <a:pt x="1854" y="1716"/>
                  <a:pt x="1902" y="1722"/>
                </a:cubicBezTo>
                <a:cubicBezTo>
                  <a:pt x="1944" y="1727"/>
                  <a:pt x="2028" y="1734"/>
                  <a:pt x="2028" y="1734"/>
                </a:cubicBezTo>
                <a:cubicBezTo>
                  <a:pt x="2064" y="1741"/>
                  <a:pt x="2100" y="1746"/>
                  <a:pt x="2136" y="1752"/>
                </a:cubicBezTo>
                <a:cubicBezTo>
                  <a:pt x="2156" y="1756"/>
                  <a:pt x="2196" y="1764"/>
                  <a:pt x="2196" y="1764"/>
                </a:cubicBezTo>
                <a:cubicBezTo>
                  <a:pt x="2342" y="1761"/>
                  <a:pt x="2442" y="1759"/>
                  <a:pt x="2574" y="1740"/>
                </a:cubicBezTo>
                <a:cubicBezTo>
                  <a:pt x="2621" y="1724"/>
                  <a:pt x="2658" y="1708"/>
                  <a:pt x="2700" y="1680"/>
                </a:cubicBezTo>
                <a:cubicBezTo>
                  <a:pt x="2712" y="1672"/>
                  <a:pt x="2724" y="1664"/>
                  <a:pt x="2736" y="1656"/>
                </a:cubicBezTo>
                <a:cubicBezTo>
                  <a:pt x="2742" y="1652"/>
                  <a:pt x="2754" y="1644"/>
                  <a:pt x="2754" y="1644"/>
                </a:cubicBezTo>
                <a:cubicBezTo>
                  <a:pt x="2770" y="1620"/>
                  <a:pt x="2796" y="1594"/>
                  <a:pt x="2820" y="1578"/>
                </a:cubicBezTo>
                <a:cubicBezTo>
                  <a:pt x="2846" y="1539"/>
                  <a:pt x="2859" y="1494"/>
                  <a:pt x="2880" y="1452"/>
                </a:cubicBezTo>
                <a:cubicBezTo>
                  <a:pt x="2893" y="1426"/>
                  <a:pt x="2897" y="1402"/>
                  <a:pt x="2922" y="1386"/>
                </a:cubicBezTo>
                <a:cubicBezTo>
                  <a:pt x="2934" y="1349"/>
                  <a:pt x="2959" y="1315"/>
                  <a:pt x="2970" y="1278"/>
                </a:cubicBezTo>
                <a:cubicBezTo>
                  <a:pt x="2981" y="1240"/>
                  <a:pt x="2982" y="1201"/>
                  <a:pt x="2994" y="1164"/>
                </a:cubicBezTo>
                <a:cubicBezTo>
                  <a:pt x="3001" y="1108"/>
                  <a:pt x="3025" y="1062"/>
                  <a:pt x="3036" y="1008"/>
                </a:cubicBezTo>
                <a:cubicBezTo>
                  <a:pt x="3043" y="974"/>
                  <a:pt x="3046" y="940"/>
                  <a:pt x="3054" y="906"/>
                </a:cubicBezTo>
                <a:cubicBezTo>
                  <a:pt x="3068" y="847"/>
                  <a:pt x="3093" y="791"/>
                  <a:pt x="3108" y="732"/>
                </a:cubicBezTo>
                <a:cubicBezTo>
                  <a:pt x="3111" y="623"/>
                  <a:pt x="3103" y="352"/>
                  <a:pt x="3138" y="246"/>
                </a:cubicBezTo>
                <a:cubicBezTo>
                  <a:pt x="3145" y="165"/>
                  <a:pt x="3162" y="81"/>
                  <a:pt x="3162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238400" y="3552840"/>
            <a:ext cx="5648040" cy="2286000"/>
          </a:xfrm>
          <a:custGeom>
            <a:avLst/>
            <a:gdLst/>
            <a:ahLst/>
            <a:rect l="l" t="t" r="r" b="b"/>
            <a:pathLst>
              <a:path w="3558" h="1440">
                <a:moveTo>
                  <a:pt x="0" y="432"/>
                </a:moveTo>
                <a:cubicBezTo>
                  <a:pt x="18" y="444"/>
                  <a:pt x="36" y="456"/>
                  <a:pt x="54" y="468"/>
                </a:cubicBezTo>
                <a:cubicBezTo>
                  <a:pt x="66" y="476"/>
                  <a:pt x="90" y="492"/>
                  <a:pt x="90" y="492"/>
                </a:cubicBezTo>
                <a:cubicBezTo>
                  <a:pt x="105" y="514"/>
                  <a:pt x="128" y="537"/>
                  <a:pt x="150" y="552"/>
                </a:cubicBezTo>
                <a:cubicBezTo>
                  <a:pt x="172" y="585"/>
                  <a:pt x="184" y="573"/>
                  <a:pt x="216" y="594"/>
                </a:cubicBezTo>
                <a:cubicBezTo>
                  <a:pt x="246" y="614"/>
                  <a:pt x="276" y="634"/>
                  <a:pt x="306" y="654"/>
                </a:cubicBezTo>
                <a:cubicBezTo>
                  <a:pt x="323" y="665"/>
                  <a:pt x="343" y="673"/>
                  <a:pt x="360" y="684"/>
                </a:cubicBezTo>
                <a:cubicBezTo>
                  <a:pt x="366" y="688"/>
                  <a:pt x="378" y="696"/>
                  <a:pt x="378" y="696"/>
                </a:cubicBezTo>
                <a:cubicBezTo>
                  <a:pt x="389" y="730"/>
                  <a:pt x="400" y="735"/>
                  <a:pt x="432" y="756"/>
                </a:cubicBezTo>
                <a:cubicBezTo>
                  <a:pt x="438" y="760"/>
                  <a:pt x="450" y="768"/>
                  <a:pt x="450" y="768"/>
                </a:cubicBezTo>
                <a:cubicBezTo>
                  <a:pt x="465" y="791"/>
                  <a:pt x="479" y="792"/>
                  <a:pt x="504" y="804"/>
                </a:cubicBezTo>
                <a:cubicBezTo>
                  <a:pt x="519" y="826"/>
                  <a:pt x="544" y="837"/>
                  <a:pt x="570" y="846"/>
                </a:cubicBezTo>
                <a:cubicBezTo>
                  <a:pt x="591" y="878"/>
                  <a:pt x="635" y="906"/>
                  <a:pt x="672" y="918"/>
                </a:cubicBezTo>
                <a:cubicBezTo>
                  <a:pt x="691" y="947"/>
                  <a:pt x="677" y="934"/>
                  <a:pt x="720" y="948"/>
                </a:cubicBezTo>
                <a:cubicBezTo>
                  <a:pt x="734" y="953"/>
                  <a:pt x="744" y="964"/>
                  <a:pt x="756" y="972"/>
                </a:cubicBezTo>
                <a:cubicBezTo>
                  <a:pt x="762" y="976"/>
                  <a:pt x="774" y="984"/>
                  <a:pt x="774" y="984"/>
                </a:cubicBezTo>
                <a:cubicBezTo>
                  <a:pt x="786" y="1020"/>
                  <a:pt x="841" y="1028"/>
                  <a:pt x="876" y="1038"/>
                </a:cubicBezTo>
                <a:cubicBezTo>
                  <a:pt x="901" y="1045"/>
                  <a:pt x="938" y="1047"/>
                  <a:pt x="960" y="1062"/>
                </a:cubicBezTo>
                <a:cubicBezTo>
                  <a:pt x="997" y="1087"/>
                  <a:pt x="1029" y="1103"/>
                  <a:pt x="1068" y="1122"/>
                </a:cubicBezTo>
                <a:cubicBezTo>
                  <a:pt x="1100" y="1138"/>
                  <a:pt x="1133" y="1153"/>
                  <a:pt x="1164" y="1170"/>
                </a:cubicBezTo>
                <a:cubicBezTo>
                  <a:pt x="1177" y="1177"/>
                  <a:pt x="1186" y="1189"/>
                  <a:pt x="1200" y="1194"/>
                </a:cubicBezTo>
                <a:cubicBezTo>
                  <a:pt x="1324" y="1235"/>
                  <a:pt x="1454" y="1261"/>
                  <a:pt x="1578" y="1302"/>
                </a:cubicBezTo>
                <a:cubicBezTo>
                  <a:pt x="1619" y="1316"/>
                  <a:pt x="1632" y="1320"/>
                  <a:pt x="1668" y="1344"/>
                </a:cubicBezTo>
                <a:cubicBezTo>
                  <a:pt x="1677" y="1350"/>
                  <a:pt x="1785" y="1372"/>
                  <a:pt x="1794" y="1374"/>
                </a:cubicBezTo>
                <a:cubicBezTo>
                  <a:pt x="1829" y="1383"/>
                  <a:pt x="1871" y="1408"/>
                  <a:pt x="1908" y="1410"/>
                </a:cubicBezTo>
                <a:cubicBezTo>
                  <a:pt x="1980" y="1414"/>
                  <a:pt x="2052" y="1414"/>
                  <a:pt x="2124" y="1416"/>
                </a:cubicBezTo>
                <a:cubicBezTo>
                  <a:pt x="2336" y="1440"/>
                  <a:pt x="2545" y="1424"/>
                  <a:pt x="2754" y="1398"/>
                </a:cubicBezTo>
                <a:cubicBezTo>
                  <a:pt x="2783" y="1394"/>
                  <a:pt x="2825" y="1394"/>
                  <a:pt x="2856" y="1386"/>
                </a:cubicBezTo>
                <a:cubicBezTo>
                  <a:pt x="2928" y="1368"/>
                  <a:pt x="2990" y="1325"/>
                  <a:pt x="3060" y="1302"/>
                </a:cubicBezTo>
                <a:cubicBezTo>
                  <a:pt x="3071" y="1291"/>
                  <a:pt x="3078" y="1276"/>
                  <a:pt x="3090" y="1266"/>
                </a:cubicBezTo>
                <a:cubicBezTo>
                  <a:pt x="3102" y="1256"/>
                  <a:pt x="3118" y="1255"/>
                  <a:pt x="3132" y="1248"/>
                </a:cubicBezTo>
                <a:cubicBezTo>
                  <a:pt x="3136" y="1242"/>
                  <a:pt x="3139" y="1235"/>
                  <a:pt x="3144" y="1230"/>
                </a:cubicBezTo>
                <a:cubicBezTo>
                  <a:pt x="3155" y="1217"/>
                  <a:pt x="3170" y="1208"/>
                  <a:pt x="3180" y="1194"/>
                </a:cubicBezTo>
                <a:cubicBezTo>
                  <a:pt x="3200" y="1168"/>
                  <a:pt x="3212" y="1140"/>
                  <a:pt x="3240" y="1122"/>
                </a:cubicBezTo>
                <a:cubicBezTo>
                  <a:pt x="3268" y="1079"/>
                  <a:pt x="3279" y="1026"/>
                  <a:pt x="3324" y="996"/>
                </a:cubicBezTo>
                <a:cubicBezTo>
                  <a:pt x="3348" y="947"/>
                  <a:pt x="3361" y="878"/>
                  <a:pt x="3408" y="846"/>
                </a:cubicBezTo>
                <a:cubicBezTo>
                  <a:pt x="3419" y="813"/>
                  <a:pt x="3425" y="793"/>
                  <a:pt x="3450" y="768"/>
                </a:cubicBezTo>
                <a:cubicBezTo>
                  <a:pt x="3454" y="756"/>
                  <a:pt x="3458" y="744"/>
                  <a:pt x="3462" y="732"/>
                </a:cubicBezTo>
                <a:cubicBezTo>
                  <a:pt x="3464" y="726"/>
                  <a:pt x="3468" y="714"/>
                  <a:pt x="3468" y="714"/>
                </a:cubicBezTo>
                <a:cubicBezTo>
                  <a:pt x="3472" y="632"/>
                  <a:pt x="3455" y="595"/>
                  <a:pt x="3492" y="540"/>
                </a:cubicBezTo>
                <a:cubicBezTo>
                  <a:pt x="3536" y="362"/>
                  <a:pt x="3508" y="176"/>
                  <a:pt x="3552" y="0"/>
                </a:cubicBezTo>
                <a:cubicBezTo>
                  <a:pt x="3554" y="6"/>
                  <a:pt x="3558" y="18"/>
                  <a:pt x="3558" y="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219320" y="3505320"/>
            <a:ext cx="5762520" cy="2766960"/>
          </a:xfrm>
          <a:custGeom>
            <a:avLst/>
            <a:gdLst/>
            <a:ahLst/>
            <a:rect l="l" t="t" r="r" b="b"/>
            <a:pathLst>
              <a:path w="3690" h="1731">
                <a:moveTo>
                  <a:pt x="0" y="558"/>
                </a:moveTo>
                <a:cubicBezTo>
                  <a:pt x="28" y="599"/>
                  <a:pt x="10" y="589"/>
                  <a:pt x="42" y="600"/>
                </a:cubicBezTo>
                <a:cubicBezTo>
                  <a:pt x="55" y="639"/>
                  <a:pt x="37" y="601"/>
                  <a:pt x="66" y="624"/>
                </a:cubicBezTo>
                <a:cubicBezTo>
                  <a:pt x="72" y="629"/>
                  <a:pt x="72" y="638"/>
                  <a:pt x="78" y="642"/>
                </a:cubicBezTo>
                <a:cubicBezTo>
                  <a:pt x="89" y="649"/>
                  <a:pt x="114" y="654"/>
                  <a:pt x="114" y="654"/>
                </a:cubicBezTo>
                <a:cubicBezTo>
                  <a:pt x="135" y="686"/>
                  <a:pt x="114" y="663"/>
                  <a:pt x="150" y="678"/>
                </a:cubicBezTo>
                <a:cubicBezTo>
                  <a:pt x="172" y="687"/>
                  <a:pt x="181" y="706"/>
                  <a:pt x="204" y="714"/>
                </a:cubicBezTo>
                <a:cubicBezTo>
                  <a:pt x="238" y="766"/>
                  <a:pt x="193" y="705"/>
                  <a:pt x="234" y="738"/>
                </a:cubicBezTo>
                <a:cubicBezTo>
                  <a:pt x="240" y="743"/>
                  <a:pt x="240" y="752"/>
                  <a:pt x="246" y="756"/>
                </a:cubicBezTo>
                <a:cubicBezTo>
                  <a:pt x="257" y="763"/>
                  <a:pt x="282" y="768"/>
                  <a:pt x="282" y="768"/>
                </a:cubicBezTo>
                <a:cubicBezTo>
                  <a:pt x="323" y="809"/>
                  <a:pt x="304" y="795"/>
                  <a:pt x="336" y="816"/>
                </a:cubicBezTo>
                <a:cubicBezTo>
                  <a:pt x="357" y="847"/>
                  <a:pt x="389" y="873"/>
                  <a:pt x="420" y="894"/>
                </a:cubicBezTo>
                <a:cubicBezTo>
                  <a:pt x="446" y="932"/>
                  <a:pt x="457" y="924"/>
                  <a:pt x="486" y="948"/>
                </a:cubicBezTo>
                <a:cubicBezTo>
                  <a:pt x="519" y="975"/>
                  <a:pt x="558" y="1000"/>
                  <a:pt x="600" y="1014"/>
                </a:cubicBezTo>
                <a:cubicBezTo>
                  <a:pt x="619" y="1043"/>
                  <a:pt x="605" y="1030"/>
                  <a:pt x="648" y="1044"/>
                </a:cubicBezTo>
                <a:cubicBezTo>
                  <a:pt x="693" y="1059"/>
                  <a:pt x="735" y="1087"/>
                  <a:pt x="780" y="1098"/>
                </a:cubicBezTo>
                <a:cubicBezTo>
                  <a:pt x="815" y="1121"/>
                  <a:pt x="851" y="1137"/>
                  <a:pt x="888" y="1158"/>
                </a:cubicBezTo>
                <a:cubicBezTo>
                  <a:pt x="956" y="1196"/>
                  <a:pt x="1015" y="1241"/>
                  <a:pt x="1086" y="1272"/>
                </a:cubicBezTo>
                <a:cubicBezTo>
                  <a:pt x="1164" y="1307"/>
                  <a:pt x="1251" y="1320"/>
                  <a:pt x="1332" y="1344"/>
                </a:cubicBezTo>
                <a:cubicBezTo>
                  <a:pt x="1360" y="1352"/>
                  <a:pt x="1379" y="1365"/>
                  <a:pt x="1404" y="1374"/>
                </a:cubicBezTo>
                <a:cubicBezTo>
                  <a:pt x="1427" y="1383"/>
                  <a:pt x="1453" y="1382"/>
                  <a:pt x="1476" y="1392"/>
                </a:cubicBezTo>
                <a:cubicBezTo>
                  <a:pt x="1515" y="1409"/>
                  <a:pt x="1565" y="1431"/>
                  <a:pt x="1608" y="1434"/>
                </a:cubicBezTo>
                <a:cubicBezTo>
                  <a:pt x="1650" y="1437"/>
                  <a:pt x="1692" y="1438"/>
                  <a:pt x="1734" y="1440"/>
                </a:cubicBezTo>
                <a:cubicBezTo>
                  <a:pt x="1799" y="1453"/>
                  <a:pt x="1866" y="1475"/>
                  <a:pt x="1932" y="1482"/>
                </a:cubicBezTo>
                <a:cubicBezTo>
                  <a:pt x="1958" y="1485"/>
                  <a:pt x="1984" y="1486"/>
                  <a:pt x="2010" y="1488"/>
                </a:cubicBezTo>
                <a:cubicBezTo>
                  <a:pt x="2026" y="1490"/>
                  <a:pt x="2042" y="1492"/>
                  <a:pt x="2058" y="1494"/>
                </a:cubicBezTo>
                <a:cubicBezTo>
                  <a:pt x="2156" y="1527"/>
                  <a:pt x="2470" y="1512"/>
                  <a:pt x="2472" y="1512"/>
                </a:cubicBezTo>
                <a:cubicBezTo>
                  <a:pt x="2606" y="1509"/>
                  <a:pt x="2741" y="1497"/>
                  <a:pt x="2874" y="1506"/>
                </a:cubicBezTo>
                <a:cubicBezTo>
                  <a:pt x="2886" y="1510"/>
                  <a:pt x="2903" y="1507"/>
                  <a:pt x="2910" y="1518"/>
                </a:cubicBezTo>
                <a:cubicBezTo>
                  <a:pt x="2938" y="1560"/>
                  <a:pt x="2922" y="1546"/>
                  <a:pt x="2952" y="1566"/>
                </a:cubicBezTo>
                <a:cubicBezTo>
                  <a:pt x="2961" y="1592"/>
                  <a:pt x="2972" y="1617"/>
                  <a:pt x="2994" y="1632"/>
                </a:cubicBezTo>
                <a:cubicBezTo>
                  <a:pt x="3010" y="1680"/>
                  <a:pt x="2986" y="1624"/>
                  <a:pt x="3018" y="1656"/>
                </a:cubicBezTo>
                <a:cubicBezTo>
                  <a:pt x="3050" y="1688"/>
                  <a:pt x="2994" y="1664"/>
                  <a:pt x="3042" y="1680"/>
                </a:cubicBezTo>
                <a:cubicBezTo>
                  <a:pt x="3044" y="1686"/>
                  <a:pt x="3043" y="1694"/>
                  <a:pt x="3048" y="1698"/>
                </a:cubicBezTo>
                <a:cubicBezTo>
                  <a:pt x="3065" y="1710"/>
                  <a:pt x="3104" y="1717"/>
                  <a:pt x="3126" y="1722"/>
                </a:cubicBezTo>
                <a:cubicBezTo>
                  <a:pt x="3199" y="1718"/>
                  <a:pt x="3227" y="1731"/>
                  <a:pt x="3276" y="1698"/>
                </a:cubicBezTo>
                <a:cubicBezTo>
                  <a:pt x="3304" y="1656"/>
                  <a:pt x="3288" y="1670"/>
                  <a:pt x="3318" y="1650"/>
                </a:cubicBezTo>
                <a:cubicBezTo>
                  <a:pt x="3334" y="1603"/>
                  <a:pt x="3356" y="1565"/>
                  <a:pt x="3384" y="1524"/>
                </a:cubicBezTo>
                <a:cubicBezTo>
                  <a:pt x="3384" y="1524"/>
                  <a:pt x="3399" y="1479"/>
                  <a:pt x="3402" y="1470"/>
                </a:cubicBezTo>
                <a:cubicBezTo>
                  <a:pt x="3406" y="1458"/>
                  <a:pt x="3414" y="1434"/>
                  <a:pt x="3414" y="1434"/>
                </a:cubicBezTo>
                <a:cubicBezTo>
                  <a:pt x="3423" y="1374"/>
                  <a:pt x="3440" y="1287"/>
                  <a:pt x="3474" y="1236"/>
                </a:cubicBezTo>
                <a:cubicBezTo>
                  <a:pt x="3496" y="1149"/>
                  <a:pt x="3530" y="1070"/>
                  <a:pt x="3552" y="984"/>
                </a:cubicBezTo>
                <a:cubicBezTo>
                  <a:pt x="3556" y="941"/>
                  <a:pt x="3556" y="899"/>
                  <a:pt x="3570" y="858"/>
                </a:cubicBezTo>
                <a:cubicBezTo>
                  <a:pt x="3575" y="803"/>
                  <a:pt x="3578" y="772"/>
                  <a:pt x="3606" y="726"/>
                </a:cubicBezTo>
                <a:cubicBezTo>
                  <a:pt x="3632" y="620"/>
                  <a:pt x="3593" y="506"/>
                  <a:pt x="3642" y="408"/>
                </a:cubicBezTo>
                <a:cubicBezTo>
                  <a:pt x="3651" y="356"/>
                  <a:pt x="3651" y="304"/>
                  <a:pt x="3660" y="252"/>
                </a:cubicBezTo>
                <a:cubicBezTo>
                  <a:pt x="3662" y="196"/>
                  <a:pt x="3662" y="140"/>
                  <a:pt x="3666" y="84"/>
                </a:cubicBezTo>
                <a:cubicBezTo>
                  <a:pt x="3667" y="61"/>
                  <a:pt x="3677" y="40"/>
                  <a:pt x="3684" y="18"/>
                </a:cubicBezTo>
                <a:cubicBezTo>
                  <a:pt x="3686" y="12"/>
                  <a:pt x="3690" y="0"/>
                  <a:pt x="3690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338280" y="20210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898440" y="2124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74720" y="18763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974840" y="24098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365440" y="23907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756040" y="24573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079680" y="27241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5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508440" y="3381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99040" y="3295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17:57:44Z</dcterms:created>
  <dc:creator> Alessandro Sperduti</dc:creator>
  <dc:description/>
  <dc:language>en-US</dc:language>
  <cp:lastModifiedBy> Alessandro Sperduti</cp:lastModifiedBy>
  <dcterms:modified xsi:type="dcterms:W3CDTF">2004-10-20T09:43:14Z</dcterms:modified>
  <cp:revision>289</cp:revision>
  <dc:subject/>
  <dc:title>Diapositiva 1</dc:title>
</cp:coreProperties>
</file>