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8CF-520E-46B8-8710-0C780FC9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0D25-7881-4192-9271-0CFB172C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85A-979B-4A5F-A89B-1D658F4E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766-0160-4105-A980-A2911090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E11-7B55-4B79-BBC7-D44E58E0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8D9C-8737-4F02-A55E-6D5C9606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2F4-B1FA-4B70-83DD-D0D87CD8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A16-0306-47AF-B2B0-EB027AED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D7A-ADD3-4449-BE23-390DF986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05C-A884-4357-B3C4-1B63FC72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7C6-DEEA-41C1-A47B-9DBCD82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EA0-2C06-448D-84FB-895216C9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1974-A4B8-4DA0-80CB-D840663E89E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696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35000" y="144000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64960" y="210492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12760" y="207648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27200" y="205416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61760" y="29415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33360" y="29797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98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102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65040" y="39495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8000" y="3997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=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44640" y="40449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14360" y="5194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61+180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1080" y="5194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52+177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53760" y="519444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724+469=11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69840" y="5194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29+159=7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148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153" name=""/>
            <p:cNvSpPr/>
            <p:nvPr/>
          </p:nvSpPr>
          <p:spPr>
            <a:xfrm>
              <a:off x="6340320" y="428292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80160" y="47829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37040" y="5010120"/>
              <a:ext cx="7956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16600" y="501012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89680" y="5010120"/>
              <a:ext cx="7920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172200" y="434340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3380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00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15880" y="51944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10+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90840" y="49197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46+159=8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89560" y="467532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7080" y="586584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229),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7440" y="586584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560" y="5865840"/>
            <a:ext cx="34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HYA,353),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7440" y="586584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353),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0320" y="586584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360" y="586584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461), (LAG,5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3840" y="5865840"/>
            <a:ext cx="34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404), (AUG,461), (LAG,5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1320" y="5865840"/>
            <a:ext cx="44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404), (AUG,461), (LAG,599), (NEW,6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3480" y="586584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AUG,461), (LAG,599), (NEW,6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9520" y="5865840"/>
            <a:ext cx="448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AUG,461), (LAG,599), (NEW,610), (LAG,62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000" y="5865840"/>
            <a:ext cx="546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AUG,461), (LAG,599), (NEW,610), (LAG,629), (NEW,6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0240" y="5865840"/>
            <a:ext cx="451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LAG,599), (NEW,610), (LAG,629), (NEW,6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3480" y="586584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NEW,610), (LAG,629), (NEW,6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0240" y="5865840"/>
            <a:ext cx="46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NEW,610), (LAG,629), (NEW,641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7720" y="5865840"/>
            <a:ext cx="56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NEW,610), (LAG,629), (NEW,641), (NAN,788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0600" y="5865840"/>
            <a:ext cx="46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LAG,629), (NEW,641), (NAN,788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360" y="5865840"/>
            <a:ext cx="55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KEE,610), (LAG,629), (NEW,641), (NAN,788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4840" y="5865840"/>
            <a:ext cx="65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KEE,610), (LAG,629), (NEW,641), (NAN,788), (NAN,805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7360" y="5865840"/>
            <a:ext cx="56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 (LAG,629), (NEW,641), (NAN,788), (NAN,805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1276200"/>
            <a:ext cx="1316160" cy="552600"/>
          </a:xfrm>
          <a:custGeom>
            <a:avLst/>
            <a:gdLst/>
            <a:ahLst/>
            <a:rect l="l" t="t" r="r" b="b"/>
            <a:pathLst>
              <a:path w="829" h="348">
                <a:moveTo>
                  <a:pt x="804" y="0"/>
                </a:moveTo>
                <a:cubicBezTo>
                  <a:pt x="802" y="42"/>
                  <a:pt x="829" y="196"/>
                  <a:pt x="750" y="222"/>
                </a:cubicBezTo>
                <a:cubicBezTo>
                  <a:pt x="736" y="243"/>
                  <a:pt x="726" y="250"/>
                  <a:pt x="702" y="258"/>
                </a:cubicBezTo>
                <a:cubicBezTo>
                  <a:pt x="683" y="287"/>
                  <a:pt x="697" y="274"/>
                  <a:pt x="654" y="288"/>
                </a:cubicBezTo>
                <a:cubicBezTo>
                  <a:pt x="636" y="294"/>
                  <a:pt x="618" y="310"/>
                  <a:pt x="600" y="318"/>
                </a:cubicBezTo>
                <a:cubicBezTo>
                  <a:pt x="562" y="335"/>
                  <a:pt x="515" y="342"/>
                  <a:pt x="474" y="348"/>
                </a:cubicBezTo>
                <a:cubicBezTo>
                  <a:pt x="344" y="346"/>
                  <a:pt x="214" y="346"/>
                  <a:pt x="84" y="342"/>
                </a:cubicBezTo>
                <a:cubicBezTo>
                  <a:pt x="59" y="341"/>
                  <a:pt x="19" y="337"/>
                  <a:pt x="0" y="3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76480" y="1352520"/>
            <a:ext cx="2181240" cy="1152720"/>
          </a:xfrm>
          <a:custGeom>
            <a:avLst/>
            <a:gdLst/>
            <a:ahLst/>
            <a:rect l="l" t="t" r="r" b="b"/>
            <a:pathLst>
              <a:path w="1374" h="726">
                <a:moveTo>
                  <a:pt x="0" y="252"/>
                </a:moveTo>
                <a:cubicBezTo>
                  <a:pt x="2" y="258"/>
                  <a:pt x="2" y="266"/>
                  <a:pt x="6" y="270"/>
                </a:cubicBezTo>
                <a:cubicBezTo>
                  <a:pt x="16" y="280"/>
                  <a:pt x="42" y="294"/>
                  <a:pt x="42" y="294"/>
                </a:cubicBezTo>
                <a:cubicBezTo>
                  <a:pt x="56" y="316"/>
                  <a:pt x="69" y="316"/>
                  <a:pt x="90" y="330"/>
                </a:cubicBezTo>
                <a:cubicBezTo>
                  <a:pt x="108" y="356"/>
                  <a:pt x="143" y="374"/>
                  <a:pt x="174" y="384"/>
                </a:cubicBezTo>
                <a:cubicBezTo>
                  <a:pt x="178" y="390"/>
                  <a:pt x="180" y="398"/>
                  <a:pt x="186" y="402"/>
                </a:cubicBezTo>
                <a:cubicBezTo>
                  <a:pt x="197" y="409"/>
                  <a:pt x="222" y="414"/>
                  <a:pt x="222" y="414"/>
                </a:cubicBezTo>
                <a:cubicBezTo>
                  <a:pt x="242" y="444"/>
                  <a:pt x="276" y="460"/>
                  <a:pt x="306" y="480"/>
                </a:cubicBezTo>
                <a:cubicBezTo>
                  <a:pt x="318" y="488"/>
                  <a:pt x="342" y="504"/>
                  <a:pt x="342" y="504"/>
                </a:cubicBezTo>
                <a:cubicBezTo>
                  <a:pt x="358" y="528"/>
                  <a:pt x="382" y="535"/>
                  <a:pt x="408" y="552"/>
                </a:cubicBezTo>
                <a:cubicBezTo>
                  <a:pt x="463" y="589"/>
                  <a:pt x="511" y="620"/>
                  <a:pt x="576" y="636"/>
                </a:cubicBezTo>
                <a:cubicBezTo>
                  <a:pt x="604" y="655"/>
                  <a:pt x="634" y="657"/>
                  <a:pt x="666" y="666"/>
                </a:cubicBezTo>
                <a:cubicBezTo>
                  <a:pt x="728" y="683"/>
                  <a:pt x="788" y="699"/>
                  <a:pt x="852" y="708"/>
                </a:cubicBezTo>
                <a:cubicBezTo>
                  <a:pt x="883" y="718"/>
                  <a:pt x="916" y="721"/>
                  <a:pt x="948" y="726"/>
                </a:cubicBezTo>
                <a:cubicBezTo>
                  <a:pt x="1101" y="720"/>
                  <a:pt x="1079" y="724"/>
                  <a:pt x="1182" y="690"/>
                </a:cubicBezTo>
                <a:cubicBezTo>
                  <a:pt x="1188" y="684"/>
                  <a:pt x="1193" y="677"/>
                  <a:pt x="1200" y="672"/>
                </a:cubicBezTo>
                <a:cubicBezTo>
                  <a:pt x="1211" y="663"/>
                  <a:pt x="1236" y="648"/>
                  <a:pt x="1236" y="648"/>
                </a:cubicBezTo>
                <a:cubicBezTo>
                  <a:pt x="1251" y="626"/>
                  <a:pt x="1284" y="606"/>
                  <a:pt x="1308" y="594"/>
                </a:cubicBezTo>
                <a:cubicBezTo>
                  <a:pt x="1340" y="546"/>
                  <a:pt x="1298" y="604"/>
                  <a:pt x="1338" y="564"/>
                </a:cubicBezTo>
                <a:cubicBezTo>
                  <a:pt x="1352" y="550"/>
                  <a:pt x="1357" y="527"/>
                  <a:pt x="1368" y="510"/>
                </a:cubicBezTo>
                <a:cubicBezTo>
                  <a:pt x="1370" y="500"/>
                  <a:pt x="1374" y="490"/>
                  <a:pt x="1374" y="480"/>
                </a:cubicBezTo>
                <a:cubicBezTo>
                  <a:pt x="1374" y="394"/>
                  <a:pt x="1372" y="308"/>
                  <a:pt x="1368" y="222"/>
                </a:cubicBezTo>
                <a:cubicBezTo>
                  <a:pt x="1366" y="176"/>
                  <a:pt x="1324" y="34"/>
                  <a:pt x="12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95440" y="1114560"/>
            <a:ext cx="3314520" cy="1503360"/>
          </a:xfrm>
          <a:custGeom>
            <a:avLst/>
            <a:gdLst/>
            <a:ahLst/>
            <a:rect l="l" t="t" r="r" b="b"/>
            <a:pathLst>
              <a:path w="2340" h="1079">
                <a:moveTo>
                  <a:pt x="0" y="438"/>
                </a:moveTo>
                <a:cubicBezTo>
                  <a:pt x="28" y="480"/>
                  <a:pt x="12" y="466"/>
                  <a:pt x="42" y="486"/>
                </a:cubicBezTo>
                <a:cubicBezTo>
                  <a:pt x="76" y="538"/>
                  <a:pt x="31" y="477"/>
                  <a:pt x="72" y="510"/>
                </a:cubicBezTo>
                <a:cubicBezTo>
                  <a:pt x="78" y="515"/>
                  <a:pt x="79" y="523"/>
                  <a:pt x="84" y="528"/>
                </a:cubicBezTo>
                <a:cubicBezTo>
                  <a:pt x="89" y="533"/>
                  <a:pt x="97" y="535"/>
                  <a:pt x="102" y="540"/>
                </a:cubicBezTo>
                <a:cubicBezTo>
                  <a:pt x="133" y="567"/>
                  <a:pt x="152" y="601"/>
                  <a:pt x="186" y="624"/>
                </a:cubicBezTo>
                <a:cubicBezTo>
                  <a:pt x="201" y="669"/>
                  <a:pt x="179" y="615"/>
                  <a:pt x="210" y="654"/>
                </a:cubicBezTo>
                <a:cubicBezTo>
                  <a:pt x="233" y="683"/>
                  <a:pt x="195" y="665"/>
                  <a:pt x="234" y="678"/>
                </a:cubicBezTo>
                <a:cubicBezTo>
                  <a:pt x="236" y="684"/>
                  <a:pt x="236" y="691"/>
                  <a:pt x="240" y="696"/>
                </a:cubicBezTo>
                <a:cubicBezTo>
                  <a:pt x="245" y="702"/>
                  <a:pt x="254" y="702"/>
                  <a:pt x="258" y="708"/>
                </a:cubicBezTo>
                <a:cubicBezTo>
                  <a:pt x="294" y="765"/>
                  <a:pt x="247" y="729"/>
                  <a:pt x="288" y="756"/>
                </a:cubicBezTo>
                <a:cubicBezTo>
                  <a:pt x="300" y="791"/>
                  <a:pt x="310" y="819"/>
                  <a:pt x="342" y="840"/>
                </a:cubicBezTo>
                <a:cubicBezTo>
                  <a:pt x="344" y="846"/>
                  <a:pt x="344" y="854"/>
                  <a:pt x="348" y="858"/>
                </a:cubicBezTo>
                <a:cubicBezTo>
                  <a:pt x="358" y="868"/>
                  <a:pt x="384" y="882"/>
                  <a:pt x="384" y="882"/>
                </a:cubicBezTo>
                <a:cubicBezTo>
                  <a:pt x="399" y="905"/>
                  <a:pt x="429" y="921"/>
                  <a:pt x="456" y="930"/>
                </a:cubicBezTo>
                <a:cubicBezTo>
                  <a:pt x="484" y="973"/>
                  <a:pt x="586" y="993"/>
                  <a:pt x="636" y="1002"/>
                </a:cubicBezTo>
                <a:cubicBezTo>
                  <a:pt x="796" y="1031"/>
                  <a:pt x="952" y="1050"/>
                  <a:pt x="1116" y="1056"/>
                </a:cubicBezTo>
                <a:cubicBezTo>
                  <a:pt x="1302" y="1079"/>
                  <a:pt x="1485" y="1065"/>
                  <a:pt x="1674" y="1062"/>
                </a:cubicBezTo>
                <a:cubicBezTo>
                  <a:pt x="1764" y="1059"/>
                  <a:pt x="1841" y="1059"/>
                  <a:pt x="1926" y="1038"/>
                </a:cubicBezTo>
                <a:cubicBezTo>
                  <a:pt x="1970" y="1027"/>
                  <a:pt x="2007" y="1004"/>
                  <a:pt x="2052" y="996"/>
                </a:cubicBezTo>
                <a:cubicBezTo>
                  <a:pt x="2068" y="985"/>
                  <a:pt x="2106" y="972"/>
                  <a:pt x="2106" y="972"/>
                </a:cubicBezTo>
                <a:cubicBezTo>
                  <a:pt x="2128" y="950"/>
                  <a:pt x="2154" y="937"/>
                  <a:pt x="2184" y="930"/>
                </a:cubicBezTo>
                <a:cubicBezTo>
                  <a:pt x="2203" y="911"/>
                  <a:pt x="2226" y="900"/>
                  <a:pt x="2244" y="882"/>
                </a:cubicBezTo>
                <a:cubicBezTo>
                  <a:pt x="2256" y="870"/>
                  <a:pt x="2264" y="854"/>
                  <a:pt x="2274" y="840"/>
                </a:cubicBezTo>
                <a:cubicBezTo>
                  <a:pt x="2282" y="815"/>
                  <a:pt x="2291" y="799"/>
                  <a:pt x="2310" y="780"/>
                </a:cubicBezTo>
                <a:cubicBezTo>
                  <a:pt x="2316" y="762"/>
                  <a:pt x="2322" y="744"/>
                  <a:pt x="2328" y="726"/>
                </a:cubicBezTo>
                <a:cubicBezTo>
                  <a:pt x="2332" y="714"/>
                  <a:pt x="2340" y="690"/>
                  <a:pt x="2340" y="690"/>
                </a:cubicBezTo>
                <a:cubicBezTo>
                  <a:pt x="2338" y="554"/>
                  <a:pt x="2338" y="418"/>
                  <a:pt x="2334" y="282"/>
                </a:cubicBezTo>
                <a:cubicBezTo>
                  <a:pt x="2333" y="231"/>
                  <a:pt x="2304" y="148"/>
                  <a:pt x="2262" y="120"/>
                </a:cubicBezTo>
                <a:cubicBezTo>
                  <a:pt x="2248" y="98"/>
                  <a:pt x="2228" y="68"/>
                  <a:pt x="2208" y="54"/>
                </a:cubicBezTo>
                <a:cubicBezTo>
                  <a:pt x="2201" y="34"/>
                  <a:pt x="2178" y="0"/>
                  <a:pt x="2178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52520" y="1666800"/>
            <a:ext cx="4029120" cy="1733760"/>
          </a:xfrm>
          <a:custGeom>
            <a:avLst/>
            <a:gdLst/>
            <a:ahLst/>
            <a:rect l="l" t="t" r="r" b="b"/>
            <a:pathLst>
              <a:path w="2538" h="1092">
                <a:moveTo>
                  <a:pt x="0" y="150"/>
                </a:moveTo>
                <a:cubicBezTo>
                  <a:pt x="17" y="200"/>
                  <a:pt x="30" y="232"/>
                  <a:pt x="60" y="276"/>
                </a:cubicBezTo>
                <a:cubicBezTo>
                  <a:pt x="68" y="288"/>
                  <a:pt x="72" y="304"/>
                  <a:pt x="84" y="312"/>
                </a:cubicBezTo>
                <a:cubicBezTo>
                  <a:pt x="112" y="330"/>
                  <a:pt x="101" y="335"/>
                  <a:pt x="138" y="360"/>
                </a:cubicBezTo>
                <a:cubicBezTo>
                  <a:pt x="150" y="368"/>
                  <a:pt x="174" y="384"/>
                  <a:pt x="174" y="384"/>
                </a:cubicBezTo>
                <a:cubicBezTo>
                  <a:pt x="195" y="416"/>
                  <a:pt x="251" y="468"/>
                  <a:pt x="288" y="480"/>
                </a:cubicBezTo>
                <a:cubicBezTo>
                  <a:pt x="317" y="509"/>
                  <a:pt x="341" y="522"/>
                  <a:pt x="378" y="534"/>
                </a:cubicBezTo>
                <a:cubicBezTo>
                  <a:pt x="396" y="540"/>
                  <a:pt x="414" y="556"/>
                  <a:pt x="432" y="564"/>
                </a:cubicBezTo>
                <a:cubicBezTo>
                  <a:pt x="527" y="606"/>
                  <a:pt x="637" y="617"/>
                  <a:pt x="738" y="630"/>
                </a:cubicBezTo>
                <a:cubicBezTo>
                  <a:pt x="843" y="643"/>
                  <a:pt x="945" y="675"/>
                  <a:pt x="1050" y="690"/>
                </a:cubicBezTo>
                <a:cubicBezTo>
                  <a:pt x="1109" y="710"/>
                  <a:pt x="1173" y="720"/>
                  <a:pt x="1230" y="744"/>
                </a:cubicBezTo>
                <a:cubicBezTo>
                  <a:pt x="1238" y="748"/>
                  <a:pt x="1246" y="752"/>
                  <a:pt x="1254" y="756"/>
                </a:cubicBezTo>
                <a:cubicBezTo>
                  <a:pt x="1260" y="760"/>
                  <a:pt x="1265" y="765"/>
                  <a:pt x="1272" y="768"/>
                </a:cubicBezTo>
                <a:cubicBezTo>
                  <a:pt x="1294" y="778"/>
                  <a:pt x="1321" y="784"/>
                  <a:pt x="1344" y="792"/>
                </a:cubicBezTo>
                <a:cubicBezTo>
                  <a:pt x="1389" y="807"/>
                  <a:pt x="1432" y="823"/>
                  <a:pt x="1476" y="840"/>
                </a:cubicBezTo>
                <a:cubicBezTo>
                  <a:pt x="1488" y="845"/>
                  <a:pt x="1501" y="845"/>
                  <a:pt x="1512" y="852"/>
                </a:cubicBezTo>
                <a:cubicBezTo>
                  <a:pt x="1535" y="868"/>
                  <a:pt x="1592" y="894"/>
                  <a:pt x="1620" y="906"/>
                </a:cubicBezTo>
                <a:cubicBezTo>
                  <a:pt x="1632" y="911"/>
                  <a:pt x="1645" y="911"/>
                  <a:pt x="1656" y="918"/>
                </a:cubicBezTo>
                <a:cubicBezTo>
                  <a:pt x="1797" y="1012"/>
                  <a:pt x="1964" y="1059"/>
                  <a:pt x="2130" y="1092"/>
                </a:cubicBezTo>
                <a:cubicBezTo>
                  <a:pt x="2172" y="1090"/>
                  <a:pt x="2214" y="1091"/>
                  <a:pt x="2256" y="1086"/>
                </a:cubicBezTo>
                <a:cubicBezTo>
                  <a:pt x="2269" y="1085"/>
                  <a:pt x="2292" y="1074"/>
                  <a:pt x="2292" y="1074"/>
                </a:cubicBezTo>
                <a:cubicBezTo>
                  <a:pt x="2296" y="1068"/>
                  <a:pt x="2298" y="1060"/>
                  <a:pt x="2304" y="1056"/>
                </a:cubicBezTo>
                <a:cubicBezTo>
                  <a:pt x="2315" y="1049"/>
                  <a:pt x="2340" y="1044"/>
                  <a:pt x="2340" y="1044"/>
                </a:cubicBezTo>
                <a:cubicBezTo>
                  <a:pt x="2346" y="1038"/>
                  <a:pt x="2351" y="1031"/>
                  <a:pt x="2358" y="1026"/>
                </a:cubicBezTo>
                <a:cubicBezTo>
                  <a:pt x="2363" y="1022"/>
                  <a:pt x="2371" y="1024"/>
                  <a:pt x="2376" y="1020"/>
                </a:cubicBezTo>
                <a:cubicBezTo>
                  <a:pt x="2382" y="1015"/>
                  <a:pt x="2383" y="1007"/>
                  <a:pt x="2388" y="1002"/>
                </a:cubicBezTo>
                <a:cubicBezTo>
                  <a:pt x="2408" y="982"/>
                  <a:pt x="2448" y="940"/>
                  <a:pt x="2472" y="924"/>
                </a:cubicBezTo>
                <a:cubicBezTo>
                  <a:pt x="2483" y="892"/>
                  <a:pt x="2503" y="866"/>
                  <a:pt x="2514" y="834"/>
                </a:cubicBezTo>
                <a:cubicBezTo>
                  <a:pt x="2522" y="772"/>
                  <a:pt x="2526" y="709"/>
                  <a:pt x="2538" y="648"/>
                </a:cubicBezTo>
                <a:cubicBezTo>
                  <a:pt x="2536" y="526"/>
                  <a:pt x="2536" y="404"/>
                  <a:pt x="2532" y="282"/>
                </a:cubicBezTo>
                <a:cubicBezTo>
                  <a:pt x="2531" y="236"/>
                  <a:pt x="2498" y="190"/>
                  <a:pt x="2496" y="144"/>
                </a:cubicBezTo>
                <a:cubicBezTo>
                  <a:pt x="2494" y="96"/>
                  <a:pt x="2496" y="48"/>
                  <a:pt x="2496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7480" y="1600200"/>
            <a:ext cx="4483080" cy="2800440"/>
          </a:xfrm>
          <a:custGeom>
            <a:avLst/>
            <a:gdLst/>
            <a:ahLst/>
            <a:rect l="l" t="t" r="r" b="b"/>
            <a:pathLst>
              <a:path w="2824" h="1764">
                <a:moveTo>
                  <a:pt x="0" y="258"/>
                </a:moveTo>
                <a:cubicBezTo>
                  <a:pt x="9" y="284"/>
                  <a:pt x="20" y="302"/>
                  <a:pt x="36" y="324"/>
                </a:cubicBezTo>
                <a:cubicBezTo>
                  <a:pt x="44" y="348"/>
                  <a:pt x="51" y="358"/>
                  <a:pt x="72" y="372"/>
                </a:cubicBezTo>
                <a:cubicBezTo>
                  <a:pt x="87" y="417"/>
                  <a:pt x="65" y="363"/>
                  <a:pt x="96" y="402"/>
                </a:cubicBezTo>
                <a:cubicBezTo>
                  <a:pt x="129" y="443"/>
                  <a:pt x="68" y="398"/>
                  <a:pt x="120" y="432"/>
                </a:cubicBezTo>
                <a:cubicBezTo>
                  <a:pt x="134" y="473"/>
                  <a:pt x="115" y="429"/>
                  <a:pt x="144" y="462"/>
                </a:cubicBezTo>
                <a:cubicBezTo>
                  <a:pt x="169" y="491"/>
                  <a:pt x="178" y="525"/>
                  <a:pt x="210" y="546"/>
                </a:cubicBezTo>
                <a:cubicBezTo>
                  <a:pt x="215" y="562"/>
                  <a:pt x="233" y="582"/>
                  <a:pt x="246" y="594"/>
                </a:cubicBezTo>
                <a:cubicBezTo>
                  <a:pt x="257" y="603"/>
                  <a:pt x="282" y="618"/>
                  <a:pt x="282" y="618"/>
                </a:cubicBezTo>
                <a:cubicBezTo>
                  <a:pt x="303" y="650"/>
                  <a:pt x="360" y="654"/>
                  <a:pt x="396" y="666"/>
                </a:cubicBezTo>
                <a:cubicBezTo>
                  <a:pt x="485" y="696"/>
                  <a:pt x="573" y="728"/>
                  <a:pt x="666" y="738"/>
                </a:cubicBezTo>
                <a:cubicBezTo>
                  <a:pt x="722" y="757"/>
                  <a:pt x="794" y="757"/>
                  <a:pt x="852" y="762"/>
                </a:cubicBezTo>
                <a:cubicBezTo>
                  <a:pt x="928" y="781"/>
                  <a:pt x="1009" y="789"/>
                  <a:pt x="1086" y="804"/>
                </a:cubicBezTo>
                <a:cubicBezTo>
                  <a:pt x="1112" y="809"/>
                  <a:pt x="1154" y="813"/>
                  <a:pt x="1176" y="828"/>
                </a:cubicBezTo>
                <a:cubicBezTo>
                  <a:pt x="1188" y="836"/>
                  <a:pt x="1212" y="852"/>
                  <a:pt x="1212" y="852"/>
                </a:cubicBezTo>
                <a:cubicBezTo>
                  <a:pt x="1232" y="882"/>
                  <a:pt x="1218" y="866"/>
                  <a:pt x="1260" y="894"/>
                </a:cubicBezTo>
                <a:cubicBezTo>
                  <a:pt x="1266" y="898"/>
                  <a:pt x="1278" y="906"/>
                  <a:pt x="1278" y="906"/>
                </a:cubicBezTo>
                <a:cubicBezTo>
                  <a:pt x="1292" y="928"/>
                  <a:pt x="1305" y="928"/>
                  <a:pt x="1326" y="942"/>
                </a:cubicBezTo>
                <a:cubicBezTo>
                  <a:pt x="1341" y="965"/>
                  <a:pt x="1360" y="993"/>
                  <a:pt x="1386" y="1002"/>
                </a:cubicBezTo>
                <a:cubicBezTo>
                  <a:pt x="1388" y="1008"/>
                  <a:pt x="1388" y="1016"/>
                  <a:pt x="1392" y="1020"/>
                </a:cubicBezTo>
                <a:cubicBezTo>
                  <a:pt x="1402" y="1030"/>
                  <a:pt x="1428" y="1044"/>
                  <a:pt x="1428" y="1044"/>
                </a:cubicBezTo>
                <a:cubicBezTo>
                  <a:pt x="1437" y="1071"/>
                  <a:pt x="1464" y="1087"/>
                  <a:pt x="1482" y="1110"/>
                </a:cubicBezTo>
                <a:cubicBezTo>
                  <a:pt x="1522" y="1162"/>
                  <a:pt x="1556" y="1220"/>
                  <a:pt x="1596" y="1272"/>
                </a:cubicBezTo>
                <a:cubicBezTo>
                  <a:pt x="1623" y="1307"/>
                  <a:pt x="1635" y="1352"/>
                  <a:pt x="1662" y="1386"/>
                </a:cubicBezTo>
                <a:cubicBezTo>
                  <a:pt x="1673" y="1399"/>
                  <a:pt x="1698" y="1422"/>
                  <a:pt x="1698" y="1422"/>
                </a:cubicBezTo>
                <a:cubicBezTo>
                  <a:pt x="1714" y="1470"/>
                  <a:pt x="1690" y="1414"/>
                  <a:pt x="1722" y="1446"/>
                </a:cubicBezTo>
                <a:cubicBezTo>
                  <a:pt x="1726" y="1450"/>
                  <a:pt x="1724" y="1459"/>
                  <a:pt x="1728" y="1464"/>
                </a:cubicBezTo>
                <a:cubicBezTo>
                  <a:pt x="1733" y="1470"/>
                  <a:pt x="1740" y="1472"/>
                  <a:pt x="1746" y="1476"/>
                </a:cubicBezTo>
                <a:cubicBezTo>
                  <a:pt x="1774" y="1518"/>
                  <a:pt x="1758" y="1504"/>
                  <a:pt x="1788" y="1524"/>
                </a:cubicBezTo>
                <a:cubicBezTo>
                  <a:pt x="1792" y="1530"/>
                  <a:pt x="1795" y="1537"/>
                  <a:pt x="1800" y="1542"/>
                </a:cubicBezTo>
                <a:cubicBezTo>
                  <a:pt x="1811" y="1551"/>
                  <a:pt x="1836" y="1566"/>
                  <a:pt x="1836" y="1566"/>
                </a:cubicBezTo>
                <a:cubicBezTo>
                  <a:pt x="1840" y="1572"/>
                  <a:pt x="1843" y="1579"/>
                  <a:pt x="1848" y="1584"/>
                </a:cubicBezTo>
                <a:cubicBezTo>
                  <a:pt x="1853" y="1589"/>
                  <a:pt x="1861" y="1590"/>
                  <a:pt x="1866" y="1596"/>
                </a:cubicBezTo>
                <a:cubicBezTo>
                  <a:pt x="1889" y="1625"/>
                  <a:pt x="1851" y="1607"/>
                  <a:pt x="1890" y="1620"/>
                </a:cubicBezTo>
                <a:cubicBezTo>
                  <a:pt x="1898" y="1644"/>
                  <a:pt x="1931" y="1662"/>
                  <a:pt x="1956" y="1668"/>
                </a:cubicBezTo>
                <a:cubicBezTo>
                  <a:pt x="1960" y="1674"/>
                  <a:pt x="1962" y="1682"/>
                  <a:pt x="1968" y="1686"/>
                </a:cubicBezTo>
                <a:cubicBezTo>
                  <a:pt x="1979" y="1693"/>
                  <a:pt x="1992" y="1694"/>
                  <a:pt x="2004" y="1698"/>
                </a:cubicBezTo>
                <a:cubicBezTo>
                  <a:pt x="2026" y="1705"/>
                  <a:pt x="2058" y="1728"/>
                  <a:pt x="2076" y="1740"/>
                </a:cubicBezTo>
                <a:cubicBezTo>
                  <a:pt x="2092" y="1751"/>
                  <a:pt x="2112" y="1752"/>
                  <a:pt x="2130" y="1758"/>
                </a:cubicBezTo>
                <a:cubicBezTo>
                  <a:pt x="2136" y="1760"/>
                  <a:pt x="2148" y="1764"/>
                  <a:pt x="2148" y="1764"/>
                </a:cubicBezTo>
                <a:cubicBezTo>
                  <a:pt x="2242" y="1761"/>
                  <a:pt x="2323" y="1762"/>
                  <a:pt x="2412" y="1740"/>
                </a:cubicBezTo>
                <a:cubicBezTo>
                  <a:pt x="2444" y="1732"/>
                  <a:pt x="2460" y="1710"/>
                  <a:pt x="2484" y="1692"/>
                </a:cubicBezTo>
                <a:cubicBezTo>
                  <a:pt x="2495" y="1683"/>
                  <a:pt x="2520" y="1668"/>
                  <a:pt x="2520" y="1668"/>
                </a:cubicBezTo>
                <a:cubicBezTo>
                  <a:pt x="2535" y="1646"/>
                  <a:pt x="2558" y="1623"/>
                  <a:pt x="2580" y="1608"/>
                </a:cubicBezTo>
                <a:cubicBezTo>
                  <a:pt x="2595" y="1563"/>
                  <a:pt x="2573" y="1617"/>
                  <a:pt x="2604" y="1578"/>
                </a:cubicBezTo>
                <a:cubicBezTo>
                  <a:pt x="2608" y="1573"/>
                  <a:pt x="2606" y="1565"/>
                  <a:pt x="2610" y="1560"/>
                </a:cubicBezTo>
                <a:cubicBezTo>
                  <a:pt x="2615" y="1553"/>
                  <a:pt x="2622" y="1548"/>
                  <a:pt x="2628" y="1542"/>
                </a:cubicBezTo>
                <a:cubicBezTo>
                  <a:pt x="2643" y="1496"/>
                  <a:pt x="2670" y="1452"/>
                  <a:pt x="2694" y="1410"/>
                </a:cubicBezTo>
                <a:cubicBezTo>
                  <a:pt x="2705" y="1391"/>
                  <a:pt x="2729" y="1371"/>
                  <a:pt x="2736" y="1350"/>
                </a:cubicBezTo>
                <a:cubicBezTo>
                  <a:pt x="2744" y="1325"/>
                  <a:pt x="2738" y="1337"/>
                  <a:pt x="2754" y="1314"/>
                </a:cubicBezTo>
                <a:cubicBezTo>
                  <a:pt x="2824" y="891"/>
                  <a:pt x="2769" y="1011"/>
                  <a:pt x="2760" y="108"/>
                </a:cubicBezTo>
                <a:cubicBezTo>
                  <a:pt x="2760" y="84"/>
                  <a:pt x="2747" y="40"/>
                  <a:pt x="2736" y="18"/>
                </a:cubicBezTo>
                <a:cubicBezTo>
                  <a:pt x="2733" y="12"/>
                  <a:pt x="2724" y="0"/>
                  <a:pt x="2724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19160" y="1685880"/>
            <a:ext cx="5016600" cy="2949480"/>
          </a:xfrm>
          <a:custGeom>
            <a:avLst/>
            <a:gdLst/>
            <a:ahLst/>
            <a:rect l="l" t="t" r="r" b="b"/>
            <a:pathLst>
              <a:path w="3160" h="1858">
                <a:moveTo>
                  <a:pt x="0" y="240"/>
                </a:moveTo>
                <a:cubicBezTo>
                  <a:pt x="43" y="254"/>
                  <a:pt x="64" y="287"/>
                  <a:pt x="102" y="306"/>
                </a:cubicBezTo>
                <a:cubicBezTo>
                  <a:pt x="106" y="312"/>
                  <a:pt x="109" y="319"/>
                  <a:pt x="114" y="324"/>
                </a:cubicBezTo>
                <a:cubicBezTo>
                  <a:pt x="125" y="333"/>
                  <a:pt x="150" y="348"/>
                  <a:pt x="150" y="348"/>
                </a:cubicBezTo>
                <a:cubicBezTo>
                  <a:pt x="178" y="389"/>
                  <a:pt x="160" y="379"/>
                  <a:pt x="192" y="390"/>
                </a:cubicBezTo>
                <a:cubicBezTo>
                  <a:pt x="204" y="427"/>
                  <a:pt x="231" y="470"/>
                  <a:pt x="264" y="492"/>
                </a:cubicBezTo>
                <a:cubicBezTo>
                  <a:pt x="271" y="514"/>
                  <a:pt x="321" y="585"/>
                  <a:pt x="336" y="600"/>
                </a:cubicBezTo>
                <a:cubicBezTo>
                  <a:pt x="349" y="613"/>
                  <a:pt x="358" y="619"/>
                  <a:pt x="366" y="636"/>
                </a:cubicBezTo>
                <a:cubicBezTo>
                  <a:pt x="380" y="664"/>
                  <a:pt x="394" y="703"/>
                  <a:pt x="420" y="720"/>
                </a:cubicBezTo>
                <a:cubicBezTo>
                  <a:pt x="428" y="744"/>
                  <a:pt x="435" y="754"/>
                  <a:pt x="456" y="768"/>
                </a:cubicBezTo>
                <a:cubicBezTo>
                  <a:pt x="484" y="810"/>
                  <a:pt x="468" y="796"/>
                  <a:pt x="498" y="816"/>
                </a:cubicBezTo>
                <a:cubicBezTo>
                  <a:pt x="514" y="839"/>
                  <a:pt x="553" y="878"/>
                  <a:pt x="576" y="894"/>
                </a:cubicBezTo>
                <a:cubicBezTo>
                  <a:pt x="580" y="900"/>
                  <a:pt x="583" y="907"/>
                  <a:pt x="588" y="912"/>
                </a:cubicBezTo>
                <a:cubicBezTo>
                  <a:pt x="599" y="921"/>
                  <a:pt x="624" y="936"/>
                  <a:pt x="624" y="936"/>
                </a:cubicBezTo>
                <a:cubicBezTo>
                  <a:pt x="633" y="964"/>
                  <a:pt x="659" y="964"/>
                  <a:pt x="684" y="978"/>
                </a:cubicBezTo>
                <a:cubicBezTo>
                  <a:pt x="722" y="999"/>
                  <a:pt x="755" y="1027"/>
                  <a:pt x="798" y="1038"/>
                </a:cubicBezTo>
                <a:cubicBezTo>
                  <a:pt x="868" y="1084"/>
                  <a:pt x="946" y="1106"/>
                  <a:pt x="1026" y="1128"/>
                </a:cubicBezTo>
                <a:cubicBezTo>
                  <a:pt x="1087" y="1145"/>
                  <a:pt x="1143" y="1167"/>
                  <a:pt x="1206" y="1176"/>
                </a:cubicBezTo>
                <a:cubicBezTo>
                  <a:pt x="1309" y="1210"/>
                  <a:pt x="1416" y="1238"/>
                  <a:pt x="1524" y="1248"/>
                </a:cubicBezTo>
                <a:cubicBezTo>
                  <a:pt x="1556" y="1259"/>
                  <a:pt x="1588" y="1267"/>
                  <a:pt x="1620" y="1278"/>
                </a:cubicBezTo>
                <a:cubicBezTo>
                  <a:pt x="1634" y="1283"/>
                  <a:pt x="1644" y="1294"/>
                  <a:pt x="1656" y="1302"/>
                </a:cubicBezTo>
                <a:cubicBezTo>
                  <a:pt x="1662" y="1306"/>
                  <a:pt x="1674" y="1314"/>
                  <a:pt x="1674" y="1314"/>
                </a:cubicBezTo>
                <a:cubicBezTo>
                  <a:pt x="1678" y="1320"/>
                  <a:pt x="1680" y="1327"/>
                  <a:pt x="1686" y="1332"/>
                </a:cubicBezTo>
                <a:cubicBezTo>
                  <a:pt x="1691" y="1336"/>
                  <a:pt x="1700" y="1334"/>
                  <a:pt x="1704" y="1338"/>
                </a:cubicBezTo>
                <a:cubicBezTo>
                  <a:pt x="1774" y="1408"/>
                  <a:pt x="1695" y="1352"/>
                  <a:pt x="1746" y="1386"/>
                </a:cubicBezTo>
                <a:cubicBezTo>
                  <a:pt x="1759" y="1425"/>
                  <a:pt x="1741" y="1387"/>
                  <a:pt x="1770" y="1410"/>
                </a:cubicBezTo>
                <a:cubicBezTo>
                  <a:pt x="1809" y="1441"/>
                  <a:pt x="1755" y="1419"/>
                  <a:pt x="1800" y="1434"/>
                </a:cubicBezTo>
                <a:cubicBezTo>
                  <a:pt x="1823" y="1469"/>
                  <a:pt x="1836" y="1512"/>
                  <a:pt x="1872" y="1536"/>
                </a:cubicBezTo>
                <a:cubicBezTo>
                  <a:pt x="1876" y="1542"/>
                  <a:pt x="1878" y="1549"/>
                  <a:pt x="1884" y="1554"/>
                </a:cubicBezTo>
                <a:cubicBezTo>
                  <a:pt x="1889" y="1558"/>
                  <a:pt x="1898" y="1556"/>
                  <a:pt x="1902" y="1560"/>
                </a:cubicBezTo>
                <a:cubicBezTo>
                  <a:pt x="1906" y="1564"/>
                  <a:pt x="1904" y="1574"/>
                  <a:pt x="1908" y="1578"/>
                </a:cubicBezTo>
                <a:cubicBezTo>
                  <a:pt x="1912" y="1582"/>
                  <a:pt x="1920" y="1581"/>
                  <a:pt x="1926" y="1584"/>
                </a:cubicBezTo>
                <a:cubicBezTo>
                  <a:pt x="1939" y="1591"/>
                  <a:pt x="1962" y="1608"/>
                  <a:pt x="1962" y="1608"/>
                </a:cubicBezTo>
                <a:cubicBezTo>
                  <a:pt x="1983" y="1639"/>
                  <a:pt x="2014" y="1660"/>
                  <a:pt x="2040" y="1686"/>
                </a:cubicBezTo>
                <a:cubicBezTo>
                  <a:pt x="2053" y="1725"/>
                  <a:pt x="2035" y="1687"/>
                  <a:pt x="2064" y="1710"/>
                </a:cubicBezTo>
                <a:cubicBezTo>
                  <a:pt x="2103" y="1741"/>
                  <a:pt x="2049" y="1719"/>
                  <a:pt x="2094" y="1734"/>
                </a:cubicBezTo>
                <a:cubicBezTo>
                  <a:pt x="2138" y="1778"/>
                  <a:pt x="2206" y="1793"/>
                  <a:pt x="2262" y="1818"/>
                </a:cubicBezTo>
                <a:cubicBezTo>
                  <a:pt x="2291" y="1831"/>
                  <a:pt x="2295" y="1828"/>
                  <a:pt x="2322" y="1836"/>
                </a:cubicBezTo>
                <a:cubicBezTo>
                  <a:pt x="2334" y="1840"/>
                  <a:pt x="2358" y="1848"/>
                  <a:pt x="2358" y="1848"/>
                </a:cubicBezTo>
                <a:cubicBezTo>
                  <a:pt x="2639" y="1841"/>
                  <a:pt x="2531" y="1858"/>
                  <a:pt x="2670" y="1812"/>
                </a:cubicBezTo>
                <a:cubicBezTo>
                  <a:pt x="2688" y="1794"/>
                  <a:pt x="2703" y="1790"/>
                  <a:pt x="2724" y="1776"/>
                </a:cubicBezTo>
                <a:cubicBezTo>
                  <a:pt x="2751" y="1735"/>
                  <a:pt x="2792" y="1732"/>
                  <a:pt x="2826" y="1704"/>
                </a:cubicBezTo>
                <a:cubicBezTo>
                  <a:pt x="2845" y="1688"/>
                  <a:pt x="2857" y="1667"/>
                  <a:pt x="2874" y="1650"/>
                </a:cubicBezTo>
                <a:cubicBezTo>
                  <a:pt x="2886" y="1615"/>
                  <a:pt x="2871" y="1647"/>
                  <a:pt x="2898" y="1620"/>
                </a:cubicBezTo>
                <a:cubicBezTo>
                  <a:pt x="2911" y="1607"/>
                  <a:pt x="2932" y="1559"/>
                  <a:pt x="2940" y="1542"/>
                </a:cubicBezTo>
                <a:cubicBezTo>
                  <a:pt x="2969" y="1476"/>
                  <a:pt x="2965" y="1397"/>
                  <a:pt x="3018" y="1344"/>
                </a:cubicBezTo>
                <a:cubicBezTo>
                  <a:pt x="3027" y="1317"/>
                  <a:pt x="3050" y="1296"/>
                  <a:pt x="3066" y="1272"/>
                </a:cubicBezTo>
                <a:cubicBezTo>
                  <a:pt x="3079" y="1252"/>
                  <a:pt x="3085" y="1212"/>
                  <a:pt x="3090" y="1188"/>
                </a:cubicBezTo>
                <a:cubicBezTo>
                  <a:pt x="3094" y="1114"/>
                  <a:pt x="3090" y="1032"/>
                  <a:pt x="3114" y="960"/>
                </a:cubicBezTo>
                <a:cubicBezTo>
                  <a:pt x="3160" y="638"/>
                  <a:pt x="3132" y="357"/>
                  <a:pt x="313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14360" y="1933560"/>
            <a:ext cx="5019840" cy="2800440"/>
          </a:xfrm>
          <a:custGeom>
            <a:avLst/>
            <a:gdLst/>
            <a:ahLst/>
            <a:rect l="l" t="t" r="r" b="b"/>
            <a:pathLst>
              <a:path w="3162" h="1764">
                <a:moveTo>
                  <a:pt x="0" y="744"/>
                </a:moveTo>
                <a:cubicBezTo>
                  <a:pt x="20" y="758"/>
                  <a:pt x="40" y="772"/>
                  <a:pt x="60" y="786"/>
                </a:cubicBezTo>
                <a:cubicBezTo>
                  <a:pt x="86" y="825"/>
                  <a:pt x="146" y="849"/>
                  <a:pt x="186" y="876"/>
                </a:cubicBezTo>
                <a:cubicBezTo>
                  <a:pt x="198" y="884"/>
                  <a:pt x="210" y="892"/>
                  <a:pt x="222" y="900"/>
                </a:cubicBezTo>
                <a:cubicBezTo>
                  <a:pt x="228" y="904"/>
                  <a:pt x="240" y="912"/>
                  <a:pt x="240" y="912"/>
                </a:cubicBezTo>
                <a:cubicBezTo>
                  <a:pt x="251" y="946"/>
                  <a:pt x="313" y="996"/>
                  <a:pt x="348" y="1008"/>
                </a:cubicBezTo>
                <a:cubicBezTo>
                  <a:pt x="367" y="1037"/>
                  <a:pt x="403" y="1043"/>
                  <a:pt x="432" y="1062"/>
                </a:cubicBezTo>
                <a:cubicBezTo>
                  <a:pt x="448" y="1086"/>
                  <a:pt x="472" y="1093"/>
                  <a:pt x="498" y="1110"/>
                </a:cubicBezTo>
                <a:cubicBezTo>
                  <a:pt x="504" y="1114"/>
                  <a:pt x="516" y="1122"/>
                  <a:pt x="516" y="1122"/>
                </a:cubicBezTo>
                <a:cubicBezTo>
                  <a:pt x="530" y="1143"/>
                  <a:pt x="540" y="1150"/>
                  <a:pt x="564" y="1158"/>
                </a:cubicBezTo>
                <a:cubicBezTo>
                  <a:pt x="580" y="1182"/>
                  <a:pt x="593" y="1179"/>
                  <a:pt x="618" y="1194"/>
                </a:cubicBezTo>
                <a:cubicBezTo>
                  <a:pt x="660" y="1219"/>
                  <a:pt x="695" y="1247"/>
                  <a:pt x="732" y="1278"/>
                </a:cubicBezTo>
                <a:cubicBezTo>
                  <a:pt x="750" y="1293"/>
                  <a:pt x="773" y="1301"/>
                  <a:pt x="792" y="1314"/>
                </a:cubicBezTo>
                <a:cubicBezTo>
                  <a:pt x="811" y="1343"/>
                  <a:pt x="797" y="1330"/>
                  <a:pt x="840" y="1344"/>
                </a:cubicBezTo>
                <a:cubicBezTo>
                  <a:pt x="854" y="1349"/>
                  <a:pt x="862" y="1363"/>
                  <a:pt x="876" y="1368"/>
                </a:cubicBezTo>
                <a:cubicBezTo>
                  <a:pt x="902" y="1377"/>
                  <a:pt x="888" y="1372"/>
                  <a:pt x="918" y="1380"/>
                </a:cubicBezTo>
                <a:cubicBezTo>
                  <a:pt x="954" y="1404"/>
                  <a:pt x="973" y="1418"/>
                  <a:pt x="1014" y="1428"/>
                </a:cubicBezTo>
                <a:cubicBezTo>
                  <a:pt x="1064" y="1462"/>
                  <a:pt x="1130" y="1475"/>
                  <a:pt x="1188" y="1494"/>
                </a:cubicBezTo>
                <a:cubicBezTo>
                  <a:pt x="1201" y="1498"/>
                  <a:pt x="1211" y="1508"/>
                  <a:pt x="1224" y="1512"/>
                </a:cubicBezTo>
                <a:cubicBezTo>
                  <a:pt x="1249" y="1520"/>
                  <a:pt x="1277" y="1521"/>
                  <a:pt x="1302" y="1530"/>
                </a:cubicBezTo>
                <a:cubicBezTo>
                  <a:pt x="1355" y="1550"/>
                  <a:pt x="1406" y="1574"/>
                  <a:pt x="1458" y="1596"/>
                </a:cubicBezTo>
                <a:cubicBezTo>
                  <a:pt x="1499" y="1614"/>
                  <a:pt x="1547" y="1624"/>
                  <a:pt x="1590" y="1638"/>
                </a:cubicBezTo>
                <a:cubicBezTo>
                  <a:pt x="1597" y="1640"/>
                  <a:pt x="1601" y="1647"/>
                  <a:pt x="1608" y="1650"/>
                </a:cubicBezTo>
                <a:cubicBezTo>
                  <a:pt x="1657" y="1672"/>
                  <a:pt x="1705" y="1681"/>
                  <a:pt x="1758" y="1686"/>
                </a:cubicBezTo>
                <a:cubicBezTo>
                  <a:pt x="1805" y="1698"/>
                  <a:pt x="1854" y="1716"/>
                  <a:pt x="1902" y="1722"/>
                </a:cubicBezTo>
                <a:cubicBezTo>
                  <a:pt x="1944" y="1727"/>
                  <a:pt x="2028" y="1734"/>
                  <a:pt x="2028" y="1734"/>
                </a:cubicBezTo>
                <a:cubicBezTo>
                  <a:pt x="2064" y="1741"/>
                  <a:pt x="2100" y="1746"/>
                  <a:pt x="2136" y="1752"/>
                </a:cubicBezTo>
                <a:cubicBezTo>
                  <a:pt x="2156" y="1756"/>
                  <a:pt x="2196" y="1764"/>
                  <a:pt x="2196" y="1764"/>
                </a:cubicBezTo>
                <a:cubicBezTo>
                  <a:pt x="2342" y="1761"/>
                  <a:pt x="2442" y="1759"/>
                  <a:pt x="2574" y="1740"/>
                </a:cubicBezTo>
                <a:cubicBezTo>
                  <a:pt x="2621" y="1724"/>
                  <a:pt x="2658" y="1708"/>
                  <a:pt x="2700" y="1680"/>
                </a:cubicBezTo>
                <a:cubicBezTo>
                  <a:pt x="2712" y="1672"/>
                  <a:pt x="2724" y="1664"/>
                  <a:pt x="2736" y="1656"/>
                </a:cubicBezTo>
                <a:cubicBezTo>
                  <a:pt x="2742" y="1652"/>
                  <a:pt x="2754" y="1644"/>
                  <a:pt x="2754" y="1644"/>
                </a:cubicBezTo>
                <a:cubicBezTo>
                  <a:pt x="2770" y="1620"/>
                  <a:pt x="2796" y="1594"/>
                  <a:pt x="2820" y="1578"/>
                </a:cubicBezTo>
                <a:cubicBezTo>
                  <a:pt x="2846" y="1539"/>
                  <a:pt x="2859" y="1494"/>
                  <a:pt x="2880" y="1452"/>
                </a:cubicBezTo>
                <a:cubicBezTo>
                  <a:pt x="2893" y="1426"/>
                  <a:pt x="2897" y="1402"/>
                  <a:pt x="2922" y="1386"/>
                </a:cubicBezTo>
                <a:cubicBezTo>
                  <a:pt x="2934" y="1349"/>
                  <a:pt x="2959" y="1315"/>
                  <a:pt x="2970" y="1278"/>
                </a:cubicBezTo>
                <a:cubicBezTo>
                  <a:pt x="2981" y="1240"/>
                  <a:pt x="2982" y="1201"/>
                  <a:pt x="2994" y="1164"/>
                </a:cubicBezTo>
                <a:cubicBezTo>
                  <a:pt x="3001" y="1108"/>
                  <a:pt x="3025" y="1062"/>
                  <a:pt x="3036" y="1008"/>
                </a:cubicBezTo>
                <a:cubicBezTo>
                  <a:pt x="3043" y="974"/>
                  <a:pt x="3046" y="940"/>
                  <a:pt x="3054" y="906"/>
                </a:cubicBezTo>
                <a:cubicBezTo>
                  <a:pt x="3068" y="847"/>
                  <a:pt x="3093" y="791"/>
                  <a:pt x="3108" y="732"/>
                </a:cubicBezTo>
                <a:cubicBezTo>
                  <a:pt x="3111" y="623"/>
                  <a:pt x="3103" y="352"/>
                  <a:pt x="3138" y="246"/>
                </a:cubicBezTo>
                <a:cubicBezTo>
                  <a:pt x="3145" y="165"/>
                  <a:pt x="3162" y="81"/>
                  <a:pt x="316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5920" y="2552760"/>
            <a:ext cx="5648400" cy="2286000"/>
          </a:xfrm>
          <a:custGeom>
            <a:avLst/>
            <a:gdLst/>
            <a:ahLst/>
            <a:rect l="l" t="t" r="r" b="b"/>
            <a:pathLst>
              <a:path w="3558" h="1440">
                <a:moveTo>
                  <a:pt x="0" y="432"/>
                </a:moveTo>
                <a:cubicBezTo>
                  <a:pt x="18" y="444"/>
                  <a:pt x="36" y="456"/>
                  <a:pt x="54" y="468"/>
                </a:cubicBezTo>
                <a:cubicBezTo>
                  <a:pt x="66" y="476"/>
                  <a:pt x="90" y="492"/>
                  <a:pt x="90" y="492"/>
                </a:cubicBezTo>
                <a:cubicBezTo>
                  <a:pt x="105" y="514"/>
                  <a:pt x="128" y="537"/>
                  <a:pt x="150" y="552"/>
                </a:cubicBezTo>
                <a:cubicBezTo>
                  <a:pt x="172" y="585"/>
                  <a:pt x="184" y="573"/>
                  <a:pt x="216" y="594"/>
                </a:cubicBezTo>
                <a:cubicBezTo>
                  <a:pt x="246" y="614"/>
                  <a:pt x="276" y="634"/>
                  <a:pt x="306" y="654"/>
                </a:cubicBezTo>
                <a:cubicBezTo>
                  <a:pt x="323" y="665"/>
                  <a:pt x="343" y="673"/>
                  <a:pt x="360" y="684"/>
                </a:cubicBezTo>
                <a:cubicBezTo>
                  <a:pt x="366" y="688"/>
                  <a:pt x="378" y="696"/>
                  <a:pt x="378" y="696"/>
                </a:cubicBezTo>
                <a:cubicBezTo>
                  <a:pt x="389" y="730"/>
                  <a:pt x="400" y="735"/>
                  <a:pt x="432" y="756"/>
                </a:cubicBezTo>
                <a:cubicBezTo>
                  <a:pt x="438" y="760"/>
                  <a:pt x="450" y="768"/>
                  <a:pt x="450" y="768"/>
                </a:cubicBezTo>
                <a:cubicBezTo>
                  <a:pt x="465" y="791"/>
                  <a:pt x="479" y="792"/>
                  <a:pt x="504" y="804"/>
                </a:cubicBezTo>
                <a:cubicBezTo>
                  <a:pt x="519" y="826"/>
                  <a:pt x="544" y="837"/>
                  <a:pt x="570" y="846"/>
                </a:cubicBezTo>
                <a:cubicBezTo>
                  <a:pt x="591" y="878"/>
                  <a:pt x="635" y="906"/>
                  <a:pt x="672" y="918"/>
                </a:cubicBezTo>
                <a:cubicBezTo>
                  <a:pt x="691" y="947"/>
                  <a:pt x="677" y="934"/>
                  <a:pt x="720" y="948"/>
                </a:cubicBezTo>
                <a:cubicBezTo>
                  <a:pt x="734" y="953"/>
                  <a:pt x="744" y="964"/>
                  <a:pt x="756" y="972"/>
                </a:cubicBezTo>
                <a:cubicBezTo>
                  <a:pt x="762" y="976"/>
                  <a:pt x="774" y="984"/>
                  <a:pt x="774" y="984"/>
                </a:cubicBezTo>
                <a:cubicBezTo>
                  <a:pt x="786" y="1020"/>
                  <a:pt x="841" y="1028"/>
                  <a:pt x="876" y="1038"/>
                </a:cubicBezTo>
                <a:cubicBezTo>
                  <a:pt x="901" y="1045"/>
                  <a:pt x="938" y="1047"/>
                  <a:pt x="960" y="1062"/>
                </a:cubicBezTo>
                <a:cubicBezTo>
                  <a:pt x="997" y="1087"/>
                  <a:pt x="1029" y="1103"/>
                  <a:pt x="1068" y="1122"/>
                </a:cubicBezTo>
                <a:cubicBezTo>
                  <a:pt x="1100" y="1138"/>
                  <a:pt x="1133" y="1153"/>
                  <a:pt x="1164" y="1170"/>
                </a:cubicBezTo>
                <a:cubicBezTo>
                  <a:pt x="1177" y="1177"/>
                  <a:pt x="1186" y="1189"/>
                  <a:pt x="1200" y="1194"/>
                </a:cubicBezTo>
                <a:cubicBezTo>
                  <a:pt x="1324" y="1235"/>
                  <a:pt x="1454" y="1261"/>
                  <a:pt x="1578" y="1302"/>
                </a:cubicBezTo>
                <a:cubicBezTo>
                  <a:pt x="1619" y="1316"/>
                  <a:pt x="1632" y="1320"/>
                  <a:pt x="1668" y="1344"/>
                </a:cubicBezTo>
                <a:cubicBezTo>
                  <a:pt x="1677" y="1350"/>
                  <a:pt x="1785" y="1372"/>
                  <a:pt x="1794" y="1374"/>
                </a:cubicBezTo>
                <a:cubicBezTo>
                  <a:pt x="1829" y="1383"/>
                  <a:pt x="1871" y="1408"/>
                  <a:pt x="1908" y="1410"/>
                </a:cubicBezTo>
                <a:cubicBezTo>
                  <a:pt x="1980" y="1414"/>
                  <a:pt x="2052" y="1414"/>
                  <a:pt x="2124" y="1416"/>
                </a:cubicBezTo>
                <a:cubicBezTo>
                  <a:pt x="2336" y="1440"/>
                  <a:pt x="2545" y="1424"/>
                  <a:pt x="2754" y="1398"/>
                </a:cubicBezTo>
                <a:cubicBezTo>
                  <a:pt x="2783" y="1394"/>
                  <a:pt x="2825" y="1394"/>
                  <a:pt x="2856" y="1386"/>
                </a:cubicBezTo>
                <a:cubicBezTo>
                  <a:pt x="2928" y="1368"/>
                  <a:pt x="2990" y="1325"/>
                  <a:pt x="3060" y="1302"/>
                </a:cubicBezTo>
                <a:cubicBezTo>
                  <a:pt x="3071" y="1291"/>
                  <a:pt x="3078" y="1276"/>
                  <a:pt x="3090" y="1266"/>
                </a:cubicBezTo>
                <a:cubicBezTo>
                  <a:pt x="3102" y="1256"/>
                  <a:pt x="3118" y="1255"/>
                  <a:pt x="3132" y="1248"/>
                </a:cubicBezTo>
                <a:cubicBezTo>
                  <a:pt x="3136" y="1242"/>
                  <a:pt x="3139" y="1235"/>
                  <a:pt x="3144" y="1230"/>
                </a:cubicBezTo>
                <a:cubicBezTo>
                  <a:pt x="3155" y="1217"/>
                  <a:pt x="3170" y="1208"/>
                  <a:pt x="3180" y="1194"/>
                </a:cubicBezTo>
                <a:cubicBezTo>
                  <a:pt x="3200" y="1168"/>
                  <a:pt x="3212" y="1140"/>
                  <a:pt x="3240" y="1122"/>
                </a:cubicBezTo>
                <a:cubicBezTo>
                  <a:pt x="3268" y="1079"/>
                  <a:pt x="3279" y="1026"/>
                  <a:pt x="3324" y="996"/>
                </a:cubicBezTo>
                <a:cubicBezTo>
                  <a:pt x="3348" y="947"/>
                  <a:pt x="3361" y="878"/>
                  <a:pt x="3408" y="846"/>
                </a:cubicBezTo>
                <a:cubicBezTo>
                  <a:pt x="3419" y="813"/>
                  <a:pt x="3425" y="793"/>
                  <a:pt x="3450" y="768"/>
                </a:cubicBezTo>
                <a:cubicBezTo>
                  <a:pt x="3454" y="756"/>
                  <a:pt x="3458" y="744"/>
                  <a:pt x="3462" y="732"/>
                </a:cubicBezTo>
                <a:cubicBezTo>
                  <a:pt x="3464" y="726"/>
                  <a:pt x="3468" y="714"/>
                  <a:pt x="3468" y="714"/>
                </a:cubicBezTo>
                <a:cubicBezTo>
                  <a:pt x="3472" y="632"/>
                  <a:pt x="3455" y="595"/>
                  <a:pt x="3492" y="540"/>
                </a:cubicBezTo>
                <a:cubicBezTo>
                  <a:pt x="3536" y="362"/>
                  <a:pt x="3508" y="176"/>
                  <a:pt x="3552" y="0"/>
                </a:cubicBezTo>
                <a:cubicBezTo>
                  <a:pt x="3554" y="6"/>
                  <a:pt x="3558" y="18"/>
                  <a:pt x="3558" y="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66840" y="2505240"/>
            <a:ext cx="5762520" cy="2766960"/>
          </a:xfrm>
          <a:custGeom>
            <a:avLst/>
            <a:gdLst/>
            <a:ahLst/>
            <a:rect l="l" t="t" r="r" b="b"/>
            <a:pathLst>
              <a:path w="3690" h="1731">
                <a:moveTo>
                  <a:pt x="0" y="558"/>
                </a:moveTo>
                <a:cubicBezTo>
                  <a:pt x="28" y="599"/>
                  <a:pt x="10" y="589"/>
                  <a:pt x="42" y="600"/>
                </a:cubicBezTo>
                <a:cubicBezTo>
                  <a:pt x="55" y="639"/>
                  <a:pt x="37" y="601"/>
                  <a:pt x="66" y="624"/>
                </a:cubicBezTo>
                <a:cubicBezTo>
                  <a:pt x="72" y="629"/>
                  <a:pt x="72" y="638"/>
                  <a:pt x="78" y="642"/>
                </a:cubicBezTo>
                <a:cubicBezTo>
                  <a:pt x="89" y="649"/>
                  <a:pt x="114" y="654"/>
                  <a:pt x="114" y="654"/>
                </a:cubicBezTo>
                <a:cubicBezTo>
                  <a:pt x="135" y="686"/>
                  <a:pt x="114" y="663"/>
                  <a:pt x="150" y="678"/>
                </a:cubicBezTo>
                <a:cubicBezTo>
                  <a:pt x="172" y="687"/>
                  <a:pt x="181" y="706"/>
                  <a:pt x="204" y="714"/>
                </a:cubicBezTo>
                <a:cubicBezTo>
                  <a:pt x="238" y="766"/>
                  <a:pt x="193" y="705"/>
                  <a:pt x="234" y="738"/>
                </a:cubicBezTo>
                <a:cubicBezTo>
                  <a:pt x="240" y="743"/>
                  <a:pt x="240" y="752"/>
                  <a:pt x="246" y="756"/>
                </a:cubicBezTo>
                <a:cubicBezTo>
                  <a:pt x="257" y="763"/>
                  <a:pt x="282" y="768"/>
                  <a:pt x="282" y="768"/>
                </a:cubicBezTo>
                <a:cubicBezTo>
                  <a:pt x="323" y="809"/>
                  <a:pt x="304" y="795"/>
                  <a:pt x="336" y="816"/>
                </a:cubicBezTo>
                <a:cubicBezTo>
                  <a:pt x="357" y="847"/>
                  <a:pt x="389" y="873"/>
                  <a:pt x="420" y="894"/>
                </a:cubicBezTo>
                <a:cubicBezTo>
                  <a:pt x="446" y="932"/>
                  <a:pt x="457" y="924"/>
                  <a:pt x="486" y="948"/>
                </a:cubicBezTo>
                <a:cubicBezTo>
                  <a:pt x="519" y="975"/>
                  <a:pt x="558" y="1000"/>
                  <a:pt x="600" y="1014"/>
                </a:cubicBezTo>
                <a:cubicBezTo>
                  <a:pt x="619" y="1043"/>
                  <a:pt x="605" y="1030"/>
                  <a:pt x="648" y="1044"/>
                </a:cubicBezTo>
                <a:cubicBezTo>
                  <a:pt x="693" y="1059"/>
                  <a:pt x="735" y="1087"/>
                  <a:pt x="780" y="1098"/>
                </a:cubicBezTo>
                <a:cubicBezTo>
                  <a:pt x="815" y="1121"/>
                  <a:pt x="851" y="1137"/>
                  <a:pt x="888" y="1158"/>
                </a:cubicBezTo>
                <a:cubicBezTo>
                  <a:pt x="956" y="1196"/>
                  <a:pt x="1015" y="1241"/>
                  <a:pt x="1086" y="1272"/>
                </a:cubicBezTo>
                <a:cubicBezTo>
                  <a:pt x="1164" y="1307"/>
                  <a:pt x="1251" y="1320"/>
                  <a:pt x="1332" y="1344"/>
                </a:cubicBezTo>
                <a:cubicBezTo>
                  <a:pt x="1360" y="1352"/>
                  <a:pt x="1379" y="1365"/>
                  <a:pt x="1404" y="1374"/>
                </a:cubicBezTo>
                <a:cubicBezTo>
                  <a:pt x="1427" y="1383"/>
                  <a:pt x="1453" y="1382"/>
                  <a:pt x="1476" y="1392"/>
                </a:cubicBezTo>
                <a:cubicBezTo>
                  <a:pt x="1515" y="1409"/>
                  <a:pt x="1565" y="1431"/>
                  <a:pt x="1608" y="1434"/>
                </a:cubicBezTo>
                <a:cubicBezTo>
                  <a:pt x="1650" y="1437"/>
                  <a:pt x="1692" y="1438"/>
                  <a:pt x="1734" y="1440"/>
                </a:cubicBezTo>
                <a:cubicBezTo>
                  <a:pt x="1799" y="1453"/>
                  <a:pt x="1866" y="1475"/>
                  <a:pt x="1932" y="1482"/>
                </a:cubicBezTo>
                <a:cubicBezTo>
                  <a:pt x="1958" y="1485"/>
                  <a:pt x="1984" y="1486"/>
                  <a:pt x="2010" y="1488"/>
                </a:cubicBezTo>
                <a:cubicBezTo>
                  <a:pt x="2026" y="1490"/>
                  <a:pt x="2042" y="1492"/>
                  <a:pt x="2058" y="1494"/>
                </a:cubicBezTo>
                <a:cubicBezTo>
                  <a:pt x="2156" y="1527"/>
                  <a:pt x="2470" y="1512"/>
                  <a:pt x="2472" y="1512"/>
                </a:cubicBezTo>
                <a:cubicBezTo>
                  <a:pt x="2606" y="1509"/>
                  <a:pt x="2741" y="1497"/>
                  <a:pt x="2874" y="1506"/>
                </a:cubicBezTo>
                <a:cubicBezTo>
                  <a:pt x="2886" y="1510"/>
                  <a:pt x="2903" y="1507"/>
                  <a:pt x="2910" y="1518"/>
                </a:cubicBezTo>
                <a:cubicBezTo>
                  <a:pt x="2938" y="1560"/>
                  <a:pt x="2922" y="1546"/>
                  <a:pt x="2952" y="1566"/>
                </a:cubicBezTo>
                <a:cubicBezTo>
                  <a:pt x="2961" y="1592"/>
                  <a:pt x="2972" y="1617"/>
                  <a:pt x="2994" y="1632"/>
                </a:cubicBezTo>
                <a:cubicBezTo>
                  <a:pt x="3010" y="1680"/>
                  <a:pt x="2986" y="1624"/>
                  <a:pt x="3018" y="1656"/>
                </a:cubicBezTo>
                <a:cubicBezTo>
                  <a:pt x="3050" y="1688"/>
                  <a:pt x="2994" y="1664"/>
                  <a:pt x="3042" y="1680"/>
                </a:cubicBezTo>
                <a:cubicBezTo>
                  <a:pt x="3044" y="1686"/>
                  <a:pt x="3043" y="1694"/>
                  <a:pt x="3048" y="1698"/>
                </a:cubicBezTo>
                <a:cubicBezTo>
                  <a:pt x="3065" y="1710"/>
                  <a:pt x="3104" y="1717"/>
                  <a:pt x="3126" y="1722"/>
                </a:cubicBezTo>
                <a:cubicBezTo>
                  <a:pt x="3199" y="1718"/>
                  <a:pt x="3227" y="1731"/>
                  <a:pt x="3276" y="1698"/>
                </a:cubicBezTo>
                <a:cubicBezTo>
                  <a:pt x="3304" y="1656"/>
                  <a:pt x="3288" y="1670"/>
                  <a:pt x="3318" y="1650"/>
                </a:cubicBezTo>
                <a:cubicBezTo>
                  <a:pt x="3334" y="1603"/>
                  <a:pt x="3356" y="1565"/>
                  <a:pt x="3384" y="1524"/>
                </a:cubicBezTo>
                <a:cubicBezTo>
                  <a:pt x="3384" y="1524"/>
                  <a:pt x="3399" y="1479"/>
                  <a:pt x="3402" y="1470"/>
                </a:cubicBezTo>
                <a:cubicBezTo>
                  <a:pt x="3406" y="1458"/>
                  <a:pt x="3414" y="1434"/>
                  <a:pt x="3414" y="1434"/>
                </a:cubicBezTo>
                <a:cubicBezTo>
                  <a:pt x="3423" y="1374"/>
                  <a:pt x="3440" y="1287"/>
                  <a:pt x="3474" y="1236"/>
                </a:cubicBezTo>
                <a:cubicBezTo>
                  <a:pt x="3496" y="1149"/>
                  <a:pt x="3530" y="1070"/>
                  <a:pt x="3552" y="984"/>
                </a:cubicBezTo>
                <a:cubicBezTo>
                  <a:pt x="3556" y="941"/>
                  <a:pt x="3556" y="899"/>
                  <a:pt x="3570" y="858"/>
                </a:cubicBezTo>
                <a:cubicBezTo>
                  <a:pt x="3575" y="803"/>
                  <a:pt x="3578" y="772"/>
                  <a:pt x="3606" y="726"/>
                </a:cubicBezTo>
                <a:cubicBezTo>
                  <a:pt x="3632" y="620"/>
                  <a:pt x="3593" y="506"/>
                  <a:pt x="3642" y="408"/>
                </a:cubicBezTo>
                <a:cubicBezTo>
                  <a:pt x="3651" y="356"/>
                  <a:pt x="3651" y="304"/>
                  <a:pt x="3660" y="252"/>
                </a:cubicBezTo>
                <a:cubicBezTo>
                  <a:pt x="3662" y="196"/>
                  <a:pt x="3662" y="140"/>
                  <a:pt x="3666" y="84"/>
                </a:cubicBezTo>
                <a:cubicBezTo>
                  <a:pt x="3667" y="61"/>
                  <a:pt x="3677" y="40"/>
                  <a:pt x="3684" y="18"/>
                </a:cubicBezTo>
                <a:cubicBezTo>
                  <a:pt x="3686" y="12"/>
                  <a:pt x="3690" y="0"/>
                  <a:pt x="36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85800" y="1020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46320" y="11239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22600" y="87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2720" y="14097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2960" y="1390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03560" y="14572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27560" y="17240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55960" y="23814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46560" y="22953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773440" y="236700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62080" y="30337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38360" y="30337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336760" y="2678040"/>
            <a:ext cx="48096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36760" y="301320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83040" y="2678040"/>
            <a:ext cx="39348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11360" y="300672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62360" y="251784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38320" y="251784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14640" y="251784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51000" y="318456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22640" y="318456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98600" y="318456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27280" y="3184560"/>
            <a:ext cx="6516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03600" y="31845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83160" y="318456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82760" y="2403360"/>
            <a:ext cx="4932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16360" y="294624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87480" y="244008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17440" y="310500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65240" y="307656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8480" y="2733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93920" y="27050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79680" y="305424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39880" y="3876840"/>
            <a:ext cx="355680" cy="3553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60760" y="3921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912760" y="334476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13120" y="380844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49760" y="3344760"/>
            <a:ext cx="747720" cy="614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30880" y="389880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28800" y="402732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05120" y="402732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86120" y="402732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49680" y="407196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7440" y="407196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02320" y="407196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9760" y="34750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40000" y="3475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3880" y="39416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85840" y="397980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21120" y="382572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05160" y="489888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05400" y="494352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970600" y="498780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624120" y="4187880"/>
            <a:ext cx="88128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24120" y="4876920"/>
            <a:ext cx="6696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240" y="427680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65600" y="486108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16440" y="4187880"/>
            <a:ext cx="1233360" cy="83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83200" y="4971960"/>
            <a:ext cx="68400" cy="5580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9800" y="5049720"/>
            <a:ext cx="6156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4600" y="504972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95600" y="504972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029280" y="5140440"/>
            <a:ext cx="244440" cy="73080"/>
            <a:chOff x="6029280" y="5140440"/>
            <a:chExt cx="244440" cy="73080"/>
          </a:xfrm>
        </p:grpSpPr>
        <p:sp>
          <p:nvSpPr>
            <p:cNvPr id="257" name=""/>
            <p:cNvSpPr/>
            <p:nvPr/>
          </p:nvSpPr>
          <p:spPr>
            <a:xfrm>
              <a:off x="6029280" y="514044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10280" y="514044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76880" y="5140440"/>
              <a:ext cx="96840" cy="730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570560" y="5089680"/>
            <a:ext cx="232920" cy="72720"/>
            <a:chOff x="4570560" y="5089680"/>
            <a:chExt cx="232920" cy="72720"/>
          </a:xfrm>
        </p:grpSpPr>
        <p:sp>
          <p:nvSpPr>
            <p:cNvPr id="261" name=""/>
            <p:cNvSpPr/>
            <p:nvPr/>
          </p:nvSpPr>
          <p:spPr>
            <a:xfrm>
              <a:off x="4570560" y="5089680"/>
              <a:ext cx="7920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49760" y="5089680"/>
              <a:ext cx="75960" cy="727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280" y="5089680"/>
              <a:ext cx="7920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646080" y="4387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76520" y="4387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22600" y="4387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17160" y="495000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30480" y="4997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=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97120" y="50450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29040" y="4818240"/>
            <a:ext cx="59040" cy="9504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91000" y="5802480"/>
            <a:ext cx="355680" cy="3553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8760" y="5802480"/>
            <a:ext cx="354240" cy="35532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24560" y="529416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06920" y="572148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11760" y="5235480"/>
            <a:ext cx="73800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483160" y="5780160"/>
            <a:ext cx="6660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9920" y="595296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43280" y="5952960"/>
            <a:ext cx="7488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26080" y="595296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54800" y="595296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35800" y="5952960"/>
            <a:ext cx="6156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02400" y="595296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82920" y="5386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49480" y="5386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66840" y="6194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61+180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33200" y="6194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52+177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4880" y="391464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10160" y="493884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6680" y="58309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94080" y="58752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779560" y="5210280"/>
            <a:ext cx="57024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79560" y="5802480"/>
            <a:ext cx="60480" cy="6660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83000" y="5254560"/>
            <a:ext cx="4428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03520" y="5794200"/>
            <a:ext cx="3672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56000" y="5981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22600" y="598176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98920" y="598176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81560" y="602604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59320" y="602604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33840" y="602604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00000" y="53848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66920" y="53848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06240" y="619452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724+469=11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21960" y="6194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29+159=7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65800" y="485316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931000" y="5818320"/>
            <a:ext cx="355680" cy="355320"/>
            <a:chOff x="5931000" y="5818320"/>
            <a:chExt cx="355680" cy="355320"/>
          </a:xfrm>
        </p:grpSpPr>
        <p:sp>
          <p:nvSpPr>
            <p:cNvPr id="307" name=""/>
            <p:cNvSpPr/>
            <p:nvPr/>
          </p:nvSpPr>
          <p:spPr>
            <a:xfrm>
              <a:off x="5931000" y="581832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19920" y="596880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6240" y="596880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62840" y="596880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292800" y="5283360"/>
            <a:ext cx="665280" cy="931320"/>
            <a:chOff x="6292800" y="5283360"/>
            <a:chExt cx="665280" cy="931320"/>
          </a:xfrm>
        </p:grpSpPr>
        <p:sp>
          <p:nvSpPr>
            <p:cNvPr id="312" name=""/>
            <p:cNvSpPr/>
            <p:nvPr/>
          </p:nvSpPr>
          <p:spPr>
            <a:xfrm>
              <a:off x="6292800" y="5283360"/>
              <a:ext cx="392040" cy="566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02400" y="585936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32640" y="5783040"/>
              <a:ext cx="54000" cy="694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89520" y="6010200"/>
              <a:ext cx="79560" cy="70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69080" y="6010200"/>
              <a:ext cx="76320" cy="709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42160" y="6010200"/>
              <a:ext cx="79200" cy="70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6124680" y="5343480"/>
            <a:ext cx="0" cy="447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86280" y="5394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53000" y="5394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8360" y="619452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10+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3320" y="59198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46+159=8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2040" y="567540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38480" y="2276640"/>
            <a:ext cx="1315800" cy="552240"/>
          </a:xfrm>
          <a:custGeom>
            <a:avLst/>
            <a:gdLst/>
            <a:ahLst/>
            <a:rect l="l" t="t" r="r" b="b"/>
            <a:pathLst>
              <a:path w="829" h="348">
                <a:moveTo>
                  <a:pt x="804" y="0"/>
                </a:moveTo>
                <a:cubicBezTo>
                  <a:pt x="802" y="42"/>
                  <a:pt x="829" y="196"/>
                  <a:pt x="750" y="222"/>
                </a:cubicBezTo>
                <a:cubicBezTo>
                  <a:pt x="736" y="243"/>
                  <a:pt x="726" y="250"/>
                  <a:pt x="702" y="258"/>
                </a:cubicBezTo>
                <a:cubicBezTo>
                  <a:pt x="683" y="287"/>
                  <a:pt x="697" y="274"/>
                  <a:pt x="654" y="288"/>
                </a:cubicBezTo>
                <a:cubicBezTo>
                  <a:pt x="636" y="294"/>
                  <a:pt x="618" y="310"/>
                  <a:pt x="600" y="318"/>
                </a:cubicBezTo>
                <a:cubicBezTo>
                  <a:pt x="562" y="335"/>
                  <a:pt x="515" y="342"/>
                  <a:pt x="474" y="348"/>
                </a:cubicBezTo>
                <a:cubicBezTo>
                  <a:pt x="344" y="346"/>
                  <a:pt x="214" y="346"/>
                  <a:pt x="84" y="342"/>
                </a:cubicBezTo>
                <a:cubicBezTo>
                  <a:pt x="59" y="341"/>
                  <a:pt x="19" y="337"/>
                  <a:pt x="0" y="3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028960" y="2352600"/>
            <a:ext cx="2181240" cy="1152720"/>
          </a:xfrm>
          <a:custGeom>
            <a:avLst/>
            <a:gdLst/>
            <a:ahLst/>
            <a:rect l="l" t="t" r="r" b="b"/>
            <a:pathLst>
              <a:path w="1374" h="726">
                <a:moveTo>
                  <a:pt x="0" y="252"/>
                </a:moveTo>
                <a:cubicBezTo>
                  <a:pt x="2" y="258"/>
                  <a:pt x="2" y="266"/>
                  <a:pt x="6" y="270"/>
                </a:cubicBezTo>
                <a:cubicBezTo>
                  <a:pt x="16" y="280"/>
                  <a:pt x="42" y="294"/>
                  <a:pt x="42" y="294"/>
                </a:cubicBezTo>
                <a:cubicBezTo>
                  <a:pt x="56" y="316"/>
                  <a:pt x="69" y="316"/>
                  <a:pt x="90" y="330"/>
                </a:cubicBezTo>
                <a:cubicBezTo>
                  <a:pt x="108" y="356"/>
                  <a:pt x="143" y="374"/>
                  <a:pt x="174" y="384"/>
                </a:cubicBezTo>
                <a:cubicBezTo>
                  <a:pt x="178" y="390"/>
                  <a:pt x="180" y="398"/>
                  <a:pt x="186" y="402"/>
                </a:cubicBezTo>
                <a:cubicBezTo>
                  <a:pt x="197" y="409"/>
                  <a:pt x="222" y="414"/>
                  <a:pt x="222" y="414"/>
                </a:cubicBezTo>
                <a:cubicBezTo>
                  <a:pt x="242" y="444"/>
                  <a:pt x="276" y="460"/>
                  <a:pt x="306" y="480"/>
                </a:cubicBezTo>
                <a:cubicBezTo>
                  <a:pt x="318" y="488"/>
                  <a:pt x="342" y="504"/>
                  <a:pt x="342" y="504"/>
                </a:cubicBezTo>
                <a:cubicBezTo>
                  <a:pt x="358" y="528"/>
                  <a:pt x="382" y="535"/>
                  <a:pt x="408" y="552"/>
                </a:cubicBezTo>
                <a:cubicBezTo>
                  <a:pt x="463" y="589"/>
                  <a:pt x="511" y="620"/>
                  <a:pt x="576" y="636"/>
                </a:cubicBezTo>
                <a:cubicBezTo>
                  <a:pt x="604" y="655"/>
                  <a:pt x="634" y="657"/>
                  <a:pt x="666" y="666"/>
                </a:cubicBezTo>
                <a:cubicBezTo>
                  <a:pt x="728" y="683"/>
                  <a:pt x="788" y="699"/>
                  <a:pt x="852" y="708"/>
                </a:cubicBezTo>
                <a:cubicBezTo>
                  <a:pt x="883" y="718"/>
                  <a:pt x="916" y="721"/>
                  <a:pt x="948" y="726"/>
                </a:cubicBezTo>
                <a:cubicBezTo>
                  <a:pt x="1101" y="720"/>
                  <a:pt x="1079" y="724"/>
                  <a:pt x="1182" y="690"/>
                </a:cubicBezTo>
                <a:cubicBezTo>
                  <a:pt x="1188" y="684"/>
                  <a:pt x="1193" y="677"/>
                  <a:pt x="1200" y="672"/>
                </a:cubicBezTo>
                <a:cubicBezTo>
                  <a:pt x="1211" y="663"/>
                  <a:pt x="1236" y="648"/>
                  <a:pt x="1236" y="648"/>
                </a:cubicBezTo>
                <a:cubicBezTo>
                  <a:pt x="1251" y="626"/>
                  <a:pt x="1284" y="606"/>
                  <a:pt x="1308" y="594"/>
                </a:cubicBezTo>
                <a:cubicBezTo>
                  <a:pt x="1340" y="546"/>
                  <a:pt x="1298" y="604"/>
                  <a:pt x="1338" y="564"/>
                </a:cubicBezTo>
                <a:cubicBezTo>
                  <a:pt x="1352" y="550"/>
                  <a:pt x="1357" y="527"/>
                  <a:pt x="1368" y="510"/>
                </a:cubicBezTo>
                <a:cubicBezTo>
                  <a:pt x="1370" y="500"/>
                  <a:pt x="1374" y="490"/>
                  <a:pt x="1374" y="480"/>
                </a:cubicBezTo>
                <a:cubicBezTo>
                  <a:pt x="1374" y="394"/>
                  <a:pt x="1372" y="308"/>
                  <a:pt x="1368" y="222"/>
                </a:cubicBezTo>
                <a:cubicBezTo>
                  <a:pt x="1366" y="176"/>
                  <a:pt x="1324" y="34"/>
                  <a:pt x="12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2114640"/>
            <a:ext cx="3314520" cy="1503360"/>
          </a:xfrm>
          <a:custGeom>
            <a:avLst/>
            <a:gdLst/>
            <a:ahLst/>
            <a:rect l="l" t="t" r="r" b="b"/>
            <a:pathLst>
              <a:path w="2340" h="1079">
                <a:moveTo>
                  <a:pt x="0" y="438"/>
                </a:moveTo>
                <a:cubicBezTo>
                  <a:pt x="28" y="480"/>
                  <a:pt x="12" y="466"/>
                  <a:pt x="42" y="486"/>
                </a:cubicBezTo>
                <a:cubicBezTo>
                  <a:pt x="76" y="538"/>
                  <a:pt x="31" y="477"/>
                  <a:pt x="72" y="510"/>
                </a:cubicBezTo>
                <a:cubicBezTo>
                  <a:pt x="78" y="515"/>
                  <a:pt x="79" y="523"/>
                  <a:pt x="84" y="528"/>
                </a:cubicBezTo>
                <a:cubicBezTo>
                  <a:pt x="89" y="533"/>
                  <a:pt x="97" y="535"/>
                  <a:pt x="102" y="540"/>
                </a:cubicBezTo>
                <a:cubicBezTo>
                  <a:pt x="133" y="567"/>
                  <a:pt x="152" y="601"/>
                  <a:pt x="186" y="624"/>
                </a:cubicBezTo>
                <a:cubicBezTo>
                  <a:pt x="201" y="669"/>
                  <a:pt x="179" y="615"/>
                  <a:pt x="210" y="654"/>
                </a:cubicBezTo>
                <a:cubicBezTo>
                  <a:pt x="233" y="683"/>
                  <a:pt x="195" y="665"/>
                  <a:pt x="234" y="678"/>
                </a:cubicBezTo>
                <a:cubicBezTo>
                  <a:pt x="236" y="684"/>
                  <a:pt x="236" y="691"/>
                  <a:pt x="240" y="696"/>
                </a:cubicBezTo>
                <a:cubicBezTo>
                  <a:pt x="245" y="702"/>
                  <a:pt x="254" y="702"/>
                  <a:pt x="258" y="708"/>
                </a:cubicBezTo>
                <a:cubicBezTo>
                  <a:pt x="294" y="765"/>
                  <a:pt x="247" y="729"/>
                  <a:pt x="288" y="756"/>
                </a:cubicBezTo>
                <a:cubicBezTo>
                  <a:pt x="300" y="791"/>
                  <a:pt x="310" y="819"/>
                  <a:pt x="342" y="840"/>
                </a:cubicBezTo>
                <a:cubicBezTo>
                  <a:pt x="344" y="846"/>
                  <a:pt x="344" y="854"/>
                  <a:pt x="348" y="858"/>
                </a:cubicBezTo>
                <a:cubicBezTo>
                  <a:pt x="358" y="868"/>
                  <a:pt x="384" y="882"/>
                  <a:pt x="384" y="882"/>
                </a:cubicBezTo>
                <a:cubicBezTo>
                  <a:pt x="399" y="905"/>
                  <a:pt x="429" y="921"/>
                  <a:pt x="456" y="930"/>
                </a:cubicBezTo>
                <a:cubicBezTo>
                  <a:pt x="484" y="973"/>
                  <a:pt x="586" y="993"/>
                  <a:pt x="636" y="1002"/>
                </a:cubicBezTo>
                <a:cubicBezTo>
                  <a:pt x="796" y="1031"/>
                  <a:pt x="952" y="1050"/>
                  <a:pt x="1116" y="1056"/>
                </a:cubicBezTo>
                <a:cubicBezTo>
                  <a:pt x="1302" y="1079"/>
                  <a:pt x="1485" y="1065"/>
                  <a:pt x="1674" y="1062"/>
                </a:cubicBezTo>
                <a:cubicBezTo>
                  <a:pt x="1764" y="1059"/>
                  <a:pt x="1841" y="1059"/>
                  <a:pt x="1926" y="1038"/>
                </a:cubicBezTo>
                <a:cubicBezTo>
                  <a:pt x="1970" y="1027"/>
                  <a:pt x="2007" y="1004"/>
                  <a:pt x="2052" y="996"/>
                </a:cubicBezTo>
                <a:cubicBezTo>
                  <a:pt x="2068" y="985"/>
                  <a:pt x="2106" y="972"/>
                  <a:pt x="2106" y="972"/>
                </a:cubicBezTo>
                <a:cubicBezTo>
                  <a:pt x="2128" y="950"/>
                  <a:pt x="2154" y="937"/>
                  <a:pt x="2184" y="930"/>
                </a:cubicBezTo>
                <a:cubicBezTo>
                  <a:pt x="2203" y="911"/>
                  <a:pt x="2226" y="900"/>
                  <a:pt x="2244" y="882"/>
                </a:cubicBezTo>
                <a:cubicBezTo>
                  <a:pt x="2256" y="870"/>
                  <a:pt x="2264" y="854"/>
                  <a:pt x="2274" y="840"/>
                </a:cubicBezTo>
                <a:cubicBezTo>
                  <a:pt x="2282" y="815"/>
                  <a:pt x="2291" y="799"/>
                  <a:pt x="2310" y="780"/>
                </a:cubicBezTo>
                <a:cubicBezTo>
                  <a:pt x="2316" y="762"/>
                  <a:pt x="2322" y="744"/>
                  <a:pt x="2328" y="726"/>
                </a:cubicBezTo>
                <a:cubicBezTo>
                  <a:pt x="2332" y="714"/>
                  <a:pt x="2340" y="690"/>
                  <a:pt x="2340" y="690"/>
                </a:cubicBezTo>
                <a:cubicBezTo>
                  <a:pt x="2338" y="554"/>
                  <a:pt x="2338" y="418"/>
                  <a:pt x="2334" y="282"/>
                </a:cubicBezTo>
                <a:cubicBezTo>
                  <a:pt x="2333" y="231"/>
                  <a:pt x="2304" y="148"/>
                  <a:pt x="2262" y="120"/>
                </a:cubicBezTo>
                <a:cubicBezTo>
                  <a:pt x="2248" y="98"/>
                  <a:pt x="2228" y="68"/>
                  <a:pt x="2208" y="54"/>
                </a:cubicBezTo>
                <a:cubicBezTo>
                  <a:pt x="2201" y="34"/>
                  <a:pt x="2178" y="0"/>
                  <a:pt x="2178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05000" y="2666880"/>
            <a:ext cx="4029120" cy="1733760"/>
          </a:xfrm>
          <a:custGeom>
            <a:avLst/>
            <a:gdLst/>
            <a:ahLst/>
            <a:rect l="l" t="t" r="r" b="b"/>
            <a:pathLst>
              <a:path w="2538" h="1092">
                <a:moveTo>
                  <a:pt x="0" y="150"/>
                </a:moveTo>
                <a:cubicBezTo>
                  <a:pt x="17" y="200"/>
                  <a:pt x="30" y="232"/>
                  <a:pt x="60" y="276"/>
                </a:cubicBezTo>
                <a:cubicBezTo>
                  <a:pt x="68" y="288"/>
                  <a:pt x="72" y="304"/>
                  <a:pt x="84" y="312"/>
                </a:cubicBezTo>
                <a:cubicBezTo>
                  <a:pt x="112" y="330"/>
                  <a:pt x="101" y="335"/>
                  <a:pt x="138" y="360"/>
                </a:cubicBezTo>
                <a:cubicBezTo>
                  <a:pt x="150" y="368"/>
                  <a:pt x="174" y="384"/>
                  <a:pt x="174" y="384"/>
                </a:cubicBezTo>
                <a:cubicBezTo>
                  <a:pt x="195" y="416"/>
                  <a:pt x="251" y="468"/>
                  <a:pt x="288" y="480"/>
                </a:cubicBezTo>
                <a:cubicBezTo>
                  <a:pt x="317" y="509"/>
                  <a:pt x="341" y="522"/>
                  <a:pt x="378" y="534"/>
                </a:cubicBezTo>
                <a:cubicBezTo>
                  <a:pt x="396" y="540"/>
                  <a:pt x="414" y="556"/>
                  <a:pt x="432" y="564"/>
                </a:cubicBezTo>
                <a:cubicBezTo>
                  <a:pt x="527" y="606"/>
                  <a:pt x="637" y="617"/>
                  <a:pt x="738" y="630"/>
                </a:cubicBezTo>
                <a:cubicBezTo>
                  <a:pt x="843" y="643"/>
                  <a:pt x="945" y="675"/>
                  <a:pt x="1050" y="690"/>
                </a:cubicBezTo>
                <a:cubicBezTo>
                  <a:pt x="1109" y="710"/>
                  <a:pt x="1173" y="720"/>
                  <a:pt x="1230" y="744"/>
                </a:cubicBezTo>
                <a:cubicBezTo>
                  <a:pt x="1238" y="748"/>
                  <a:pt x="1246" y="752"/>
                  <a:pt x="1254" y="756"/>
                </a:cubicBezTo>
                <a:cubicBezTo>
                  <a:pt x="1260" y="760"/>
                  <a:pt x="1265" y="765"/>
                  <a:pt x="1272" y="768"/>
                </a:cubicBezTo>
                <a:cubicBezTo>
                  <a:pt x="1294" y="778"/>
                  <a:pt x="1321" y="784"/>
                  <a:pt x="1344" y="792"/>
                </a:cubicBezTo>
                <a:cubicBezTo>
                  <a:pt x="1389" y="807"/>
                  <a:pt x="1432" y="823"/>
                  <a:pt x="1476" y="840"/>
                </a:cubicBezTo>
                <a:cubicBezTo>
                  <a:pt x="1488" y="845"/>
                  <a:pt x="1501" y="845"/>
                  <a:pt x="1512" y="852"/>
                </a:cubicBezTo>
                <a:cubicBezTo>
                  <a:pt x="1535" y="868"/>
                  <a:pt x="1592" y="894"/>
                  <a:pt x="1620" y="906"/>
                </a:cubicBezTo>
                <a:cubicBezTo>
                  <a:pt x="1632" y="911"/>
                  <a:pt x="1645" y="911"/>
                  <a:pt x="1656" y="918"/>
                </a:cubicBezTo>
                <a:cubicBezTo>
                  <a:pt x="1797" y="1012"/>
                  <a:pt x="1964" y="1059"/>
                  <a:pt x="2130" y="1092"/>
                </a:cubicBezTo>
                <a:cubicBezTo>
                  <a:pt x="2172" y="1090"/>
                  <a:pt x="2214" y="1091"/>
                  <a:pt x="2256" y="1086"/>
                </a:cubicBezTo>
                <a:cubicBezTo>
                  <a:pt x="2269" y="1085"/>
                  <a:pt x="2292" y="1074"/>
                  <a:pt x="2292" y="1074"/>
                </a:cubicBezTo>
                <a:cubicBezTo>
                  <a:pt x="2296" y="1068"/>
                  <a:pt x="2298" y="1060"/>
                  <a:pt x="2304" y="1056"/>
                </a:cubicBezTo>
                <a:cubicBezTo>
                  <a:pt x="2315" y="1049"/>
                  <a:pt x="2340" y="1044"/>
                  <a:pt x="2340" y="1044"/>
                </a:cubicBezTo>
                <a:cubicBezTo>
                  <a:pt x="2346" y="1038"/>
                  <a:pt x="2351" y="1031"/>
                  <a:pt x="2358" y="1026"/>
                </a:cubicBezTo>
                <a:cubicBezTo>
                  <a:pt x="2363" y="1022"/>
                  <a:pt x="2371" y="1024"/>
                  <a:pt x="2376" y="1020"/>
                </a:cubicBezTo>
                <a:cubicBezTo>
                  <a:pt x="2382" y="1015"/>
                  <a:pt x="2383" y="1007"/>
                  <a:pt x="2388" y="1002"/>
                </a:cubicBezTo>
                <a:cubicBezTo>
                  <a:pt x="2408" y="982"/>
                  <a:pt x="2448" y="940"/>
                  <a:pt x="2472" y="924"/>
                </a:cubicBezTo>
                <a:cubicBezTo>
                  <a:pt x="2483" y="892"/>
                  <a:pt x="2503" y="866"/>
                  <a:pt x="2514" y="834"/>
                </a:cubicBezTo>
                <a:cubicBezTo>
                  <a:pt x="2522" y="772"/>
                  <a:pt x="2526" y="709"/>
                  <a:pt x="2538" y="648"/>
                </a:cubicBezTo>
                <a:cubicBezTo>
                  <a:pt x="2536" y="526"/>
                  <a:pt x="2536" y="404"/>
                  <a:pt x="2532" y="282"/>
                </a:cubicBezTo>
                <a:cubicBezTo>
                  <a:pt x="2531" y="236"/>
                  <a:pt x="2498" y="190"/>
                  <a:pt x="2496" y="144"/>
                </a:cubicBezTo>
                <a:cubicBezTo>
                  <a:pt x="2494" y="96"/>
                  <a:pt x="2496" y="48"/>
                  <a:pt x="2496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9600" y="2600280"/>
            <a:ext cx="4483080" cy="2800440"/>
          </a:xfrm>
          <a:custGeom>
            <a:avLst/>
            <a:gdLst/>
            <a:ahLst/>
            <a:rect l="l" t="t" r="r" b="b"/>
            <a:pathLst>
              <a:path w="2824" h="1764">
                <a:moveTo>
                  <a:pt x="0" y="258"/>
                </a:moveTo>
                <a:cubicBezTo>
                  <a:pt x="9" y="284"/>
                  <a:pt x="20" y="302"/>
                  <a:pt x="36" y="324"/>
                </a:cubicBezTo>
                <a:cubicBezTo>
                  <a:pt x="44" y="348"/>
                  <a:pt x="51" y="358"/>
                  <a:pt x="72" y="372"/>
                </a:cubicBezTo>
                <a:cubicBezTo>
                  <a:pt x="87" y="417"/>
                  <a:pt x="65" y="363"/>
                  <a:pt x="96" y="402"/>
                </a:cubicBezTo>
                <a:cubicBezTo>
                  <a:pt x="129" y="443"/>
                  <a:pt x="68" y="398"/>
                  <a:pt x="120" y="432"/>
                </a:cubicBezTo>
                <a:cubicBezTo>
                  <a:pt x="134" y="473"/>
                  <a:pt x="115" y="429"/>
                  <a:pt x="144" y="462"/>
                </a:cubicBezTo>
                <a:cubicBezTo>
                  <a:pt x="169" y="491"/>
                  <a:pt x="178" y="525"/>
                  <a:pt x="210" y="546"/>
                </a:cubicBezTo>
                <a:cubicBezTo>
                  <a:pt x="215" y="562"/>
                  <a:pt x="233" y="582"/>
                  <a:pt x="246" y="594"/>
                </a:cubicBezTo>
                <a:cubicBezTo>
                  <a:pt x="257" y="603"/>
                  <a:pt x="282" y="618"/>
                  <a:pt x="282" y="618"/>
                </a:cubicBezTo>
                <a:cubicBezTo>
                  <a:pt x="303" y="650"/>
                  <a:pt x="360" y="654"/>
                  <a:pt x="396" y="666"/>
                </a:cubicBezTo>
                <a:cubicBezTo>
                  <a:pt x="485" y="696"/>
                  <a:pt x="573" y="728"/>
                  <a:pt x="666" y="738"/>
                </a:cubicBezTo>
                <a:cubicBezTo>
                  <a:pt x="722" y="757"/>
                  <a:pt x="794" y="757"/>
                  <a:pt x="852" y="762"/>
                </a:cubicBezTo>
                <a:cubicBezTo>
                  <a:pt x="928" y="781"/>
                  <a:pt x="1009" y="789"/>
                  <a:pt x="1086" y="804"/>
                </a:cubicBezTo>
                <a:cubicBezTo>
                  <a:pt x="1112" y="809"/>
                  <a:pt x="1154" y="813"/>
                  <a:pt x="1176" y="828"/>
                </a:cubicBezTo>
                <a:cubicBezTo>
                  <a:pt x="1188" y="836"/>
                  <a:pt x="1212" y="852"/>
                  <a:pt x="1212" y="852"/>
                </a:cubicBezTo>
                <a:cubicBezTo>
                  <a:pt x="1232" y="882"/>
                  <a:pt x="1218" y="866"/>
                  <a:pt x="1260" y="894"/>
                </a:cubicBezTo>
                <a:cubicBezTo>
                  <a:pt x="1266" y="898"/>
                  <a:pt x="1278" y="906"/>
                  <a:pt x="1278" y="906"/>
                </a:cubicBezTo>
                <a:cubicBezTo>
                  <a:pt x="1292" y="928"/>
                  <a:pt x="1305" y="928"/>
                  <a:pt x="1326" y="942"/>
                </a:cubicBezTo>
                <a:cubicBezTo>
                  <a:pt x="1341" y="965"/>
                  <a:pt x="1360" y="993"/>
                  <a:pt x="1386" y="1002"/>
                </a:cubicBezTo>
                <a:cubicBezTo>
                  <a:pt x="1388" y="1008"/>
                  <a:pt x="1388" y="1016"/>
                  <a:pt x="1392" y="1020"/>
                </a:cubicBezTo>
                <a:cubicBezTo>
                  <a:pt x="1402" y="1030"/>
                  <a:pt x="1428" y="1044"/>
                  <a:pt x="1428" y="1044"/>
                </a:cubicBezTo>
                <a:cubicBezTo>
                  <a:pt x="1437" y="1071"/>
                  <a:pt x="1464" y="1087"/>
                  <a:pt x="1482" y="1110"/>
                </a:cubicBezTo>
                <a:cubicBezTo>
                  <a:pt x="1522" y="1162"/>
                  <a:pt x="1556" y="1220"/>
                  <a:pt x="1596" y="1272"/>
                </a:cubicBezTo>
                <a:cubicBezTo>
                  <a:pt x="1623" y="1307"/>
                  <a:pt x="1635" y="1352"/>
                  <a:pt x="1662" y="1386"/>
                </a:cubicBezTo>
                <a:cubicBezTo>
                  <a:pt x="1673" y="1399"/>
                  <a:pt x="1698" y="1422"/>
                  <a:pt x="1698" y="1422"/>
                </a:cubicBezTo>
                <a:cubicBezTo>
                  <a:pt x="1714" y="1470"/>
                  <a:pt x="1690" y="1414"/>
                  <a:pt x="1722" y="1446"/>
                </a:cubicBezTo>
                <a:cubicBezTo>
                  <a:pt x="1726" y="1450"/>
                  <a:pt x="1724" y="1459"/>
                  <a:pt x="1728" y="1464"/>
                </a:cubicBezTo>
                <a:cubicBezTo>
                  <a:pt x="1733" y="1470"/>
                  <a:pt x="1740" y="1472"/>
                  <a:pt x="1746" y="1476"/>
                </a:cubicBezTo>
                <a:cubicBezTo>
                  <a:pt x="1774" y="1518"/>
                  <a:pt x="1758" y="1504"/>
                  <a:pt x="1788" y="1524"/>
                </a:cubicBezTo>
                <a:cubicBezTo>
                  <a:pt x="1792" y="1530"/>
                  <a:pt x="1795" y="1537"/>
                  <a:pt x="1800" y="1542"/>
                </a:cubicBezTo>
                <a:cubicBezTo>
                  <a:pt x="1811" y="1551"/>
                  <a:pt x="1836" y="1566"/>
                  <a:pt x="1836" y="1566"/>
                </a:cubicBezTo>
                <a:cubicBezTo>
                  <a:pt x="1840" y="1572"/>
                  <a:pt x="1843" y="1579"/>
                  <a:pt x="1848" y="1584"/>
                </a:cubicBezTo>
                <a:cubicBezTo>
                  <a:pt x="1853" y="1589"/>
                  <a:pt x="1861" y="1590"/>
                  <a:pt x="1866" y="1596"/>
                </a:cubicBezTo>
                <a:cubicBezTo>
                  <a:pt x="1889" y="1625"/>
                  <a:pt x="1851" y="1607"/>
                  <a:pt x="1890" y="1620"/>
                </a:cubicBezTo>
                <a:cubicBezTo>
                  <a:pt x="1898" y="1644"/>
                  <a:pt x="1931" y="1662"/>
                  <a:pt x="1956" y="1668"/>
                </a:cubicBezTo>
                <a:cubicBezTo>
                  <a:pt x="1960" y="1674"/>
                  <a:pt x="1962" y="1682"/>
                  <a:pt x="1968" y="1686"/>
                </a:cubicBezTo>
                <a:cubicBezTo>
                  <a:pt x="1979" y="1693"/>
                  <a:pt x="1992" y="1694"/>
                  <a:pt x="2004" y="1698"/>
                </a:cubicBezTo>
                <a:cubicBezTo>
                  <a:pt x="2026" y="1705"/>
                  <a:pt x="2058" y="1728"/>
                  <a:pt x="2076" y="1740"/>
                </a:cubicBezTo>
                <a:cubicBezTo>
                  <a:pt x="2092" y="1751"/>
                  <a:pt x="2112" y="1752"/>
                  <a:pt x="2130" y="1758"/>
                </a:cubicBezTo>
                <a:cubicBezTo>
                  <a:pt x="2136" y="1760"/>
                  <a:pt x="2148" y="1764"/>
                  <a:pt x="2148" y="1764"/>
                </a:cubicBezTo>
                <a:cubicBezTo>
                  <a:pt x="2242" y="1761"/>
                  <a:pt x="2323" y="1762"/>
                  <a:pt x="2412" y="1740"/>
                </a:cubicBezTo>
                <a:cubicBezTo>
                  <a:pt x="2444" y="1732"/>
                  <a:pt x="2460" y="1710"/>
                  <a:pt x="2484" y="1692"/>
                </a:cubicBezTo>
                <a:cubicBezTo>
                  <a:pt x="2495" y="1683"/>
                  <a:pt x="2520" y="1668"/>
                  <a:pt x="2520" y="1668"/>
                </a:cubicBezTo>
                <a:cubicBezTo>
                  <a:pt x="2535" y="1646"/>
                  <a:pt x="2558" y="1623"/>
                  <a:pt x="2580" y="1608"/>
                </a:cubicBezTo>
                <a:cubicBezTo>
                  <a:pt x="2595" y="1563"/>
                  <a:pt x="2573" y="1617"/>
                  <a:pt x="2604" y="1578"/>
                </a:cubicBezTo>
                <a:cubicBezTo>
                  <a:pt x="2608" y="1573"/>
                  <a:pt x="2606" y="1565"/>
                  <a:pt x="2610" y="1560"/>
                </a:cubicBezTo>
                <a:cubicBezTo>
                  <a:pt x="2615" y="1553"/>
                  <a:pt x="2622" y="1548"/>
                  <a:pt x="2628" y="1542"/>
                </a:cubicBezTo>
                <a:cubicBezTo>
                  <a:pt x="2643" y="1496"/>
                  <a:pt x="2670" y="1452"/>
                  <a:pt x="2694" y="1410"/>
                </a:cubicBezTo>
                <a:cubicBezTo>
                  <a:pt x="2705" y="1391"/>
                  <a:pt x="2729" y="1371"/>
                  <a:pt x="2736" y="1350"/>
                </a:cubicBezTo>
                <a:cubicBezTo>
                  <a:pt x="2744" y="1325"/>
                  <a:pt x="2738" y="1337"/>
                  <a:pt x="2754" y="1314"/>
                </a:cubicBezTo>
                <a:cubicBezTo>
                  <a:pt x="2824" y="891"/>
                  <a:pt x="2769" y="1011"/>
                  <a:pt x="2760" y="108"/>
                </a:cubicBezTo>
                <a:cubicBezTo>
                  <a:pt x="2760" y="84"/>
                  <a:pt x="2747" y="40"/>
                  <a:pt x="2736" y="18"/>
                </a:cubicBezTo>
                <a:cubicBezTo>
                  <a:pt x="2733" y="12"/>
                  <a:pt x="2724" y="0"/>
                  <a:pt x="2724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71640" y="2685960"/>
            <a:ext cx="5016240" cy="2949840"/>
          </a:xfrm>
          <a:custGeom>
            <a:avLst/>
            <a:gdLst/>
            <a:ahLst/>
            <a:rect l="l" t="t" r="r" b="b"/>
            <a:pathLst>
              <a:path w="3160" h="1858">
                <a:moveTo>
                  <a:pt x="0" y="240"/>
                </a:moveTo>
                <a:cubicBezTo>
                  <a:pt x="43" y="254"/>
                  <a:pt x="64" y="287"/>
                  <a:pt x="102" y="306"/>
                </a:cubicBezTo>
                <a:cubicBezTo>
                  <a:pt x="106" y="312"/>
                  <a:pt x="109" y="319"/>
                  <a:pt x="114" y="324"/>
                </a:cubicBezTo>
                <a:cubicBezTo>
                  <a:pt x="125" y="333"/>
                  <a:pt x="150" y="348"/>
                  <a:pt x="150" y="348"/>
                </a:cubicBezTo>
                <a:cubicBezTo>
                  <a:pt x="178" y="389"/>
                  <a:pt x="160" y="379"/>
                  <a:pt x="192" y="390"/>
                </a:cubicBezTo>
                <a:cubicBezTo>
                  <a:pt x="204" y="427"/>
                  <a:pt x="231" y="470"/>
                  <a:pt x="264" y="492"/>
                </a:cubicBezTo>
                <a:cubicBezTo>
                  <a:pt x="271" y="514"/>
                  <a:pt x="321" y="585"/>
                  <a:pt x="336" y="600"/>
                </a:cubicBezTo>
                <a:cubicBezTo>
                  <a:pt x="349" y="613"/>
                  <a:pt x="358" y="619"/>
                  <a:pt x="366" y="636"/>
                </a:cubicBezTo>
                <a:cubicBezTo>
                  <a:pt x="380" y="664"/>
                  <a:pt x="394" y="703"/>
                  <a:pt x="420" y="720"/>
                </a:cubicBezTo>
                <a:cubicBezTo>
                  <a:pt x="428" y="744"/>
                  <a:pt x="435" y="754"/>
                  <a:pt x="456" y="768"/>
                </a:cubicBezTo>
                <a:cubicBezTo>
                  <a:pt x="484" y="810"/>
                  <a:pt x="468" y="796"/>
                  <a:pt x="498" y="816"/>
                </a:cubicBezTo>
                <a:cubicBezTo>
                  <a:pt x="514" y="839"/>
                  <a:pt x="553" y="878"/>
                  <a:pt x="576" y="894"/>
                </a:cubicBezTo>
                <a:cubicBezTo>
                  <a:pt x="580" y="900"/>
                  <a:pt x="583" y="907"/>
                  <a:pt x="588" y="912"/>
                </a:cubicBezTo>
                <a:cubicBezTo>
                  <a:pt x="599" y="921"/>
                  <a:pt x="624" y="936"/>
                  <a:pt x="624" y="936"/>
                </a:cubicBezTo>
                <a:cubicBezTo>
                  <a:pt x="633" y="964"/>
                  <a:pt x="659" y="964"/>
                  <a:pt x="684" y="978"/>
                </a:cubicBezTo>
                <a:cubicBezTo>
                  <a:pt x="722" y="999"/>
                  <a:pt x="755" y="1027"/>
                  <a:pt x="798" y="1038"/>
                </a:cubicBezTo>
                <a:cubicBezTo>
                  <a:pt x="868" y="1084"/>
                  <a:pt x="946" y="1106"/>
                  <a:pt x="1026" y="1128"/>
                </a:cubicBezTo>
                <a:cubicBezTo>
                  <a:pt x="1087" y="1145"/>
                  <a:pt x="1143" y="1167"/>
                  <a:pt x="1206" y="1176"/>
                </a:cubicBezTo>
                <a:cubicBezTo>
                  <a:pt x="1309" y="1210"/>
                  <a:pt x="1416" y="1238"/>
                  <a:pt x="1524" y="1248"/>
                </a:cubicBezTo>
                <a:cubicBezTo>
                  <a:pt x="1556" y="1259"/>
                  <a:pt x="1588" y="1267"/>
                  <a:pt x="1620" y="1278"/>
                </a:cubicBezTo>
                <a:cubicBezTo>
                  <a:pt x="1634" y="1283"/>
                  <a:pt x="1644" y="1294"/>
                  <a:pt x="1656" y="1302"/>
                </a:cubicBezTo>
                <a:cubicBezTo>
                  <a:pt x="1662" y="1306"/>
                  <a:pt x="1674" y="1314"/>
                  <a:pt x="1674" y="1314"/>
                </a:cubicBezTo>
                <a:cubicBezTo>
                  <a:pt x="1678" y="1320"/>
                  <a:pt x="1680" y="1327"/>
                  <a:pt x="1686" y="1332"/>
                </a:cubicBezTo>
                <a:cubicBezTo>
                  <a:pt x="1691" y="1336"/>
                  <a:pt x="1700" y="1334"/>
                  <a:pt x="1704" y="1338"/>
                </a:cubicBezTo>
                <a:cubicBezTo>
                  <a:pt x="1774" y="1408"/>
                  <a:pt x="1695" y="1352"/>
                  <a:pt x="1746" y="1386"/>
                </a:cubicBezTo>
                <a:cubicBezTo>
                  <a:pt x="1759" y="1425"/>
                  <a:pt x="1741" y="1387"/>
                  <a:pt x="1770" y="1410"/>
                </a:cubicBezTo>
                <a:cubicBezTo>
                  <a:pt x="1809" y="1441"/>
                  <a:pt x="1755" y="1419"/>
                  <a:pt x="1800" y="1434"/>
                </a:cubicBezTo>
                <a:cubicBezTo>
                  <a:pt x="1823" y="1469"/>
                  <a:pt x="1836" y="1512"/>
                  <a:pt x="1872" y="1536"/>
                </a:cubicBezTo>
                <a:cubicBezTo>
                  <a:pt x="1876" y="1542"/>
                  <a:pt x="1878" y="1549"/>
                  <a:pt x="1884" y="1554"/>
                </a:cubicBezTo>
                <a:cubicBezTo>
                  <a:pt x="1889" y="1558"/>
                  <a:pt x="1898" y="1556"/>
                  <a:pt x="1902" y="1560"/>
                </a:cubicBezTo>
                <a:cubicBezTo>
                  <a:pt x="1906" y="1564"/>
                  <a:pt x="1904" y="1574"/>
                  <a:pt x="1908" y="1578"/>
                </a:cubicBezTo>
                <a:cubicBezTo>
                  <a:pt x="1912" y="1582"/>
                  <a:pt x="1920" y="1581"/>
                  <a:pt x="1926" y="1584"/>
                </a:cubicBezTo>
                <a:cubicBezTo>
                  <a:pt x="1939" y="1591"/>
                  <a:pt x="1962" y="1608"/>
                  <a:pt x="1962" y="1608"/>
                </a:cubicBezTo>
                <a:cubicBezTo>
                  <a:pt x="1983" y="1639"/>
                  <a:pt x="2014" y="1660"/>
                  <a:pt x="2040" y="1686"/>
                </a:cubicBezTo>
                <a:cubicBezTo>
                  <a:pt x="2053" y="1725"/>
                  <a:pt x="2035" y="1687"/>
                  <a:pt x="2064" y="1710"/>
                </a:cubicBezTo>
                <a:cubicBezTo>
                  <a:pt x="2103" y="1741"/>
                  <a:pt x="2049" y="1719"/>
                  <a:pt x="2094" y="1734"/>
                </a:cubicBezTo>
                <a:cubicBezTo>
                  <a:pt x="2138" y="1778"/>
                  <a:pt x="2206" y="1793"/>
                  <a:pt x="2262" y="1818"/>
                </a:cubicBezTo>
                <a:cubicBezTo>
                  <a:pt x="2291" y="1831"/>
                  <a:pt x="2295" y="1828"/>
                  <a:pt x="2322" y="1836"/>
                </a:cubicBezTo>
                <a:cubicBezTo>
                  <a:pt x="2334" y="1840"/>
                  <a:pt x="2358" y="1848"/>
                  <a:pt x="2358" y="1848"/>
                </a:cubicBezTo>
                <a:cubicBezTo>
                  <a:pt x="2639" y="1841"/>
                  <a:pt x="2531" y="1858"/>
                  <a:pt x="2670" y="1812"/>
                </a:cubicBezTo>
                <a:cubicBezTo>
                  <a:pt x="2688" y="1794"/>
                  <a:pt x="2703" y="1790"/>
                  <a:pt x="2724" y="1776"/>
                </a:cubicBezTo>
                <a:cubicBezTo>
                  <a:pt x="2751" y="1735"/>
                  <a:pt x="2792" y="1732"/>
                  <a:pt x="2826" y="1704"/>
                </a:cubicBezTo>
                <a:cubicBezTo>
                  <a:pt x="2845" y="1688"/>
                  <a:pt x="2857" y="1667"/>
                  <a:pt x="2874" y="1650"/>
                </a:cubicBezTo>
                <a:cubicBezTo>
                  <a:pt x="2886" y="1615"/>
                  <a:pt x="2871" y="1647"/>
                  <a:pt x="2898" y="1620"/>
                </a:cubicBezTo>
                <a:cubicBezTo>
                  <a:pt x="2911" y="1607"/>
                  <a:pt x="2932" y="1559"/>
                  <a:pt x="2940" y="1542"/>
                </a:cubicBezTo>
                <a:cubicBezTo>
                  <a:pt x="2969" y="1476"/>
                  <a:pt x="2965" y="1397"/>
                  <a:pt x="3018" y="1344"/>
                </a:cubicBezTo>
                <a:cubicBezTo>
                  <a:pt x="3027" y="1317"/>
                  <a:pt x="3050" y="1296"/>
                  <a:pt x="3066" y="1272"/>
                </a:cubicBezTo>
                <a:cubicBezTo>
                  <a:pt x="3079" y="1252"/>
                  <a:pt x="3085" y="1212"/>
                  <a:pt x="3090" y="1188"/>
                </a:cubicBezTo>
                <a:cubicBezTo>
                  <a:pt x="3094" y="1114"/>
                  <a:pt x="3090" y="1032"/>
                  <a:pt x="3114" y="960"/>
                </a:cubicBezTo>
                <a:cubicBezTo>
                  <a:pt x="3160" y="638"/>
                  <a:pt x="3132" y="357"/>
                  <a:pt x="313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66840" y="2933640"/>
            <a:ext cx="5019840" cy="2800440"/>
          </a:xfrm>
          <a:custGeom>
            <a:avLst/>
            <a:gdLst/>
            <a:ahLst/>
            <a:rect l="l" t="t" r="r" b="b"/>
            <a:pathLst>
              <a:path w="3162" h="1764">
                <a:moveTo>
                  <a:pt x="0" y="744"/>
                </a:moveTo>
                <a:cubicBezTo>
                  <a:pt x="20" y="758"/>
                  <a:pt x="40" y="772"/>
                  <a:pt x="60" y="786"/>
                </a:cubicBezTo>
                <a:cubicBezTo>
                  <a:pt x="86" y="825"/>
                  <a:pt x="146" y="849"/>
                  <a:pt x="186" y="876"/>
                </a:cubicBezTo>
                <a:cubicBezTo>
                  <a:pt x="198" y="884"/>
                  <a:pt x="210" y="892"/>
                  <a:pt x="222" y="900"/>
                </a:cubicBezTo>
                <a:cubicBezTo>
                  <a:pt x="228" y="904"/>
                  <a:pt x="240" y="912"/>
                  <a:pt x="240" y="912"/>
                </a:cubicBezTo>
                <a:cubicBezTo>
                  <a:pt x="251" y="946"/>
                  <a:pt x="313" y="996"/>
                  <a:pt x="348" y="1008"/>
                </a:cubicBezTo>
                <a:cubicBezTo>
                  <a:pt x="367" y="1037"/>
                  <a:pt x="403" y="1043"/>
                  <a:pt x="432" y="1062"/>
                </a:cubicBezTo>
                <a:cubicBezTo>
                  <a:pt x="448" y="1086"/>
                  <a:pt x="472" y="1093"/>
                  <a:pt x="498" y="1110"/>
                </a:cubicBezTo>
                <a:cubicBezTo>
                  <a:pt x="504" y="1114"/>
                  <a:pt x="516" y="1122"/>
                  <a:pt x="516" y="1122"/>
                </a:cubicBezTo>
                <a:cubicBezTo>
                  <a:pt x="530" y="1143"/>
                  <a:pt x="540" y="1150"/>
                  <a:pt x="564" y="1158"/>
                </a:cubicBezTo>
                <a:cubicBezTo>
                  <a:pt x="580" y="1182"/>
                  <a:pt x="593" y="1179"/>
                  <a:pt x="618" y="1194"/>
                </a:cubicBezTo>
                <a:cubicBezTo>
                  <a:pt x="660" y="1219"/>
                  <a:pt x="695" y="1247"/>
                  <a:pt x="732" y="1278"/>
                </a:cubicBezTo>
                <a:cubicBezTo>
                  <a:pt x="750" y="1293"/>
                  <a:pt x="773" y="1301"/>
                  <a:pt x="792" y="1314"/>
                </a:cubicBezTo>
                <a:cubicBezTo>
                  <a:pt x="811" y="1343"/>
                  <a:pt x="797" y="1330"/>
                  <a:pt x="840" y="1344"/>
                </a:cubicBezTo>
                <a:cubicBezTo>
                  <a:pt x="854" y="1349"/>
                  <a:pt x="862" y="1363"/>
                  <a:pt x="876" y="1368"/>
                </a:cubicBezTo>
                <a:cubicBezTo>
                  <a:pt x="902" y="1377"/>
                  <a:pt x="888" y="1372"/>
                  <a:pt x="918" y="1380"/>
                </a:cubicBezTo>
                <a:cubicBezTo>
                  <a:pt x="954" y="1404"/>
                  <a:pt x="973" y="1418"/>
                  <a:pt x="1014" y="1428"/>
                </a:cubicBezTo>
                <a:cubicBezTo>
                  <a:pt x="1064" y="1462"/>
                  <a:pt x="1130" y="1475"/>
                  <a:pt x="1188" y="1494"/>
                </a:cubicBezTo>
                <a:cubicBezTo>
                  <a:pt x="1201" y="1498"/>
                  <a:pt x="1211" y="1508"/>
                  <a:pt x="1224" y="1512"/>
                </a:cubicBezTo>
                <a:cubicBezTo>
                  <a:pt x="1249" y="1520"/>
                  <a:pt x="1277" y="1521"/>
                  <a:pt x="1302" y="1530"/>
                </a:cubicBezTo>
                <a:cubicBezTo>
                  <a:pt x="1355" y="1550"/>
                  <a:pt x="1406" y="1574"/>
                  <a:pt x="1458" y="1596"/>
                </a:cubicBezTo>
                <a:cubicBezTo>
                  <a:pt x="1499" y="1614"/>
                  <a:pt x="1547" y="1624"/>
                  <a:pt x="1590" y="1638"/>
                </a:cubicBezTo>
                <a:cubicBezTo>
                  <a:pt x="1597" y="1640"/>
                  <a:pt x="1601" y="1647"/>
                  <a:pt x="1608" y="1650"/>
                </a:cubicBezTo>
                <a:cubicBezTo>
                  <a:pt x="1657" y="1672"/>
                  <a:pt x="1705" y="1681"/>
                  <a:pt x="1758" y="1686"/>
                </a:cubicBezTo>
                <a:cubicBezTo>
                  <a:pt x="1805" y="1698"/>
                  <a:pt x="1854" y="1716"/>
                  <a:pt x="1902" y="1722"/>
                </a:cubicBezTo>
                <a:cubicBezTo>
                  <a:pt x="1944" y="1727"/>
                  <a:pt x="2028" y="1734"/>
                  <a:pt x="2028" y="1734"/>
                </a:cubicBezTo>
                <a:cubicBezTo>
                  <a:pt x="2064" y="1741"/>
                  <a:pt x="2100" y="1746"/>
                  <a:pt x="2136" y="1752"/>
                </a:cubicBezTo>
                <a:cubicBezTo>
                  <a:pt x="2156" y="1756"/>
                  <a:pt x="2196" y="1764"/>
                  <a:pt x="2196" y="1764"/>
                </a:cubicBezTo>
                <a:cubicBezTo>
                  <a:pt x="2342" y="1761"/>
                  <a:pt x="2442" y="1759"/>
                  <a:pt x="2574" y="1740"/>
                </a:cubicBezTo>
                <a:cubicBezTo>
                  <a:pt x="2621" y="1724"/>
                  <a:pt x="2658" y="1708"/>
                  <a:pt x="2700" y="1680"/>
                </a:cubicBezTo>
                <a:cubicBezTo>
                  <a:pt x="2712" y="1672"/>
                  <a:pt x="2724" y="1664"/>
                  <a:pt x="2736" y="1656"/>
                </a:cubicBezTo>
                <a:cubicBezTo>
                  <a:pt x="2742" y="1652"/>
                  <a:pt x="2754" y="1644"/>
                  <a:pt x="2754" y="1644"/>
                </a:cubicBezTo>
                <a:cubicBezTo>
                  <a:pt x="2770" y="1620"/>
                  <a:pt x="2796" y="1594"/>
                  <a:pt x="2820" y="1578"/>
                </a:cubicBezTo>
                <a:cubicBezTo>
                  <a:pt x="2846" y="1539"/>
                  <a:pt x="2859" y="1494"/>
                  <a:pt x="2880" y="1452"/>
                </a:cubicBezTo>
                <a:cubicBezTo>
                  <a:pt x="2893" y="1426"/>
                  <a:pt x="2897" y="1402"/>
                  <a:pt x="2922" y="1386"/>
                </a:cubicBezTo>
                <a:cubicBezTo>
                  <a:pt x="2934" y="1349"/>
                  <a:pt x="2959" y="1315"/>
                  <a:pt x="2970" y="1278"/>
                </a:cubicBezTo>
                <a:cubicBezTo>
                  <a:pt x="2981" y="1240"/>
                  <a:pt x="2982" y="1201"/>
                  <a:pt x="2994" y="1164"/>
                </a:cubicBezTo>
                <a:cubicBezTo>
                  <a:pt x="3001" y="1108"/>
                  <a:pt x="3025" y="1062"/>
                  <a:pt x="3036" y="1008"/>
                </a:cubicBezTo>
                <a:cubicBezTo>
                  <a:pt x="3043" y="974"/>
                  <a:pt x="3046" y="940"/>
                  <a:pt x="3054" y="906"/>
                </a:cubicBezTo>
                <a:cubicBezTo>
                  <a:pt x="3068" y="847"/>
                  <a:pt x="3093" y="791"/>
                  <a:pt x="3108" y="732"/>
                </a:cubicBezTo>
                <a:cubicBezTo>
                  <a:pt x="3111" y="623"/>
                  <a:pt x="3103" y="352"/>
                  <a:pt x="3138" y="246"/>
                </a:cubicBezTo>
                <a:cubicBezTo>
                  <a:pt x="3145" y="165"/>
                  <a:pt x="3162" y="81"/>
                  <a:pt x="316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38400" y="3552840"/>
            <a:ext cx="5648040" cy="2286000"/>
          </a:xfrm>
          <a:custGeom>
            <a:avLst/>
            <a:gdLst/>
            <a:ahLst/>
            <a:rect l="l" t="t" r="r" b="b"/>
            <a:pathLst>
              <a:path w="3558" h="1440">
                <a:moveTo>
                  <a:pt x="0" y="432"/>
                </a:moveTo>
                <a:cubicBezTo>
                  <a:pt x="18" y="444"/>
                  <a:pt x="36" y="456"/>
                  <a:pt x="54" y="468"/>
                </a:cubicBezTo>
                <a:cubicBezTo>
                  <a:pt x="66" y="476"/>
                  <a:pt x="90" y="492"/>
                  <a:pt x="90" y="492"/>
                </a:cubicBezTo>
                <a:cubicBezTo>
                  <a:pt x="105" y="514"/>
                  <a:pt x="128" y="537"/>
                  <a:pt x="150" y="552"/>
                </a:cubicBezTo>
                <a:cubicBezTo>
                  <a:pt x="172" y="585"/>
                  <a:pt x="184" y="573"/>
                  <a:pt x="216" y="594"/>
                </a:cubicBezTo>
                <a:cubicBezTo>
                  <a:pt x="246" y="614"/>
                  <a:pt x="276" y="634"/>
                  <a:pt x="306" y="654"/>
                </a:cubicBezTo>
                <a:cubicBezTo>
                  <a:pt x="323" y="665"/>
                  <a:pt x="343" y="673"/>
                  <a:pt x="360" y="684"/>
                </a:cubicBezTo>
                <a:cubicBezTo>
                  <a:pt x="366" y="688"/>
                  <a:pt x="378" y="696"/>
                  <a:pt x="378" y="696"/>
                </a:cubicBezTo>
                <a:cubicBezTo>
                  <a:pt x="389" y="730"/>
                  <a:pt x="400" y="735"/>
                  <a:pt x="432" y="756"/>
                </a:cubicBezTo>
                <a:cubicBezTo>
                  <a:pt x="438" y="760"/>
                  <a:pt x="450" y="768"/>
                  <a:pt x="450" y="768"/>
                </a:cubicBezTo>
                <a:cubicBezTo>
                  <a:pt x="465" y="791"/>
                  <a:pt x="479" y="792"/>
                  <a:pt x="504" y="804"/>
                </a:cubicBezTo>
                <a:cubicBezTo>
                  <a:pt x="519" y="826"/>
                  <a:pt x="544" y="837"/>
                  <a:pt x="570" y="846"/>
                </a:cubicBezTo>
                <a:cubicBezTo>
                  <a:pt x="591" y="878"/>
                  <a:pt x="635" y="906"/>
                  <a:pt x="672" y="918"/>
                </a:cubicBezTo>
                <a:cubicBezTo>
                  <a:pt x="691" y="947"/>
                  <a:pt x="677" y="934"/>
                  <a:pt x="720" y="948"/>
                </a:cubicBezTo>
                <a:cubicBezTo>
                  <a:pt x="734" y="953"/>
                  <a:pt x="744" y="964"/>
                  <a:pt x="756" y="972"/>
                </a:cubicBezTo>
                <a:cubicBezTo>
                  <a:pt x="762" y="976"/>
                  <a:pt x="774" y="984"/>
                  <a:pt x="774" y="984"/>
                </a:cubicBezTo>
                <a:cubicBezTo>
                  <a:pt x="786" y="1020"/>
                  <a:pt x="841" y="1028"/>
                  <a:pt x="876" y="1038"/>
                </a:cubicBezTo>
                <a:cubicBezTo>
                  <a:pt x="901" y="1045"/>
                  <a:pt x="938" y="1047"/>
                  <a:pt x="960" y="1062"/>
                </a:cubicBezTo>
                <a:cubicBezTo>
                  <a:pt x="997" y="1087"/>
                  <a:pt x="1029" y="1103"/>
                  <a:pt x="1068" y="1122"/>
                </a:cubicBezTo>
                <a:cubicBezTo>
                  <a:pt x="1100" y="1138"/>
                  <a:pt x="1133" y="1153"/>
                  <a:pt x="1164" y="1170"/>
                </a:cubicBezTo>
                <a:cubicBezTo>
                  <a:pt x="1177" y="1177"/>
                  <a:pt x="1186" y="1189"/>
                  <a:pt x="1200" y="1194"/>
                </a:cubicBezTo>
                <a:cubicBezTo>
                  <a:pt x="1324" y="1235"/>
                  <a:pt x="1454" y="1261"/>
                  <a:pt x="1578" y="1302"/>
                </a:cubicBezTo>
                <a:cubicBezTo>
                  <a:pt x="1619" y="1316"/>
                  <a:pt x="1632" y="1320"/>
                  <a:pt x="1668" y="1344"/>
                </a:cubicBezTo>
                <a:cubicBezTo>
                  <a:pt x="1677" y="1350"/>
                  <a:pt x="1785" y="1372"/>
                  <a:pt x="1794" y="1374"/>
                </a:cubicBezTo>
                <a:cubicBezTo>
                  <a:pt x="1829" y="1383"/>
                  <a:pt x="1871" y="1408"/>
                  <a:pt x="1908" y="1410"/>
                </a:cubicBezTo>
                <a:cubicBezTo>
                  <a:pt x="1980" y="1414"/>
                  <a:pt x="2052" y="1414"/>
                  <a:pt x="2124" y="1416"/>
                </a:cubicBezTo>
                <a:cubicBezTo>
                  <a:pt x="2336" y="1440"/>
                  <a:pt x="2545" y="1424"/>
                  <a:pt x="2754" y="1398"/>
                </a:cubicBezTo>
                <a:cubicBezTo>
                  <a:pt x="2783" y="1394"/>
                  <a:pt x="2825" y="1394"/>
                  <a:pt x="2856" y="1386"/>
                </a:cubicBezTo>
                <a:cubicBezTo>
                  <a:pt x="2928" y="1368"/>
                  <a:pt x="2990" y="1325"/>
                  <a:pt x="3060" y="1302"/>
                </a:cubicBezTo>
                <a:cubicBezTo>
                  <a:pt x="3071" y="1291"/>
                  <a:pt x="3078" y="1276"/>
                  <a:pt x="3090" y="1266"/>
                </a:cubicBezTo>
                <a:cubicBezTo>
                  <a:pt x="3102" y="1256"/>
                  <a:pt x="3118" y="1255"/>
                  <a:pt x="3132" y="1248"/>
                </a:cubicBezTo>
                <a:cubicBezTo>
                  <a:pt x="3136" y="1242"/>
                  <a:pt x="3139" y="1235"/>
                  <a:pt x="3144" y="1230"/>
                </a:cubicBezTo>
                <a:cubicBezTo>
                  <a:pt x="3155" y="1217"/>
                  <a:pt x="3170" y="1208"/>
                  <a:pt x="3180" y="1194"/>
                </a:cubicBezTo>
                <a:cubicBezTo>
                  <a:pt x="3200" y="1168"/>
                  <a:pt x="3212" y="1140"/>
                  <a:pt x="3240" y="1122"/>
                </a:cubicBezTo>
                <a:cubicBezTo>
                  <a:pt x="3268" y="1079"/>
                  <a:pt x="3279" y="1026"/>
                  <a:pt x="3324" y="996"/>
                </a:cubicBezTo>
                <a:cubicBezTo>
                  <a:pt x="3348" y="947"/>
                  <a:pt x="3361" y="878"/>
                  <a:pt x="3408" y="846"/>
                </a:cubicBezTo>
                <a:cubicBezTo>
                  <a:pt x="3419" y="813"/>
                  <a:pt x="3425" y="793"/>
                  <a:pt x="3450" y="768"/>
                </a:cubicBezTo>
                <a:cubicBezTo>
                  <a:pt x="3454" y="756"/>
                  <a:pt x="3458" y="744"/>
                  <a:pt x="3462" y="732"/>
                </a:cubicBezTo>
                <a:cubicBezTo>
                  <a:pt x="3464" y="726"/>
                  <a:pt x="3468" y="714"/>
                  <a:pt x="3468" y="714"/>
                </a:cubicBezTo>
                <a:cubicBezTo>
                  <a:pt x="3472" y="632"/>
                  <a:pt x="3455" y="595"/>
                  <a:pt x="3492" y="540"/>
                </a:cubicBezTo>
                <a:cubicBezTo>
                  <a:pt x="3536" y="362"/>
                  <a:pt x="3508" y="176"/>
                  <a:pt x="3552" y="0"/>
                </a:cubicBezTo>
                <a:cubicBezTo>
                  <a:pt x="3554" y="6"/>
                  <a:pt x="3558" y="18"/>
                  <a:pt x="3558" y="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3505320"/>
            <a:ext cx="5762520" cy="2766960"/>
          </a:xfrm>
          <a:custGeom>
            <a:avLst/>
            <a:gdLst/>
            <a:ahLst/>
            <a:rect l="l" t="t" r="r" b="b"/>
            <a:pathLst>
              <a:path w="3690" h="1731">
                <a:moveTo>
                  <a:pt x="0" y="558"/>
                </a:moveTo>
                <a:cubicBezTo>
                  <a:pt x="28" y="599"/>
                  <a:pt x="10" y="589"/>
                  <a:pt x="42" y="600"/>
                </a:cubicBezTo>
                <a:cubicBezTo>
                  <a:pt x="55" y="639"/>
                  <a:pt x="37" y="601"/>
                  <a:pt x="66" y="624"/>
                </a:cubicBezTo>
                <a:cubicBezTo>
                  <a:pt x="72" y="629"/>
                  <a:pt x="72" y="638"/>
                  <a:pt x="78" y="642"/>
                </a:cubicBezTo>
                <a:cubicBezTo>
                  <a:pt x="89" y="649"/>
                  <a:pt x="114" y="654"/>
                  <a:pt x="114" y="654"/>
                </a:cubicBezTo>
                <a:cubicBezTo>
                  <a:pt x="135" y="686"/>
                  <a:pt x="114" y="663"/>
                  <a:pt x="150" y="678"/>
                </a:cubicBezTo>
                <a:cubicBezTo>
                  <a:pt x="172" y="687"/>
                  <a:pt x="181" y="706"/>
                  <a:pt x="204" y="714"/>
                </a:cubicBezTo>
                <a:cubicBezTo>
                  <a:pt x="238" y="766"/>
                  <a:pt x="193" y="705"/>
                  <a:pt x="234" y="738"/>
                </a:cubicBezTo>
                <a:cubicBezTo>
                  <a:pt x="240" y="743"/>
                  <a:pt x="240" y="752"/>
                  <a:pt x="246" y="756"/>
                </a:cubicBezTo>
                <a:cubicBezTo>
                  <a:pt x="257" y="763"/>
                  <a:pt x="282" y="768"/>
                  <a:pt x="282" y="768"/>
                </a:cubicBezTo>
                <a:cubicBezTo>
                  <a:pt x="323" y="809"/>
                  <a:pt x="304" y="795"/>
                  <a:pt x="336" y="816"/>
                </a:cubicBezTo>
                <a:cubicBezTo>
                  <a:pt x="357" y="847"/>
                  <a:pt x="389" y="873"/>
                  <a:pt x="420" y="894"/>
                </a:cubicBezTo>
                <a:cubicBezTo>
                  <a:pt x="446" y="932"/>
                  <a:pt x="457" y="924"/>
                  <a:pt x="486" y="948"/>
                </a:cubicBezTo>
                <a:cubicBezTo>
                  <a:pt x="519" y="975"/>
                  <a:pt x="558" y="1000"/>
                  <a:pt x="600" y="1014"/>
                </a:cubicBezTo>
                <a:cubicBezTo>
                  <a:pt x="619" y="1043"/>
                  <a:pt x="605" y="1030"/>
                  <a:pt x="648" y="1044"/>
                </a:cubicBezTo>
                <a:cubicBezTo>
                  <a:pt x="693" y="1059"/>
                  <a:pt x="735" y="1087"/>
                  <a:pt x="780" y="1098"/>
                </a:cubicBezTo>
                <a:cubicBezTo>
                  <a:pt x="815" y="1121"/>
                  <a:pt x="851" y="1137"/>
                  <a:pt x="888" y="1158"/>
                </a:cubicBezTo>
                <a:cubicBezTo>
                  <a:pt x="956" y="1196"/>
                  <a:pt x="1015" y="1241"/>
                  <a:pt x="1086" y="1272"/>
                </a:cubicBezTo>
                <a:cubicBezTo>
                  <a:pt x="1164" y="1307"/>
                  <a:pt x="1251" y="1320"/>
                  <a:pt x="1332" y="1344"/>
                </a:cubicBezTo>
                <a:cubicBezTo>
                  <a:pt x="1360" y="1352"/>
                  <a:pt x="1379" y="1365"/>
                  <a:pt x="1404" y="1374"/>
                </a:cubicBezTo>
                <a:cubicBezTo>
                  <a:pt x="1427" y="1383"/>
                  <a:pt x="1453" y="1382"/>
                  <a:pt x="1476" y="1392"/>
                </a:cubicBezTo>
                <a:cubicBezTo>
                  <a:pt x="1515" y="1409"/>
                  <a:pt x="1565" y="1431"/>
                  <a:pt x="1608" y="1434"/>
                </a:cubicBezTo>
                <a:cubicBezTo>
                  <a:pt x="1650" y="1437"/>
                  <a:pt x="1692" y="1438"/>
                  <a:pt x="1734" y="1440"/>
                </a:cubicBezTo>
                <a:cubicBezTo>
                  <a:pt x="1799" y="1453"/>
                  <a:pt x="1866" y="1475"/>
                  <a:pt x="1932" y="1482"/>
                </a:cubicBezTo>
                <a:cubicBezTo>
                  <a:pt x="1958" y="1485"/>
                  <a:pt x="1984" y="1486"/>
                  <a:pt x="2010" y="1488"/>
                </a:cubicBezTo>
                <a:cubicBezTo>
                  <a:pt x="2026" y="1490"/>
                  <a:pt x="2042" y="1492"/>
                  <a:pt x="2058" y="1494"/>
                </a:cubicBezTo>
                <a:cubicBezTo>
                  <a:pt x="2156" y="1527"/>
                  <a:pt x="2470" y="1512"/>
                  <a:pt x="2472" y="1512"/>
                </a:cubicBezTo>
                <a:cubicBezTo>
                  <a:pt x="2606" y="1509"/>
                  <a:pt x="2741" y="1497"/>
                  <a:pt x="2874" y="1506"/>
                </a:cubicBezTo>
                <a:cubicBezTo>
                  <a:pt x="2886" y="1510"/>
                  <a:pt x="2903" y="1507"/>
                  <a:pt x="2910" y="1518"/>
                </a:cubicBezTo>
                <a:cubicBezTo>
                  <a:pt x="2938" y="1560"/>
                  <a:pt x="2922" y="1546"/>
                  <a:pt x="2952" y="1566"/>
                </a:cubicBezTo>
                <a:cubicBezTo>
                  <a:pt x="2961" y="1592"/>
                  <a:pt x="2972" y="1617"/>
                  <a:pt x="2994" y="1632"/>
                </a:cubicBezTo>
                <a:cubicBezTo>
                  <a:pt x="3010" y="1680"/>
                  <a:pt x="2986" y="1624"/>
                  <a:pt x="3018" y="1656"/>
                </a:cubicBezTo>
                <a:cubicBezTo>
                  <a:pt x="3050" y="1688"/>
                  <a:pt x="2994" y="1664"/>
                  <a:pt x="3042" y="1680"/>
                </a:cubicBezTo>
                <a:cubicBezTo>
                  <a:pt x="3044" y="1686"/>
                  <a:pt x="3043" y="1694"/>
                  <a:pt x="3048" y="1698"/>
                </a:cubicBezTo>
                <a:cubicBezTo>
                  <a:pt x="3065" y="1710"/>
                  <a:pt x="3104" y="1717"/>
                  <a:pt x="3126" y="1722"/>
                </a:cubicBezTo>
                <a:cubicBezTo>
                  <a:pt x="3199" y="1718"/>
                  <a:pt x="3227" y="1731"/>
                  <a:pt x="3276" y="1698"/>
                </a:cubicBezTo>
                <a:cubicBezTo>
                  <a:pt x="3304" y="1656"/>
                  <a:pt x="3288" y="1670"/>
                  <a:pt x="3318" y="1650"/>
                </a:cubicBezTo>
                <a:cubicBezTo>
                  <a:pt x="3334" y="1603"/>
                  <a:pt x="3356" y="1565"/>
                  <a:pt x="3384" y="1524"/>
                </a:cubicBezTo>
                <a:cubicBezTo>
                  <a:pt x="3384" y="1524"/>
                  <a:pt x="3399" y="1479"/>
                  <a:pt x="3402" y="1470"/>
                </a:cubicBezTo>
                <a:cubicBezTo>
                  <a:pt x="3406" y="1458"/>
                  <a:pt x="3414" y="1434"/>
                  <a:pt x="3414" y="1434"/>
                </a:cubicBezTo>
                <a:cubicBezTo>
                  <a:pt x="3423" y="1374"/>
                  <a:pt x="3440" y="1287"/>
                  <a:pt x="3474" y="1236"/>
                </a:cubicBezTo>
                <a:cubicBezTo>
                  <a:pt x="3496" y="1149"/>
                  <a:pt x="3530" y="1070"/>
                  <a:pt x="3552" y="984"/>
                </a:cubicBezTo>
                <a:cubicBezTo>
                  <a:pt x="3556" y="941"/>
                  <a:pt x="3556" y="899"/>
                  <a:pt x="3570" y="858"/>
                </a:cubicBezTo>
                <a:cubicBezTo>
                  <a:pt x="3575" y="803"/>
                  <a:pt x="3578" y="772"/>
                  <a:pt x="3606" y="726"/>
                </a:cubicBezTo>
                <a:cubicBezTo>
                  <a:pt x="3632" y="620"/>
                  <a:pt x="3593" y="506"/>
                  <a:pt x="3642" y="408"/>
                </a:cubicBezTo>
                <a:cubicBezTo>
                  <a:pt x="3651" y="356"/>
                  <a:pt x="3651" y="304"/>
                  <a:pt x="3660" y="252"/>
                </a:cubicBezTo>
                <a:cubicBezTo>
                  <a:pt x="3662" y="196"/>
                  <a:pt x="3662" y="140"/>
                  <a:pt x="3666" y="84"/>
                </a:cubicBezTo>
                <a:cubicBezTo>
                  <a:pt x="3667" y="61"/>
                  <a:pt x="3677" y="40"/>
                  <a:pt x="3684" y="18"/>
                </a:cubicBezTo>
                <a:cubicBezTo>
                  <a:pt x="3686" y="12"/>
                  <a:pt x="3690" y="0"/>
                  <a:pt x="36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38280" y="20210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98440" y="2124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74720" y="1876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74840" y="24098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65440" y="23907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56040" y="24573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79680" y="27241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508440" y="3381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99040" y="3295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1696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DA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2820960" y="1366920"/>
            <a:ext cx="458640" cy="355680"/>
            <a:chOff x="2820960" y="1366920"/>
            <a:chExt cx="458640" cy="355680"/>
          </a:xfrm>
        </p:grpSpPr>
        <p:sp>
          <p:nvSpPr>
            <p:cNvPr id="346" name=""/>
            <p:cNvSpPr/>
            <p:nvPr/>
          </p:nvSpPr>
          <p:spPr>
            <a:xfrm>
              <a:off x="2820960" y="1366920"/>
              <a:ext cx="353880" cy="35568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09880" y="151776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4" y="45"/>
                  </a:lnTo>
                  <a:lnTo>
                    <a:pt x="18" y="23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7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5"/>
                  </a:lnTo>
                  <a:lnTo>
                    <a:pt x="32" y="19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34" y="36"/>
                  </a:lnTo>
                  <a:lnTo>
                    <a:pt x="37" y="40"/>
                  </a:lnTo>
                  <a:lnTo>
                    <a:pt x="40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4" y="22"/>
                  </a:moveTo>
                  <a:lnTo>
                    <a:pt x="14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4" y="19"/>
                  </a:lnTo>
                  <a:lnTo>
                    <a:pt x="26" y="15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5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86200" y="151776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6" y="0"/>
                  </a:lnTo>
                  <a:lnTo>
                    <a:pt x="31" y="3"/>
                  </a:lnTo>
                  <a:lnTo>
                    <a:pt x="36" y="6"/>
                  </a:lnTo>
                  <a:lnTo>
                    <a:pt x="39" y="11"/>
                  </a:lnTo>
                  <a:lnTo>
                    <a:pt x="42" y="15"/>
                  </a:lnTo>
                  <a:lnTo>
                    <a:pt x="42" y="22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5" y="45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22" y="0"/>
                  </a:lnTo>
                  <a:close/>
                  <a:moveTo>
                    <a:pt x="20" y="1"/>
                  </a:moveTo>
                  <a:lnTo>
                    <a:pt x="17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5"/>
                  </a:lnTo>
                  <a:lnTo>
                    <a:pt x="8" y="22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9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1" y="39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3"/>
                  </a:lnTo>
                  <a:lnTo>
                    <a:pt x="34" y="15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62160" y="151776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6" y="0"/>
                  </a:moveTo>
                  <a:lnTo>
                    <a:pt x="37" y="15"/>
                  </a:lnTo>
                  <a:lnTo>
                    <a:pt x="36" y="15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4" y="40"/>
                  </a:lnTo>
                  <a:lnTo>
                    <a:pt x="19" y="42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30640" y="1403280"/>
              <a:ext cx="48960" cy="9684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23" y="0"/>
                  </a:moveTo>
                  <a:lnTo>
                    <a:pt x="23" y="49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5" y="58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9" y="53"/>
                  </a:lnTo>
                  <a:lnTo>
                    <a:pt x="9" y="49"/>
                  </a:lnTo>
                  <a:lnTo>
                    <a:pt x="9" y="18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716120" y="141120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6120" y="2104920"/>
            <a:ext cx="132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26080" y="2076480"/>
            <a:ext cx="132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109960" y="1677960"/>
            <a:ext cx="857160" cy="711360"/>
            <a:chOff x="2109960" y="1677960"/>
            <a:chExt cx="857160" cy="711360"/>
          </a:xfrm>
        </p:grpSpPr>
        <p:sp>
          <p:nvSpPr>
            <p:cNvPr id="355" name=""/>
            <p:cNvSpPr/>
            <p:nvPr/>
          </p:nvSpPr>
          <p:spPr>
            <a:xfrm>
              <a:off x="2109960" y="2033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383920" y="1677960"/>
              <a:ext cx="48132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84280" y="201312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98520" y="2184480"/>
              <a:ext cx="6372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70160" y="2184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46480" y="2184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46360" y="1733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130560" y="1677960"/>
            <a:ext cx="711360" cy="711360"/>
            <a:chOff x="3130560" y="1677960"/>
            <a:chExt cx="711360" cy="711360"/>
          </a:xfrm>
        </p:grpSpPr>
        <p:sp>
          <p:nvSpPr>
            <p:cNvPr id="363" name=""/>
            <p:cNvSpPr/>
            <p:nvPr/>
          </p:nvSpPr>
          <p:spPr>
            <a:xfrm>
              <a:off x="3486240" y="203364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30560" y="167796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59240" y="20066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75160" y="218448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1120" y="218448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30680" y="2184480"/>
              <a:ext cx="4428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41440" y="1704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5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286000" y="1276200"/>
            <a:ext cx="1316160" cy="552600"/>
          </a:xfrm>
          <a:custGeom>
            <a:avLst/>
            <a:gdLst/>
            <a:ahLst/>
            <a:rect l="l" t="t" r="r" b="b"/>
            <a:pathLst>
              <a:path w="829" h="348">
                <a:moveTo>
                  <a:pt x="804" y="0"/>
                </a:moveTo>
                <a:cubicBezTo>
                  <a:pt x="802" y="42"/>
                  <a:pt x="829" y="196"/>
                  <a:pt x="750" y="222"/>
                </a:cubicBezTo>
                <a:cubicBezTo>
                  <a:pt x="736" y="243"/>
                  <a:pt x="726" y="250"/>
                  <a:pt x="702" y="258"/>
                </a:cubicBezTo>
                <a:cubicBezTo>
                  <a:pt x="683" y="287"/>
                  <a:pt x="697" y="274"/>
                  <a:pt x="654" y="288"/>
                </a:cubicBezTo>
                <a:cubicBezTo>
                  <a:pt x="636" y="294"/>
                  <a:pt x="618" y="310"/>
                  <a:pt x="600" y="318"/>
                </a:cubicBezTo>
                <a:cubicBezTo>
                  <a:pt x="562" y="335"/>
                  <a:pt x="515" y="342"/>
                  <a:pt x="474" y="348"/>
                </a:cubicBezTo>
                <a:cubicBezTo>
                  <a:pt x="344" y="346"/>
                  <a:pt x="214" y="346"/>
                  <a:pt x="84" y="342"/>
                </a:cubicBezTo>
                <a:cubicBezTo>
                  <a:pt x="59" y="341"/>
                  <a:pt x="19" y="337"/>
                  <a:pt x="0" y="3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85800" y="1020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5520" y="58356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8500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8572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8572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2820960" y="1366920"/>
            <a:ext cx="458640" cy="355680"/>
            <a:chOff x="2820960" y="1366920"/>
            <a:chExt cx="458640" cy="355680"/>
          </a:xfrm>
        </p:grpSpPr>
        <p:sp>
          <p:nvSpPr>
            <p:cNvPr id="377" name=""/>
            <p:cNvSpPr/>
            <p:nvPr/>
          </p:nvSpPr>
          <p:spPr>
            <a:xfrm>
              <a:off x="2820960" y="1366920"/>
              <a:ext cx="353880" cy="35568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09880" y="151776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4" y="45"/>
                  </a:lnTo>
                  <a:lnTo>
                    <a:pt x="18" y="23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7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4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5"/>
                  </a:lnTo>
                  <a:lnTo>
                    <a:pt x="32" y="19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34" y="36"/>
                  </a:lnTo>
                  <a:lnTo>
                    <a:pt x="37" y="40"/>
                  </a:lnTo>
                  <a:lnTo>
                    <a:pt x="40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4" y="22"/>
                  </a:moveTo>
                  <a:lnTo>
                    <a:pt x="14" y="22"/>
                  </a:lnTo>
                  <a:lnTo>
                    <a:pt x="14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20" y="22"/>
                  </a:lnTo>
                  <a:lnTo>
                    <a:pt x="24" y="19"/>
                  </a:lnTo>
                  <a:lnTo>
                    <a:pt x="26" y="15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5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86200" y="151776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6" y="0"/>
                  </a:lnTo>
                  <a:lnTo>
                    <a:pt x="31" y="3"/>
                  </a:lnTo>
                  <a:lnTo>
                    <a:pt x="36" y="6"/>
                  </a:lnTo>
                  <a:lnTo>
                    <a:pt x="39" y="11"/>
                  </a:lnTo>
                  <a:lnTo>
                    <a:pt x="42" y="15"/>
                  </a:lnTo>
                  <a:lnTo>
                    <a:pt x="42" y="22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5" y="45"/>
                  </a:lnTo>
                  <a:lnTo>
                    <a:pt x="9" y="43"/>
                  </a:lnTo>
                  <a:lnTo>
                    <a:pt x="6" y="39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5" y="0"/>
                  </a:lnTo>
                  <a:lnTo>
                    <a:pt x="22" y="0"/>
                  </a:lnTo>
                  <a:close/>
                  <a:moveTo>
                    <a:pt x="20" y="1"/>
                  </a:moveTo>
                  <a:lnTo>
                    <a:pt x="17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5"/>
                  </a:lnTo>
                  <a:lnTo>
                    <a:pt x="8" y="22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9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1" y="39"/>
                  </a:lnTo>
                  <a:lnTo>
                    <a:pt x="32" y="34"/>
                  </a:lnTo>
                  <a:lnTo>
                    <a:pt x="34" y="29"/>
                  </a:lnTo>
                  <a:lnTo>
                    <a:pt x="34" y="23"/>
                  </a:lnTo>
                  <a:lnTo>
                    <a:pt x="34" y="15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62160" y="151776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6" y="0"/>
                  </a:moveTo>
                  <a:lnTo>
                    <a:pt x="37" y="15"/>
                  </a:lnTo>
                  <a:lnTo>
                    <a:pt x="36" y="15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29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4" y="40"/>
                  </a:lnTo>
                  <a:lnTo>
                    <a:pt x="19" y="42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8" y="42"/>
                  </a:lnTo>
                  <a:lnTo>
                    <a:pt x="3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30640" y="1403280"/>
              <a:ext cx="48960" cy="9684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23" y="0"/>
                  </a:moveTo>
                  <a:lnTo>
                    <a:pt x="23" y="49"/>
                  </a:lnTo>
                  <a:lnTo>
                    <a:pt x="23" y="53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5" y="58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1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9" y="53"/>
                  </a:lnTo>
                  <a:lnTo>
                    <a:pt x="9" y="49"/>
                  </a:lnTo>
                  <a:lnTo>
                    <a:pt x="9" y="18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3" y="11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43320" y="141120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 </a:t>
            </a:r>
            <a:r>
              <a:rPr b="1" lang="en-US" sz="1000" spc="-1" strike="noStrike">
                <a:solidFill>
                  <a:srgbClr val="009600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9600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16120" y="2104920"/>
            <a:ext cx="132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68920" y="207648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009600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9600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109960" y="1677960"/>
            <a:ext cx="857160" cy="711360"/>
            <a:chOff x="2109960" y="1677960"/>
            <a:chExt cx="857160" cy="711360"/>
          </a:xfrm>
        </p:grpSpPr>
        <p:sp>
          <p:nvSpPr>
            <p:cNvPr id="387" name=""/>
            <p:cNvSpPr/>
            <p:nvPr/>
          </p:nvSpPr>
          <p:spPr>
            <a:xfrm>
              <a:off x="2109960" y="2033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383920" y="1677960"/>
              <a:ext cx="48132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84280" y="201312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98520" y="2184480"/>
              <a:ext cx="6372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70160" y="2184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46480" y="2184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46360" y="17334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130560" y="1677960"/>
            <a:ext cx="711360" cy="711360"/>
            <a:chOff x="3130560" y="1677960"/>
            <a:chExt cx="711360" cy="711360"/>
          </a:xfrm>
        </p:grpSpPr>
        <p:sp>
          <p:nvSpPr>
            <p:cNvPr id="395" name=""/>
            <p:cNvSpPr/>
            <p:nvPr/>
          </p:nvSpPr>
          <p:spPr>
            <a:xfrm>
              <a:off x="3486240" y="203364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30560" y="167796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59240" y="20066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5160" y="218448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1120" y="218448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30680" y="2184480"/>
              <a:ext cx="4428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41440" y="1704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5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87760" y="2344680"/>
            <a:ext cx="960480" cy="887400"/>
            <a:chOff x="2687760" y="2344680"/>
            <a:chExt cx="960480" cy="887400"/>
          </a:xfrm>
        </p:grpSpPr>
        <p:sp>
          <p:nvSpPr>
            <p:cNvPr id="403" name=""/>
            <p:cNvSpPr/>
            <p:nvPr/>
          </p:nvSpPr>
          <p:spPr>
            <a:xfrm>
              <a:off x="2687760" y="28764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960280" y="2344680"/>
              <a:ext cx="56988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60640" y="280836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76680" y="302724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52640" y="302724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33640" y="302724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57280" y="2475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797280" y="2344680"/>
            <a:ext cx="1066680" cy="932040"/>
            <a:chOff x="3797280" y="2344680"/>
            <a:chExt cx="1066680" cy="932040"/>
          </a:xfrm>
        </p:grpSpPr>
        <p:sp>
          <p:nvSpPr>
            <p:cNvPr id="411" name=""/>
            <p:cNvSpPr/>
            <p:nvPr/>
          </p:nvSpPr>
          <p:spPr>
            <a:xfrm>
              <a:off x="4508640" y="29210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97280" y="2344680"/>
              <a:ext cx="747720" cy="61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78400" y="289872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97560" y="3071880"/>
              <a:ext cx="7596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4" y="22"/>
                  </a:moveTo>
                  <a:lnTo>
                    <a:pt x="35" y="22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5" y="37"/>
                  </a:lnTo>
                  <a:lnTo>
                    <a:pt x="35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75320" y="30718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2" y="0"/>
                  </a:moveTo>
                  <a:lnTo>
                    <a:pt x="47" y="0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8" y="9"/>
                  </a:lnTo>
                  <a:lnTo>
                    <a:pt x="27" y="25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9" y="44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28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5" y="23"/>
                  </a:lnTo>
                  <a:lnTo>
                    <a:pt x="35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49840" y="307188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3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1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87520" y="2475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6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265400" y="29606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70520" y="297036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22280" y="5835600"/>
            <a:ext cx="16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BOS,22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76480" y="1352520"/>
            <a:ext cx="2181240" cy="1152720"/>
          </a:xfrm>
          <a:custGeom>
            <a:avLst/>
            <a:gdLst/>
            <a:ahLst/>
            <a:rect l="l" t="t" r="r" b="b"/>
            <a:pathLst>
              <a:path w="1374" h="726">
                <a:moveTo>
                  <a:pt x="0" y="252"/>
                </a:moveTo>
                <a:cubicBezTo>
                  <a:pt x="2" y="258"/>
                  <a:pt x="2" y="266"/>
                  <a:pt x="6" y="270"/>
                </a:cubicBezTo>
                <a:cubicBezTo>
                  <a:pt x="16" y="280"/>
                  <a:pt x="42" y="294"/>
                  <a:pt x="42" y="294"/>
                </a:cubicBezTo>
                <a:cubicBezTo>
                  <a:pt x="56" y="316"/>
                  <a:pt x="69" y="316"/>
                  <a:pt x="90" y="330"/>
                </a:cubicBezTo>
                <a:cubicBezTo>
                  <a:pt x="108" y="356"/>
                  <a:pt x="143" y="374"/>
                  <a:pt x="174" y="384"/>
                </a:cubicBezTo>
                <a:cubicBezTo>
                  <a:pt x="178" y="390"/>
                  <a:pt x="180" y="398"/>
                  <a:pt x="186" y="402"/>
                </a:cubicBezTo>
                <a:cubicBezTo>
                  <a:pt x="197" y="409"/>
                  <a:pt x="222" y="414"/>
                  <a:pt x="222" y="414"/>
                </a:cubicBezTo>
                <a:cubicBezTo>
                  <a:pt x="242" y="444"/>
                  <a:pt x="276" y="460"/>
                  <a:pt x="306" y="480"/>
                </a:cubicBezTo>
                <a:cubicBezTo>
                  <a:pt x="318" y="488"/>
                  <a:pt x="342" y="504"/>
                  <a:pt x="342" y="504"/>
                </a:cubicBezTo>
                <a:cubicBezTo>
                  <a:pt x="358" y="528"/>
                  <a:pt x="382" y="535"/>
                  <a:pt x="408" y="552"/>
                </a:cubicBezTo>
                <a:cubicBezTo>
                  <a:pt x="463" y="589"/>
                  <a:pt x="511" y="620"/>
                  <a:pt x="576" y="636"/>
                </a:cubicBezTo>
                <a:cubicBezTo>
                  <a:pt x="604" y="655"/>
                  <a:pt x="634" y="657"/>
                  <a:pt x="666" y="666"/>
                </a:cubicBezTo>
                <a:cubicBezTo>
                  <a:pt x="728" y="683"/>
                  <a:pt x="788" y="699"/>
                  <a:pt x="852" y="708"/>
                </a:cubicBezTo>
                <a:cubicBezTo>
                  <a:pt x="883" y="718"/>
                  <a:pt x="916" y="721"/>
                  <a:pt x="948" y="726"/>
                </a:cubicBezTo>
                <a:cubicBezTo>
                  <a:pt x="1101" y="720"/>
                  <a:pt x="1079" y="724"/>
                  <a:pt x="1182" y="690"/>
                </a:cubicBezTo>
                <a:cubicBezTo>
                  <a:pt x="1188" y="684"/>
                  <a:pt x="1193" y="677"/>
                  <a:pt x="1200" y="672"/>
                </a:cubicBezTo>
                <a:cubicBezTo>
                  <a:pt x="1211" y="663"/>
                  <a:pt x="1236" y="648"/>
                  <a:pt x="1236" y="648"/>
                </a:cubicBezTo>
                <a:cubicBezTo>
                  <a:pt x="1251" y="626"/>
                  <a:pt x="1284" y="606"/>
                  <a:pt x="1308" y="594"/>
                </a:cubicBezTo>
                <a:cubicBezTo>
                  <a:pt x="1340" y="546"/>
                  <a:pt x="1298" y="604"/>
                  <a:pt x="1338" y="564"/>
                </a:cubicBezTo>
                <a:cubicBezTo>
                  <a:pt x="1352" y="550"/>
                  <a:pt x="1357" y="527"/>
                  <a:pt x="1368" y="510"/>
                </a:cubicBezTo>
                <a:cubicBezTo>
                  <a:pt x="1370" y="500"/>
                  <a:pt x="1374" y="490"/>
                  <a:pt x="1374" y="480"/>
                </a:cubicBezTo>
                <a:cubicBezTo>
                  <a:pt x="1374" y="394"/>
                  <a:pt x="1372" y="308"/>
                  <a:pt x="1368" y="222"/>
                </a:cubicBezTo>
                <a:cubicBezTo>
                  <a:pt x="1366" y="176"/>
                  <a:pt x="1324" y="34"/>
                  <a:pt x="12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46320" y="11239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5520" y="583560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9240" y="3380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07564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7600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109960" y="1677960"/>
            <a:ext cx="755280" cy="711360"/>
            <a:chOff x="2109960" y="1677960"/>
            <a:chExt cx="755280" cy="711360"/>
          </a:xfrm>
        </p:grpSpPr>
        <p:sp>
          <p:nvSpPr>
            <p:cNvPr id="432" name=""/>
            <p:cNvSpPr/>
            <p:nvPr/>
          </p:nvSpPr>
          <p:spPr>
            <a:xfrm>
              <a:off x="2109960" y="2033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383920" y="1677960"/>
              <a:ext cx="48132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84280" y="201312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98520" y="2184480"/>
              <a:ext cx="6372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70160" y="2184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46480" y="2184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86080" y="145908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73280" y="212400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40120" y="207648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130560" y="1677960"/>
            <a:ext cx="711360" cy="711360"/>
            <a:chOff x="3130560" y="1677960"/>
            <a:chExt cx="711360" cy="711360"/>
          </a:xfrm>
        </p:grpSpPr>
        <p:sp>
          <p:nvSpPr>
            <p:cNvPr id="445" name=""/>
            <p:cNvSpPr/>
            <p:nvPr/>
          </p:nvSpPr>
          <p:spPr>
            <a:xfrm>
              <a:off x="3486240" y="203364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30560" y="167796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59240" y="20066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5160" y="218448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51120" y="218448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30680" y="2184480"/>
              <a:ext cx="4428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41440" y="1704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5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2527200" y="205416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687760" y="2344680"/>
            <a:ext cx="960480" cy="887400"/>
            <a:chOff x="2687760" y="2344680"/>
            <a:chExt cx="960480" cy="887400"/>
          </a:xfrm>
        </p:grpSpPr>
        <p:sp>
          <p:nvSpPr>
            <p:cNvPr id="454" name=""/>
            <p:cNvSpPr/>
            <p:nvPr/>
          </p:nvSpPr>
          <p:spPr>
            <a:xfrm>
              <a:off x="2687760" y="28764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960280" y="2344680"/>
              <a:ext cx="56988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60640" y="280836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76680" y="302724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52640" y="302724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933640" y="302724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57280" y="2475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797280" y="2344680"/>
            <a:ext cx="1066680" cy="932040"/>
            <a:chOff x="3797280" y="2344680"/>
            <a:chExt cx="1066680" cy="932040"/>
          </a:xfrm>
        </p:grpSpPr>
        <p:sp>
          <p:nvSpPr>
            <p:cNvPr id="462" name=""/>
            <p:cNvSpPr/>
            <p:nvPr/>
          </p:nvSpPr>
          <p:spPr>
            <a:xfrm>
              <a:off x="4508640" y="29210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7280" y="2344680"/>
              <a:ext cx="747720" cy="61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78400" y="289872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97560" y="3071880"/>
              <a:ext cx="7596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4" y="22"/>
                  </a:moveTo>
                  <a:lnTo>
                    <a:pt x="35" y="22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5" y="37"/>
                  </a:lnTo>
                  <a:lnTo>
                    <a:pt x="35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75320" y="30718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2" y="0"/>
                  </a:moveTo>
                  <a:lnTo>
                    <a:pt x="47" y="0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8" y="9"/>
                  </a:lnTo>
                  <a:lnTo>
                    <a:pt x="27" y="25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9" y="44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28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5" y="23"/>
                  </a:lnTo>
                  <a:lnTo>
                    <a:pt x="35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49840" y="307188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3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1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87520" y="2475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6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303560" y="293220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65760" y="297972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495440" y="876240"/>
            <a:ext cx="3318120" cy="1741680"/>
            <a:chOff x="1495440" y="876240"/>
            <a:chExt cx="3318120" cy="1741680"/>
          </a:xfrm>
        </p:grpSpPr>
        <p:sp>
          <p:nvSpPr>
            <p:cNvPr id="472" name=""/>
            <p:cNvSpPr/>
            <p:nvPr/>
          </p:nvSpPr>
          <p:spPr>
            <a:xfrm>
              <a:off x="1495440" y="1114560"/>
              <a:ext cx="3314520" cy="1503360"/>
            </a:xfrm>
            <a:custGeom>
              <a:avLst/>
              <a:gdLst/>
              <a:ahLst/>
              <a:rect l="l" t="t" r="r" b="b"/>
              <a:pathLst>
                <a:path w="2340" h="1079">
                  <a:moveTo>
                    <a:pt x="0" y="438"/>
                  </a:moveTo>
                  <a:cubicBezTo>
                    <a:pt x="28" y="480"/>
                    <a:pt x="12" y="466"/>
                    <a:pt x="42" y="486"/>
                  </a:cubicBezTo>
                  <a:cubicBezTo>
                    <a:pt x="76" y="538"/>
                    <a:pt x="31" y="477"/>
                    <a:pt x="72" y="510"/>
                  </a:cubicBezTo>
                  <a:cubicBezTo>
                    <a:pt x="78" y="515"/>
                    <a:pt x="79" y="523"/>
                    <a:pt x="84" y="528"/>
                  </a:cubicBezTo>
                  <a:cubicBezTo>
                    <a:pt x="89" y="533"/>
                    <a:pt x="97" y="535"/>
                    <a:pt x="102" y="540"/>
                  </a:cubicBezTo>
                  <a:cubicBezTo>
                    <a:pt x="133" y="567"/>
                    <a:pt x="152" y="601"/>
                    <a:pt x="186" y="624"/>
                  </a:cubicBezTo>
                  <a:cubicBezTo>
                    <a:pt x="201" y="669"/>
                    <a:pt x="179" y="615"/>
                    <a:pt x="210" y="654"/>
                  </a:cubicBezTo>
                  <a:cubicBezTo>
                    <a:pt x="233" y="683"/>
                    <a:pt x="195" y="665"/>
                    <a:pt x="234" y="678"/>
                  </a:cubicBezTo>
                  <a:cubicBezTo>
                    <a:pt x="236" y="684"/>
                    <a:pt x="236" y="691"/>
                    <a:pt x="240" y="696"/>
                  </a:cubicBezTo>
                  <a:cubicBezTo>
                    <a:pt x="245" y="702"/>
                    <a:pt x="254" y="702"/>
                    <a:pt x="258" y="708"/>
                  </a:cubicBezTo>
                  <a:cubicBezTo>
                    <a:pt x="294" y="765"/>
                    <a:pt x="247" y="729"/>
                    <a:pt x="288" y="756"/>
                  </a:cubicBezTo>
                  <a:cubicBezTo>
                    <a:pt x="300" y="791"/>
                    <a:pt x="310" y="819"/>
                    <a:pt x="342" y="840"/>
                  </a:cubicBezTo>
                  <a:cubicBezTo>
                    <a:pt x="344" y="846"/>
                    <a:pt x="344" y="854"/>
                    <a:pt x="348" y="858"/>
                  </a:cubicBezTo>
                  <a:cubicBezTo>
                    <a:pt x="358" y="868"/>
                    <a:pt x="384" y="882"/>
                    <a:pt x="384" y="882"/>
                  </a:cubicBezTo>
                  <a:cubicBezTo>
                    <a:pt x="399" y="905"/>
                    <a:pt x="429" y="921"/>
                    <a:pt x="456" y="930"/>
                  </a:cubicBezTo>
                  <a:cubicBezTo>
                    <a:pt x="484" y="973"/>
                    <a:pt x="586" y="993"/>
                    <a:pt x="636" y="1002"/>
                  </a:cubicBezTo>
                  <a:cubicBezTo>
                    <a:pt x="796" y="1031"/>
                    <a:pt x="952" y="1050"/>
                    <a:pt x="1116" y="1056"/>
                  </a:cubicBezTo>
                  <a:cubicBezTo>
                    <a:pt x="1302" y="1079"/>
                    <a:pt x="1485" y="1065"/>
                    <a:pt x="1674" y="1062"/>
                  </a:cubicBezTo>
                  <a:cubicBezTo>
                    <a:pt x="1764" y="1059"/>
                    <a:pt x="1841" y="1059"/>
                    <a:pt x="1926" y="1038"/>
                  </a:cubicBezTo>
                  <a:cubicBezTo>
                    <a:pt x="1970" y="1027"/>
                    <a:pt x="2007" y="1004"/>
                    <a:pt x="2052" y="996"/>
                  </a:cubicBezTo>
                  <a:cubicBezTo>
                    <a:pt x="2068" y="985"/>
                    <a:pt x="2106" y="972"/>
                    <a:pt x="2106" y="972"/>
                  </a:cubicBezTo>
                  <a:cubicBezTo>
                    <a:pt x="2128" y="950"/>
                    <a:pt x="2154" y="937"/>
                    <a:pt x="2184" y="930"/>
                  </a:cubicBezTo>
                  <a:cubicBezTo>
                    <a:pt x="2203" y="911"/>
                    <a:pt x="2226" y="900"/>
                    <a:pt x="2244" y="882"/>
                  </a:cubicBezTo>
                  <a:cubicBezTo>
                    <a:pt x="2256" y="870"/>
                    <a:pt x="2264" y="854"/>
                    <a:pt x="2274" y="840"/>
                  </a:cubicBezTo>
                  <a:cubicBezTo>
                    <a:pt x="2282" y="815"/>
                    <a:pt x="2291" y="799"/>
                    <a:pt x="2310" y="780"/>
                  </a:cubicBezTo>
                  <a:cubicBezTo>
                    <a:pt x="2316" y="762"/>
                    <a:pt x="2322" y="744"/>
                    <a:pt x="2328" y="726"/>
                  </a:cubicBezTo>
                  <a:cubicBezTo>
                    <a:pt x="2332" y="714"/>
                    <a:pt x="2340" y="690"/>
                    <a:pt x="2340" y="690"/>
                  </a:cubicBezTo>
                  <a:cubicBezTo>
                    <a:pt x="2338" y="554"/>
                    <a:pt x="2338" y="418"/>
                    <a:pt x="2334" y="282"/>
                  </a:cubicBezTo>
                  <a:cubicBezTo>
                    <a:pt x="2333" y="231"/>
                    <a:pt x="2304" y="148"/>
                    <a:pt x="2262" y="120"/>
                  </a:cubicBezTo>
                  <a:cubicBezTo>
                    <a:pt x="2248" y="98"/>
                    <a:pt x="2228" y="68"/>
                    <a:pt x="2208" y="54"/>
                  </a:cubicBezTo>
                  <a:cubicBezTo>
                    <a:pt x="2201" y="34"/>
                    <a:pt x="2178" y="0"/>
                    <a:pt x="2178" y="0"/>
                  </a:cubicBezTo>
                </a:path>
              </a:pathLst>
            </a:custGeom>
            <a:noFill/>
            <a:ln w="19080">
              <a:solidFill>
                <a:srgbClr val="006600">
                  <a:alpha val="4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22600" y="87624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27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309240" y="3380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6440" y="590724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2840" y="5907240"/>
            <a:ext cx="25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BOS,229),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16800" y="59072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8600" y="59072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6592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6664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6664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109960" y="1677960"/>
            <a:ext cx="755280" cy="711360"/>
            <a:chOff x="2109960" y="1677960"/>
            <a:chExt cx="755280" cy="711360"/>
          </a:xfrm>
        </p:grpSpPr>
        <p:sp>
          <p:nvSpPr>
            <p:cNvPr id="487" name=""/>
            <p:cNvSpPr/>
            <p:nvPr/>
          </p:nvSpPr>
          <p:spPr>
            <a:xfrm>
              <a:off x="2109960" y="2033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2383920" y="1677960"/>
              <a:ext cx="48132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84280" y="2013120"/>
              <a:ext cx="6516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98520" y="2184480"/>
              <a:ext cx="6372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70160" y="21844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46480" y="2184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86080" y="145908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73280" y="212400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40120" y="207648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130560" y="1677960"/>
            <a:ext cx="711360" cy="711360"/>
            <a:chOff x="3130560" y="1677960"/>
            <a:chExt cx="711360" cy="711360"/>
          </a:xfrm>
        </p:grpSpPr>
        <p:sp>
          <p:nvSpPr>
            <p:cNvPr id="500" name=""/>
            <p:cNvSpPr/>
            <p:nvPr/>
          </p:nvSpPr>
          <p:spPr>
            <a:xfrm>
              <a:off x="3486240" y="203364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30560" y="167796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59240" y="200664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75160" y="218448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51120" y="2184480"/>
              <a:ext cx="6696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30680" y="2184480"/>
              <a:ext cx="4428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241440" y="17049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5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2527200" y="205416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687760" y="2344680"/>
            <a:ext cx="960480" cy="887400"/>
            <a:chOff x="2687760" y="2344680"/>
            <a:chExt cx="960480" cy="887400"/>
          </a:xfrm>
        </p:grpSpPr>
        <p:sp>
          <p:nvSpPr>
            <p:cNvPr id="509" name=""/>
            <p:cNvSpPr/>
            <p:nvPr/>
          </p:nvSpPr>
          <p:spPr>
            <a:xfrm>
              <a:off x="2687760" y="28764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960280" y="2344680"/>
              <a:ext cx="56988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60640" y="280836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76680" y="302724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852640" y="302724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33640" y="302724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57280" y="24750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797280" y="2344680"/>
            <a:ext cx="1066680" cy="932040"/>
            <a:chOff x="3797280" y="2344680"/>
            <a:chExt cx="1066680" cy="932040"/>
          </a:xfrm>
        </p:grpSpPr>
        <p:sp>
          <p:nvSpPr>
            <p:cNvPr id="517" name=""/>
            <p:cNvSpPr/>
            <p:nvPr/>
          </p:nvSpPr>
          <p:spPr>
            <a:xfrm>
              <a:off x="4508640" y="29210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97280" y="2344680"/>
              <a:ext cx="747720" cy="61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478400" y="289872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597560" y="3071880"/>
              <a:ext cx="7596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4" y="22"/>
                  </a:moveTo>
                  <a:lnTo>
                    <a:pt x="35" y="22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5" y="37"/>
                  </a:lnTo>
                  <a:lnTo>
                    <a:pt x="35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75320" y="307188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2" y="0"/>
                  </a:moveTo>
                  <a:lnTo>
                    <a:pt x="47" y="0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8" y="9"/>
                  </a:lnTo>
                  <a:lnTo>
                    <a:pt x="27" y="25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9" y="44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28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5" y="23"/>
                  </a:lnTo>
                  <a:lnTo>
                    <a:pt x="35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49840" y="307188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3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1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87520" y="2475000"/>
              <a:ext cx="32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6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1303560" y="293220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851360" y="2979720"/>
            <a:ext cx="14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4552920" y="3276720"/>
            <a:ext cx="355680" cy="1020600"/>
            <a:chOff x="4552920" y="3276720"/>
            <a:chExt cx="355680" cy="1020600"/>
          </a:xfrm>
        </p:grpSpPr>
        <p:sp>
          <p:nvSpPr>
            <p:cNvPr id="528" name=""/>
            <p:cNvSpPr/>
            <p:nvPr/>
          </p:nvSpPr>
          <p:spPr>
            <a:xfrm>
              <a:off x="4552920" y="3943440"/>
              <a:ext cx="35568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1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730760" y="32767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713120" y="386064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4618080" y="4089240"/>
              <a:ext cx="232920" cy="73080"/>
              <a:chOff x="4618080" y="4089240"/>
              <a:chExt cx="232920" cy="73080"/>
            </a:xfrm>
          </p:grpSpPr>
          <p:sp>
            <p:nvSpPr>
              <p:cNvPr id="532" name=""/>
              <p:cNvSpPr/>
              <p:nvPr/>
            </p:nvSpPr>
            <p:spPr>
              <a:xfrm>
                <a:off x="4618080" y="40892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697280" y="4089240"/>
                <a:ext cx="75960" cy="7308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31" y="32"/>
                    </a:moveTo>
                    <a:lnTo>
                      <a:pt x="13" y="32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1"/>
                    </a:lnTo>
                    <a:lnTo>
                      <a:pt x="8" y="36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41" y="38"/>
                    </a:lnTo>
                    <a:lnTo>
                      <a:pt x="42" y="41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3" y="36"/>
                    </a:lnTo>
                    <a:lnTo>
                      <a:pt x="31" y="32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71800" y="40892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2" y="0"/>
                    </a:lnTo>
                    <a:lnTo>
                      <a:pt x="40" y="35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4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6"/>
                    </a:lnTo>
                    <a:lnTo>
                      <a:pt x="42" y="46"/>
                    </a:lnTo>
                    <a:lnTo>
                      <a:pt x="12" y="10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49720" y="42926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929840" y="3940200"/>
            <a:ext cx="81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404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148440" y="43592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863960" y="3187800"/>
            <a:ext cx="1509840" cy="1154160"/>
            <a:chOff x="4863960" y="3187800"/>
            <a:chExt cx="1509840" cy="1154160"/>
          </a:xfrm>
        </p:grpSpPr>
        <p:sp>
          <p:nvSpPr>
            <p:cNvPr id="540" name=""/>
            <p:cNvSpPr/>
            <p:nvPr/>
          </p:nvSpPr>
          <p:spPr>
            <a:xfrm>
              <a:off x="6018120" y="3987720"/>
              <a:ext cx="355680" cy="35424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63960" y="3187800"/>
              <a:ext cx="1233720" cy="839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31080" y="397188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19"/>
                  </a:moveTo>
                  <a:lnTo>
                    <a:pt x="43" y="35"/>
                  </a:lnTo>
                  <a:lnTo>
                    <a:pt x="1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6076800" y="4140360"/>
              <a:ext cx="244440" cy="72720"/>
              <a:chOff x="6076800" y="4140360"/>
              <a:chExt cx="244440" cy="72720"/>
            </a:xfrm>
          </p:grpSpPr>
          <p:sp>
            <p:nvSpPr>
              <p:cNvPr id="544" name=""/>
              <p:cNvSpPr/>
              <p:nvPr/>
            </p:nvSpPr>
            <p:spPr>
              <a:xfrm>
                <a:off x="6076800" y="4140360"/>
                <a:ext cx="79560" cy="727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157800" y="4140360"/>
                <a:ext cx="61920" cy="727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3" y="4"/>
                    </a:moveTo>
                    <a:lnTo>
                      <a:pt x="13" y="21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18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7"/>
                    </a:lnTo>
                    <a:lnTo>
                      <a:pt x="28" y="25"/>
                    </a:lnTo>
                    <a:lnTo>
                      <a:pt x="28" y="24"/>
                    </a:lnTo>
                    <a:lnTo>
                      <a:pt x="27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3" y="24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1"/>
                    </a:lnTo>
                    <a:lnTo>
                      <a:pt x="35" y="38"/>
                    </a:lnTo>
                    <a:lnTo>
                      <a:pt x="38" y="35"/>
                    </a:lnTo>
                    <a:lnTo>
                      <a:pt x="39" y="35"/>
                    </a:lnTo>
                    <a:lnTo>
                      <a:pt x="35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7" y="38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224400" y="4140360"/>
                <a:ext cx="96840" cy="7272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4"/>
                    </a:lnTo>
                    <a:lnTo>
                      <a:pt x="55" y="5"/>
                    </a:lnTo>
                    <a:lnTo>
                      <a:pt x="55" y="7"/>
                    </a:lnTo>
                    <a:lnTo>
                      <a:pt x="53" y="10"/>
                    </a:lnTo>
                    <a:lnTo>
                      <a:pt x="42" y="46"/>
                    </a:lnTo>
                    <a:lnTo>
                      <a:pt x="41" y="46"/>
                    </a:lnTo>
                    <a:lnTo>
                      <a:pt x="30" y="19"/>
                    </a:lnTo>
                    <a:lnTo>
                      <a:pt x="22" y="46"/>
                    </a:lnTo>
                    <a:lnTo>
                      <a:pt x="19" y="46"/>
                    </a:lnTo>
                    <a:lnTo>
                      <a:pt x="7" y="10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4" y="10"/>
                    </a:lnTo>
                    <a:lnTo>
                      <a:pt x="22" y="35"/>
                    </a:lnTo>
                    <a:lnTo>
                      <a:pt x="28" y="14"/>
                    </a:lnTo>
                    <a:lnTo>
                      <a:pt x="27" y="10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3" y="7"/>
                    </a:lnTo>
                    <a:lnTo>
                      <a:pt x="35" y="11"/>
                    </a:lnTo>
                    <a:lnTo>
                      <a:pt x="42" y="35"/>
                    </a:lnTo>
                    <a:lnTo>
                      <a:pt x="50" y="10"/>
                    </a:lnTo>
                    <a:lnTo>
                      <a:pt x="52" y="7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5370120" y="33876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3352680" y="3187800"/>
            <a:ext cx="1199880" cy="1066680"/>
            <a:chOff x="3352680" y="3187800"/>
            <a:chExt cx="1199880" cy="1066680"/>
          </a:xfrm>
        </p:grpSpPr>
        <p:sp>
          <p:nvSpPr>
            <p:cNvPr id="549" name=""/>
            <p:cNvSpPr/>
            <p:nvPr/>
          </p:nvSpPr>
          <p:spPr>
            <a:xfrm>
              <a:off x="3352680" y="389880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1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671640" y="3187800"/>
              <a:ext cx="880920" cy="747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72000" y="3876840"/>
              <a:ext cx="66600" cy="5868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26" y="0"/>
                  </a:moveTo>
                  <a:lnTo>
                    <a:pt x="0" y="37"/>
                  </a:lnTo>
                  <a:lnTo>
                    <a:pt x="42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397320" y="404964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8" y="32"/>
                  </a:moveTo>
                  <a:lnTo>
                    <a:pt x="39" y="32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7" y="43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62480" y="4049640"/>
              <a:ext cx="7272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9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9" y="37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5" y="43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29" y="31"/>
                  </a:lnTo>
                  <a:close/>
                  <a:moveTo>
                    <a:pt x="29" y="27"/>
                  </a:moveTo>
                  <a:lnTo>
                    <a:pt x="22" y="10"/>
                  </a:lnTo>
                  <a:lnTo>
                    <a:pt x="14" y="27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543480" y="404964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39" y="14"/>
                  </a:lnTo>
                  <a:lnTo>
                    <a:pt x="39" y="14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4"/>
                  </a:lnTo>
                  <a:lnTo>
                    <a:pt x="6" y="21"/>
                  </a:lnTo>
                  <a:lnTo>
                    <a:pt x="8" y="27"/>
                  </a:lnTo>
                  <a:lnTo>
                    <a:pt x="9" y="34"/>
                  </a:lnTo>
                  <a:lnTo>
                    <a:pt x="12" y="38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30" y="43"/>
                  </a:lnTo>
                  <a:lnTo>
                    <a:pt x="31" y="41"/>
                  </a:lnTo>
                  <a:lnTo>
                    <a:pt x="34" y="41"/>
                  </a:lnTo>
                  <a:lnTo>
                    <a:pt x="34" y="27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36" y="43"/>
                  </a:lnTo>
                  <a:lnTo>
                    <a:pt x="33" y="45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93960" y="33876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352520" y="1409760"/>
            <a:ext cx="4061160" cy="1990800"/>
            <a:chOff x="1352520" y="1409760"/>
            <a:chExt cx="4061160" cy="1990800"/>
          </a:xfrm>
        </p:grpSpPr>
        <p:sp>
          <p:nvSpPr>
            <p:cNvPr id="557" name=""/>
            <p:cNvSpPr/>
            <p:nvPr/>
          </p:nvSpPr>
          <p:spPr>
            <a:xfrm>
              <a:off x="1352520" y="1666800"/>
              <a:ext cx="4029120" cy="1733760"/>
            </a:xfrm>
            <a:custGeom>
              <a:avLst/>
              <a:gdLst/>
              <a:ahLst/>
              <a:rect l="l" t="t" r="r" b="b"/>
              <a:pathLst>
                <a:path w="2538" h="1092">
                  <a:moveTo>
                    <a:pt x="0" y="150"/>
                  </a:moveTo>
                  <a:cubicBezTo>
                    <a:pt x="17" y="200"/>
                    <a:pt x="30" y="232"/>
                    <a:pt x="60" y="276"/>
                  </a:cubicBezTo>
                  <a:cubicBezTo>
                    <a:pt x="68" y="288"/>
                    <a:pt x="72" y="304"/>
                    <a:pt x="84" y="312"/>
                  </a:cubicBezTo>
                  <a:cubicBezTo>
                    <a:pt x="112" y="330"/>
                    <a:pt x="101" y="335"/>
                    <a:pt x="138" y="360"/>
                  </a:cubicBezTo>
                  <a:cubicBezTo>
                    <a:pt x="150" y="368"/>
                    <a:pt x="174" y="384"/>
                    <a:pt x="174" y="384"/>
                  </a:cubicBezTo>
                  <a:cubicBezTo>
                    <a:pt x="195" y="416"/>
                    <a:pt x="251" y="468"/>
                    <a:pt x="288" y="480"/>
                  </a:cubicBezTo>
                  <a:cubicBezTo>
                    <a:pt x="317" y="509"/>
                    <a:pt x="341" y="522"/>
                    <a:pt x="378" y="534"/>
                  </a:cubicBezTo>
                  <a:cubicBezTo>
                    <a:pt x="396" y="540"/>
                    <a:pt x="414" y="556"/>
                    <a:pt x="432" y="564"/>
                  </a:cubicBezTo>
                  <a:cubicBezTo>
                    <a:pt x="527" y="606"/>
                    <a:pt x="637" y="617"/>
                    <a:pt x="738" y="630"/>
                  </a:cubicBezTo>
                  <a:cubicBezTo>
                    <a:pt x="843" y="643"/>
                    <a:pt x="945" y="675"/>
                    <a:pt x="1050" y="690"/>
                  </a:cubicBezTo>
                  <a:cubicBezTo>
                    <a:pt x="1109" y="710"/>
                    <a:pt x="1173" y="720"/>
                    <a:pt x="1230" y="744"/>
                  </a:cubicBezTo>
                  <a:cubicBezTo>
                    <a:pt x="1238" y="748"/>
                    <a:pt x="1246" y="752"/>
                    <a:pt x="1254" y="756"/>
                  </a:cubicBezTo>
                  <a:cubicBezTo>
                    <a:pt x="1260" y="760"/>
                    <a:pt x="1265" y="765"/>
                    <a:pt x="1272" y="768"/>
                  </a:cubicBezTo>
                  <a:cubicBezTo>
                    <a:pt x="1294" y="778"/>
                    <a:pt x="1321" y="784"/>
                    <a:pt x="1344" y="792"/>
                  </a:cubicBezTo>
                  <a:cubicBezTo>
                    <a:pt x="1389" y="807"/>
                    <a:pt x="1432" y="823"/>
                    <a:pt x="1476" y="840"/>
                  </a:cubicBezTo>
                  <a:cubicBezTo>
                    <a:pt x="1488" y="845"/>
                    <a:pt x="1501" y="845"/>
                    <a:pt x="1512" y="852"/>
                  </a:cubicBezTo>
                  <a:cubicBezTo>
                    <a:pt x="1535" y="868"/>
                    <a:pt x="1592" y="894"/>
                    <a:pt x="1620" y="906"/>
                  </a:cubicBezTo>
                  <a:cubicBezTo>
                    <a:pt x="1632" y="911"/>
                    <a:pt x="1645" y="911"/>
                    <a:pt x="1656" y="918"/>
                  </a:cubicBezTo>
                  <a:cubicBezTo>
                    <a:pt x="1797" y="1012"/>
                    <a:pt x="1964" y="1059"/>
                    <a:pt x="2130" y="1092"/>
                  </a:cubicBezTo>
                  <a:cubicBezTo>
                    <a:pt x="2172" y="1090"/>
                    <a:pt x="2214" y="1091"/>
                    <a:pt x="2256" y="1086"/>
                  </a:cubicBezTo>
                  <a:cubicBezTo>
                    <a:pt x="2269" y="1085"/>
                    <a:pt x="2292" y="1074"/>
                    <a:pt x="2292" y="1074"/>
                  </a:cubicBezTo>
                  <a:cubicBezTo>
                    <a:pt x="2296" y="1068"/>
                    <a:pt x="2298" y="1060"/>
                    <a:pt x="2304" y="1056"/>
                  </a:cubicBezTo>
                  <a:cubicBezTo>
                    <a:pt x="2315" y="1049"/>
                    <a:pt x="2340" y="1044"/>
                    <a:pt x="2340" y="1044"/>
                  </a:cubicBezTo>
                  <a:cubicBezTo>
                    <a:pt x="2346" y="1038"/>
                    <a:pt x="2351" y="1031"/>
                    <a:pt x="2358" y="1026"/>
                  </a:cubicBezTo>
                  <a:cubicBezTo>
                    <a:pt x="2363" y="1022"/>
                    <a:pt x="2371" y="1024"/>
                    <a:pt x="2376" y="1020"/>
                  </a:cubicBezTo>
                  <a:cubicBezTo>
                    <a:pt x="2382" y="1015"/>
                    <a:pt x="2383" y="1007"/>
                    <a:pt x="2388" y="1002"/>
                  </a:cubicBezTo>
                  <a:cubicBezTo>
                    <a:pt x="2408" y="982"/>
                    <a:pt x="2448" y="940"/>
                    <a:pt x="2472" y="924"/>
                  </a:cubicBezTo>
                  <a:cubicBezTo>
                    <a:pt x="2483" y="892"/>
                    <a:pt x="2503" y="866"/>
                    <a:pt x="2514" y="834"/>
                  </a:cubicBezTo>
                  <a:cubicBezTo>
                    <a:pt x="2522" y="772"/>
                    <a:pt x="2526" y="709"/>
                    <a:pt x="2538" y="648"/>
                  </a:cubicBezTo>
                  <a:cubicBezTo>
                    <a:pt x="2536" y="526"/>
                    <a:pt x="2536" y="404"/>
                    <a:pt x="2532" y="282"/>
                  </a:cubicBezTo>
                  <a:cubicBezTo>
                    <a:pt x="2531" y="236"/>
                    <a:pt x="2498" y="190"/>
                    <a:pt x="2496" y="144"/>
                  </a:cubicBezTo>
                  <a:cubicBezTo>
                    <a:pt x="2494" y="96"/>
                    <a:pt x="2496" y="48"/>
                    <a:pt x="2496" y="0"/>
                  </a:cubicBezTo>
                </a:path>
              </a:pathLst>
            </a:custGeom>
            <a:noFill/>
            <a:ln w="19080">
              <a:solidFill>
                <a:srgbClr val="006600">
                  <a:alpha val="4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22720" y="140976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9999"/>
                  </a:solidFill>
                  <a:latin typeface="Arial"/>
                </a:rPr>
                <a:t>35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09240" y="3380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64600" y="5899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61000" y="589932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229),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64600" y="5899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1720" y="5899320"/>
            <a:ext cx="25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HYA,3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600" y="5899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3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67120" y="58993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02776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02848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02848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90840" y="1420920"/>
            <a:ext cx="127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92360" y="208584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49840" y="2076480"/>
            <a:ext cx="134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27200" y="205416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65400" y="29606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832280" y="2970360"/>
            <a:ext cx="141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624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628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959120" y="395928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002920" y="3997440"/>
            <a:ext cx="84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404 </a:t>
            </a:r>
            <a:r>
              <a:rPr b="1" lang="en-US" sz="1000" spc="-1" strike="noStrike">
                <a:solidFill>
                  <a:srgbClr val="00cc66"/>
                </a:solidFill>
                <a:latin typeface="Symbol"/>
                <a:ea typeface="Symbol"/>
              </a:rPr>
              <a:t></a:t>
            </a:r>
            <a:r>
              <a:rPr b="1" lang="en-US" sz="1000" spc="-1" strike="noStrike">
                <a:solidFill>
                  <a:srgbClr val="00cc66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357960" y="405432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261040" y="521352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61+180=641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508560" y="5165640"/>
            <a:ext cx="139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52+177=629 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&gt;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07080" y="586584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229),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07800" y="5865840"/>
            <a:ext cx="25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HYA,3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35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2480" y="58658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257480" y="1600200"/>
            <a:ext cx="4483080" cy="2800440"/>
          </a:xfrm>
          <a:custGeom>
            <a:avLst/>
            <a:gdLst/>
            <a:ahLst/>
            <a:rect l="l" t="t" r="r" b="b"/>
            <a:pathLst>
              <a:path w="2824" h="1764">
                <a:moveTo>
                  <a:pt x="0" y="258"/>
                </a:moveTo>
                <a:cubicBezTo>
                  <a:pt x="9" y="284"/>
                  <a:pt x="20" y="302"/>
                  <a:pt x="36" y="324"/>
                </a:cubicBezTo>
                <a:cubicBezTo>
                  <a:pt x="44" y="348"/>
                  <a:pt x="51" y="358"/>
                  <a:pt x="72" y="372"/>
                </a:cubicBezTo>
                <a:cubicBezTo>
                  <a:pt x="87" y="417"/>
                  <a:pt x="65" y="363"/>
                  <a:pt x="96" y="402"/>
                </a:cubicBezTo>
                <a:cubicBezTo>
                  <a:pt x="129" y="443"/>
                  <a:pt x="68" y="398"/>
                  <a:pt x="120" y="432"/>
                </a:cubicBezTo>
                <a:cubicBezTo>
                  <a:pt x="134" y="473"/>
                  <a:pt x="115" y="429"/>
                  <a:pt x="144" y="462"/>
                </a:cubicBezTo>
                <a:cubicBezTo>
                  <a:pt x="169" y="491"/>
                  <a:pt x="178" y="525"/>
                  <a:pt x="210" y="546"/>
                </a:cubicBezTo>
                <a:cubicBezTo>
                  <a:pt x="215" y="562"/>
                  <a:pt x="233" y="582"/>
                  <a:pt x="246" y="594"/>
                </a:cubicBezTo>
                <a:cubicBezTo>
                  <a:pt x="257" y="603"/>
                  <a:pt x="282" y="618"/>
                  <a:pt x="282" y="618"/>
                </a:cubicBezTo>
                <a:cubicBezTo>
                  <a:pt x="303" y="650"/>
                  <a:pt x="360" y="654"/>
                  <a:pt x="396" y="666"/>
                </a:cubicBezTo>
                <a:cubicBezTo>
                  <a:pt x="485" y="696"/>
                  <a:pt x="573" y="728"/>
                  <a:pt x="666" y="738"/>
                </a:cubicBezTo>
                <a:cubicBezTo>
                  <a:pt x="722" y="757"/>
                  <a:pt x="794" y="757"/>
                  <a:pt x="852" y="762"/>
                </a:cubicBezTo>
                <a:cubicBezTo>
                  <a:pt x="928" y="781"/>
                  <a:pt x="1009" y="789"/>
                  <a:pt x="1086" y="804"/>
                </a:cubicBezTo>
                <a:cubicBezTo>
                  <a:pt x="1112" y="809"/>
                  <a:pt x="1154" y="813"/>
                  <a:pt x="1176" y="828"/>
                </a:cubicBezTo>
                <a:cubicBezTo>
                  <a:pt x="1188" y="836"/>
                  <a:pt x="1212" y="852"/>
                  <a:pt x="1212" y="852"/>
                </a:cubicBezTo>
                <a:cubicBezTo>
                  <a:pt x="1232" y="882"/>
                  <a:pt x="1218" y="866"/>
                  <a:pt x="1260" y="894"/>
                </a:cubicBezTo>
                <a:cubicBezTo>
                  <a:pt x="1266" y="898"/>
                  <a:pt x="1278" y="906"/>
                  <a:pt x="1278" y="906"/>
                </a:cubicBezTo>
                <a:cubicBezTo>
                  <a:pt x="1292" y="928"/>
                  <a:pt x="1305" y="928"/>
                  <a:pt x="1326" y="942"/>
                </a:cubicBezTo>
                <a:cubicBezTo>
                  <a:pt x="1341" y="965"/>
                  <a:pt x="1360" y="993"/>
                  <a:pt x="1386" y="1002"/>
                </a:cubicBezTo>
                <a:cubicBezTo>
                  <a:pt x="1388" y="1008"/>
                  <a:pt x="1388" y="1016"/>
                  <a:pt x="1392" y="1020"/>
                </a:cubicBezTo>
                <a:cubicBezTo>
                  <a:pt x="1402" y="1030"/>
                  <a:pt x="1428" y="1044"/>
                  <a:pt x="1428" y="1044"/>
                </a:cubicBezTo>
                <a:cubicBezTo>
                  <a:pt x="1437" y="1071"/>
                  <a:pt x="1464" y="1087"/>
                  <a:pt x="1482" y="1110"/>
                </a:cubicBezTo>
                <a:cubicBezTo>
                  <a:pt x="1522" y="1162"/>
                  <a:pt x="1556" y="1220"/>
                  <a:pt x="1596" y="1272"/>
                </a:cubicBezTo>
                <a:cubicBezTo>
                  <a:pt x="1623" y="1307"/>
                  <a:pt x="1635" y="1352"/>
                  <a:pt x="1662" y="1386"/>
                </a:cubicBezTo>
                <a:cubicBezTo>
                  <a:pt x="1673" y="1399"/>
                  <a:pt x="1698" y="1422"/>
                  <a:pt x="1698" y="1422"/>
                </a:cubicBezTo>
                <a:cubicBezTo>
                  <a:pt x="1714" y="1470"/>
                  <a:pt x="1690" y="1414"/>
                  <a:pt x="1722" y="1446"/>
                </a:cubicBezTo>
                <a:cubicBezTo>
                  <a:pt x="1726" y="1450"/>
                  <a:pt x="1724" y="1459"/>
                  <a:pt x="1728" y="1464"/>
                </a:cubicBezTo>
                <a:cubicBezTo>
                  <a:pt x="1733" y="1470"/>
                  <a:pt x="1740" y="1472"/>
                  <a:pt x="1746" y="1476"/>
                </a:cubicBezTo>
                <a:cubicBezTo>
                  <a:pt x="1774" y="1518"/>
                  <a:pt x="1758" y="1504"/>
                  <a:pt x="1788" y="1524"/>
                </a:cubicBezTo>
                <a:cubicBezTo>
                  <a:pt x="1792" y="1530"/>
                  <a:pt x="1795" y="1537"/>
                  <a:pt x="1800" y="1542"/>
                </a:cubicBezTo>
                <a:cubicBezTo>
                  <a:pt x="1811" y="1551"/>
                  <a:pt x="1836" y="1566"/>
                  <a:pt x="1836" y="1566"/>
                </a:cubicBezTo>
                <a:cubicBezTo>
                  <a:pt x="1840" y="1572"/>
                  <a:pt x="1843" y="1579"/>
                  <a:pt x="1848" y="1584"/>
                </a:cubicBezTo>
                <a:cubicBezTo>
                  <a:pt x="1853" y="1589"/>
                  <a:pt x="1861" y="1590"/>
                  <a:pt x="1866" y="1596"/>
                </a:cubicBezTo>
                <a:cubicBezTo>
                  <a:pt x="1889" y="1625"/>
                  <a:pt x="1851" y="1607"/>
                  <a:pt x="1890" y="1620"/>
                </a:cubicBezTo>
                <a:cubicBezTo>
                  <a:pt x="1898" y="1644"/>
                  <a:pt x="1931" y="1662"/>
                  <a:pt x="1956" y="1668"/>
                </a:cubicBezTo>
                <a:cubicBezTo>
                  <a:pt x="1960" y="1674"/>
                  <a:pt x="1962" y="1682"/>
                  <a:pt x="1968" y="1686"/>
                </a:cubicBezTo>
                <a:cubicBezTo>
                  <a:pt x="1979" y="1693"/>
                  <a:pt x="1992" y="1694"/>
                  <a:pt x="2004" y="1698"/>
                </a:cubicBezTo>
                <a:cubicBezTo>
                  <a:pt x="2026" y="1705"/>
                  <a:pt x="2058" y="1728"/>
                  <a:pt x="2076" y="1740"/>
                </a:cubicBezTo>
                <a:cubicBezTo>
                  <a:pt x="2092" y="1751"/>
                  <a:pt x="2112" y="1752"/>
                  <a:pt x="2130" y="1758"/>
                </a:cubicBezTo>
                <a:cubicBezTo>
                  <a:pt x="2136" y="1760"/>
                  <a:pt x="2148" y="1764"/>
                  <a:pt x="2148" y="1764"/>
                </a:cubicBezTo>
                <a:cubicBezTo>
                  <a:pt x="2242" y="1761"/>
                  <a:pt x="2323" y="1762"/>
                  <a:pt x="2412" y="1740"/>
                </a:cubicBezTo>
                <a:cubicBezTo>
                  <a:pt x="2444" y="1732"/>
                  <a:pt x="2460" y="1710"/>
                  <a:pt x="2484" y="1692"/>
                </a:cubicBezTo>
                <a:cubicBezTo>
                  <a:pt x="2495" y="1683"/>
                  <a:pt x="2520" y="1668"/>
                  <a:pt x="2520" y="1668"/>
                </a:cubicBezTo>
                <a:cubicBezTo>
                  <a:pt x="2535" y="1646"/>
                  <a:pt x="2558" y="1623"/>
                  <a:pt x="2580" y="1608"/>
                </a:cubicBezTo>
                <a:cubicBezTo>
                  <a:pt x="2595" y="1563"/>
                  <a:pt x="2573" y="1617"/>
                  <a:pt x="2604" y="1578"/>
                </a:cubicBezTo>
                <a:cubicBezTo>
                  <a:pt x="2608" y="1573"/>
                  <a:pt x="2606" y="1565"/>
                  <a:pt x="2610" y="1560"/>
                </a:cubicBezTo>
                <a:cubicBezTo>
                  <a:pt x="2615" y="1553"/>
                  <a:pt x="2622" y="1548"/>
                  <a:pt x="2628" y="1542"/>
                </a:cubicBezTo>
                <a:cubicBezTo>
                  <a:pt x="2643" y="1496"/>
                  <a:pt x="2670" y="1452"/>
                  <a:pt x="2694" y="1410"/>
                </a:cubicBezTo>
                <a:cubicBezTo>
                  <a:pt x="2705" y="1391"/>
                  <a:pt x="2729" y="1371"/>
                  <a:pt x="2736" y="1350"/>
                </a:cubicBezTo>
                <a:cubicBezTo>
                  <a:pt x="2744" y="1325"/>
                  <a:pt x="2738" y="1337"/>
                  <a:pt x="2754" y="1314"/>
                </a:cubicBezTo>
                <a:cubicBezTo>
                  <a:pt x="2824" y="891"/>
                  <a:pt x="2769" y="1011"/>
                  <a:pt x="2760" y="108"/>
                </a:cubicBezTo>
                <a:cubicBezTo>
                  <a:pt x="2760" y="84"/>
                  <a:pt x="2747" y="40"/>
                  <a:pt x="2736" y="18"/>
                </a:cubicBezTo>
                <a:cubicBezTo>
                  <a:pt x="2733" y="12"/>
                  <a:pt x="2724" y="0"/>
                  <a:pt x="2724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412960" y="1390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09240" y="33804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: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027760" y="439560"/>
            <a:ext cx="34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028480" y="439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MITE RICERCA SUCCESSIV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10680" y="586584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4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861560" y="629460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si continua fino a trovare il go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1:21:50Z</dcterms:created>
  <dc:creator> Alessandro Sperduti</dc:creator>
  <dc:description/>
  <dc:language>en-US</dc:language>
  <cp:lastModifiedBy> Alessandro Sperduti</cp:lastModifiedBy>
  <dcterms:modified xsi:type="dcterms:W3CDTF">2005-10-18T11:23:00Z</dcterms:modified>
  <cp:revision>1</cp:revision>
  <dc:subject/>
  <dc:title>Diapositiva 1</dc:title>
</cp:coreProperties>
</file>