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85A-2AC6-417E-A742-B42EEA6B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9E3-AD09-4D65-A092-D02491C1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EFD-E540-40C9-8308-1C333E69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92B-8A45-49DD-B6BF-65DC9F38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6A5-E7A9-4215-899F-54A5114A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77D-3A90-4F2A-94C9-86F1310A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586-9F2B-4625-AAAA-69E54023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42E-6FE4-406C-9DE0-F61A79BE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2C3-37AE-48F5-B6BD-2D3C6874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1A0-599B-43C9-8CC1-A1D31AE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817-C022-45E7-9F4F-4456209D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F09-5D83-4295-9F40-4ACDB19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0AE1-5D03-4E96-BF26-11A0441FE8D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76280"/>
            <a:ext cx="88455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58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587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591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595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599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01600" y="1555920"/>
            <a:ext cx="8569080" cy="144360"/>
            <a:chOff x="201600" y="1555920"/>
            <a:chExt cx="8569080" cy="144360"/>
          </a:xfrm>
        </p:grpSpPr>
        <p:sp>
          <p:nvSpPr>
            <p:cNvPr id="603" name=""/>
            <p:cNvSpPr/>
            <p:nvPr/>
          </p:nvSpPr>
          <p:spPr>
            <a:xfrm>
              <a:off x="201600" y="15843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040" y="15559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60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607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611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612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616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886120" y="488628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425760" y="4332240"/>
            <a:ext cx="558000" cy="884160"/>
            <a:chOff x="3425760" y="4332240"/>
            <a:chExt cx="558000" cy="884160"/>
          </a:xfrm>
        </p:grpSpPr>
        <p:grpSp>
          <p:nvGrpSpPr>
            <p:cNvPr id="622" name=""/>
            <p:cNvGrpSpPr/>
            <p:nvPr/>
          </p:nvGrpSpPr>
          <p:grpSpPr>
            <a:xfrm>
              <a:off x="3431160" y="4921200"/>
              <a:ext cx="552600" cy="295200"/>
              <a:chOff x="3431160" y="4921200"/>
              <a:chExt cx="552600" cy="295200"/>
            </a:xfrm>
          </p:grpSpPr>
          <p:sp>
            <p:nvSpPr>
              <p:cNvPr id="623" name=""/>
              <p:cNvSpPr/>
              <p:nvPr/>
            </p:nvSpPr>
            <p:spPr>
              <a:xfrm flipH="1">
                <a:off x="3542040" y="49212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43080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42576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627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113440" y="4330800"/>
            <a:ext cx="621000" cy="884160"/>
            <a:chOff x="5113440" y="4330800"/>
            <a:chExt cx="621000" cy="884160"/>
          </a:xfrm>
        </p:grpSpPr>
        <p:grpSp>
          <p:nvGrpSpPr>
            <p:cNvPr id="631" name=""/>
            <p:cNvGrpSpPr/>
            <p:nvPr/>
          </p:nvGrpSpPr>
          <p:grpSpPr>
            <a:xfrm>
              <a:off x="5119200" y="4919760"/>
              <a:ext cx="615240" cy="295200"/>
              <a:chOff x="5119200" y="4919760"/>
              <a:chExt cx="615240" cy="295200"/>
            </a:xfrm>
          </p:grpSpPr>
          <p:sp>
            <p:nvSpPr>
              <p:cNvPr id="632" name=""/>
              <p:cNvSpPr/>
              <p:nvPr/>
            </p:nvSpPr>
            <p:spPr>
              <a:xfrm flipH="1">
                <a:off x="5229360" y="491976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11884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5113440" y="433080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636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235560" y="4338720"/>
            <a:ext cx="697680" cy="884160"/>
            <a:chOff x="6235560" y="4338720"/>
            <a:chExt cx="697680" cy="884160"/>
          </a:xfrm>
        </p:grpSpPr>
        <p:grpSp>
          <p:nvGrpSpPr>
            <p:cNvPr id="640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641" name=""/>
              <p:cNvSpPr/>
              <p:nvPr/>
            </p:nvSpPr>
            <p:spPr>
              <a:xfrm flipH="1">
                <a:off x="6350760" y="492768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6235560" y="433872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164680" y="5227560"/>
            <a:ext cx="479880" cy="884160"/>
            <a:chOff x="2164680" y="5227560"/>
            <a:chExt cx="479880" cy="884160"/>
          </a:xfrm>
        </p:grpSpPr>
        <p:sp>
          <p:nvSpPr>
            <p:cNvPr id="645" name=""/>
            <p:cNvSpPr/>
            <p:nvPr/>
          </p:nvSpPr>
          <p:spPr>
            <a:xfrm>
              <a:off x="2224440" y="581652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64680" y="583704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377800" y="522756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360 h 362160"/>
              <a:gd name="textAreaBottom" fmla="*/ 262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4720 h 314280"/>
              <a:gd name="textAreaBottom" fmla="*/ 22788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 rot="5400000">
            <a:off x="2139480" y="152280"/>
            <a:ext cx="4643280" cy="75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66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665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666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67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67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67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0040" y="1308240"/>
            <a:ext cx="8569080" cy="144360"/>
            <a:chOff x="230040" y="1308240"/>
            <a:chExt cx="8569080" cy="144360"/>
          </a:xfrm>
        </p:grpSpPr>
        <p:sp>
          <p:nvSpPr>
            <p:cNvPr id="679" name=""/>
            <p:cNvSpPr/>
            <p:nvPr/>
          </p:nvSpPr>
          <p:spPr>
            <a:xfrm>
              <a:off x="230040" y="13366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748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712880" y="484200"/>
            <a:ext cx="428760" cy="2399760"/>
            <a:chOff x="1712880" y="484200"/>
            <a:chExt cx="428760" cy="2399760"/>
          </a:xfrm>
        </p:grpSpPr>
        <p:sp>
          <p:nvSpPr>
            <p:cNvPr id="682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12880" y="6458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68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686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692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69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696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20680" y="841320"/>
            <a:ext cx="8569080" cy="144360"/>
            <a:chOff x="220680" y="841320"/>
            <a:chExt cx="8569080" cy="144360"/>
          </a:xfrm>
        </p:grpSpPr>
        <p:sp>
          <p:nvSpPr>
            <p:cNvPr id="700" name=""/>
            <p:cNvSpPr/>
            <p:nvPr/>
          </p:nvSpPr>
          <p:spPr>
            <a:xfrm>
              <a:off x="220680" y="8697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8120" y="8413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0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04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3376440" y="452520"/>
            <a:ext cx="428760" cy="2399760"/>
            <a:chOff x="3376440" y="452520"/>
            <a:chExt cx="428760" cy="2399760"/>
          </a:xfrm>
        </p:grpSpPr>
        <p:sp>
          <p:nvSpPr>
            <p:cNvPr id="710" name=""/>
            <p:cNvSpPr/>
            <p:nvPr/>
          </p:nvSpPr>
          <p:spPr>
            <a:xfrm>
              <a:off x="3558960" y="452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76440" y="614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284640" y="503280"/>
            <a:ext cx="714240" cy="23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3112560" y="522360"/>
            <a:ext cx="800280" cy="235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626200" y="14616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71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2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2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2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731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732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736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737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740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743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46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74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5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5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5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761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82520" y="2384280"/>
            <a:ext cx="8569080" cy="144360"/>
            <a:chOff x="182520" y="2384280"/>
            <a:chExt cx="8569080" cy="144360"/>
          </a:xfrm>
        </p:grpSpPr>
        <p:sp>
          <p:nvSpPr>
            <p:cNvPr id="765" name=""/>
            <p:cNvSpPr/>
            <p:nvPr/>
          </p:nvSpPr>
          <p:spPr>
            <a:xfrm>
              <a:off x="18252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9996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111400" y="463680"/>
            <a:ext cx="428760" cy="2399760"/>
            <a:chOff x="2111400" y="463680"/>
            <a:chExt cx="428760" cy="2399760"/>
          </a:xfrm>
        </p:grpSpPr>
        <p:sp>
          <p:nvSpPr>
            <p:cNvPr id="768" name=""/>
            <p:cNvSpPr/>
            <p:nvPr/>
          </p:nvSpPr>
          <p:spPr>
            <a:xfrm>
              <a:off x="2293920" y="46368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11400" y="62532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771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75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776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79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8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84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695680" y="577224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790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82520" y="955800"/>
            <a:ext cx="8569080" cy="144360"/>
            <a:chOff x="182520" y="955800"/>
            <a:chExt cx="8569080" cy="144360"/>
          </a:xfrm>
        </p:grpSpPr>
        <p:sp>
          <p:nvSpPr>
            <p:cNvPr id="794" name=""/>
            <p:cNvSpPr/>
            <p:nvPr/>
          </p:nvSpPr>
          <p:spPr>
            <a:xfrm>
              <a:off x="182520" y="9842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9960" y="95580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797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7385040" y="460440"/>
            <a:ext cx="428760" cy="2399760"/>
            <a:chOff x="7385040" y="460440"/>
            <a:chExt cx="428760" cy="2399760"/>
          </a:xfrm>
        </p:grpSpPr>
        <p:sp>
          <p:nvSpPr>
            <p:cNvPr id="801" name=""/>
            <p:cNvSpPr/>
            <p:nvPr/>
          </p:nvSpPr>
          <p:spPr>
            <a:xfrm>
              <a:off x="756756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85040" y="6220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634800" y="154080"/>
            <a:ext cx="2058120" cy="2728800"/>
            <a:chOff x="6634800" y="154080"/>
            <a:chExt cx="2058120" cy="2728800"/>
          </a:xfrm>
        </p:grpSpPr>
        <p:sp>
          <p:nvSpPr>
            <p:cNvPr id="804" name=""/>
            <p:cNvSpPr/>
            <p:nvPr/>
          </p:nvSpPr>
          <p:spPr>
            <a:xfrm>
              <a:off x="7292880" y="51120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21160" y="530280"/>
              <a:ext cx="80028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34800" y="15408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0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0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1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81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17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822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826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82520" y="2384280"/>
            <a:ext cx="8569080" cy="144360"/>
            <a:chOff x="182520" y="2384280"/>
            <a:chExt cx="8569080" cy="144360"/>
          </a:xfrm>
        </p:grpSpPr>
        <p:sp>
          <p:nvSpPr>
            <p:cNvPr id="831" name=""/>
            <p:cNvSpPr/>
            <p:nvPr/>
          </p:nvSpPr>
          <p:spPr>
            <a:xfrm>
              <a:off x="18252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996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2111400" y="463680"/>
            <a:ext cx="428760" cy="2399760"/>
            <a:chOff x="2111400" y="463680"/>
            <a:chExt cx="428760" cy="2399760"/>
          </a:xfrm>
        </p:grpSpPr>
        <p:sp>
          <p:nvSpPr>
            <p:cNvPr id="834" name=""/>
            <p:cNvSpPr/>
            <p:nvPr/>
          </p:nvSpPr>
          <p:spPr>
            <a:xfrm>
              <a:off x="2293920" y="46368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11400" y="625320"/>
              <a:ext cx="42876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384720" y="469800"/>
            <a:ext cx="428400" cy="2400480"/>
            <a:chOff x="3384720" y="469800"/>
            <a:chExt cx="428400" cy="2400480"/>
          </a:xfrm>
        </p:grpSpPr>
        <p:sp>
          <p:nvSpPr>
            <p:cNvPr id="837" name=""/>
            <p:cNvSpPr/>
            <p:nvPr/>
          </p:nvSpPr>
          <p:spPr>
            <a:xfrm>
              <a:off x="3566880" y="46980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84720" y="63180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2634120" y="173160"/>
            <a:ext cx="2058120" cy="2728800"/>
            <a:chOff x="2634120" y="173160"/>
            <a:chExt cx="2058120" cy="2728800"/>
          </a:xfrm>
        </p:grpSpPr>
        <p:sp>
          <p:nvSpPr>
            <p:cNvPr id="840" name=""/>
            <p:cNvSpPr/>
            <p:nvPr/>
          </p:nvSpPr>
          <p:spPr>
            <a:xfrm>
              <a:off x="3292200" y="53028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120480" y="549360"/>
              <a:ext cx="80028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634120" y="173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4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48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85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53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858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862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867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868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871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3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874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476280"/>
            <a:ext cx="71640" cy="144360"/>
          </a:xfrm>
          <a:prstGeom prst="downArrow">
            <a:avLst>
              <a:gd name="adj1" fmla="val 50000"/>
              <a:gd name="adj2" fmla="val 503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4360" y="476280"/>
            <a:ext cx="71640" cy="144360"/>
          </a:xfrm>
          <a:prstGeom prst="downArrow">
            <a:avLst>
              <a:gd name="adj1" fmla="val 50000"/>
              <a:gd name="adj2" fmla="val 503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94480" y="64620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41920" y="655560"/>
            <a:ext cx="428760" cy="22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70680" y="655560"/>
            <a:ext cx="428760" cy="22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5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57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58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62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63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191120" y="3657600"/>
            <a:ext cx="1134000" cy="684360"/>
            <a:chOff x="4191120" y="3657600"/>
            <a:chExt cx="1134000" cy="684360"/>
          </a:xfrm>
        </p:grpSpPr>
        <p:grpSp>
          <p:nvGrpSpPr>
            <p:cNvPr id="67" name=""/>
            <p:cNvGrpSpPr/>
            <p:nvPr/>
          </p:nvGrpSpPr>
          <p:grpSpPr>
            <a:xfrm>
              <a:off x="4877640" y="4046400"/>
              <a:ext cx="447480" cy="295560"/>
              <a:chOff x="4877640" y="4046400"/>
              <a:chExt cx="447480" cy="295560"/>
            </a:xfrm>
          </p:grpSpPr>
          <p:sp>
            <p:nvSpPr>
              <p:cNvPr id="68" name=""/>
              <p:cNvSpPr/>
              <p:nvPr/>
            </p:nvSpPr>
            <p:spPr>
              <a:xfrm>
                <a:off x="4951440" y="4046400"/>
                <a:ext cx="304920" cy="29556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877640" y="4067280"/>
                <a:ext cx="44748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191120" y="3657600"/>
              <a:ext cx="857160" cy="3906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10200" y="3648240"/>
            <a:ext cx="2243160" cy="684000"/>
            <a:chOff x="4210200" y="3648240"/>
            <a:chExt cx="2243160" cy="684000"/>
          </a:xfrm>
        </p:grpSpPr>
        <p:grpSp>
          <p:nvGrpSpPr>
            <p:cNvPr id="72" name=""/>
            <p:cNvGrpSpPr/>
            <p:nvPr/>
          </p:nvGrpSpPr>
          <p:grpSpPr>
            <a:xfrm>
              <a:off x="5978520" y="4037040"/>
              <a:ext cx="474840" cy="295200"/>
              <a:chOff x="5978520" y="4037040"/>
              <a:chExt cx="474840" cy="295200"/>
            </a:xfrm>
          </p:grpSpPr>
          <p:sp>
            <p:nvSpPr>
              <p:cNvPr id="73" name=""/>
              <p:cNvSpPr/>
              <p:nvPr/>
            </p:nvSpPr>
            <p:spPr>
              <a:xfrm>
                <a:off x="6056280" y="403704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978520" y="4057560"/>
                <a:ext cx="47484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210200" y="3648240"/>
              <a:ext cx="1933560" cy="39996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33840" y="416232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56120" y="415116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40435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77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78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81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88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86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891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895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952800" y="32958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41200" y="1671480"/>
            <a:ext cx="8569440" cy="144720"/>
            <a:chOff x="241200" y="1671480"/>
            <a:chExt cx="8569440" cy="144720"/>
          </a:xfrm>
        </p:grpSpPr>
        <p:sp>
          <p:nvSpPr>
            <p:cNvPr id="900" name=""/>
            <p:cNvSpPr/>
            <p:nvPr/>
          </p:nvSpPr>
          <p:spPr>
            <a:xfrm>
              <a:off x="241200" y="17002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8640" y="16714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381480" y="476280"/>
            <a:ext cx="428400" cy="2400120"/>
            <a:chOff x="3381480" y="476280"/>
            <a:chExt cx="428400" cy="2400120"/>
          </a:xfrm>
        </p:grpSpPr>
        <p:sp>
          <p:nvSpPr>
            <p:cNvPr id="903" name=""/>
            <p:cNvSpPr/>
            <p:nvPr/>
          </p:nvSpPr>
          <p:spPr>
            <a:xfrm>
              <a:off x="3564000" y="47628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81480" y="638280"/>
              <a:ext cx="42840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689440" y="479520"/>
            <a:ext cx="428760" cy="2399760"/>
            <a:chOff x="5689440" y="479520"/>
            <a:chExt cx="428760" cy="2399760"/>
          </a:xfrm>
        </p:grpSpPr>
        <p:sp>
          <p:nvSpPr>
            <p:cNvPr id="906" name=""/>
            <p:cNvSpPr/>
            <p:nvPr/>
          </p:nvSpPr>
          <p:spPr>
            <a:xfrm>
              <a:off x="5871960" y="479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89440" y="641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909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10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914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91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918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92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923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928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932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31840" y="1900080"/>
            <a:ext cx="8569440" cy="144720"/>
            <a:chOff x="231840" y="1900080"/>
            <a:chExt cx="8569440" cy="144720"/>
          </a:xfrm>
        </p:grpSpPr>
        <p:sp>
          <p:nvSpPr>
            <p:cNvPr id="936" name=""/>
            <p:cNvSpPr/>
            <p:nvPr/>
          </p:nvSpPr>
          <p:spPr>
            <a:xfrm>
              <a:off x="231840" y="19288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9280" y="19000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356000" y="460440"/>
            <a:ext cx="428760" cy="2399760"/>
            <a:chOff x="4356000" y="460440"/>
            <a:chExt cx="428760" cy="2399760"/>
          </a:xfrm>
        </p:grpSpPr>
        <p:sp>
          <p:nvSpPr>
            <p:cNvPr id="939" name=""/>
            <p:cNvSpPr/>
            <p:nvPr/>
          </p:nvSpPr>
          <p:spPr>
            <a:xfrm>
              <a:off x="453852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56000" y="6220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942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43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948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949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953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95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957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961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962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967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971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12760" y="1547640"/>
            <a:ext cx="8569440" cy="144720"/>
            <a:chOff x="212760" y="1547640"/>
            <a:chExt cx="8569440" cy="144720"/>
          </a:xfrm>
        </p:grpSpPr>
        <p:sp>
          <p:nvSpPr>
            <p:cNvPr id="975" name=""/>
            <p:cNvSpPr/>
            <p:nvPr/>
          </p:nvSpPr>
          <p:spPr>
            <a:xfrm>
              <a:off x="212760" y="157644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30200" y="154764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978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79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288612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984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985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 rot="5400000">
            <a:off x="2130120" y="676080"/>
            <a:ext cx="43671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6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90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94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78520" y="4027320"/>
            <a:ext cx="474840" cy="295200"/>
            <a:chOff x="5978520" y="4027320"/>
            <a:chExt cx="474840" cy="295200"/>
          </a:xfrm>
        </p:grpSpPr>
        <p:sp>
          <p:nvSpPr>
            <p:cNvPr id="98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78520" y="4047840"/>
              <a:ext cx="47484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0040" y="1308240"/>
            <a:ext cx="8569080" cy="144360"/>
            <a:chOff x="230040" y="1308240"/>
            <a:chExt cx="8569080" cy="144360"/>
          </a:xfrm>
        </p:grpSpPr>
        <p:sp>
          <p:nvSpPr>
            <p:cNvPr id="102" name=""/>
            <p:cNvSpPr/>
            <p:nvPr/>
          </p:nvSpPr>
          <p:spPr>
            <a:xfrm>
              <a:off x="230040" y="13366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748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712880" y="484200"/>
            <a:ext cx="428760" cy="2399760"/>
            <a:chOff x="1712880" y="484200"/>
            <a:chExt cx="428760" cy="2399760"/>
          </a:xfrm>
        </p:grpSpPr>
        <p:sp>
          <p:nvSpPr>
            <p:cNvPr id="105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12880" y="6458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08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09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835520" y="482760"/>
            <a:ext cx="428760" cy="2399760"/>
            <a:chOff x="4835520" y="482760"/>
            <a:chExt cx="428760" cy="2399760"/>
          </a:xfrm>
        </p:grpSpPr>
        <p:sp>
          <p:nvSpPr>
            <p:cNvPr id="113" name=""/>
            <p:cNvSpPr/>
            <p:nvPr/>
          </p:nvSpPr>
          <p:spPr>
            <a:xfrm>
              <a:off x="5018040" y="48276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64440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407360" y="473040"/>
            <a:ext cx="428400" cy="2400480"/>
            <a:chOff x="7407360" y="473040"/>
            <a:chExt cx="428400" cy="2400480"/>
          </a:xfrm>
        </p:grpSpPr>
        <p:sp>
          <p:nvSpPr>
            <p:cNvPr id="116" name=""/>
            <p:cNvSpPr/>
            <p:nvPr/>
          </p:nvSpPr>
          <p:spPr>
            <a:xfrm>
              <a:off x="7589520" y="47304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0736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743360" y="533520"/>
            <a:ext cx="714600" cy="23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71640" y="552600"/>
            <a:ext cx="800280" cy="235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373480" y="4334040"/>
            <a:ext cx="504000" cy="884160"/>
            <a:chOff x="2373480" y="4334040"/>
            <a:chExt cx="504000" cy="884160"/>
          </a:xfrm>
        </p:grpSpPr>
        <p:grpSp>
          <p:nvGrpSpPr>
            <p:cNvPr id="121" name=""/>
            <p:cNvGrpSpPr/>
            <p:nvPr/>
          </p:nvGrpSpPr>
          <p:grpSpPr>
            <a:xfrm>
              <a:off x="2414880" y="4923000"/>
              <a:ext cx="462600" cy="295200"/>
              <a:chOff x="2414880" y="4923000"/>
              <a:chExt cx="462600" cy="29520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489400" y="4923000"/>
                <a:ext cx="30456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414520" y="4943520"/>
                <a:ext cx="4626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373480" y="4334040"/>
              <a:ext cx="2664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85280" y="1760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56120" y="415116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57520" y="4033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36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39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143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147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78520" y="4027320"/>
            <a:ext cx="474840" cy="295200"/>
            <a:chOff x="5978520" y="4027320"/>
            <a:chExt cx="474840" cy="295200"/>
          </a:xfrm>
        </p:grpSpPr>
        <p:sp>
          <p:nvSpPr>
            <p:cNvPr id="151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78520" y="4047840"/>
              <a:ext cx="47484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1600" y="1908000"/>
            <a:ext cx="8569080" cy="144360"/>
            <a:chOff x="201600" y="1908000"/>
            <a:chExt cx="8569080" cy="144360"/>
          </a:xfrm>
        </p:grpSpPr>
        <p:sp>
          <p:nvSpPr>
            <p:cNvPr id="155" name=""/>
            <p:cNvSpPr/>
            <p:nvPr/>
          </p:nvSpPr>
          <p:spPr>
            <a:xfrm>
              <a:off x="201600" y="19364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040" y="190800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370400" y="465120"/>
            <a:ext cx="428760" cy="2400480"/>
            <a:chOff x="4370400" y="465120"/>
            <a:chExt cx="428760" cy="2400480"/>
          </a:xfrm>
        </p:grpSpPr>
        <p:sp>
          <p:nvSpPr>
            <p:cNvPr id="158" name=""/>
            <p:cNvSpPr/>
            <p:nvPr/>
          </p:nvSpPr>
          <p:spPr>
            <a:xfrm>
              <a:off x="4552920" y="4651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7040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61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62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373480" y="4334040"/>
            <a:ext cx="504000" cy="884160"/>
            <a:chOff x="2373480" y="4334040"/>
            <a:chExt cx="504000" cy="884160"/>
          </a:xfrm>
        </p:grpSpPr>
        <p:grpSp>
          <p:nvGrpSpPr>
            <p:cNvPr id="166" name=""/>
            <p:cNvGrpSpPr/>
            <p:nvPr/>
          </p:nvGrpSpPr>
          <p:grpSpPr>
            <a:xfrm>
              <a:off x="2414880" y="4923000"/>
              <a:ext cx="462600" cy="295200"/>
              <a:chOff x="2414880" y="4923000"/>
              <a:chExt cx="462600" cy="29520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2489400" y="4923000"/>
                <a:ext cx="30456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414520" y="4943520"/>
                <a:ext cx="4626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373480" y="4334040"/>
              <a:ext cx="2664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171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35520" y="463680"/>
            <a:ext cx="428760" cy="2399760"/>
            <a:chOff x="4835520" y="463680"/>
            <a:chExt cx="428760" cy="2399760"/>
          </a:xfrm>
        </p:grpSpPr>
        <p:sp>
          <p:nvSpPr>
            <p:cNvPr id="177" name=""/>
            <p:cNvSpPr/>
            <p:nvPr/>
          </p:nvSpPr>
          <p:spPr>
            <a:xfrm>
              <a:off x="5018040" y="46368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35520" y="62532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540480" y="453960"/>
            <a:ext cx="428760" cy="2400480"/>
            <a:chOff x="6540480" y="453960"/>
            <a:chExt cx="428760" cy="2400480"/>
          </a:xfrm>
        </p:grpSpPr>
        <p:sp>
          <p:nvSpPr>
            <p:cNvPr id="180" name=""/>
            <p:cNvSpPr/>
            <p:nvPr/>
          </p:nvSpPr>
          <p:spPr>
            <a:xfrm>
              <a:off x="672300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4048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599000" y="512640"/>
            <a:ext cx="79992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228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21440" y="4332240"/>
            <a:ext cx="559440" cy="884160"/>
            <a:chOff x="3421440" y="4332240"/>
            <a:chExt cx="559440" cy="884160"/>
          </a:xfrm>
        </p:grpSpPr>
        <p:grpSp>
          <p:nvGrpSpPr>
            <p:cNvPr id="186" name=""/>
            <p:cNvGrpSpPr/>
            <p:nvPr/>
          </p:nvGrpSpPr>
          <p:grpSpPr>
            <a:xfrm>
              <a:off x="3428280" y="4921200"/>
              <a:ext cx="552600" cy="295200"/>
              <a:chOff x="3428280" y="4921200"/>
              <a:chExt cx="552600" cy="29520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3536640" y="49212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427920" y="4941720"/>
                <a:ext cx="5526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3421440" y="4332240"/>
              <a:ext cx="2664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40435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9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0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206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210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978520" y="4027320"/>
            <a:ext cx="474840" cy="295200"/>
            <a:chOff x="5978520" y="4027320"/>
            <a:chExt cx="474840" cy="295200"/>
          </a:xfrm>
        </p:grpSpPr>
        <p:sp>
          <p:nvSpPr>
            <p:cNvPr id="214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78520" y="4047840"/>
              <a:ext cx="474840" cy="2462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600" y="2136600"/>
            <a:ext cx="8569080" cy="144360"/>
            <a:chOff x="201600" y="2136600"/>
            <a:chExt cx="8569080" cy="144360"/>
          </a:xfrm>
        </p:grpSpPr>
        <p:sp>
          <p:nvSpPr>
            <p:cNvPr id="218" name=""/>
            <p:cNvSpPr/>
            <p:nvPr/>
          </p:nvSpPr>
          <p:spPr>
            <a:xfrm>
              <a:off x="201600" y="21650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9040" y="213660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36960" y="474840"/>
            <a:ext cx="428760" cy="2399760"/>
            <a:chOff x="4836960" y="474840"/>
            <a:chExt cx="428760" cy="2399760"/>
          </a:xfrm>
        </p:grpSpPr>
        <p:sp>
          <p:nvSpPr>
            <p:cNvPr id="221" name=""/>
            <p:cNvSpPr/>
            <p:nvPr/>
          </p:nvSpPr>
          <p:spPr>
            <a:xfrm>
              <a:off x="5019480" y="4748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36960" y="6364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22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25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229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2497320" y="49230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234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857840" y="399096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969240" y="453960"/>
            <a:ext cx="428400" cy="2400480"/>
            <a:chOff x="6969240" y="453960"/>
            <a:chExt cx="428400" cy="2400480"/>
          </a:xfrm>
        </p:grpSpPr>
        <p:sp>
          <p:nvSpPr>
            <p:cNvPr id="240" name=""/>
            <p:cNvSpPr/>
            <p:nvPr/>
          </p:nvSpPr>
          <p:spPr>
            <a:xfrm>
              <a:off x="7151400" y="45396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9240" y="61596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243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683320" y="473040"/>
            <a:ext cx="428400" cy="2400480"/>
            <a:chOff x="5683320" y="473040"/>
            <a:chExt cx="428400" cy="2400480"/>
          </a:xfrm>
        </p:grpSpPr>
        <p:sp>
          <p:nvSpPr>
            <p:cNvPr id="248" name=""/>
            <p:cNvSpPr/>
            <p:nvPr/>
          </p:nvSpPr>
          <p:spPr>
            <a:xfrm>
              <a:off x="5865480" y="47304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8332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99000" y="512640"/>
            <a:ext cx="79992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228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254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258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19800" y="40622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27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7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279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283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287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01600" y="2270160"/>
            <a:ext cx="8569080" cy="144360"/>
            <a:chOff x="201600" y="2270160"/>
            <a:chExt cx="8569080" cy="144360"/>
          </a:xfrm>
        </p:grpSpPr>
        <p:sp>
          <p:nvSpPr>
            <p:cNvPr id="291" name=""/>
            <p:cNvSpPr/>
            <p:nvPr/>
          </p:nvSpPr>
          <p:spPr>
            <a:xfrm>
              <a:off x="201600" y="229860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040" y="227016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836960" y="474840"/>
            <a:ext cx="428760" cy="2399760"/>
            <a:chOff x="4836960" y="474840"/>
            <a:chExt cx="428760" cy="2399760"/>
          </a:xfrm>
        </p:grpSpPr>
        <p:sp>
          <p:nvSpPr>
            <p:cNvPr id="294" name=""/>
            <p:cNvSpPr/>
            <p:nvPr/>
          </p:nvSpPr>
          <p:spPr>
            <a:xfrm>
              <a:off x="5019480" y="4748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36960" y="6364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297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302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303" name=""/>
              <p:cNvSpPr/>
              <p:nvPr/>
            </p:nvSpPr>
            <p:spPr>
              <a:xfrm flipH="1">
                <a:off x="2497320" y="49230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307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972040" y="39816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313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314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264280" y="473040"/>
            <a:ext cx="428400" cy="2400480"/>
            <a:chOff x="5264280" y="473040"/>
            <a:chExt cx="428400" cy="2400480"/>
          </a:xfrm>
        </p:grpSpPr>
        <p:sp>
          <p:nvSpPr>
            <p:cNvPr id="318" name=""/>
            <p:cNvSpPr/>
            <p:nvPr/>
          </p:nvSpPr>
          <p:spPr>
            <a:xfrm>
              <a:off x="5446440" y="47304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599000" y="512640"/>
            <a:ext cx="79992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1228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324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181480" y="4330800"/>
            <a:ext cx="514440" cy="884160"/>
            <a:chOff x="5181480" y="4330800"/>
            <a:chExt cx="514440" cy="884160"/>
          </a:xfrm>
        </p:grpSpPr>
        <p:grpSp>
          <p:nvGrpSpPr>
            <p:cNvPr id="328" name=""/>
            <p:cNvGrpSpPr/>
            <p:nvPr/>
          </p:nvGrpSpPr>
          <p:grpSpPr>
            <a:xfrm>
              <a:off x="5186160" y="4919760"/>
              <a:ext cx="509760" cy="295200"/>
              <a:chOff x="5186160" y="4919760"/>
              <a:chExt cx="509760" cy="295200"/>
            </a:xfrm>
          </p:grpSpPr>
          <p:sp>
            <p:nvSpPr>
              <p:cNvPr id="329" name=""/>
              <p:cNvSpPr/>
              <p:nvPr/>
            </p:nvSpPr>
            <p:spPr>
              <a:xfrm flipH="1">
                <a:off x="5289120" y="4919760"/>
                <a:ext cx="2833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186160" y="4940280"/>
                <a:ext cx="50976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181480" y="4330800"/>
              <a:ext cx="24768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333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24080" y="49482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53040" y="453960"/>
            <a:ext cx="916200" cy="4998960"/>
            <a:chOff x="6053040" y="453960"/>
            <a:chExt cx="916200" cy="4998960"/>
          </a:xfrm>
        </p:grpSpPr>
        <p:grpSp>
          <p:nvGrpSpPr>
            <p:cNvPr id="344" name=""/>
            <p:cNvGrpSpPr/>
            <p:nvPr/>
          </p:nvGrpSpPr>
          <p:grpSpPr>
            <a:xfrm>
              <a:off x="6540480" y="453960"/>
              <a:ext cx="428760" cy="2400480"/>
              <a:chOff x="6540480" y="453960"/>
              <a:chExt cx="428760" cy="2400480"/>
            </a:xfrm>
          </p:grpSpPr>
          <p:sp>
            <p:nvSpPr>
              <p:cNvPr id="345" name=""/>
              <p:cNvSpPr/>
              <p:nvPr/>
            </p:nvSpPr>
            <p:spPr>
              <a:xfrm>
                <a:off x="6723000" y="453960"/>
                <a:ext cx="71640" cy="144720"/>
              </a:xfrm>
              <a:prstGeom prst="downArrow">
                <a:avLst>
                  <a:gd name="adj1" fmla="val 50000"/>
                  <a:gd name="adj2" fmla="val 5050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40480" y="615960"/>
                <a:ext cx="428760" cy="22384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6053040" y="4338720"/>
              <a:ext cx="801360" cy="1114200"/>
              <a:chOff x="6053040" y="4338720"/>
              <a:chExt cx="801360" cy="111420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6396120" y="492768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274800" y="4938840"/>
                <a:ext cx="579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80200" y="4338720"/>
                <a:ext cx="266760" cy="590400"/>
              </a:xfrm>
              <a:prstGeom prst="line">
                <a:avLst/>
              </a:prstGeom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53040" y="5348160"/>
                <a:ext cx="523800" cy="104760"/>
              </a:xfrm>
              <a:custGeom>
                <a:avLst/>
                <a:gdLst>
                  <a:gd name="textAreaLeft" fmla="*/ 91440 w 523800"/>
                  <a:gd name="textAreaRight" fmla="*/ 379800 w 523800"/>
                  <a:gd name="textAreaTop" fmla="*/ 14040 h 104760"/>
                  <a:gd name="textAreaBottom" fmla="*/ 90720 h 1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bbe0e3"/>
              </a:solidFill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35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357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361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365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369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92240" y="831960"/>
            <a:ext cx="8569080" cy="144360"/>
            <a:chOff x="192240" y="831960"/>
            <a:chExt cx="8569080" cy="144360"/>
          </a:xfrm>
        </p:grpSpPr>
        <p:sp>
          <p:nvSpPr>
            <p:cNvPr id="373" name=""/>
            <p:cNvSpPr/>
            <p:nvPr/>
          </p:nvSpPr>
          <p:spPr>
            <a:xfrm>
              <a:off x="192240" y="86040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9680" y="83196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379680" y="465120"/>
            <a:ext cx="428760" cy="2400480"/>
            <a:chOff x="3379680" y="465120"/>
            <a:chExt cx="428760" cy="2400480"/>
          </a:xfrm>
        </p:grpSpPr>
        <p:sp>
          <p:nvSpPr>
            <p:cNvPr id="376" name=""/>
            <p:cNvSpPr/>
            <p:nvPr/>
          </p:nvSpPr>
          <p:spPr>
            <a:xfrm>
              <a:off x="3562200" y="4651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7968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379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380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384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385" name=""/>
              <p:cNvSpPr/>
              <p:nvPr/>
            </p:nvSpPr>
            <p:spPr>
              <a:xfrm flipH="1">
                <a:off x="2497320" y="49230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389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395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396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616840" y="146160"/>
            <a:ext cx="2058120" cy="2728440"/>
            <a:chOff x="2616840" y="146160"/>
            <a:chExt cx="2058120" cy="2728440"/>
          </a:xfrm>
        </p:grpSpPr>
        <p:sp>
          <p:nvSpPr>
            <p:cNvPr id="400" name=""/>
            <p:cNvSpPr/>
            <p:nvPr/>
          </p:nvSpPr>
          <p:spPr>
            <a:xfrm>
              <a:off x="3274920" y="50292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103560" y="522000"/>
              <a:ext cx="79992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16840" y="146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404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408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409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413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242040" y="4338720"/>
            <a:ext cx="691200" cy="884160"/>
            <a:chOff x="6242040" y="4338720"/>
            <a:chExt cx="691200" cy="884160"/>
          </a:xfrm>
        </p:grpSpPr>
        <p:grpSp>
          <p:nvGrpSpPr>
            <p:cNvPr id="417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6357960" y="492768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6242040" y="433872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42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43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436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440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444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0960" y="2384280"/>
            <a:ext cx="8569080" cy="144360"/>
            <a:chOff x="210960" y="2384280"/>
            <a:chExt cx="8569080" cy="144360"/>
          </a:xfrm>
        </p:grpSpPr>
        <p:sp>
          <p:nvSpPr>
            <p:cNvPr id="448" name=""/>
            <p:cNvSpPr/>
            <p:nvPr/>
          </p:nvSpPr>
          <p:spPr>
            <a:xfrm>
              <a:off x="21096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840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379680" y="465120"/>
            <a:ext cx="428760" cy="2400480"/>
            <a:chOff x="3379680" y="465120"/>
            <a:chExt cx="428760" cy="2400480"/>
          </a:xfrm>
        </p:grpSpPr>
        <p:sp>
          <p:nvSpPr>
            <p:cNvPr id="451" name=""/>
            <p:cNvSpPr/>
            <p:nvPr/>
          </p:nvSpPr>
          <p:spPr>
            <a:xfrm>
              <a:off x="3562200" y="4651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7968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45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45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459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460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464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40984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470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471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616840" y="146160"/>
            <a:ext cx="2058120" cy="2728440"/>
            <a:chOff x="2616840" y="146160"/>
            <a:chExt cx="2058120" cy="2728440"/>
          </a:xfrm>
        </p:grpSpPr>
        <p:sp>
          <p:nvSpPr>
            <p:cNvPr id="475" name=""/>
            <p:cNvSpPr/>
            <p:nvPr/>
          </p:nvSpPr>
          <p:spPr>
            <a:xfrm>
              <a:off x="3274920" y="50292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103560" y="522000"/>
              <a:ext cx="79992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16840" y="146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479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483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484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488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242040" y="4338720"/>
            <a:ext cx="691200" cy="884160"/>
            <a:chOff x="6242040" y="4338720"/>
            <a:chExt cx="691200" cy="884160"/>
          </a:xfrm>
        </p:grpSpPr>
        <p:grpSp>
          <p:nvGrpSpPr>
            <p:cNvPr id="492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6357960" y="492768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6242040" y="433872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111400" y="473040"/>
            <a:ext cx="428760" cy="2400480"/>
            <a:chOff x="2111400" y="473040"/>
            <a:chExt cx="428760" cy="2400480"/>
          </a:xfrm>
        </p:grpSpPr>
        <p:sp>
          <p:nvSpPr>
            <p:cNvPr id="497" name=""/>
            <p:cNvSpPr/>
            <p:nvPr/>
          </p:nvSpPr>
          <p:spPr>
            <a:xfrm>
              <a:off x="2293920" y="47304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11400" y="63504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164680" y="5227560"/>
            <a:ext cx="479880" cy="884160"/>
            <a:chOff x="2164680" y="5227560"/>
            <a:chExt cx="479880" cy="884160"/>
          </a:xfrm>
        </p:grpSpPr>
        <p:sp>
          <p:nvSpPr>
            <p:cNvPr id="500" name=""/>
            <p:cNvSpPr/>
            <p:nvPr/>
          </p:nvSpPr>
          <p:spPr>
            <a:xfrm>
              <a:off x="2224440" y="581652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64680" y="583704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377800" y="522756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360 h 362160"/>
              <a:gd name="textAreaBottom" fmla="*/ 262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4720 h 314280"/>
              <a:gd name="textAreaBottom" fmla="*/ 22788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51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51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519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523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527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01600" y="1555920"/>
            <a:ext cx="8569080" cy="144360"/>
            <a:chOff x="201600" y="1555920"/>
            <a:chExt cx="8569080" cy="144360"/>
          </a:xfrm>
        </p:grpSpPr>
        <p:sp>
          <p:nvSpPr>
            <p:cNvPr id="531" name=""/>
            <p:cNvSpPr/>
            <p:nvPr/>
          </p:nvSpPr>
          <p:spPr>
            <a:xfrm>
              <a:off x="201600" y="15843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040" y="15559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53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53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539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540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544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886120" y="488628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425760" y="4332240"/>
            <a:ext cx="558000" cy="884160"/>
            <a:chOff x="3425760" y="4332240"/>
            <a:chExt cx="558000" cy="884160"/>
          </a:xfrm>
        </p:grpSpPr>
        <p:grpSp>
          <p:nvGrpSpPr>
            <p:cNvPr id="550" name=""/>
            <p:cNvGrpSpPr/>
            <p:nvPr/>
          </p:nvGrpSpPr>
          <p:grpSpPr>
            <a:xfrm>
              <a:off x="3431160" y="4921200"/>
              <a:ext cx="552600" cy="295200"/>
              <a:chOff x="3431160" y="4921200"/>
              <a:chExt cx="552600" cy="29520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3542040" y="49212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43080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342576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555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559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564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235560" y="4338720"/>
            <a:ext cx="697680" cy="884160"/>
            <a:chOff x="6235560" y="4338720"/>
            <a:chExt cx="697680" cy="884160"/>
          </a:xfrm>
        </p:grpSpPr>
        <p:grpSp>
          <p:nvGrpSpPr>
            <p:cNvPr id="568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569" name=""/>
              <p:cNvSpPr/>
              <p:nvPr/>
            </p:nvSpPr>
            <p:spPr>
              <a:xfrm flipH="1">
                <a:off x="6350760" y="492768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235560" y="433872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164680" y="5227560"/>
            <a:ext cx="479880" cy="884160"/>
            <a:chOff x="2164680" y="5227560"/>
            <a:chExt cx="479880" cy="884160"/>
          </a:xfrm>
        </p:grpSpPr>
        <p:sp>
          <p:nvSpPr>
            <p:cNvPr id="573" name=""/>
            <p:cNvSpPr/>
            <p:nvPr/>
          </p:nvSpPr>
          <p:spPr>
            <a:xfrm>
              <a:off x="2224440" y="581652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64680" y="583704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377800" y="522756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360 h 362160"/>
              <a:gd name="textAreaBottom" fmla="*/ 262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4720 h 314280"/>
              <a:gd name="textAreaBottom" fmla="*/ 22788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4:33:38Z</dcterms:created>
  <dc:creator> Alessandro Sperduti</dc:creator>
  <dc:description/>
  <dc:language>en-US</dc:language>
  <cp:lastModifiedBy> Alessandro Sperduti</cp:lastModifiedBy>
  <dcterms:modified xsi:type="dcterms:W3CDTF">2005-10-11T14:34:10Z</dcterms:modified>
  <cp:revision>1</cp:revision>
  <dc:subject/>
  <dc:title>Diapositiva 1</dc:title>
</cp:coreProperties>
</file>