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29A-0337-4D50-94A7-E025C36F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CE8-431D-4B40-A53D-8F2E70D7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4DB-0D77-4D28-9768-4834EED7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82C-77F0-41E3-AF13-DDB8EFF5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FCE-4500-491E-A1D8-AB50F2F6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06E-48A3-4398-95BC-97B692C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085-90E4-4DA3-B2EC-10C85D1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360-1073-46AB-8132-E6A09E60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180-DFB4-4B57-A7D0-1108604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EE5-A01F-4C3B-A9C7-B3C465F9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641-9392-4CCF-B094-90289BDE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C24-C01C-41FD-B484-4D72F56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7D64-37DB-4DF3-8BFE-E32469B10B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5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5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6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265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269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272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275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281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282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8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9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9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30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304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307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308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313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314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 rot="5400000">
            <a:off x="2162880" y="43560"/>
            <a:ext cx="4538520" cy="73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5320" y="624852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4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86240" y="62485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(BOS,15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152360" y="6324480"/>
            <a:ext cx="495360" cy="152640"/>
            <a:chOff x="1152360" y="6324480"/>
            <a:chExt cx="495360" cy="152640"/>
          </a:xfrm>
        </p:grpSpPr>
        <p:sp>
          <p:nvSpPr>
            <p:cNvPr id="349" name=""/>
            <p:cNvSpPr/>
            <p:nvPr/>
          </p:nvSpPr>
          <p:spPr>
            <a:xfrm flipH="1">
              <a:off x="115236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5236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5560" y="624852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15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123920" y="6324480"/>
            <a:ext cx="495360" cy="152640"/>
            <a:chOff x="1123920" y="6324480"/>
            <a:chExt cx="495360" cy="152640"/>
          </a:xfrm>
        </p:grpSpPr>
        <p:sp>
          <p:nvSpPr>
            <p:cNvPr id="377" name=""/>
            <p:cNvSpPr/>
            <p:nvPr/>
          </p:nvSpPr>
          <p:spPr>
            <a:xfrm flipH="1">
              <a:off x="112392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2392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46080" y="62564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22320" y="62452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HYA,218), 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219320" y="6343560"/>
            <a:ext cx="495360" cy="152640"/>
            <a:chOff x="1219320" y="6343560"/>
            <a:chExt cx="495360" cy="152640"/>
          </a:xfrm>
        </p:grpSpPr>
        <p:sp>
          <p:nvSpPr>
            <p:cNvPr id="426" name=""/>
            <p:cNvSpPr/>
            <p:nvPr/>
          </p:nvSpPr>
          <p:spPr>
            <a:xfrm flipH="1">
              <a:off x="12193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93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25200" y="62546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485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489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21600" y="625464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918720" y="6254640"/>
            <a:ext cx="28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AN,245), (AUG,304), (LAG,4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16200" y="6254640"/>
            <a:ext cx="38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AN,245), (AUG,304), (LAG,422), (NEW,4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181160" y="6343560"/>
            <a:ext cx="495360" cy="152640"/>
            <a:chOff x="1181160" y="6343560"/>
            <a:chExt cx="495360" cy="152640"/>
          </a:xfrm>
        </p:grpSpPr>
        <p:sp>
          <p:nvSpPr>
            <p:cNvPr id="503" name=""/>
            <p:cNvSpPr/>
            <p:nvPr/>
          </p:nvSpPr>
          <p:spPr>
            <a:xfrm flipH="1">
              <a:off x="118116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8116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561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565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92080" y="625464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88120" y="6254640"/>
            <a:ext cx="38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, (LAG,4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85600" y="6254640"/>
            <a:ext cx="48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171440" y="6334200"/>
            <a:ext cx="495360" cy="152280"/>
            <a:chOff x="1171440" y="6334200"/>
            <a:chExt cx="495360" cy="152280"/>
          </a:xfrm>
        </p:grpSpPr>
        <p:sp>
          <p:nvSpPr>
            <p:cNvPr id="596" name=""/>
            <p:cNvSpPr/>
            <p:nvPr/>
          </p:nvSpPr>
          <p:spPr>
            <a:xfrm flipH="1"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654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658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88840" y="6254640"/>
            <a:ext cx="38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22), 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171440" y="6334200"/>
            <a:ext cx="495360" cy="152280"/>
            <a:chOff x="1171440" y="6334200"/>
            <a:chExt cx="495360" cy="152280"/>
          </a:xfrm>
        </p:grpSpPr>
        <p:sp>
          <p:nvSpPr>
            <p:cNvPr id="688" name=""/>
            <p:cNvSpPr/>
            <p:nvPr/>
          </p:nvSpPr>
          <p:spPr>
            <a:xfrm flipH="1"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58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9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63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6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04640" y="4016520"/>
            <a:ext cx="447480" cy="295200"/>
            <a:chOff x="4904640" y="4016520"/>
            <a:chExt cx="447480" cy="295200"/>
          </a:xfrm>
        </p:grpSpPr>
        <p:sp>
          <p:nvSpPr>
            <p:cNvPr id="71" name=""/>
            <p:cNvSpPr/>
            <p:nvPr/>
          </p:nvSpPr>
          <p:spPr>
            <a:xfrm>
              <a:off x="497844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4640" y="40370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18120" y="364644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05160" y="4016520"/>
            <a:ext cx="474840" cy="295200"/>
            <a:chOff x="6005160" y="4016520"/>
            <a:chExt cx="474840" cy="295200"/>
          </a:xfrm>
        </p:grpSpPr>
        <p:sp>
          <p:nvSpPr>
            <p:cNvPr id="75" name=""/>
            <p:cNvSpPr/>
            <p:nvPr/>
          </p:nvSpPr>
          <p:spPr>
            <a:xfrm>
              <a:off x="608328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05160" y="40370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237200" y="363708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535800" y="477720"/>
            <a:ext cx="428400" cy="2400480"/>
            <a:chOff x="6535800" y="477720"/>
            <a:chExt cx="428400" cy="2400480"/>
          </a:xfrm>
        </p:grpSpPr>
        <p:sp>
          <p:nvSpPr>
            <p:cNvPr id="79" name=""/>
            <p:cNvSpPr/>
            <p:nvPr/>
          </p:nvSpPr>
          <p:spPr>
            <a:xfrm>
              <a:off x="6717960" y="47772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5800" y="63972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64200" y="477720"/>
            <a:ext cx="428760" cy="2400480"/>
            <a:chOff x="6964200" y="477720"/>
            <a:chExt cx="428760" cy="2400480"/>
          </a:xfrm>
        </p:grpSpPr>
        <p:sp>
          <p:nvSpPr>
            <p:cNvPr id="82" name=""/>
            <p:cNvSpPr/>
            <p:nvPr/>
          </p:nvSpPr>
          <p:spPr>
            <a:xfrm>
              <a:off x="7146720" y="4777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64200" y="6397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889920" y="6253200"/>
            <a:ext cx="39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87400" y="6253200"/>
            <a:ext cx="485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748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752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92440" y="625320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219320" y="6334200"/>
            <a:ext cx="495360" cy="152280"/>
            <a:chOff x="1219320" y="6334200"/>
            <a:chExt cx="495360" cy="152280"/>
          </a:xfrm>
        </p:grpSpPr>
        <p:sp>
          <p:nvSpPr>
            <p:cNvPr id="799" name=""/>
            <p:cNvSpPr/>
            <p:nvPr/>
          </p:nvSpPr>
          <p:spPr>
            <a:xfrm flipH="1">
              <a:off x="121932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1932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875880" y="6251400"/>
            <a:ext cx="47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KEE,610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73360" y="6251400"/>
            <a:ext cx="573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KEE,610), (NAN,629), (NAN,646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859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863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878760" y="625140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910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915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123920" y="6343560"/>
            <a:ext cx="495360" cy="152640"/>
            <a:chOff x="1123920" y="6343560"/>
            <a:chExt cx="495360" cy="152640"/>
          </a:xfrm>
        </p:grpSpPr>
        <p:sp>
          <p:nvSpPr>
            <p:cNvPr id="928" name=""/>
            <p:cNvSpPr/>
            <p:nvPr/>
          </p:nvSpPr>
          <p:spPr>
            <a:xfrm flipH="1">
              <a:off x="11239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1239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865800" y="6251400"/>
            <a:ext cx="48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986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990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036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041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63280" y="6251400"/>
            <a:ext cx="57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1063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1143000" y="6343560"/>
            <a:ext cx="495360" cy="152640"/>
            <a:chOff x="1143000" y="6343560"/>
            <a:chExt cx="495360" cy="152640"/>
          </a:xfrm>
        </p:grpSpPr>
        <p:sp>
          <p:nvSpPr>
            <p:cNvPr id="1066" name=""/>
            <p:cNvSpPr/>
            <p:nvPr/>
          </p:nvSpPr>
          <p:spPr>
            <a:xfrm flipH="1">
              <a:off x="114300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4300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123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127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173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178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864360" y="6251400"/>
            <a:ext cx="47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KEE,610), (NAN,629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1200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5556240" y="5167440"/>
            <a:ext cx="355320" cy="1064880"/>
            <a:chOff x="5556240" y="5167440"/>
            <a:chExt cx="355320" cy="1064880"/>
          </a:xfrm>
        </p:grpSpPr>
        <p:sp>
          <p:nvSpPr>
            <p:cNvPr id="1203" name=""/>
            <p:cNvSpPr/>
            <p:nvPr/>
          </p:nvSpPr>
          <p:spPr>
            <a:xfrm>
              <a:off x="5556240" y="58784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789520" y="602784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24952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61120" y="6251400"/>
            <a:ext cx="569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KEE,610), (NAN,629), (KEE,641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6283440" y="4710240"/>
            <a:ext cx="120240" cy="95040"/>
            <a:chOff x="6283440" y="4710240"/>
            <a:chExt cx="120240" cy="95040"/>
          </a:xfrm>
        </p:grpSpPr>
        <p:sp>
          <p:nvSpPr>
            <p:cNvPr id="1213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35472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1133280" y="6334200"/>
            <a:ext cx="495360" cy="152280"/>
            <a:chOff x="1133280" y="6334200"/>
            <a:chExt cx="495360" cy="152280"/>
          </a:xfrm>
        </p:grpSpPr>
        <p:sp>
          <p:nvSpPr>
            <p:cNvPr id="1216" name=""/>
            <p:cNvSpPr/>
            <p:nvPr/>
          </p:nvSpPr>
          <p:spPr>
            <a:xfrm flipH="1">
              <a:off x="1133280" y="6334200"/>
              <a:ext cx="4950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133640" y="6334200"/>
              <a:ext cx="4950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21360" y="397188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272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276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322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327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1348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5556240" y="5167440"/>
            <a:ext cx="355320" cy="1064880"/>
            <a:chOff x="5556240" y="5167440"/>
            <a:chExt cx="355320" cy="1064880"/>
          </a:xfrm>
        </p:grpSpPr>
        <p:sp>
          <p:nvSpPr>
            <p:cNvPr id="1351" name=""/>
            <p:cNvSpPr/>
            <p:nvPr/>
          </p:nvSpPr>
          <p:spPr>
            <a:xfrm>
              <a:off x="5556240" y="58784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89520" y="602784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524952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6283440" y="4710240"/>
            <a:ext cx="120240" cy="95040"/>
            <a:chOff x="6283440" y="4710240"/>
            <a:chExt cx="120240" cy="95040"/>
          </a:xfrm>
        </p:grpSpPr>
        <p:sp>
          <p:nvSpPr>
            <p:cNvPr id="1360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472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93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94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7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10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2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128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3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32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3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4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4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4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152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157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158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16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64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6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7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7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7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8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186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9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9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9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203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208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209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212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215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2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2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2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8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232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237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240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243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24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09:37:06Z</dcterms:created>
  <dc:creator> Alessandro Sperduti</dc:creator>
  <dc:description/>
  <dc:language>en-US</dc:language>
  <cp:lastModifiedBy> Alessandro Sperduti</cp:lastModifiedBy>
  <dcterms:modified xsi:type="dcterms:W3CDTF">2005-10-13T09:37:45Z</dcterms:modified>
  <cp:revision>1</cp:revision>
  <dc:subject/>
  <dc:title>Diapositiva 1</dc:title>
</cp:coreProperties>
</file>