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3F35-60D9-46EC-A28B-30AFEB614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76F0-D7D2-4A65-91CF-ACC300850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2F7D-0F37-4D75-9A8F-78FA1943F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B6F3-1C6F-473D-814E-F18CC7959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6E11-E9B9-4970-9011-B4C04B77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5AF5-B5AE-47AE-98B1-26969CF1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0978-0BB6-4456-9760-88E2F40EA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3FE6-4554-43E5-8779-758AC786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9670-5D92-4F52-8A65-167890DC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4B4D-E72D-456E-B95A-8755FE01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375F-89CD-41C5-9874-79B799D8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2D64-12AF-4B8D-820F-496B5EEF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B81142C-7C85-4542-9F14-3FC54CD120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476280"/>
            <a:ext cx="8845560" cy="701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583" name=""/>
          <p:cNvGrpSpPr/>
          <p:nvPr/>
        </p:nvGrpSpPr>
        <p:grpSpPr>
          <a:xfrm>
            <a:off x="3979080" y="3333600"/>
            <a:ext cx="439920" cy="295560"/>
            <a:chOff x="3979080" y="3333600"/>
            <a:chExt cx="439920" cy="295560"/>
          </a:xfrm>
        </p:grpSpPr>
        <p:sp>
          <p:nvSpPr>
            <p:cNvPr id="584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97908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587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"/>
          <p:cNvSpPr/>
          <p:nvPr/>
        </p:nvSpPr>
        <p:spPr>
          <a:xfrm flipH="1">
            <a:off x="2475000" y="3638520"/>
            <a:ext cx="172728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3217680" y="4027320"/>
            <a:ext cx="433800" cy="295560"/>
            <a:chOff x="3217680" y="4027320"/>
            <a:chExt cx="433800" cy="295560"/>
          </a:xfrm>
        </p:grpSpPr>
        <p:sp>
          <p:nvSpPr>
            <p:cNvPr id="591" name=""/>
            <p:cNvSpPr/>
            <p:nvPr/>
          </p:nvSpPr>
          <p:spPr>
            <a:xfrm>
              <a:off x="3265560" y="4027320"/>
              <a:ext cx="30456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217680" y="404820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"/>
          <p:cNvSpPr/>
          <p:nvPr/>
        </p:nvSpPr>
        <p:spPr>
          <a:xfrm flipH="1">
            <a:off x="3513240" y="3648240"/>
            <a:ext cx="689040" cy="40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4878360" y="4027320"/>
            <a:ext cx="447480" cy="295560"/>
            <a:chOff x="4878360" y="4027320"/>
            <a:chExt cx="447480" cy="295560"/>
          </a:xfrm>
        </p:grpSpPr>
        <p:sp>
          <p:nvSpPr>
            <p:cNvPr id="595" name=""/>
            <p:cNvSpPr/>
            <p:nvPr/>
          </p:nvSpPr>
          <p:spPr>
            <a:xfrm>
              <a:off x="495144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878360" y="404820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N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4191120" y="3657600"/>
            <a:ext cx="85716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5979240" y="4027320"/>
            <a:ext cx="474840" cy="295560"/>
            <a:chOff x="5979240" y="4027320"/>
            <a:chExt cx="474840" cy="295560"/>
          </a:xfrm>
        </p:grpSpPr>
        <p:sp>
          <p:nvSpPr>
            <p:cNvPr id="599" name=""/>
            <p:cNvSpPr/>
            <p:nvPr/>
          </p:nvSpPr>
          <p:spPr>
            <a:xfrm>
              <a:off x="60562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979240" y="404820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4210200" y="3648240"/>
            <a:ext cx="193356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201600" y="1555920"/>
            <a:ext cx="8569440" cy="144360"/>
            <a:chOff x="201600" y="1555920"/>
            <a:chExt cx="8569440" cy="144360"/>
          </a:xfrm>
        </p:grpSpPr>
        <p:sp>
          <p:nvSpPr>
            <p:cNvPr id="603" name=""/>
            <p:cNvSpPr/>
            <p:nvPr/>
          </p:nvSpPr>
          <p:spPr>
            <a:xfrm>
              <a:off x="201600" y="158436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19040" y="1555920"/>
              <a:ext cx="835200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892520" y="4334040"/>
            <a:ext cx="490320" cy="884160"/>
            <a:chOff x="1892520" y="4334040"/>
            <a:chExt cx="490320" cy="884160"/>
          </a:xfrm>
        </p:grpSpPr>
        <p:grpSp>
          <p:nvGrpSpPr>
            <p:cNvPr id="606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607" name=""/>
              <p:cNvSpPr/>
              <p:nvPr/>
            </p:nvSpPr>
            <p:spPr>
              <a:xfrm>
                <a:off x="1960560" y="4923000"/>
                <a:ext cx="30492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 flipH="1">
              <a:off x="2112840" y="4334040"/>
              <a:ext cx="2700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2378160" y="4334040"/>
            <a:ext cx="504000" cy="884160"/>
            <a:chOff x="2378160" y="4334040"/>
            <a:chExt cx="504000" cy="884160"/>
          </a:xfrm>
        </p:grpSpPr>
        <p:grpSp>
          <p:nvGrpSpPr>
            <p:cNvPr id="611" name=""/>
            <p:cNvGrpSpPr/>
            <p:nvPr/>
          </p:nvGrpSpPr>
          <p:grpSpPr>
            <a:xfrm>
              <a:off x="2419560" y="4923000"/>
              <a:ext cx="462600" cy="295200"/>
              <a:chOff x="2419560" y="4923000"/>
              <a:chExt cx="462600" cy="295200"/>
            </a:xfrm>
          </p:grpSpPr>
          <p:sp>
            <p:nvSpPr>
              <p:cNvPr id="612" name=""/>
              <p:cNvSpPr/>
              <p:nvPr/>
            </p:nvSpPr>
            <p:spPr>
              <a:xfrm flipH="1">
                <a:off x="249408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2419200" y="4943520"/>
                <a:ext cx="46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237816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2913120" y="4334040"/>
            <a:ext cx="487440" cy="884160"/>
            <a:chOff x="2913120" y="4334040"/>
            <a:chExt cx="487440" cy="884160"/>
          </a:xfrm>
        </p:grpSpPr>
        <p:sp>
          <p:nvSpPr>
            <p:cNvPr id="616" name=""/>
            <p:cNvSpPr/>
            <p:nvPr/>
          </p:nvSpPr>
          <p:spPr>
            <a:xfrm>
              <a:off x="2978280" y="4923000"/>
              <a:ext cx="304560" cy="295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913120" y="494352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Arial"/>
                </a:rPr>
                <a:t>CH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3130560" y="4334040"/>
              <a:ext cx="2700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2886120" y="488628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19120" y="3027240"/>
            <a:ext cx="227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 HYA a  CH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3425760" y="4332240"/>
            <a:ext cx="556920" cy="884160"/>
            <a:chOff x="3425760" y="4332240"/>
            <a:chExt cx="556920" cy="884160"/>
          </a:xfrm>
        </p:grpSpPr>
        <p:grpSp>
          <p:nvGrpSpPr>
            <p:cNvPr id="622" name=""/>
            <p:cNvGrpSpPr/>
            <p:nvPr/>
          </p:nvGrpSpPr>
          <p:grpSpPr>
            <a:xfrm>
              <a:off x="3430080" y="4921200"/>
              <a:ext cx="552600" cy="295200"/>
              <a:chOff x="3430080" y="4921200"/>
              <a:chExt cx="552600" cy="295200"/>
            </a:xfrm>
          </p:grpSpPr>
          <p:sp>
            <p:nvSpPr>
              <p:cNvPr id="623" name=""/>
              <p:cNvSpPr/>
              <p:nvPr/>
            </p:nvSpPr>
            <p:spPr>
              <a:xfrm flipH="1">
                <a:off x="3540960" y="492120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3429720" y="4941720"/>
                <a:ext cx="55260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333399"/>
                    </a:solidFill>
                    <a:latin typeface="Arial"/>
                  </a:rPr>
                  <a:t>NAN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5" name=""/>
            <p:cNvSpPr/>
            <p:nvPr/>
          </p:nvSpPr>
          <p:spPr>
            <a:xfrm>
              <a:off x="3425760" y="4332240"/>
              <a:ext cx="266760" cy="59076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4614840" y="4332240"/>
            <a:ext cx="479520" cy="884160"/>
            <a:chOff x="4614840" y="4332240"/>
            <a:chExt cx="479520" cy="884160"/>
          </a:xfrm>
        </p:grpSpPr>
        <p:sp>
          <p:nvSpPr>
            <p:cNvPr id="627" name=""/>
            <p:cNvSpPr/>
            <p:nvPr/>
          </p:nvSpPr>
          <p:spPr>
            <a:xfrm>
              <a:off x="4672080" y="492120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614840" y="4941720"/>
              <a:ext cx="43380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4824360" y="4332240"/>
              <a:ext cx="270000" cy="59076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5113440" y="4330800"/>
            <a:ext cx="620640" cy="884160"/>
            <a:chOff x="5113440" y="4330800"/>
            <a:chExt cx="620640" cy="884160"/>
          </a:xfrm>
        </p:grpSpPr>
        <p:grpSp>
          <p:nvGrpSpPr>
            <p:cNvPr id="631" name=""/>
            <p:cNvGrpSpPr/>
            <p:nvPr/>
          </p:nvGrpSpPr>
          <p:grpSpPr>
            <a:xfrm>
              <a:off x="5118840" y="4919760"/>
              <a:ext cx="615240" cy="295200"/>
              <a:chOff x="5118840" y="4919760"/>
              <a:chExt cx="615240" cy="295200"/>
            </a:xfrm>
          </p:grpSpPr>
          <p:sp>
            <p:nvSpPr>
              <p:cNvPr id="632" name=""/>
              <p:cNvSpPr/>
              <p:nvPr/>
            </p:nvSpPr>
            <p:spPr>
              <a:xfrm flipH="1">
                <a:off x="5229360" y="4919760"/>
                <a:ext cx="30456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5118480" y="4940280"/>
                <a:ext cx="61524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333399"/>
                    </a:solidFill>
                    <a:latin typeface="Arial"/>
                  </a:rPr>
                  <a:t>NEW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>
              <a:off x="5113440" y="433080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5729760" y="4330800"/>
            <a:ext cx="477360" cy="884160"/>
            <a:chOff x="5729760" y="4330800"/>
            <a:chExt cx="477360" cy="884160"/>
          </a:xfrm>
        </p:grpSpPr>
        <p:sp>
          <p:nvSpPr>
            <p:cNvPr id="636" name=""/>
            <p:cNvSpPr/>
            <p:nvPr/>
          </p:nvSpPr>
          <p:spPr>
            <a:xfrm>
              <a:off x="5784840" y="4919760"/>
              <a:ext cx="30492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729760" y="4940280"/>
              <a:ext cx="43236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Arial"/>
                </a:rPr>
                <a:t>K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5937120" y="4330800"/>
              <a:ext cx="27000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6235560" y="4338720"/>
            <a:ext cx="697680" cy="884160"/>
            <a:chOff x="6235560" y="4338720"/>
            <a:chExt cx="697680" cy="884160"/>
          </a:xfrm>
        </p:grpSpPr>
        <p:grpSp>
          <p:nvGrpSpPr>
            <p:cNvPr id="640" name=""/>
            <p:cNvGrpSpPr/>
            <p:nvPr/>
          </p:nvGrpSpPr>
          <p:grpSpPr>
            <a:xfrm>
              <a:off x="6310440" y="4927680"/>
              <a:ext cx="622800" cy="295200"/>
              <a:chOff x="6310440" y="4927680"/>
              <a:chExt cx="622800" cy="295200"/>
            </a:xfrm>
          </p:grpSpPr>
          <p:sp>
            <p:nvSpPr>
              <p:cNvPr id="641" name=""/>
              <p:cNvSpPr/>
              <p:nvPr/>
            </p:nvSpPr>
            <p:spPr>
              <a:xfrm flipH="1">
                <a:off x="6349320" y="492768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6310440" y="4948200"/>
                <a:ext cx="62280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333399"/>
                    </a:solidFill>
                    <a:latin typeface="Arial"/>
                  </a:rPr>
                  <a:t>NAN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3" name=""/>
            <p:cNvSpPr/>
            <p:nvPr/>
          </p:nvSpPr>
          <p:spPr>
            <a:xfrm>
              <a:off x="6235560" y="433872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2165400" y="5227560"/>
            <a:ext cx="480960" cy="884160"/>
            <a:chOff x="2165400" y="5227560"/>
            <a:chExt cx="480960" cy="884160"/>
          </a:xfrm>
        </p:grpSpPr>
        <p:sp>
          <p:nvSpPr>
            <p:cNvPr id="645" name=""/>
            <p:cNvSpPr/>
            <p:nvPr/>
          </p:nvSpPr>
          <p:spPr>
            <a:xfrm>
              <a:off x="2224080" y="5816520"/>
              <a:ext cx="30492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165400" y="5837400"/>
              <a:ext cx="43992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Arial"/>
                </a:rPr>
                <a:t>B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2376360" y="5227560"/>
              <a:ext cx="270000" cy="59076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4160880" y="501804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844880" y="5321160"/>
            <a:ext cx="524160" cy="104760"/>
          </a:xfrm>
          <a:custGeom>
            <a:avLst/>
            <a:gdLst>
              <a:gd name="textAreaLeft" fmla="*/ 92160 w 524160"/>
              <a:gd name="textAreaRight" fmla="*/ 378720 w 52416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-1288428"/>
                <a:lnTo>
                  <a:pt x="19665" y="14400"/>
                </a:lnTo>
                <a:lnTo>
                  <a:pt x="17300" y="0"/>
                </a:lnTo>
                <a:lnTo>
                  <a:pt x="11065" y="14400"/>
                </a:lnTo>
                <a:lnTo>
                  <a:pt x="13265" y="14400"/>
                </a:lnTo>
                <a:arcTo wR="7600" hR="21600" stAng="4111572" swAng="941842"/>
                <a:lnTo>
                  <a:pt x="9700" y="20759"/>
                </a:lnTo>
                <a:arcTo wR="7600" hR="21600" stAng="5746586" swAng="5053414"/>
                <a:close/>
              </a:path>
              <a:path fill="darkenLess"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346586"/>
                <a:lnTo>
                  <a:pt x="9700" y="20759"/>
                </a:lnTo>
                <a:arcTo wR="7600" hR="21600" stAng="5746586" swAng="5053414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462640" y="5329080"/>
            <a:ext cx="523800" cy="104760"/>
          </a:xfrm>
          <a:custGeom>
            <a:avLst/>
            <a:gdLst>
              <a:gd name="textAreaLeft" fmla="*/ 92160 w 523800"/>
              <a:gd name="textAreaRight" fmla="*/ 37836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-1288428"/>
                <a:lnTo>
                  <a:pt x="19665" y="14400"/>
                </a:lnTo>
                <a:lnTo>
                  <a:pt x="17300" y="0"/>
                </a:lnTo>
                <a:lnTo>
                  <a:pt x="11065" y="14400"/>
                </a:lnTo>
                <a:lnTo>
                  <a:pt x="13265" y="14400"/>
                </a:lnTo>
                <a:arcTo wR="7600" hR="21600" stAng="4111572" swAng="941842"/>
                <a:lnTo>
                  <a:pt x="9700" y="20759"/>
                </a:lnTo>
                <a:arcTo wR="7600" hR="21600" stAng="5746586" swAng="5053414"/>
                <a:close/>
              </a:path>
              <a:path fill="darkenLess"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346586"/>
                <a:lnTo>
                  <a:pt x="9700" y="20759"/>
                </a:lnTo>
                <a:arcTo wR="7600" hR="21600" stAng="5746586" swAng="5053414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6032520" y="5318280"/>
            <a:ext cx="523800" cy="104760"/>
          </a:xfrm>
          <a:custGeom>
            <a:avLst/>
            <a:gdLst>
              <a:gd name="textAreaLeft" fmla="*/ 92160 w 523800"/>
              <a:gd name="textAreaRight" fmla="*/ 37836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-1288428"/>
                <a:lnTo>
                  <a:pt x="19665" y="14400"/>
                </a:lnTo>
                <a:lnTo>
                  <a:pt x="17300" y="0"/>
                </a:lnTo>
                <a:lnTo>
                  <a:pt x="11065" y="14400"/>
                </a:lnTo>
                <a:lnTo>
                  <a:pt x="13265" y="14400"/>
                </a:lnTo>
                <a:arcTo wR="7600" hR="21600" stAng="4111572" swAng="941842"/>
                <a:lnTo>
                  <a:pt x="9700" y="20759"/>
                </a:lnTo>
                <a:arcTo wR="7600" hR="21600" stAng="5746586" swAng="5053414"/>
                <a:close/>
              </a:path>
              <a:path fill="darkenLess"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346586"/>
                <a:lnTo>
                  <a:pt x="9700" y="20759"/>
                </a:lnTo>
                <a:arcTo wR="7600" hR="21600" stAng="5746586" swAng="5053414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067520" y="5076720"/>
            <a:ext cx="95400" cy="362160"/>
          </a:xfrm>
          <a:custGeom>
            <a:avLst/>
            <a:gdLst>
              <a:gd name="textAreaLeft" fmla="*/ 12600 w 95400"/>
              <a:gd name="textAreaRight" fmla="*/ 82800 w 95400"/>
              <a:gd name="textAreaTop" fmla="*/ 63720 h 362160"/>
              <a:gd name="textAreaBottom" fmla="*/ 26172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00" stAng="-5400000" swAng="5400000"/>
                <a:lnTo>
                  <a:pt x="21600" y="11800"/>
                </a:lnTo>
                <a:arcTo wR="21600" hR="7600" stAng="0" swAng="1288428"/>
                <a:lnTo>
                  <a:pt x="14400" y="19665"/>
                </a:lnTo>
                <a:lnTo>
                  <a:pt x="0" y="17300"/>
                </a:lnTo>
                <a:lnTo>
                  <a:pt x="14400" y="11065"/>
                </a:lnTo>
                <a:lnTo>
                  <a:pt x="14400" y="13265"/>
                </a:lnTo>
                <a:arcTo wR="21600" hR="7600" stAng="1288428" swAng="-941842"/>
                <a:lnTo>
                  <a:pt x="20759" y="9700"/>
                </a:lnTo>
                <a:arcTo wR="21600" hR="7600" stAng="-346586" swAng="-5053414"/>
                <a:close/>
              </a:path>
              <a:path fill="darkenLess" w="21600" h="21600">
                <a:moveTo>
                  <a:pt x="0" y="0"/>
                </a:moveTo>
                <a:arcTo wR="21600" hR="7600" stAng="-5400000" swAng="5400000"/>
                <a:lnTo>
                  <a:pt x="21600" y="11800"/>
                </a:lnTo>
                <a:arcTo wR="21600" hR="7600" stAng="0" swAng="-346586"/>
                <a:lnTo>
                  <a:pt x="20759" y="9700"/>
                </a:lnTo>
                <a:arcTo wR="21600" hR="7600" stAng="-346586" swAng="-5053414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952640" y="5676840"/>
            <a:ext cx="114120" cy="314280"/>
          </a:xfrm>
          <a:custGeom>
            <a:avLst/>
            <a:gdLst>
              <a:gd name="textAreaLeft" fmla="*/ 15120 w 114120"/>
              <a:gd name="textAreaRight" fmla="*/ 99000 w 114120"/>
              <a:gd name="textAreaTop" fmla="*/ 55080 h 314280"/>
              <a:gd name="textAreaBottom" fmla="*/ 227160 h 3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00" stAng="-5400000" swAng="-5400000"/>
                <a:lnTo>
                  <a:pt x="0" y="11800"/>
                </a:lnTo>
                <a:arcTo wR="21600" hR="7600" stAng="10800000" swAng="-2691708"/>
                <a:lnTo>
                  <a:pt x="14400" y="21165"/>
                </a:lnTo>
                <a:lnTo>
                  <a:pt x="21600" y="17300"/>
                </a:lnTo>
                <a:lnTo>
                  <a:pt x="14400" y="12565"/>
                </a:lnTo>
                <a:lnTo>
                  <a:pt x="14400" y="14765"/>
                </a:lnTo>
                <a:arcTo wR="21600" hR="7600" stAng="8108292" swAng="2345122"/>
                <a:lnTo>
                  <a:pt x="841" y="9700"/>
                </a:lnTo>
                <a:arcTo wR="21600" hR="7600" stAng="-10453414" swAng="5053414"/>
                <a:close/>
              </a:path>
              <a:path fill="darkenLess" w="21600" h="21600">
                <a:moveTo>
                  <a:pt x="21600" y="0"/>
                </a:moveTo>
                <a:arcTo wR="21600" hR="7600" stAng="-5400000" swAng="-5400000"/>
                <a:lnTo>
                  <a:pt x="0" y="7600"/>
                </a:lnTo>
                <a:arcTo wR="21600" hR="7600" stAng="10800000" swAng="-346586"/>
                <a:lnTo>
                  <a:pt x="841" y="9700"/>
                </a:lnTo>
                <a:arcTo wR="21600" hR="7600" stAng="-10453414" swAng="5053414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luzione fi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 rot="5400000">
            <a:off x="2142720" y="153720"/>
            <a:ext cx="4643640" cy="754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241200" y="1700280"/>
            <a:ext cx="144720" cy="73080"/>
          </a:xfrm>
          <a:prstGeom prst="rightArrow">
            <a:avLst>
              <a:gd name="adj1" fmla="val 50000"/>
              <a:gd name="adj2" fmla="val 4950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564000" y="476280"/>
            <a:ext cx="71280" cy="144360"/>
          </a:xfrm>
          <a:prstGeom prst="downArrow">
            <a:avLst>
              <a:gd name="adj1" fmla="val 50000"/>
              <a:gd name="adj2" fmla="val 5063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458640" y="1671480"/>
            <a:ext cx="8352000" cy="14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3381480" y="638280"/>
            <a:ext cx="428400" cy="2238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1" name=""/>
          <p:cNvGrpSpPr/>
          <p:nvPr/>
        </p:nvGrpSpPr>
        <p:grpSpPr>
          <a:xfrm>
            <a:off x="3979080" y="3333600"/>
            <a:ext cx="439920" cy="295560"/>
            <a:chOff x="3979080" y="3333600"/>
            <a:chExt cx="439920" cy="295560"/>
          </a:xfrm>
        </p:grpSpPr>
        <p:sp>
          <p:nvSpPr>
            <p:cNvPr id="662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97908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2154240" y="3638520"/>
            <a:ext cx="2048040" cy="684360"/>
            <a:chOff x="2154240" y="3638520"/>
            <a:chExt cx="2048040" cy="684360"/>
          </a:xfrm>
        </p:grpSpPr>
        <p:grpSp>
          <p:nvGrpSpPr>
            <p:cNvPr id="665" name=""/>
            <p:cNvGrpSpPr/>
            <p:nvPr/>
          </p:nvGrpSpPr>
          <p:grpSpPr>
            <a:xfrm>
              <a:off x="2154240" y="4027320"/>
              <a:ext cx="447480" cy="295560"/>
              <a:chOff x="2154240" y="4027320"/>
              <a:chExt cx="447480" cy="295560"/>
            </a:xfrm>
          </p:grpSpPr>
          <p:sp>
            <p:nvSpPr>
              <p:cNvPr id="666" name=""/>
              <p:cNvSpPr/>
              <p:nvPr/>
            </p:nvSpPr>
            <p:spPr>
              <a:xfrm>
                <a:off x="2236680" y="4027320"/>
                <a:ext cx="304920" cy="2955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154240" y="405756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B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8" name=""/>
            <p:cNvSpPr/>
            <p:nvPr/>
          </p:nvSpPr>
          <p:spPr>
            <a:xfrm flipH="1">
              <a:off x="2475000" y="3638520"/>
              <a:ext cx="172728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9" name=""/>
          <p:cNvSpPr/>
          <p:nvPr/>
        </p:nvSpPr>
        <p:spPr>
          <a:xfrm>
            <a:off x="61596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dur="indefinite" fill="hold">
                      <p:stCondLst>
                        <p:cond delay="indefinite"/>
                      </p:stCondLst>
                      <p:childTnLst>
                        <p:par>
                          <p:cTn id="2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dur="indefinite" fill="hold">
                      <p:stCondLst>
                        <p:cond delay="indefinite"/>
                      </p:stCondLst>
                      <p:childTnLst>
                        <p:par>
                          <p:cTn id="2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dur="indefinite" fill="hold">
                      <p:stCondLst>
                        <p:cond delay="indefinite"/>
                      </p:stCondLst>
                      <p:childTnLst>
                        <p:par>
                          <p:cTn id="2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671" name=""/>
          <p:cNvGrpSpPr/>
          <p:nvPr/>
        </p:nvGrpSpPr>
        <p:grpSpPr>
          <a:xfrm>
            <a:off x="3979080" y="3333600"/>
            <a:ext cx="439920" cy="295560"/>
            <a:chOff x="3979080" y="3333600"/>
            <a:chExt cx="439920" cy="295560"/>
          </a:xfrm>
        </p:grpSpPr>
        <p:sp>
          <p:nvSpPr>
            <p:cNvPr id="672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7908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675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"/>
          <p:cNvSpPr/>
          <p:nvPr/>
        </p:nvSpPr>
        <p:spPr>
          <a:xfrm flipH="1">
            <a:off x="2475000" y="3638520"/>
            <a:ext cx="172728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230040" y="1308240"/>
            <a:ext cx="8569440" cy="144360"/>
            <a:chOff x="230040" y="1308240"/>
            <a:chExt cx="8569440" cy="144360"/>
          </a:xfrm>
        </p:grpSpPr>
        <p:sp>
          <p:nvSpPr>
            <p:cNvPr id="679" name=""/>
            <p:cNvSpPr/>
            <p:nvPr/>
          </p:nvSpPr>
          <p:spPr>
            <a:xfrm>
              <a:off x="230040" y="1336680"/>
              <a:ext cx="144720" cy="73080"/>
            </a:xfrm>
            <a:prstGeom prst="rightArrow">
              <a:avLst>
                <a:gd name="adj1" fmla="val 50000"/>
                <a:gd name="adj2" fmla="val 4950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7840" y="130824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1" name=""/>
          <p:cNvGrpSpPr/>
          <p:nvPr/>
        </p:nvGrpSpPr>
        <p:grpSpPr>
          <a:xfrm>
            <a:off x="1712880" y="484200"/>
            <a:ext cx="428760" cy="2400120"/>
            <a:chOff x="1712880" y="484200"/>
            <a:chExt cx="428760" cy="2400120"/>
          </a:xfrm>
        </p:grpSpPr>
        <p:sp>
          <p:nvSpPr>
            <p:cNvPr id="682" name=""/>
            <p:cNvSpPr/>
            <p:nvPr/>
          </p:nvSpPr>
          <p:spPr>
            <a:xfrm>
              <a:off x="1895400" y="48420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712880" y="64620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1892520" y="4334040"/>
            <a:ext cx="490320" cy="884160"/>
            <a:chOff x="1892520" y="4334040"/>
            <a:chExt cx="490320" cy="884160"/>
          </a:xfrm>
        </p:grpSpPr>
        <p:grpSp>
          <p:nvGrpSpPr>
            <p:cNvPr id="685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686" name=""/>
              <p:cNvSpPr/>
              <p:nvPr/>
            </p:nvSpPr>
            <p:spPr>
              <a:xfrm>
                <a:off x="1960560" y="4923000"/>
                <a:ext cx="30492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8" name=""/>
            <p:cNvSpPr/>
            <p:nvPr/>
          </p:nvSpPr>
          <p:spPr>
            <a:xfrm flipH="1">
              <a:off x="2112840" y="4334040"/>
              <a:ext cx="2700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2152800" y="398160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61596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dur="indefinite" fill="hold">
                      <p:stCondLst>
                        <p:cond delay="indefinite"/>
                      </p:stCondLst>
                      <p:childTnLst>
                        <p:par>
                          <p:cTn id="2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dur="indefinite" fill="hold">
                      <p:stCondLst>
                        <p:cond delay="indefinite"/>
                      </p:stCondLst>
                      <p:childTnLst>
                        <p:par>
                          <p:cTn id="2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692" name=""/>
          <p:cNvGrpSpPr/>
          <p:nvPr/>
        </p:nvGrpSpPr>
        <p:grpSpPr>
          <a:xfrm>
            <a:off x="3979080" y="3333600"/>
            <a:ext cx="439920" cy="295560"/>
            <a:chOff x="3979080" y="3333600"/>
            <a:chExt cx="439920" cy="295560"/>
          </a:xfrm>
        </p:grpSpPr>
        <p:sp>
          <p:nvSpPr>
            <p:cNvPr id="693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97908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696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/>
          <p:nvPr/>
        </p:nvSpPr>
        <p:spPr>
          <a:xfrm flipH="1">
            <a:off x="2475000" y="3638520"/>
            <a:ext cx="172728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20680" y="841320"/>
            <a:ext cx="8569440" cy="144360"/>
            <a:chOff x="220680" y="841320"/>
            <a:chExt cx="8569440" cy="144360"/>
          </a:xfrm>
        </p:grpSpPr>
        <p:sp>
          <p:nvSpPr>
            <p:cNvPr id="700" name=""/>
            <p:cNvSpPr/>
            <p:nvPr/>
          </p:nvSpPr>
          <p:spPr>
            <a:xfrm>
              <a:off x="220680" y="870120"/>
              <a:ext cx="144360" cy="72720"/>
            </a:xfrm>
            <a:prstGeom prst="rightArrow">
              <a:avLst>
                <a:gd name="adj1" fmla="val 50000"/>
                <a:gd name="adj2" fmla="val 49629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38120" y="841320"/>
              <a:ext cx="835200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1892520" y="4334040"/>
            <a:ext cx="490320" cy="884160"/>
            <a:chOff x="1892520" y="4334040"/>
            <a:chExt cx="490320" cy="884160"/>
          </a:xfrm>
        </p:grpSpPr>
        <p:grpSp>
          <p:nvGrpSpPr>
            <p:cNvPr id="703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704" name=""/>
              <p:cNvSpPr/>
              <p:nvPr/>
            </p:nvSpPr>
            <p:spPr>
              <a:xfrm>
                <a:off x="1960560" y="4923000"/>
                <a:ext cx="30492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6" name=""/>
            <p:cNvSpPr/>
            <p:nvPr/>
          </p:nvSpPr>
          <p:spPr>
            <a:xfrm flipH="1">
              <a:off x="2112840" y="4334040"/>
              <a:ext cx="2700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1876320" y="487692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1596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9" name=""/>
          <p:cNvGrpSpPr/>
          <p:nvPr/>
        </p:nvGrpSpPr>
        <p:grpSpPr>
          <a:xfrm>
            <a:off x="3376440" y="452520"/>
            <a:ext cx="428760" cy="2400120"/>
            <a:chOff x="3376440" y="452520"/>
            <a:chExt cx="428760" cy="2400120"/>
          </a:xfrm>
        </p:grpSpPr>
        <p:sp>
          <p:nvSpPr>
            <p:cNvPr id="710" name=""/>
            <p:cNvSpPr/>
            <p:nvPr/>
          </p:nvSpPr>
          <p:spPr>
            <a:xfrm>
              <a:off x="3559320" y="452520"/>
              <a:ext cx="71280" cy="144360"/>
            </a:xfrm>
            <a:prstGeom prst="downArrow">
              <a:avLst>
                <a:gd name="adj1" fmla="val 50000"/>
                <a:gd name="adj2" fmla="val 50631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376440" y="61452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2" name=""/>
          <p:cNvSpPr/>
          <p:nvPr/>
        </p:nvSpPr>
        <p:spPr>
          <a:xfrm>
            <a:off x="3284640" y="503280"/>
            <a:ext cx="714240" cy="23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H="1">
            <a:off x="3111120" y="522360"/>
            <a:ext cx="803160" cy="235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626200" y="146160"/>
            <a:ext cx="205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già presente nel camm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dur="indefinite" fill="hold">
                      <p:stCondLst>
                        <p:cond delay="indefinite"/>
                      </p:stCondLst>
                      <p:childTnLst>
                        <p:par>
                          <p:cTn id="2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dur="indefinite" fill="hold">
                      <p:stCondLst>
                        <p:cond delay="indefinite"/>
                      </p:stCondLst>
                      <p:childTnLst>
                        <p:par>
                          <p:cTn id="2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dur="indefinite" fill="hold">
                      <p:stCondLst>
                        <p:cond delay="indefinite"/>
                      </p:stCondLst>
                      <p:childTnLst>
                        <p:par>
                          <p:cTn id="2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716" name=""/>
          <p:cNvGrpSpPr/>
          <p:nvPr/>
        </p:nvGrpSpPr>
        <p:grpSpPr>
          <a:xfrm>
            <a:off x="3979080" y="3333600"/>
            <a:ext cx="439920" cy="295560"/>
            <a:chOff x="3979080" y="3333600"/>
            <a:chExt cx="439920" cy="295560"/>
          </a:xfrm>
        </p:grpSpPr>
        <p:sp>
          <p:nvSpPr>
            <p:cNvPr id="717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397908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720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2" name=""/>
          <p:cNvSpPr/>
          <p:nvPr/>
        </p:nvSpPr>
        <p:spPr>
          <a:xfrm flipH="1">
            <a:off x="2475000" y="3638520"/>
            <a:ext cx="172728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3" name=""/>
          <p:cNvGrpSpPr/>
          <p:nvPr/>
        </p:nvGrpSpPr>
        <p:grpSpPr>
          <a:xfrm>
            <a:off x="1892520" y="4334040"/>
            <a:ext cx="490320" cy="884160"/>
            <a:chOff x="1892520" y="4334040"/>
            <a:chExt cx="490320" cy="884160"/>
          </a:xfrm>
        </p:grpSpPr>
        <p:grpSp>
          <p:nvGrpSpPr>
            <p:cNvPr id="724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725" name=""/>
              <p:cNvSpPr/>
              <p:nvPr/>
            </p:nvSpPr>
            <p:spPr>
              <a:xfrm>
                <a:off x="1960560" y="4923000"/>
                <a:ext cx="30492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 flipH="1">
              <a:off x="2112840" y="4334040"/>
              <a:ext cx="2700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61596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152800" y="398160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0" name=""/>
          <p:cNvGrpSpPr/>
          <p:nvPr/>
        </p:nvGrpSpPr>
        <p:grpSpPr>
          <a:xfrm>
            <a:off x="2378160" y="4334040"/>
            <a:ext cx="504000" cy="884160"/>
            <a:chOff x="2378160" y="4334040"/>
            <a:chExt cx="504000" cy="884160"/>
          </a:xfrm>
        </p:grpSpPr>
        <p:grpSp>
          <p:nvGrpSpPr>
            <p:cNvPr id="731" name=""/>
            <p:cNvGrpSpPr/>
            <p:nvPr/>
          </p:nvGrpSpPr>
          <p:grpSpPr>
            <a:xfrm>
              <a:off x="2419560" y="4923000"/>
              <a:ext cx="462600" cy="295200"/>
              <a:chOff x="2419560" y="4923000"/>
              <a:chExt cx="462600" cy="295200"/>
            </a:xfrm>
          </p:grpSpPr>
          <p:sp>
            <p:nvSpPr>
              <p:cNvPr id="732" name=""/>
              <p:cNvSpPr/>
              <p:nvPr/>
            </p:nvSpPr>
            <p:spPr>
              <a:xfrm flipH="1">
                <a:off x="249408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2419200" y="4943520"/>
                <a:ext cx="46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4" name=""/>
            <p:cNvSpPr/>
            <p:nvPr/>
          </p:nvSpPr>
          <p:spPr>
            <a:xfrm>
              <a:off x="237816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"/>
          <p:cNvGrpSpPr/>
          <p:nvPr/>
        </p:nvGrpSpPr>
        <p:grpSpPr>
          <a:xfrm>
            <a:off x="230040" y="484200"/>
            <a:ext cx="8569440" cy="2400120"/>
            <a:chOff x="230040" y="484200"/>
            <a:chExt cx="8569440" cy="2400120"/>
          </a:xfrm>
        </p:grpSpPr>
        <p:grpSp>
          <p:nvGrpSpPr>
            <p:cNvPr id="736" name=""/>
            <p:cNvGrpSpPr/>
            <p:nvPr/>
          </p:nvGrpSpPr>
          <p:grpSpPr>
            <a:xfrm>
              <a:off x="230040" y="1308240"/>
              <a:ext cx="8569440" cy="144360"/>
              <a:chOff x="230040" y="1308240"/>
              <a:chExt cx="8569440" cy="144360"/>
            </a:xfrm>
          </p:grpSpPr>
          <p:sp>
            <p:nvSpPr>
              <p:cNvPr id="737" name=""/>
              <p:cNvSpPr/>
              <p:nvPr/>
            </p:nvSpPr>
            <p:spPr>
              <a:xfrm>
                <a:off x="230040" y="1336680"/>
                <a:ext cx="144720" cy="73080"/>
              </a:xfrm>
              <a:prstGeom prst="rightArrow">
                <a:avLst>
                  <a:gd name="adj1" fmla="val 50000"/>
                  <a:gd name="adj2" fmla="val 49507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47840" y="1308240"/>
                <a:ext cx="8351640" cy="14436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1712880" y="484200"/>
              <a:ext cx="428760" cy="2400120"/>
              <a:chOff x="1712880" y="484200"/>
              <a:chExt cx="428760" cy="2400120"/>
            </a:xfrm>
          </p:grpSpPr>
          <p:sp>
            <p:nvSpPr>
              <p:cNvPr id="740" name=""/>
              <p:cNvSpPr/>
              <p:nvPr/>
            </p:nvSpPr>
            <p:spPr>
              <a:xfrm>
                <a:off x="1895400" y="484200"/>
                <a:ext cx="71640" cy="144360"/>
              </a:xfrm>
              <a:prstGeom prst="downArrow">
                <a:avLst>
                  <a:gd name="adj1" fmla="val 50000"/>
                  <a:gd name="adj2" fmla="val 50377"/>
                </a:avLst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1712880" y="646200"/>
                <a:ext cx="428760" cy="2238120"/>
              </a:xfrm>
              <a:prstGeom prst="rect">
                <a:avLst/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2" name=""/>
          <p:cNvGrpSpPr/>
          <p:nvPr/>
        </p:nvGrpSpPr>
        <p:grpSpPr>
          <a:xfrm>
            <a:off x="7397640" y="453960"/>
            <a:ext cx="428760" cy="2400480"/>
            <a:chOff x="7397640" y="453960"/>
            <a:chExt cx="428760" cy="2400480"/>
          </a:xfrm>
        </p:grpSpPr>
        <p:sp>
          <p:nvSpPr>
            <p:cNvPr id="743" name=""/>
            <p:cNvSpPr/>
            <p:nvPr/>
          </p:nvSpPr>
          <p:spPr>
            <a:xfrm>
              <a:off x="7580160" y="45396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397640" y="615960"/>
              <a:ext cx="42876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dur="indefinite" fill="hold">
                      <p:stCondLst>
                        <p:cond delay="indefinite"/>
                      </p:stCondLst>
                      <p:childTnLst>
                        <p:par>
                          <p:cTn id="2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fill="hold">
                      <p:stCondLst>
                        <p:cond delay="indefinite"/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746" name=""/>
          <p:cNvGrpSpPr/>
          <p:nvPr/>
        </p:nvGrpSpPr>
        <p:grpSpPr>
          <a:xfrm>
            <a:off x="3979080" y="3333600"/>
            <a:ext cx="439920" cy="295560"/>
            <a:chOff x="3979080" y="3333600"/>
            <a:chExt cx="439920" cy="295560"/>
          </a:xfrm>
        </p:grpSpPr>
        <p:sp>
          <p:nvSpPr>
            <p:cNvPr id="747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97908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750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2" name=""/>
          <p:cNvSpPr/>
          <p:nvPr/>
        </p:nvSpPr>
        <p:spPr>
          <a:xfrm flipH="1">
            <a:off x="2475000" y="3638520"/>
            <a:ext cx="172728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1892520" y="4334040"/>
            <a:ext cx="490320" cy="884160"/>
            <a:chOff x="1892520" y="4334040"/>
            <a:chExt cx="490320" cy="884160"/>
          </a:xfrm>
        </p:grpSpPr>
        <p:grpSp>
          <p:nvGrpSpPr>
            <p:cNvPr id="754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755" name=""/>
              <p:cNvSpPr/>
              <p:nvPr/>
            </p:nvSpPr>
            <p:spPr>
              <a:xfrm>
                <a:off x="1960560" y="4923000"/>
                <a:ext cx="30492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" name=""/>
            <p:cNvSpPr/>
            <p:nvPr/>
          </p:nvSpPr>
          <p:spPr>
            <a:xfrm flipH="1">
              <a:off x="2112840" y="4334040"/>
              <a:ext cx="2700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8" name=""/>
          <p:cNvSpPr/>
          <p:nvPr/>
        </p:nvSpPr>
        <p:spPr>
          <a:xfrm>
            <a:off x="61596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419200" y="487692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419560" y="4923000"/>
            <a:ext cx="462600" cy="295200"/>
            <a:chOff x="2419560" y="4923000"/>
            <a:chExt cx="462600" cy="295200"/>
          </a:xfrm>
        </p:grpSpPr>
        <p:sp>
          <p:nvSpPr>
            <p:cNvPr id="761" name=""/>
            <p:cNvSpPr/>
            <p:nvPr/>
          </p:nvSpPr>
          <p:spPr>
            <a:xfrm flipH="1">
              <a:off x="249408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241920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182520" y="2384280"/>
            <a:ext cx="8569440" cy="144720"/>
            <a:chOff x="182520" y="2384280"/>
            <a:chExt cx="8569440" cy="144720"/>
          </a:xfrm>
        </p:grpSpPr>
        <p:sp>
          <p:nvSpPr>
            <p:cNvPr id="765" name=""/>
            <p:cNvSpPr/>
            <p:nvPr/>
          </p:nvSpPr>
          <p:spPr>
            <a:xfrm>
              <a:off x="182520" y="241308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99960" y="2384280"/>
              <a:ext cx="8352000" cy="144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111400" y="463680"/>
            <a:ext cx="428760" cy="2400120"/>
            <a:chOff x="2111400" y="463680"/>
            <a:chExt cx="428760" cy="2400120"/>
          </a:xfrm>
        </p:grpSpPr>
        <p:sp>
          <p:nvSpPr>
            <p:cNvPr id="768" name=""/>
            <p:cNvSpPr/>
            <p:nvPr/>
          </p:nvSpPr>
          <p:spPr>
            <a:xfrm>
              <a:off x="2293920" y="463680"/>
              <a:ext cx="71280" cy="144360"/>
            </a:xfrm>
            <a:prstGeom prst="downArrow">
              <a:avLst>
                <a:gd name="adj1" fmla="val 50000"/>
                <a:gd name="adj2" fmla="val 50631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111400" y="625320"/>
              <a:ext cx="42876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2665440" y="5227560"/>
            <a:ext cx="500040" cy="884160"/>
            <a:chOff x="2665440" y="5227560"/>
            <a:chExt cx="500040" cy="884160"/>
          </a:xfrm>
        </p:grpSpPr>
        <p:sp>
          <p:nvSpPr>
            <p:cNvPr id="771" name=""/>
            <p:cNvSpPr/>
            <p:nvPr/>
          </p:nvSpPr>
          <p:spPr>
            <a:xfrm flipH="1">
              <a:off x="2780640" y="58165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2725560" y="583740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665440" y="5227560"/>
              <a:ext cx="26676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dur="indefinite" fill="hold">
                      <p:stCondLst>
                        <p:cond delay="indefinite"/>
                      </p:stCondLst>
                      <p:childTnLst>
                        <p:par>
                          <p:cTn id="2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dur="indefinite" fill="hold">
                      <p:stCondLst>
                        <p:cond delay="indefinite"/>
                      </p:stCondLst>
                      <p:childTnLst>
                        <p:par>
                          <p:cTn id="3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775" name=""/>
          <p:cNvGrpSpPr/>
          <p:nvPr/>
        </p:nvGrpSpPr>
        <p:grpSpPr>
          <a:xfrm>
            <a:off x="3979080" y="3333600"/>
            <a:ext cx="439920" cy="295560"/>
            <a:chOff x="3979080" y="3333600"/>
            <a:chExt cx="439920" cy="295560"/>
          </a:xfrm>
        </p:grpSpPr>
        <p:sp>
          <p:nvSpPr>
            <p:cNvPr id="776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97908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779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"/>
          <p:cNvSpPr/>
          <p:nvPr/>
        </p:nvSpPr>
        <p:spPr>
          <a:xfrm flipH="1">
            <a:off x="2475000" y="3638520"/>
            <a:ext cx="172728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"/>
          <p:cNvGrpSpPr/>
          <p:nvPr/>
        </p:nvGrpSpPr>
        <p:grpSpPr>
          <a:xfrm>
            <a:off x="1892520" y="4334040"/>
            <a:ext cx="490320" cy="884160"/>
            <a:chOff x="1892520" y="4334040"/>
            <a:chExt cx="490320" cy="884160"/>
          </a:xfrm>
        </p:grpSpPr>
        <p:grpSp>
          <p:nvGrpSpPr>
            <p:cNvPr id="783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784" name=""/>
              <p:cNvSpPr/>
              <p:nvPr/>
            </p:nvSpPr>
            <p:spPr>
              <a:xfrm>
                <a:off x="1960560" y="4923000"/>
                <a:ext cx="30492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6" name=""/>
            <p:cNvSpPr/>
            <p:nvPr/>
          </p:nvSpPr>
          <p:spPr>
            <a:xfrm flipH="1">
              <a:off x="2112840" y="4334040"/>
              <a:ext cx="2700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61596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695680" y="577224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2419560" y="4923000"/>
            <a:ext cx="462600" cy="295200"/>
            <a:chOff x="2419560" y="4923000"/>
            <a:chExt cx="462600" cy="295200"/>
          </a:xfrm>
        </p:grpSpPr>
        <p:sp>
          <p:nvSpPr>
            <p:cNvPr id="790" name=""/>
            <p:cNvSpPr/>
            <p:nvPr/>
          </p:nvSpPr>
          <p:spPr>
            <a:xfrm flipH="1">
              <a:off x="249408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241920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3" name=""/>
          <p:cNvGrpSpPr/>
          <p:nvPr/>
        </p:nvGrpSpPr>
        <p:grpSpPr>
          <a:xfrm>
            <a:off x="182520" y="955800"/>
            <a:ext cx="8569440" cy="144360"/>
            <a:chOff x="182520" y="955800"/>
            <a:chExt cx="8569440" cy="144360"/>
          </a:xfrm>
        </p:grpSpPr>
        <p:sp>
          <p:nvSpPr>
            <p:cNvPr id="794" name=""/>
            <p:cNvSpPr/>
            <p:nvPr/>
          </p:nvSpPr>
          <p:spPr>
            <a:xfrm>
              <a:off x="182520" y="98424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99960" y="955800"/>
              <a:ext cx="835200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2665440" y="5227560"/>
            <a:ext cx="500040" cy="884160"/>
            <a:chOff x="2665440" y="5227560"/>
            <a:chExt cx="500040" cy="884160"/>
          </a:xfrm>
        </p:grpSpPr>
        <p:sp>
          <p:nvSpPr>
            <p:cNvPr id="797" name=""/>
            <p:cNvSpPr/>
            <p:nvPr/>
          </p:nvSpPr>
          <p:spPr>
            <a:xfrm flipH="1">
              <a:off x="2780640" y="58165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2725560" y="583740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665440" y="5227560"/>
              <a:ext cx="26676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"/>
          <p:cNvGrpSpPr/>
          <p:nvPr/>
        </p:nvGrpSpPr>
        <p:grpSpPr>
          <a:xfrm>
            <a:off x="7385040" y="460440"/>
            <a:ext cx="428760" cy="2400120"/>
            <a:chOff x="7385040" y="460440"/>
            <a:chExt cx="428760" cy="2400120"/>
          </a:xfrm>
        </p:grpSpPr>
        <p:sp>
          <p:nvSpPr>
            <p:cNvPr id="801" name=""/>
            <p:cNvSpPr/>
            <p:nvPr/>
          </p:nvSpPr>
          <p:spPr>
            <a:xfrm>
              <a:off x="7567560" y="46044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385040" y="62244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"/>
          <p:cNvGrpSpPr/>
          <p:nvPr/>
        </p:nvGrpSpPr>
        <p:grpSpPr>
          <a:xfrm>
            <a:off x="6634440" y="154080"/>
            <a:ext cx="2058120" cy="2728800"/>
            <a:chOff x="6634440" y="154080"/>
            <a:chExt cx="2058120" cy="2728800"/>
          </a:xfrm>
        </p:grpSpPr>
        <p:sp>
          <p:nvSpPr>
            <p:cNvPr id="804" name=""/>
            <p:cNvSpPr/>
            <p:nvPr/>
          </p:nvSpPr>
          <p:spPr>
            <a:xfrm>
              <a:off x="7292880" y="511200"/>
              <a:ext cx="714600" cy="23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7119720" y="530280"/>
              <a:ext cx="803160" cy="2352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634440" y="154080"/>
              <a:ext cx="205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Arial"/>
                </a:rPr>
                <a:t>già presente nel cammi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dur="indefinite" fill="hold">
                      <p:stCondLst>
                        <p:cond delay="indefinite"/>
                      </p:stCondLst>
                      <p:childTnLst>
                        <p:par>
                          <p:cTn id="3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dur="indefinite" fill="hold">
                      <p:stCondLst>
                        <p:cond delay="indefinite"/>
                      </p:stCondLst>
                      <p:childTnLst>
                        <p:par>
                          <p:cTn id="3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dur="indefinite" fill="hold">
                      <p:stCondLst>
                        <p:cond delay="indefinite"/>
                      </p:stCondLst>
                      <p:childTnLst>
                        <p:par>
                          <p:cTn id="3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808" name=""/>
          <p:cNvGrpSpPr/>
          <p:nvPr/>
        </p:nvGrpSpPr>
        <p:grpSpPr>
          <a:xfrm>
            <a:off x="3979080" y="3333600"/>
            <a:ext cx="439920" cy="295560"/>
            <a:chOff x="3979080" y="3333600"/>
            <a:chExt cx="439920" cy="295560"/>
          </a:xfrm>
        </p:grpSpPr>
        <p:sp>
          <p:nvSpPr>
            <p:cNvPr id="809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97908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812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" name=""/>
          <p:cNvSpPr/>
          <p:nvPr/>
        </p:nvSpPr>
        <p:spPr>
          <a:xfrm flipH="1">
            <a:off x="2475000" y="3638520"/>
            <a:ext cx="172728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1892520" y="4334040"/>
            <a:ext cx="490320" cy="884160"/>
            <a:chOff x="1892520" y="4334040"/>
            <a:chExt cx="490320" cy="884160"/>
          </a:xfrm>
        </p:grpSpPr>
        <p:grpSp>
          <p:nvGrpSpPr>
            <p:cNvPr id="816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817" name=""/>
              <p:cNvSpPr/>
              <p:nvPr/>
            </p:nvSpPr>
            <p:spPr>
              <a:xfrm>
                <a:off x="1960560" y="4923000"/>
                <a:ext cx="30492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9" name=""/>
            <p:cNvSpPr/>
            <p:nvPr/>
          </p:nvSpPr>
          <p:spPr>
            <a:xfrm flipH="1">
              <a:off x="2112840" y="4334040"/>
              <a:ext cx="2700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0" name=""/>
          <p:cNvSpPr/>
          <p:nvPr/>
        </p:nvSpPr>
        <p:spPr>
          <a:xfrm>
            <a:off x="61596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2419560" y="4923000"/>
            <a:ext cx="462600" cy="295200"/>
            <a:chOff x="2419560" y="4923000"/>
            <a:chExt cx="462600" cy="295200"/>
          </a:xfrm>
        </p:grpSpPr>
        <p:sp>
          <p:nvSpPr>
            <p:cNvPr id="822" name=""/>
            <p:cNvSpPr/>
            <p:nvPr/>
          </p:nvSpPr>
          <p:spPr>
            <a:xfrm flipH="1">
              <a:off x="249408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241920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2665440" y="5227560"/>
            <a:ext cx="500040" cy="884160"/>
            <a:chOff x="2665440" y="5227560"/>
            <a:chExt cx="500040" cy="884160"/>
          </a:xfrm>
        </p:grpSpPr>
        <p:sp>
          <p:nvSpPr>
            <p:cNvPr id="826" name=""/>
            <p:cNvSpPr/>
            <p:nvPr/>
          </p:nvSpPr>
          <p:spPr>
            <a:xfrm flipH="1">
              <a:off x="2780640" y="58165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2725560" y="583740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665440" y="5227560"/>
              <a:ext cx="26676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2419200" y="487692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182520" y="2384280"/>
            <a:ext cx="8569440" cy="144720"/>
            <a:chOff x="182520" y="2384280"/>
            <a:chExt cx="8569440" cy="144720"/>
          </a:xfrm>
        </p:grpSpPr>
        <p:sp>
          <p:nvSpPr>
            <p:cNvPr id="831" name=""/>
            <p:cNvSpPr/>
            <p:nvPr/>
          </p:nvSpPr>
          <p:spPr>
            <a:xfrm>
              <a:off x="182520" y="241308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99960" y="2384280"/>
              <a:ext cx="8352000" cy="144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2111400" y="463680"/>
            <a:ext cx="428760" cy="2400120"/>
            <a:chOff x="2111400" y="463680"/>
            <a:chExt cx="428760" cy="2400120"/>
          </a:xfrm>
        </p:grpSpPr>
        <p:sp>
          <p:nvSpPr>
            <p:cNvPr id="834" name=""/>
            <p:cNvSpPr/>
            <p:nvPr/>
          </p:nvSpPr>
          <p:spPr>
            <a:xfrm>
              <a:off x="2293920" y="463680"/>
              <a:ext cx="71280" cy="144360"/>
            </a:xfrm>
            <a:prstGeom prst="downArrow">
              <a:avLst>
                <a:gd name="adj1" fmla="val 50000"/>
                <a:gd name="adj2" fmla="val 50631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111400" y="625320"/>
              <a:ext cx="428760" cy="223848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3384720" y="469800"/>
            <a:ext cx="428400" cy="2400480"/>
            <a:chOff x="3384720" y="469800"/>
            <a:chExt cx="428400" cy="2400480"/>
          </a:xfrm>
        </p:grpSpPr>
        <p:sp>
          <p:nvSpPr>
            <p:cNvPr id="837" name=""/>
            <p:cNvSpPr/>
            <p:nvPr/>
          </p:nvSpPr>
          <p:spPr>
            <a:xfrm>
              <a:off x="3567240" y="469800"/>
              <a:ext cx="71280" cy="144720"/>
            </a:xfrm>
            <a:prstGeom prst="downArrow">
              <a:avLst>
                <a:gd name="adj1" fmla="val 50000"/>
                <a:gd name="adj2" fmla="val 50758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384720" y="631800"/>
              <a:ext cx="42840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"/>
          <p:cNvGrpSpPr/>
          <p:nvPr/>
        </p:nvGrpSpPr>
        <p:grpSpPr>
          <a:xfrm>
            <a:off x="2634120" y="173160"/>
            <a:ext cx="2058120" cy="2728800"/>
            <a:chOff x="2634120" y="173160"/>
            <a:chExt cx="2058120" cy="2728800"/>
          </a:xfrm>
        </p:grpSpPr>
        <p:sp>
          <p:nvSpPr>
            <p:cNvPr id="840" name=""/>
            <p:cNvSpPr/>
            <p:nvPr/>
          </p:nvSpPr>
          <p:spPr>
            <a:xfrm>
              <a:off x="3292560" y="530280"/>
              <a:ext cx="714240" cy="23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3119040" y="549360"/>
              <a:ext cx="803160" cy="2352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634120" y="173160"/>
              <a:ext cx="205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Arial"/>
                </a:rPr>
                <a:t>già presente nel cammi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dur="indefinite" fill="hold">
                      <p:stCondLst>
                        <p:cond delay="indefinite"/>
                      </p:stCondLst>
                      <p:childTnLst>
                        <p:par>
                          <p:cTn id="3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dur="indefinite" fill="hold">
                      <p:stCondLst>
                        <p:cond delay="indefinite"/>
                      </p:stCondLst>
                      <p:childTnLst>
                        <p:par>
                          <p:cTn id="3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dur="indefinite" fill="hold">
                      <p:stCondLst>
                        <p:cond delay="indefinite"/>
                      </p:stCondLst>
                      <p:childTnLst>
                        <p:par>
                          <p:cTn id="3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844" name=""/>
          <p:cNvGrpSpPr/>
          <p:nvPr/>
        </p:nvGrpSpPr>
        <p:grpSpPr>
          <a:xfrm>
            <a:off x="3979080" y="3333600"/>
            <a:ext cx="439920" cy="295560"/>
            <a:chOff x="3979080" y="3333600"/>
            <a:chExt cx="439920" cy="295560"/>
          </a:xfrm>
        </p:grpSpPr>
        <p:sp>
          <p:nvSpPr>
            <p:cNvPr id="845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97908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7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848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"/>
          <p:cNvSpPr/>
          <p:nvPr/>
        </p:nvSpPr>
        <p:spPr>
          <a:xfrm flipH="1">
            <a:off x="2475000" y="3638520"/>
            <a:ext cx="172728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"/>
          <p:cNvGrpSpPr/>
          <p:nvPr/>
        </p:nvGrpSpPr>
        <p:grpSpPr>
          <a:xfrm>
            <a:off x="1892520" y="4334040"/>
            <a:ext cx="490320" cy="884160"/>
            <a:chOff x="1892520" y="4334040"/>
            <a:chExt cx="490320" cy="884160"/>
          </a:xfrm>
        </p:grpSpPr>
        <p:grpSp>
          <p:nvGrpSpPr>
            <p:cNvPr id="852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853" name=""/>
              <p:cNvSpPr/>
              <p:nvPr/>
            </p:nvSpPr>
            <p:spPr>
              <a:xfrm>
                <a:off x="1960560" y="4923000"/>
                <a:ext cx="30492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55" name=""/>
            <p:cNvSpPr/>
            <p:nvPr/>
          </p:nvSpPr>
          <p:spPr>
            <a:xfrm flipH="1">
              <a:off x="2112840" y="4334040"/>
              <a:ext cx="2700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6" name=""/>
          <p:cNvSpPr/>
          <p:nvPr/>
        </p:nvSpPr>
        <p:spPr>
          <a:xfrm>
            <a:off x="61596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2419560" y="4923000"/>
            <a:ext cx="462600" cy="295200"/>
            <a:chOff x="2419560" y="4923000"/>
            <a:chExt cx="462600" cy="295200"/>
          </a:xfrm>
        </p:grpSpPr>
        <p:sp>
          <p:nvSpPr>
            <p:cNvPr id="858" name=""/>
            <p:cNvSpPr/>
            <p:nvPr/>
          </p:nvSpPr>
          <p:spPr>
            <a:xfrm flipH="1">
              <a:off x="249408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241920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"/>
          <p:cNvGrpSpPr/>
          <p:nvPr/>
        </p:nvGrpSpPr>
        <p:grpSpPr>
          <a:xfrm>
            <a:off x="2665440" y="5227560"/>
            <a:ext cx="500040" cy="884160"/>
            <a:chOff x="2665440" y="5227560"/>
            <a:chExt cx="500040" cy="884160"/>
          </a:xfrm>
        </p:grpSpPr>
        <p:sp>
          <p:nvSpPr>
            <p:cNvPr id="862" name=""/>
            <p:cNvSpPr/>
            <p:nvPr/>
          </p:nvSpPr>
          <p:spPr>
            <a:xfrm flipH="1">
              <a:off x="2780640" y="58165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2725560" y="583740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665440" y="5227560"/>
              <a:ext cx="26676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2152800" y="398160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230040" y="484200"/>
            <a:ext cx="8569440" cy="2400120"/>
            <a:chOff x="230040" y="484200"/>
            <a:chExt cx="8569440" cy="2400120"/>
          </a:xfrm>
        </p:grpSpPr>
        <p:grpSp>
          <p:nvGrpSpPr>
            <p:cNvPr id="867" name=""/>
            <p:cNvGrpSpPr/>
            <p:nvPr/>
          </p:nvGrpSpPr>
          <p:grpSpPr>
            <a:xfrm>
              <a:off x="230040" y="1308240"/>
              <a:ext cx="8569440" cy="144360"/>
              <a:chOff x="230040" y="1308240"/>
              <a:chExt cx="8569440" cy="144360"/>
            </a:xfrm>
          </p:grpSpPr>
          <p:sp>
            <p:nvSpPr>
              <p:cNvPr id="868" name=""/>
              <p:cNvSpPr/>
              <p:nvPr/>
            </p:nvSpPr>
            <p:spPr>
              <a:xfrm>
                <a:off x="230040" y="1336680"/>
                <a:ext cx="144720" cy="73080"/>
              </a:xfrm>
              <a:prstGeom prst="rightArrow">
                <a:avLst>
                  <a:gd name="adj1" fmla="val 50000"/>
                  <a:gd name="adj2" fmla="val 49507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47840" y="1308240"/>
                <a:ext cx="8351640" cy="14436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"/>
            <p:cNvGrpSpPr/>
            <p:nvPr/>
          </p:nvGrpSpPr>
          <p:grpSpPr>
            <a:xfrm>
              <a:off x="1712880" y="484200"/>
              <a:ext cx="428760" cy="2400120"/>
              <a:chOff x="1712880" y="484200"/>
              <a:chExt cx="428760" cy="2400120"/>
            </a:xfrm>
          </p:grpSpPr>
          <p:sp>
            <p:nvSpPr>
              <p:cNvPr id="871" name=""/>
              <p:cNvSpPr/>
              <p:nvPr/>
            </p:nvSpPr>
            <p:spPr>
              <a:xfrm>
                <a:off x="1895400" y="484200"/>
                <a:ext cx="71640" cy="144360"/>
              </a:xfrm>
              <a:prstGeom prst="downArrow">
                <a:avLst>
                  <a:gd name="adj1" fmla="val 50000"/>
                  <a:gd name="adj2" fmla="val 50377"/>
                </a:avLst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1712880" y="646200"/>
                <a:ext cx="428760" cy="2238120"/>
              </a:xfrm>
              <a:prstGeom prst="rect">
                <a:avLst/>
              </a:prstGeom>
              <a:noFill/>
              <a:ln w="93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3" name=""/>
          <p:cNvGrpSpPr/>
          <p:nvPr/>
        </p:nvGrpSpPr>
        <p:grpSpPr>
          <a:xfrm>
            <a:off x="7397640" y="453960"/>
            <a:ext cx="428760" cy="2400480"/>
            <a:chOff x="7397640" y="453960"/>
            <a:chExt cx="428760" cy="2400480"/>
          </a:xfrm>
        </p:grpSpPr>
        <p:sp>
          <p:nvSpPr>
            <p:cNvPr id="874" name=""/>
            <p:cNvSpPr/>
            <p:nvPr/>
          </p:nvSpPr>
          <p:spPr>
            <a:xfrm>
              <a:off x="7580160" y="45396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7397640" y="615960"/>
              <a:ext cx="428760" cy="223848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dur="indefinite" fill="hold">
                      <p:stCondLst>
                        <p:cond delay="indefinite"/>
                      </p:stCondLst>
                      <p:childTnLst>
                        <p:par>
                          <p:cTn id="3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41200" y="1700280"/>
            <a:ext cx="144720" cy="73080"/>
          </a:xfrm>
          <a:prstGeom prst="rightArrow">
            <a:avLst>
              <a:gd name="adj1" fmla="val 50000"/>
              <a:gd name="adj2" fmla="val 4950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64000" y="476280"/>
            <a:ext cx="71280" cy="144360"/>
          </a:xfrm>
          <a:prstGeom prst="downArrow">
            <a:avLst>
              <a:gd name="adj1" fmla="val 50000"/>
              <a:gd name="adj2" fmla="val 5063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867280" y="476280"/>
            <a:ext cx="71640" cy="144360"/>
          </a:xfrm>
          <a:prstGeom prst="downArrow">
            <a:avLst>
              <a:gd name="adj1" fmla="val 50000"/>
              <a:gd name="adj2" fmla="val 5037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32720" y="476280"/>
            <a:ext cx="71280" cy="144360"/>
          </a:xfrm>
          <a:prstGeom prst="downArrow">
            <a:avLst>
              <a:gd name="adj1" fmla="val 50000"/>
              <a:gd name="adj2" fmla="val 50631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164360" y="476280"/>
            <a:ext cx="71640" cy="144360"/>
          </a:xfrm>
          <a:prstGeom prst="downArrow">
            <a:avLst>
              <a:gd name="adj1" fmla="val 50000"/>
              <a:gd name="adj2" fmla="val 50377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8640" y="1671480"/>
            <a:ext cx="8352000" cy="14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81480" y="638280"/>
            <a:ext cx="428400" cy="2238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694480" y="646200"/>
            <a:ext cx="428400" cy="2238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541920" y="655560"/>
            <a:ext cx="428760" cy="2238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70680" y="655560"/>
            <a:ext cx="428760" cy="2238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979080" y="3333600"/>
            <a:ext cx="439920" cy="295560"/>
            <a:chOff x="3979080" y="3333600"/>
            <a:chExt cx="439920" cy="295560"/>
          </a:xfrm>
        </p:grpSpPr>
        <p:sp>
          <p:nvSpPr>
            <p:cNvPr id="54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97908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2154240" y="3638520"/>
            <a:ext cx="2048040" cy="684360"/>
            <a:chOff x="2154240" y="3638520"/>
            <a:chExt cx="2048040" cy="684360"/>
          </a:xfrm>
        </p:grpSpPr>
        <p:grpSp>
          <p:nvGrpSpPr>
            <p:cNvPr id="57" name=""/>
            <p:cNvGrpSpPr/>
            <p:nvPr/>
          </p:nvGrpSpPr>
          <p:grpSpPr>
            <a:xfrm>
              <a:off x="2154240" y="4027320"/>
              <a:ext cx="447480" cy="295560"/>
              <a:chOff x="2154240" y="4027320"/>
              <a:chExt cx="447480" cy="295560"/>
            </a:xfrm>
          </p:grpSpPr>
          <p:sp>
            <p:nvSpPr>
              <p:cNvPr id="58" name=""/>
              <p:cNvSpPr/>
              <p:nvPr/>
            </p:nvSpPr>
            <p:spPr>
              <a:xfrm>
                <a:off x="2236680" y="4027320"/>
                <a:ext cx="304920" cy="295560"/>
              </a:xfrm>
              <a:prstGeom prst="ellipse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154240" y="4057560"/>
                <a:ext cx="447480" cy="246240"/>
              </a:xfrm>
              <a:prstGeom prst="rect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333399"/>
                    </a:solidFill>
                    <a:latin typeface="Arial"/>
                  </a:rPr>
                  <a:t>BO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 flipH="1">
              <a:off x="2475000" y="3638520"/>
              <a:ext cx="1727280" cy="390600"/>
            </a:xfrm>
            <a:prstGeom prst="line">
              <a:avLst/>
            </a:prstGeom>
            <a:ln cap="rnd" w="936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217680" y="3648240"/>
            <a:ext cx="984600" cy="703080"/>
            <a:chOff x="3217680" y="3648240"/>
            <a:chExt cx="984600" cy="703080"/>
          </a:xfrm>
        </p:grpSpPr>
        <p:grpSp>
          <p:nvGrpSpPr>
            <p:cNvPr id="62" name=""/>
            <p:cNvGrpSpPr/>
            <p:nvPr/>
          </p:nvGrpSpPr>
          <p:grpSpPr>
            <a:xfrm>
              <a:off x="3217680" y="4056120"/>
              <a:ext cx="433800" cy="295200"/>
              <a:chOff x="3217680" y="4056120"/>
              <a:chExt cx="433800" cy="295200"/>
            </a:xfrm>
          </p:grpSpPr>
          <p:sp>
            <p:nvSpPr>
              <p:cNvPr id="63" name=""/>
              <p:cNvSpPr/>
              <p:nvPr/>
            </p:nvSpPr>
            <p:spPr>
              <a:xfrm>
                <a:off x="3265560" y="4056120"/>
                <a:ext cx="304560" cy="295200"/>
              </a:xfrm>
              <a:prstGeom prst="ellipse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217680" y="4076640"/>
                <a:ext cx="433800" cy="246240"/>
              </a:xfrm>
              <a:prstGeom prst="rect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333399"/>
                    </a:solidFill>
                    <a:latin typeface="Arial"/>
                  </a:rPr>
                  <a:t>LA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 flipH="1">
              <a:off x="3513240" y="3648240"/>
              <a:ext cx="689040" cy="409320"/>
            </a:xfrm>
            <a:prstGeom prst="line">
              <a:avLst/>
            </a:prstGeom>
            <a:ln cap="rnd" w="936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4191120" y="3657600"/>
            <a:ext cx="1134720" cy="684360"/>
            <a:chOff x="4191120" y="3657600"/>
            <a:chExt cx="1134720" cy="684360"/>
          </a:xfrm>
        </p:grpSpPr>
        <p:grpSp>
          <p:nvGrpSpPr>
            <p:cNvPr id="67" name=""/>
            <p:cNvGrpSpPr/>
            <p:nvPr/>
          </p:nvGrpSpPr>
          <p:grpSpPr>
            <a:xfrm>
              <a:off x="4878360" y="4046400"/>
              <a:ext cx="447480" cy="295560"/>
              <a:chOff x="4878360" y="4046400"/>
              <a:chExt cx="447480" cy="295560"/>
            </a:xfrm>
          </p:grpSpPr>
          <p:sp>
            <p:nvSpPr>
              <p:cNvPr id="68" name=""/>
              <p:cNvSpPr/>
              <p:nvPr/>
            </p:nvSpPr>
            <p:spPr>
              <a:xfrm>
                <a:off x="4951440" y="4046400"/>
                <a:ext cx="304920" cy="295560"/>
              </a:xfrm>
              <a:prstGeom prst="ellipse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878360" y="4067280"/>
                <a:ext cx="447480" cy="246240"/>
              </a:xfrm>
              <a:prstGeom prst="rect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333399"/>
                    </a:solidFill>
                    <a:latin typeface="Arial"/>
                  </a:rPr>
                  <a:t>NA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4191120" y="3657600"/>
              <a:ext cx="857160" cy="390600"/>
            </a:xfrm>
            <a:prstGeom prst="line">
              <a:avLst/>
            </a:prstGeom>
            <a:ln cap="rnd" w="936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210200" y="3648240"/>
            <a:ext cx="2243880" cy="684000"/>
            <a:chOff x="4210200" y="3648240"/>
            <a:chExt cx="2243880" cy="684000"/>
          </a:xfrm>
        </p:grpSpPr>
        <p:grpSp>
          <p:nvGrpSpPr>
            <p:cNvPr id="72" name=""/>
            <p:cNvGrpSpPr/>
            <p:nvPr/>
          </p:nvGrpSpPr>
          <p:grpSpPr>
            <a:xfrm>
              <a:off x="5979240" y="4037040"/>
              <a:ext cx="474840" cy="295200"/>
              <a:chOff x="5979240" y="4037040"/>
              <a:chExt cx="474840" cy="295200"/>
            </a:xfrm>
          </p:grpSpPr>
          <p:sp>
            <p:nvSpPr>
              <p:cNvPr id="73" name=""/>
              <p:cNvSpPr/>
              <p:nvPr/>
            </p:nvSpPr>
            <p:spPr>
              <a:xfrm>
                <a:off x="6056280" y="4037040"/>
                <a:ext cx="304920" cy="295200"/>
              </a:xfrm>
              <a:prstGeom prst="ellipse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979240" y="4057560"/>
                <a:ext cx="474840" cy="246240"/>
              </a:xfrm>
              <a:prstGeom prst="rect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333399"/>
                    </a:solidFill>
                    <a:latin typeface="Arial"/>
                  </a:rPr>
                  <a:t>NEW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4210200" y="3648240"/>
              <a:ext cx="1933560" cy="399960"/>
            </a:xfrm>
            <a:prstGeom prst="line">
              <a:avLst/>
            </a:prstGeom>
            <a:ln cap="rnd" w="936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519120" y="3027240"/>
            <a:ext cx="227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 HYA a  CH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733840" y="416232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56120" y="415116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494320" y="414180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95280" y="404352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dur="indefinite" fill="hold">
                      <p:stCondLst>
                        <p:cond delay="indefinite"/>
                      </p:stCondLst>
                      <p:childTnLst>
                        <p:par>
                          <p:cTn id="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6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877" name=""/>
          <p:cNvGrpSpPr/>
          <p:nvPr/>
        </p:nvGrpSpPr>
        <p:grpSpPr>
          <a:xfrm>
            <a:off x="3979080" y="3333600"/>
            <a:ext cx="439920" cy="295560"/>
            <a:chOff x="3979080" y="3333600"/>
            <a:chExt cx="439920" cy="295560"/>
          </a:xfrm>
        </p:grpSpPr>
        <p:sp>
          <p:nvSpPr>
            <p:cNvPr id="878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97908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881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"/>
          <p:cNvSpPr/>
          <p:nvPr/>
        </p:nvSpPr>
        <p:spPr>
          <a:xfrm flipH="1">
            <a:off x="2475000" y="3638520"/>
            <a:ext cx="172728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1892520" y="4334040"/>
            <a:ext cx="490320" cy="884160"/>
            <a:chOff x="1892520" y="4334040"/>
            <a:chExt cx="490320" cy="884160"/>
          </a:xfrm>
        </p:grpSpPr>
        <p:grpSp>
          <p:nvGrpSpPr>
            <p:cNvPr id="885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886" name=""/>
              <p:cNvSpPr/>
              <p:nvPr/>
            </p:nvSpPr>
            <p:spPr>
              <a:xfrm>
                <a:off x="1960560" y="4923000"/>
                <a:ext cx="30492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8" name=""/>
            <p:cNvSpPr/>
            <p:nvPr/>
          </p:nvSpPr>
          <p:spPr>
            <a:xfrm flipH="1">
              <a:off x="2112840" y="4334040"/>
              <a:ext cx="2700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9" name=""/>
          <p:cNvSpPr/>
          <p:nvPr/>
        </p:nvSpPr>
        <p:spPr>
          <a:xfrm>
            <a:off x="61596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2419560" y="4923000"/>
            <a:ext cx="462600" cy="295200"/>
            <a:chOff x="2419560" y="4923000"/>
            <a:chExt cx="462600" cy="295200"/>
          </a:xfrm>
        </p:grpSpPr>
        <p:sp>
          <p:nvSpPr>
            <p:cNvPr id="891" name=""/>
            <p:cNvSpPr/>
            <p:nvPr/>
          </p:nvSpPr>
          <p:spPr>
            <a:xfrm flipH="1">
              <a:off x="249408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241920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3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2665440" y="5227560"/>
            <a:ext cx="500040" cy="884160"/>
            <a:chOff x="2665440" y="5227560"/>
            <a:chExt cx="500040" cy="884160"/>
          </a:xfrm>
        </p:grpSpPr>
        <p:sp>
          <p:nvSpPr>
            <p:cNvPr id="895" name=""/>
            <p:cNvSpPr/>
            <p:nvPr/>
          </p:nvSpPr>
          <p:spPr>
            <a:xfrm flipH="1">
              <a:off x="2780640" y="58165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2725560" y="583740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665440" y="5227560"/>
              <a:ext cx="26676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3952800" y="329580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9" name=""/>
          <p:cNvGrpSpPr/>
          <p:nvPr/>
        </p:nvGrpSpPr>
        <p:grpSpPr>
          <a:xfrm>
            <a:off x="241200" y="1671480"/>
            <a:ext cx="8569440" cy="144720"/>
            <a:chOff x="241200" y="1671480"/>
            <a:chExt cx="8569440" cy="144720"/>
          </a:xfrm>
        </p:grpSpPr>
        <p:sp>
          <p:nvSpPr>
            <p:cNvPr id="900" name=""/>
            <p:cNvSpPr/>
            <p:nvPr/>
          </p:nvSpPr>
          <p:spPr>
            <a:xfrm>
              <a:off x="241200" y="1700280"/>
              <a:ext cx="144720" cy="73080"/>
            </a:xfrm>
            <a:prstGeom prst="rightArrow">
              <a:avLst>
                <a:gd name="adj1" fmla="val 50000"/>
                <a:gd name="adj2" fmla="val 4950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58640" y="1671480"/>
              <a:ext cx="8352000" cy="144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2" name=""/>
          <p:cNvGrpSpPr/>
          <p:nvPr/>
        </p:nvGrpSpPr>
        <p:grpSpPr>
          <a:xfrm>
            <a:off x="3381480" y="476280"/>
            <a:ext cx="428400" cy="2400120"/>
            <a:chOff x="3381480" y="476280"/>
            <a:chExt cx="428400" cy="2400120"/>
          </a:xfrm>
        </p:grpSpPr>
        <p:sp>
          <p:nvSpPr>
            <p:cNvPr id="903" name=""/>
            <p:cNvSpPr/>
            <p:nvPr/>
          </p:nvSpPr>
          <p:spPr>
            <a:xfrm>
              <a:off x="3564000" y="476280"/>
              <a:ext cx="71280" cy="144360"/>
            </a:xfrm>
            <a:prstGeom prst="downArrow">
              <a:avLst>
                <a:gd name="adj1" fmla="val 50000"/>
                <a:gd name="adj2" fmla="val 50631"/>
              </a:avLst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381480" y="638280"/>
              <a:ext cx="428400" cy="2238120"/>
            </a:xfrm>
            <a:prstGeom prst="rect">
              <a:avLst/>
            </a:prstGeom>
            <a:noFill/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5689440" y="479520"/>
            <a:ext cx="428760" cy="2400120"/>
            <a:chOff x="5689440" y="479520"/>
            <a:chExt cx="428760" cy="2400120"/>
          </a:xfrm>
        </p:grpSpPr>
        <p:sp>
          <p:nvSpPr>
            <p:cNvPr id="906" name=""/>
            <p:cNvSpPr/>
            <p:nvPr/>
          </p:nvSpPr>
          <p:spPr>
            <a:xfrm>
              <a:off x="5872320" y="479520"/>
              <a:ext cx="71280" cy="144360"/>
            </a:xfrm>
            <a:prstGeom prst="downArrow">
              <a:avLst>
                <a:gd name="adj1" fmla="val 50000"/>
                <a:gd name="adj2" fmla="val 50631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5689440" y="64152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"/>
          <p:cNvGrpSpPr/>
          <p:nvPr/>
        </p:nvGrpSpPr>
        <p:grpSpPr>
          <a:xfrm>
            <a:off x="3217680" y="3648240"/>
            <a:ext cx="984600" cy="703080"/>
            <a:chOff x="3217680" y="3648240"/>
            <a:chExt cx="984600" cy="703080"/>
          </a:xfrm>
        </p:grpSpPr>
        <p:grpSp>
          <p:nvGrpSpPr>
            <p:cNvPr id="909" name=""/>
            <p:cNvGrpSpPr/>
            <p:nvPr/>
          </p:nvGrpSpPr>
          <p:grpSpPr>
            <a:xfrm>
              <a:off x="3217680" y="4056120"/>
              <a:ext cx="433800" cy="295200"/>
              <a:chOff x="3217680" y="4056120"/>
              <a:chExt cx="433800" cy="295200"/>
            </a:xfrm>
          </p:grpSpPr>
          <p:sp>
            <p:nvSpPr>
              <p:cNvPr id="910" name=""/>
              <p:cNvSpPr/>
              <p:nvPr/>
            </p:nvSpPr>
            <p:spPr>
              <a:xfrm>
                <a:off x="3265560" y="405612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217680" y="4076640"/>
                <a:ext cx="43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LA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 flipH="1">
              <a:off x="3513240" y="3648240"/>
              <a:ext cx="68904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dur="indefinite" fill="hold">
                      <p:stCondLst>
                        <p:cond delay="indefinite"/>
                      </p:stCondLst>
                      <p:childTnLst>
                        <p:par>
                          <p:cTn id="3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dur="indefinite" fill="hold">
                      <p:stCondLst>
                        <p:cond delay="indefinite"/>
                      </p:stCondLst>
                      <p:childTnLst>
                        <p:par>
                          <p:cTn id="3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914" name=""/>
          <p:cNvGrpSpPr/>
          <p:nvPr/>
        </p:nvGrpSpPr>
        <p:grpSpPr>
          <a:xfrm>
            <a:off x="3979080" y="3333600"/>
            <a:ext cx="439920" cy="295560"/>
            <a:chOff x="3979080" y="3333600"/>
            <a:chExt cx="439920" cy="295560"/>
          </a:xfrm>
        </p:grpSpPr>
        <p:sp>
          <p:nvSpPr>
            <p:cNvPr id="915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97908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918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0" name=""/>
          <p:cNvSpPr/>
          <p:nvPr/>
        </p:nvSpPr>
        <p:spPr>
          <a:xfrm flipH="1">
            <a:off x="2475000" y="3638520"/>
            <a:ext cx="172728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1" name=""/>
          <p:cNvGrpSpPr/>
          <p:nvPr/>
        </p:nvGrpSpPr>
        <p:grpSpPr>
          <a:xfrm>
            <a:off x="1892520" y="4334040"/>
            <a:ext cx="490320" cy="884160"/>
            <a:chOff x="1892520" y="4334040"/>
            <a:chExt cx="490320" cy="884160"/>
          </a:xfrm>
        </p:grpSpPr>
        <p:grpSp>
          <p:nvGrpSpPr>
            <p:cNvPr id="922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923" name=""/>
              <p:cNvSpPr/>
              <p:nvPr/>
            </p:nvSpPr>
            <p:spPr>
              <a:xfrm>
                <a:off x="1960560" y="4923000"/>
                <a:ext cx="30492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5" name=""/>
            <p:cNvSpPr/>
            <p:nvPr/>
          </p:nvSpPr>
          <p:spPr>
            <a:xfrm flipH="1">
              <a:off x="2112840" y="4334040"/>
              <a:ext cx="2700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"/>
          <p:cNvSpPr/>
          <p:nvPr/>
        </p:nvSpPr>
        <p:spPr>
          <a:xfrm>
            <a:off x="61596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7" name=""/>
          <p:cNvGrpSpPr/>
          <p:nvPr/>
        </p:nvGrpSpPr>
        <p:grpSpPr>
          <a:xfrm>
            <a:off x="2419560" y="4923000"/>
            <a:ext cx="462600" cy="295200"/>
            <a:chOff x="2419560" y="4923000"/>
            <a:chExt cx="462600" cy="295200"/>
          </a:xfrm>
        </p:grpSpPr>
        <p:sp>
          <p:nvSpPr>
            <p:cNvPr id="928" name=""/>
            <p:cNvSpPr/>
            <p:nvPr/>
          </p:nvSpPr>
          <p:spPr>
            <a:xfrm flipH="1">
              <a:off x="249408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241920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2665440" y="5227560"/>
            <a:ext cx="500040" cy="884160"/>
            <a:chOff x="2665440" y="5227560"/>
            <a:chExt cx="500040" cy="884160"/>
          </a:xfrm>
        </p:grpSpPr>
        <p:sp>
          <p:nvSpPr>
            <p:cNvPr id="932" name=""/>
            <p:cNvSpPr/>
            <p:nvPr/>
          </p:nvSpPr>
          <p:spPr>
            <a:xfrm flipH="1">
              <a:off x="2780640" y="58165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 flipH="1">
              <a:off x="2725560" y="583740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665440" y="5227560"/>
              <a:ext cx="26676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231840" y="1900080"/>
            <a:ext cx="8569440" cy="144720"/>
            <a:chOff x="231840" y="1900080"/>
            <a:chExt cx="8569440" cy="144720"/>
          </a:xfrm>
        </p:grpSpPr>
        <p:sp>
          <p:nvSpPr>
            <p:cNvPr id="936" name=""/>
            <p:cNvSpPr/>
            <p:nvPr/>
          </p:nvSpPr>
          <p:spPr>
            <a:xfrm>
              <a:off x="231840" y="192888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49280" y="1900080"/>
              <a:ext cx="8352000" cy="144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4356000" y="460440"/>
            <a:ext cx="428760" cy="2400120"/>
            <a:chOff x="4356000" y="460440"/>
            <a:chExt cx="428760" cy="2400120"/>
          </a:xfrm>
        </p:grpSpPr>
        <p:sp>
          <p:nvSpPr>
            <p:cNvPr id="939" name=""/>
            <p:cNvSpPr/>
            <p:nvPr/>
          </p:nvSpPr>
          <p:spPr>
            <a:xfrm>
              <a:off x="4538520" y="46044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356000" y="62244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1" name=""/>
          <p:cNvGrpSpPr/>
          <p:nvPr/>
        </p:nvGrpSpPr>
        <p:grpSpPr>
          <a:xfrm>
            <a:off x="3217680" y="3648240"/>
            <a:ext cx="984600" cy="703080"/>
            <a:chOff x="3217680" y="3648240"/>
            <a:chExt cx="984600" cy="703080"/>
          </a:xfrm>
        </p:grpSpPr>
        <p:grpSp>
          <p:nvGrpSpPr>
            <p:cNvPr id="942" name=""/>
            <p:cNvGrpSpPr/>
            <p:nvPr/>
          </p:nvGrpSpPr>
          <p:grpSpPr>
            <a:xfrm>
              <a:off x="3217680" y="4056120"/>
              <a:ext cx="433800" cy="295200"/>
              <a:chOff x="3217680" y="4056120"/>
              <a:chExt cx="433800" cy="295200"/>
            </a:xfrm>
          </p:grpSpPr>
          <p:sp>
            <p:nvSpPr>
              <p:cNvPr id="943" name=""/>
              <p:cNvSpPr/>
              <p:nvPr/>
            </p:nvSpPr>
            <p:spPr>
              <a:xfrm>
                <a:off x="3265560" y="405612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3217680" y="4076640"/>
                <a:ext cx="43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LA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5" name=""/>
            <p:cNvSpPr/>
            <p:nvPr/>
          </p:nvSpPr>
          <p:spPr>
            <a:xfrm flipH="1">
              <a:off x="3513240" y="3648240"/>
              <a:ext cx="68904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6" name=""/>
          <p:cNvSpPr/>
          <p:nvPr/>
        </p:nvSpPr>
        <p:spPr>
          <a:xfrm>
            <a:off x="3181320" y="400068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2913120" y="4334040"/>
            <a:ext cx="487440" cy="884160"/>
            <a:chOff x="2913120" y="4334040"/>
            <a:chExt cx="487440" cy="884160"/>
          </a:xfrm>
        </p:grpSpPr>
        <p:grpSp>
          <p:nvGrpSpPr>
            <p:cNvPr id="948" name=""/>
            <p:cNvGrpSpPr/>
            <p:nvPr/>
          </p:nvGrpSpPr>
          <p:grpSpPr>
            <a:xfrm>
              <a:off x="2913120" y="4923000"/>
              <a:ext cx="447480" cy="295200"/>
              <a:chOff x="2913120" y="4923000"/>
              <a:chExt cx="447480" cy="295200"/>
            </a:xfrm>
          </p:grpSpPr>
          <p:sp>
            <p:nvSpPr>
              <p:cNvPr id="949" name=""/>
              <p:cNvSpPr/>
              <p:nvPr/>
            </p:nvSpPr>
            <p:spPr>
              <a:xfrm>
                <a:off x="297828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2913120" y="494352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CHV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1" name=""/>
            <p:cNvSpPr/>
            <p:nvPr/>
          </p:nvSpPr>
          <p:spPr>
            <a:xfrm flipH="1">
              <a:off x="3130560" y="4334040"/>
              <a:ext cx="2700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dur="indefinite" fill="hold">
                      <p:stCondLst>
                        <p:cond delay="indefinite"/>
                      </p:stCondLst>
                      <p:childTnLst>
                        <p:par>
                          <p:cTn id="3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dur="indefinite" fill="hold">
                      <p:stCondLst>
                        <p:cond delay="indefinite"/>
                      </p:stCondLst>
                      <p:childTnLst>
                        <p:par>
                          <p:cTn id="3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953" name=""/>
          <p:cNvGrpSpPr/>
          <p:nvPr/>
        </p:nvGrpSpPr>
        <p:grpSpPr>
          <a:xfrm>
            <a:off x="3979080" y="3333600"/>
            <a:ext cx="439920" cy="295560"/>
            <a:chOff x="3979080" y="3333600"/>
            <a:chExt cx="439920" cy="295560"/>
          </a:xfrm>
        </p:grpSpPr>
        <p:sp>
          <p:nvSpPr>
            <p:cNvPr id="954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97908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6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957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 flipH="1">
            <a:off x="2475000" y="3638520"/>
            <a:ext cx="172728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1892520" y="4334040"/>
            <a:ext cx="490320" cy="884160"/>
            <a:chOff x="1892520" y="4334040"/>
            <a:chExt cx="490320" cy="884160"/>
          </a:xfrm>
        </p:grpSpPr>
        <p:grpSp>
          <p:nvGrpSpPr>
            <p:cNvPr id="961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962" name=""/>
              <p:cNvSpPr/>
              <p:nvPr/>
            </p:nvSpPr>
            <p:spPr>
              <a:xfrm>
                <a:off x="1960560" y="4923000"/>
                <a:ext cx="30492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4" name=""/>
            <p:cNvSpPr/>
            <p:nvPr/>
          </p:nvSpPr>
          <p:spPr>
            <a:xfrm flipH="1">
              <a:off x="2112840" y="4334040"/>
              <a:ext cx="2700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5" name=""/>
          <p:cNvSpPr/>
          <p:nvPr/>
        </p:nvSpPr>
        <p:spPr>
          <a:xfrm>
            <a:off x="615960" y="3027240"/>
            <a:ext cx="20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p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2419560" y="4923000"/>
            <a:ext cx="462600" cy="295200"/>
            <a:chOff x="2419560" y="4923000"/>
            <a:chExt cx="462600" cy="295200"/>
          </a:xfrm>
        </p:grpSpPr>
        <p:sp>
          <p:nvSpPr>
            <p:cNvPr id="967" name=""/>
            <p:cNvSpPr/>
            <p:nvPr/>
          </p:nvSpPr>
          <p:spPr>
            <a:xfrm flipH="1">
              <a:off x="249408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2419200" y="4943520"/>
              <a:ext cx="462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RO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2378160" y="4334040"/>
            <a:ext cx="266760" cy="59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0" name=""/>
          <p:cNvGrpSpPr/>
          <p:nvPr/>
        </p:nvGrpSpPr>
        <p:grpSpPr>
          <a:xfrm>
            <a:off x="2665440" y="5227560"/>
            <a:ext cx="500040" cy="884160"/>
            <a:chOff x="2665440" y="5227560"/>
            <a:chExt cx="500040" cy="884160"/>
          </a:xfrm>
        </p:grpSpPr>
        <p:sp>
          <p:nvSpPr>
            <p:cNvPr id="971" name=""/>
            <p:cNvSpPr/>
            <p:nvPr/>
          </p:nvSpPr>
          <p:spPr>
            <a:xfrm flipH="1">
              <a:off x="2780640" y="5816520"/>
              <a:ext cx="30492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2725560" y="583740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665440" y="5227560"/>
              <a:ext cx="266760" cy="59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212760" y="1547640"/>
            <a:ext cx="8569440" cy="144720"/>
            <a:chOff x="212760" y="1547640"/>
            <a:chExt cx="8569440" cy="144720"/>
          </a:xfrm>
        </p:grpSpPr>
        <p:sp>
          <p:nvSpPr>
            <p:cNvPr id="975" name=""/>
            <p:cNvSpPr/>
            <p:nvPr/>
          </p:nvSpPr>
          <p:spPr>
            <a:xfrm>
              <a:off x="212760" y="157644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30200" y="1547640"/>
              <a:ext cx="8352000" cy="144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3217680" y="3648240"/>
            <a:ext cx="984600" cy="703080"/>
            <a:chOff x="3217680" y="3648240"/>
            <a:chExt cx="984600" cy="703080"/>
          </a:xfrm>
        </p:grpSpPr>
        <p:grpSp>
          <p:nvGrpSpPr>
            <p:cNvPr id="978" name=""/>
            <p:cNvGrpSpPr/>
            <p:nvPr/>
          </p:nvGrpSpPr>
          <p:grpSpPr>
            <a:xfrm>
              <a:off x="3217680" y="4056120"/>
              <a:ext cx="433800" cy="295200"/>
              <a:chOff x="3217680" y="4056120"/>
              <a:chExt cx="433800" cy="295200"/>
            </a:xfrm>
          </p:grpSpPr>
          <p:sp>
            <p:nvSpPr>
              <p:cNvPr id="979" name=""/>
              <p:cNvSpPr/>
              <p:nvPr/>
            </p:nvSpPr>
            <p:spPr>
              <a:xfrm>
                <a:off x="3265560" y="405612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217680" y="4076640"/>
                <a:ext cx="433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LA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1" name=""/>
            <p:cNvSpPr/>
            <p:nvPr/>
          </p:nvSpPr>
          <p:spPr>
            <a:xfrm flipH="1">
              <a:off x="3513240" y="3648240"/>
              <a:ext cx="689040" cy="40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"/>
          <p:cNvSpPr/>
          <p:nvPr/>
        </p:nvSpPr>
        <p:spPr>
          <a:xfrm>
            <a:off x="2886120" y="487692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3" name=""/>
          <p:cNvGrpSpPr/>
          <p:nvPr/>
        </p:nvGrpSpPr>
        <p:grpSpPr>
          <a:xfrm>
            <a:off x="2913120" y="4334040"/>
            <a:ext cx="487440" cy="884160"/>
            <a:chOff x="2913120" y="4334040"/>
            <a:chExt cx="487440" cy="884160"/>
          </a:xfrm>
        </p:grpSpPr>
        <p:grpSp>
          <p:nvGrpSpPr>
            <p:cNvPr id="984" name=""/>
            <p:cNvGrpSpPr/>
            <p:nvPr/>
          </p:nvGrpSpPr>
          <p:grpSpPr>
            <a:xfrm>
              <a:off x="2913120" y="4923000"/>
              <a:ext cx="447480" cy="295200"/>
              <a:chOff x="2913120" y="4923000"/>
              <a:chExt cx="447480" cy="295200"/>
            </a:xfrm>
          </p:grpSpPr>
          <p:sp>
            <p:nvSpPr>
              <p:cNvPr id="985" name=""/>
              <p:cNvSpPr/>
              <p:nvPr/>
            </p:nvSpPr>
            <p:spPr>
              <a:xfrm>
                <a:off x="2978280" y="4923000"/>
                <a:ext cx="304560" cy="29520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2913120" y="4943520"/>
                <a:ext cx="447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ffffff"/>
                    </a:solidFill>
                    <a:latin typeface="Arial"/>
                  </a:rPr>
                  <a:t>CHV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7" name=""/>
            <p:cNvSpPr/>
            <p:nvPr/>
          </p:nvSpPr>
          <p:spPr>
            <a:xfrm flipH="1">
              <a:off x="3130560" y="4334040"/>
              <a:ext cx="2700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luzione fi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 rot="5400000">
            <a:off x="2133360" y="677520"/>
            <a:ext cx="4367160" cy="664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82" name=""/>
          <p:cNvGrpSpPr/>
          <p:nvPr/>
        </p:nvGrpSpPr>
        <p:grpSpPr>
          <a:xfrm>
            <a:off x="3979080" y="3333600"/>
            <a:ext cx="439920" cy="295560"/>
            <a:chOff x="3979080" y="3333600"/>
            <a:chExt cx="439920" cy="295560"/>
          </a:xfrm>
        </p:grpSpPr>
        <p:sp>
          <p:nvSpPr>
            <p:cNvPr id="83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7908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86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 flipH="1">
            <a:off x="2475000" y="3638520"/>
            <a:ext cx="172728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217680" y="4027320"/>
            <a:ext cx="433800" cy="295560"/>
            <a:chOff x="3217680" y="4027320"/>
            <a:chExt cx="433800" cy="295560"/>
          </a:xfrm>
        </p:grpSpPr>
        <p:sp>
          <p:nvSpPr>
            <p:cNvPr id="90" name=""/>
            <p:cNvSpPr/>
            <p:nvPr/>
          </p:nvSpPr>
          <p:spPr>
            <a:xfrm>
              <a:off x="3265560" y="4027320"/>
              <a:ext cx="304560" cy="295560"/>
            </a:xfrm>
            <a:prstGeom prst="ellipse">
              <a:avLst/>
            </a:prstGeom>
            <a:noFill/>
            <a:ln cap="rnd" w="936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17680" y="4048200"/>
              <a:ext cx="433800" cy="246240"/>
            </a:xfrm>
            <a:prstGeom prst="rect">
              <a:avLst/>
            </a:prstGeom>
            <a:noFill/>
            <a:ln cap="rnd" w="936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 flipH="1">
            <a:off x="3513240" y="3648240"/>
            <a:ext cx="689040" cy="409320"/>
          </a:xfrm>
          <a:prstGeom prst="line">
            <a:avLst/>
          </a:prstGeom>
          <a:ln cap="rnd" w="93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878360" y="4027320"/>
            <a:ext cx="447480" cy="295560"/>
            <a:chOff x="4878360" y="4027320"/>
            <a:chExt cx="447480" cy="295560"/>
          </a:xfrm>
        </p:grpSpPr>
        <p:sp>
          <p:nvSpPr>
            <p:cNvPr id="94" name=""/>
            <p:cNvSpPr/>
            <p:nvPr/>
          </p:nvSpPr>
          <p:spPr>
            <a:xfrm>
              <a:off x="4951440" y="4027320"/>
              <a:ext cx="304920" cy="295560"/>
            </a:xfrm>
            <a:prstGeom prst="ellipse">
              <a:avLst/>
            </a:prstGeom>
            <a:noFill/>
            <a:ln cap="rnd" w="936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78360" y="4048200"/>
              <a:ext cx="447480" cy="246240"/>
            </a:xfrm>
            <a:prstGeom prst="rect">
              <a:avLst/>
            </a:prstGeom>
            <a:noFill/>
            <a:ln cap="rnd" w="936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Arial"/>
                </a:rPr>
                <a:t>N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4191120" y="3657600"/>
            <a:ext cx="857160" cy="390600"/>
          </a:xfrm>
          <a:prstGeom prst="line">
            <a:avLst/>
          </a:prstGeom>
          <a:ln cap="rnd" w="93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5979240" y="4027320"/>
            <a:ext cx="474840" cy="295560"/>
            <a:chOff x="5979240" y="4027320"/>
            <a:chExt cx="474840" cy="295560"/>
          </a:xfrm>
        </p:grpSpPr>
        <p:sp>
          <p:nvSpPr>
            <p:cNvPr id="98" name=""/>
            <p:cNvSpPr/>
            <p:nvPr/>
          </p:nvSpPr>
          <p:spPr>
            <a:xfrm>
              <a:off x="6056280" y="4027320"/>
              <a:ext cx="304920" cy="295560"/>
            </a:xfrm>
            <a:prstGeom prst="ellipse">
              <a:avLst/>
            </a:prstGeom>
            <a:noFill/>
            <a:ln cap="rnd" w="936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79240" y="4048200"/>
              <a:ext cx="474840" cy="246240"/>
            </a:xfrm>
            <a:prstGeom prst="rect">
              <a:avLst/>
            </a:prstGeom>
            <a:noFill/>
            <a:ln cap="rnd" w="936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Arial"/>
                </a:rPr>
                <a:t>N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210200" y="3648240"/>
            <a:ext cx="1933560" cy="399960"/>
          </a:xfrm>
          <a:prstGeom prst="line">
            <a:avLst/>
          </a:prstGeom>
          <a:ln cap="rnd" w="93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30040" y="1308240"/>
            <a:ext cx="8569440" cy="144360"/>
            <a:chOff x="230040" y="1308240"/>
            <a:chExt cx="8569440" cy="144360"/>
          </a:xfrm>
        </p:grpSpPr>
        <p:sp>
          <p:nvSpPr>
            <p:cNvPr id="102" name=""/>
            <p:cNvSpPr/>
            <p:nvPr/>
          </p:nvSpPr>
          <p:spPr>
            <a:xfrm>
              <a:off x="230040" y="1336680"/>
              <a:ext cx="144720" cy="73080"/>
            </a:xfrm>
            <a:prstGeom prst="rightArrow">
              <a:avLst>
                <a:gd name="adj1" fmla="val 50000"/>
                <a:gd name="adj2" fmla="val 4950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47840" y="130824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712880" y="484200"/>
            <a:ext cx="428760" cy="2400120"/>
            <a:chOff x="1712880" y="484200"/>
            <a:chExt cx="428760" cy="2400120"/>
          </a:xfrm>
        </p:grpSpPr>
        <p:sp>
          <p:nvSpPr>
            <p:cNvPr id="105" name=""/>
            <p:cNvSpPr/>
            <p:nvPr/>
          </p:nvSpPr>
          <p:spPr>
            <a:xfrm>
              <a:off x="1895400" y="48420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712880" y="646200"/>
              <a:ext cx="428760" cy="22381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892520" y="4334040"/>
            <a:ext cx="490320" cy="884160"/>
            <a:chOff x="1892520" y="4334040"/>
            <a:chExt cx="490320" cy="884160"/>
          </a:xfrm>
        </p:grpSpPr>
        <p:grpSp>
          <p:nvGrpSpPr>
            <p:cNvPr id="108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109" name=""/>
              <p:cNvSpPr/>
              <p:nvPr/>
            </p:nvSpPr>
            <p:spPr>
              <a:xfrm>
                <a:off x="1960560" y="4923000"/>
                <a:ext cx="304920" cy="295200"/>
              </a:xfrm>
              <a:prstGeom prst="ellipse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333399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 flipH="1">
              <a:off x="2112840" y="4334040"/>
              <a:ext cx="270000" cy="590400"/>
            </a:xfrm>
            <a:prstGeom prst="line">
              <a:avLst/>
            </a:prstGeom>
            <a:ln cap="rnd" w="936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4835520" y="482760"/>
            <a:ext cx="428760" cy="2400120"/>
            <a:chOff x="4835520" y="482760"/>
            <a:chExt cx="428760" cy="2400120"/>
          </a:xfrm>
        </p:grpSpPr>
        <p:sp>
          <p:nvSpPr>
            <p:cNvPr id="113" name=""/>
            <p:cNvSpPr/>
            <p:nvPr/>
          </p:nvSpPr>
          <p:spPr>
            <a:xfrm>
              <a:off x="5018040" y="48276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35520" y="644400"/>
              <a:ext cx="42876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407360" y="473040"/>
            <a:ext cx="428400" cy="2400480"/>
            <a:chOff x="7407360" y="473040"/>
            <a:chExt cx="428400" cy="2400480"/>
          </a:xfrm>
        </p:grpSpPr>
        <p:sp>
          <p:nvSpPr>
            <p:cNvPr id="116" name=""/>
            <p:cNvSpPr/>
            <p:nvPr/>
          </p:nvSpPr>
          <p:spPr>
            <a:xfrm>
              <a:off x="7589880" y="473040"/>
              <a:ext cx="71280" cy="144360"/>
            </a:xfrm>
            <a:prstGeom prst="downArrow">
              <a:avLst>
                <a:gd name="adj1" fmla="val 50000"/>
                <a:gd name="adj2" fmla="val 50631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407360" y="635040"/>
              <a:ext cx="42840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743360" y="533520"/>
            <a:ext cx="714600" cy="23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570200" y="552600"/>
            <a:ext cx="803160" cy="2352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2373480" y="4334040"/>
            <a:ext cx="504000" cy="884160"/>
            <a:chOff x="2373480" y="4334040"/>
            <a:chExt cx="504000" cy="884160"/>
          </a:xfrm>
        </p:grpSpPr>
        <p:grpSp>
          <p:nvGrpSpPr>
            <p:cNvPr id="121" name=""/>
            <p:cNvGrpSpPr/>
            <p:nvPr/>
          </p:nvGrpSpPr>
          <p:grpSpPr>
            <a:xfrm>
              <a:off x="2414880" y="4923000"/>
              <a:ext cx="462600" cy="295200"/>
              <a:chOff x="2414880" y="4923000"/>
              <a:chExt cx="462600" cy="295200"/>
            </a:xfrm>
          </p:grpSpPr>
          <p:sp>
            <p:nvSpPr>
              <p:cNvPr id="122" name=""/>
              <p:cNvSpPr/>
              <p:nvPr/>
            </p:nvSpPr>
            <p:spPr>
              <a:xfrm flipH="1">
                <a:off x="2488320" y="4923000"/>
                <a:ext cx="304920" cy="295200"/>
              </a:xfrm>
              <a:prstGeom prst="ellipse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2414520" y="4943520"/>
                <a:ext cx="462600" cy="246240"/>
              </a:xfrm>
              <a:prstGeom prst="rect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333399"/>
                    </a:solidFill>
                    <a:latin typeface="Arial"/>
                  </a:rPr>
                  <a:t>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2373480" y="4334040"/>
              <a:ext cx="266400" cy="590400"/>
            </a:xfrm>
            <a:prstGeom prst="line">
              <a:avLst/>
            </a:prstGeom>
            <a:ln cap="rnd" w="936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2152800" y="398160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9120" y="3027240"/>
            <a:ext cx="227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 HYA a  CH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84920" y="176040"/>
            <a:ext cx="205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già presente nel camm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56120" y="415116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494320" y="414180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657520" y="403380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21400" y="4181400"/>
            <a:ext cx="88920" cy="304920"/>
          </a:xfrm>
          <a:custGeom>
            <a:avLst/>
            <a:gdLst>
              <a:gd name="textAreaLeft" fmla="*/ 11880 w 88920"/>
              <a:gd name="textAreaRight" fmla="*/ 77040 w 88920"/>
              <a:gd name="textAreaTop" fmla="*/ 53640 h 304920"/>
              <a:gd name="textAreaBottom" fmla="*/ 22032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00" stAng="-5400000" swAng="5400000"/>
                <a:lnTo>
                  <a:pt x="21600" y="11800"/>
                </a:lnTo>
                <a:arcTo wR="21600" hR="7600" stAng="0" swAng="1288428"/>
                <a:lnTo>
                  <a:pt x="14400" y="19665"/>
                </a:lnTo>
                <a:lnTo>
                  <a:pt x="0" y="17300"/>
                </a:lnTo>
                <a:lnTo>
                  <a:pt x="14400" y="11065"/>
                </a:lnTo>
                <a:lnTo>
                  <a:pt x="14400" y="13265"/>
                </a:lnTo>
                <a:arcTo wR="21600" hR="7600" stAng="1288428" swAng="-941842"/>
                <a:lnTo>
                  <a:pt x="20759" y="9700"/>
                </a:lnTo>
                <a:arcTo wR="21600" hR="7600" stAng="-346586" swAng="-5053414"/>
                <a:close/>
              </a:path>
              <a:path fill="darkenLess" w="21600" h="21600">
                <a:moveTo>
                  <a:pt x="0" y="0"/>
                </a:moveTo>
                <a:arcTo wR="21600" hR="7600" stAng="-5400000" swAng="5400000"/>
                <a:lnTo>
                  <a:pt x="21600" y="11800"/>
                </a:lnTo>
                <a:arcTo wR="21600" hR="7600" stAng="0" swAng="-346586"/>
                <a:lnTo>
                  <a:pt x="20759" y="9700"/>
                </a:lnTo>
                <a:arcTo wR="21600" hR="7600" stAng="-346586" swAng="-5053414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5600" y="4829040"/>
            <a:ext cx="161640" cy="266760"/>
          </a:xfrm>
          <a:custGeom>
            <a:avLst/>
            <a:gdLst>
              <a:gd name="textAreaLeft" fmla="*/ 21600 w 161640"/>
              <a:gd name="textAreaRight" fmla="*/ 140040 w 161640"/>
              <a:gd name="textAreaTop" fmla="*/ 46800 h 266760"/>
              <a:gd name="textAreaBottom" fmla="*/ 19260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00" stAng="-5400000" swAng="-5400000"/>
                <a:lnTo>
                  <a:pt x="0" y="11800"/>
                </a:lnTo>
                <a:arcTo wR="21600" hR="7600" stAng="10800000" swAng="-2691708"/>
                <a:lnTo>
                  <a:pt x="14400" y="21165"/>
                </a:lnTo>
                <a:lnTo>
                  <a:pt x="21600" y="17300"/>
                </a:lnTo>
                <a:lnTo>
                  <a:pt x="14400" y="12565"/>
                </a:lnTo>
                <a:lnTo>
                  <a:pt x="14400" y="14765"/>
                </a:lnTo>
                <a:arcTo wR="21600" hR="7600" stAng="8108292" swAng="2345122"/>
                <a:lnTo>
                  <a:pt x="841" y="9700"/>
                </a:lnTo>
                <a:arcTo wR="21600" hR="7600" stAng="-10453414" swAng="5053414"/>
                <a:close/>
              </a:path>
              <a:path fill="darkenLess" w="21600" h="21600">
                <a:moveTo>
                  <a:pt x="21600" y="0"/>
                </a:moveTo>
                <a:arcTo wR="21600" hR="7600" stAng="-5400000" swAng="-5400000"/>
                <a:lnTo>
                  <a:pt x="0" y="7600"/>
                </a:lnTo>
                <a:arcTo wR="21600" hR="7600" stAng="10800000" swAng="-346586"/>
                <a:lnTo>
                  <a:pt x="841" y="9700"/>
                </a:lnTo>
                <a:arcTo wR="21600" hR="7600" stAng="-10453414" swAng="5053414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5305320"/>
            <a:ext cx="523800" cy="104760"/>
          </a:xfrm>
          <a:custGeom>
            <a:avLst/>
            <a:gdLst>
              <a:gd name="textAreaLeft" fmla="*/ 92160 w 523800"/>
              <a:gd name="textAreaRight" fmla="*/ 37836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-1288428"/>
                <a:lnTo>
                  <a:pt x="19665" y="14400"/>
                </a:lnTo>
                <a:lnTo>
                  <a:pt x="17300" y="0"/>
                </a:lnTo>
                <a:lnTo>
                  <a:pt x="11065" y="14400"/>
                </a:lnTo>
                <a:lnTo>
                  <a:pt x="13265" y="14400"/>
                </a:lnTo>
                <a:arcTo wR="7600" hR="21600" stAng="4111572" swAng="941842"/>
                <a:lnTo>
                  <a:pt x="9700" y="20759"/>
                </a:lnTo>
                <a:arcTo wR="7600" hR="21600" stAng="5746586" swAng="5053414"/>
                <a:close/>
              </a:path>
              <a:path fill="darkenLess"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346586"/>
                <a:lnTo>
                  <a:pt x="9700" y="20759"/>
                </a:lnTo>
                <a:arcTo wR="7600" hR="21600" stAng="5746586" swAng="5053414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dur="indefinite" fill="hold">
                      <p:stCondLst>
                        <p:cond delay="indefinite"/>
                      </p:stCondLst>
                      <p:childTnLst>
                        <p:par>
                          <p:cTn id="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dur="indefinite" fill="hold">
                      <p:stCondLst>
                        <p:cond delay="indefinite"/>
                      </p:stCondLst>
                      <p:childTnLst>
                        <p:par>
                          <p:cTn id="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3979080" y="3333600"/>
            <a:ext cx="439920" cy="295560"/>
            <a:chOff x="3979080" y="3333600"/>
            <a:chExt cx="439920" cy="295560"/>
          </a:xfrm>
        </p:grpSpPr>
        <p:sp>
          <p:nvSpPr>
            <p:cNvPr id="136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7908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139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 flipH="1">
            <a:off x="2475000" y="3638520"/>
            <a:ext cx="172728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217680" y="4027320"/>
            <a:ext cx="433800" cy="295560"/>
            <a:chOff x="3217680" y="4027320"/>
            <a:chExt cx="433800" cy="295560"/>
          </a:xfrm>
        </p:grpSpPr>
        <p:sp>
          <p:nvSpPr>
            <p:cNvPr id="143" name=""/>
            <p:cNvSpPr/>
            <p:nvPr/>
          </p:nvSpPr>
          <p:spPr>
            <a:xfrm>
              <a:off x="3265560" y="4027320"/>
              <a:ext cx="30456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17680" y="404820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 flipH="1">
            <a:off x="3513240" y="3648240"/>
            <a:ext cx="689040" cy="40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878360" y="4027320"/>
            <a:ext cx="447480" cy="295560"/>
            <a:chOff x="4878360" y="4027320"/>
            <a:chExt cx="447480" cy="295560"/>
          </a:xfrm>
        </p:grpSpPr>
        <p:sp>
          <p:nvSpPr>
            <p:cNvPr id="147" name=""/>
            <p:cNvSpPr/>
            <p:nvPr/>
          </p:nvSpPr>
          <p:spPr>
            <a:xfrm>
              <a:off x="4951440" y="4027320"/>
              <a:ext cx="304920" cy="295560"/>
            </a:xfrm>
            <a:prstGeom prst="ellipse">
              <a:avLst/>
            </a:prstGeom>
            <a:noFill/>
            <a:ln cap="rnd" w="936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878360" y="4048200"/>
              <a:ext cx="447480" cy="246240"/>
            </a:xfrm>
            <a:prstGeom prst="rect">
              <a:avLst/>
            </a:prstGeom>
            <a:noFill/>
            <a:ln cap="rnd" w="936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Arial"/>
                </a:rPr>
                <a:t>N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4191120" y="3657600"/>
            <a:ext cx="857160" cy="390600"/>
          </a:xfrm>
          <a:prstGeom prst="line">
            <a:avLst/>
          </a:prstGeom>
          <a:ln cap="rnd" w="93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979240" y="4027320"/>
            <a:ext cx="474840" cy="295560"/>
            <a:chOff x="5979240" y="4027320"/>
            <a:chExt cx="474840" cy="295560"/>
          </a:xfrm>
        </p:grpSpPr>
        <p:sp>
          <p:nvSpPr>
            <p:cNvPr id="151" name=""/>
            <p:cNvSpPr/>
            <p:nvPr/>
          </p:nvSpPr>
          <p:spPr>
            <a:xfrm>
              <a:off x="6056280" y="4027320"/>
              <a:ext cx="304920" cy="295560"/>
            </a:xfrm>
            <a:prstGeom prst="ellipse">
              <a:avLst/>
            </a:prstGeom>
            <a:noFill/>
            <a:ln cap="rnd" w="936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79240" y="4048200"/>
              <a:ext cx="474840" cy="246240"/>
            </a:xfrm>
            <a:prstGeom prst="rect">
              <a:avLst/>
            </a:prstGeom>
            <a:noFill/>
            <a:ln cap="rnd" w="936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Arial"/>
                </a:rPr>
                <a:t>N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4210200" y="3648240"/>
            <a:ext cx="1933560" cy="399960"/>
          </a:xfrm>
          <a:prstGeom prst="line">
            <a:avLst/>
          </a:prstGeom>
          <a:ln cap="rnd" w="93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01600" y="1908000"/>
            <a:ext cx="8569440" cy="144720"/>
            <a:chOff x="201600" y="1908000"/>
            <a:chExt cx="8569440" cy="144720"/>
          </a:xfrm>
        </p:grpSpPr>
        <p:sp>
          <p:nvSpPr>
            <p:cNvPr id="155" name=""/>
            <p:cNvSpPr/>
            <p:nvPr/>
          </p:nvSpPr>
          <p:spPr>
            <a:xfrm>
              <a:off x="201600" y="193680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9040" y="1908000"/>
              <a:ext cx="8352000" cy="144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370400" y="465120"/>
            <a:ext cx="428760" cy="2400480"/>
            <a:chOff x="4370400" y="465120"/>
            <a:chExt cx="428760" cy="2400480"/>
          </a:xfrm>
        </p:grpSpPr>
        <p:sp>
          <p:nvSpPr>
            <p:cNvPr id="158" name=""/>
            <p:cNvSpPr/>
            <p:nvPr/>
          </p:nvSpPr>
          <p:spPr>
            <a:xfrm>
              <a:off x="4552920" y="46512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70400" y="627120"/>
              <a:ext cx="42876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892520" y="4334040"/>
            <a:ext cx="490320" cy="884160"/>
            <a:chOff x="1892520" y="4334040"/>
            <a:chExt cx="490320" cy="884160"/>
          </a:xfrm>
        </p:grpSpPr>
        <p:grpSp>
          <p:nvGrpSpPr>
            <p:cNvPr id="161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162" name=""/>
              <p:cNvSpPr/>
              <p:nvPr/>
            </p:nvSpPr>
            <p:spPr>
              <a:xfrm>
                <a:off x="1960560" y="4923000"/>
                <a:ext cx="304920" cy="295200"/>
              </a:xfrm>
              <a:prstGeom prst="ellipse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333399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 flipH="1">
              <a:off x="2112840" y="4334040"/>
              <a:ext cx="270000" cy="590400"/>
            </a:xfrm>
            <a:prstGeom prst="line">
              <a:avLst/>
            </a:prstGeom>
            <a:ln cap="rnd" w="936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373480" y="4334040"/>
            <a:ext cx="504000" cy="884160"/>
            <a:chOff x="2373480" y="4334040"/>
            <a:chExt cx="504000" cy="884160"/>
          </a:xfrm>
        </p:grpSpPr>
        <p:grpSp>
          <p:nvGrpSpPr>
            <p:cNvPr id="166" name=""/>
            <p:cNvGrpSpPr/>
            <p:nvPr/>
          </p:nvGrpSpPr>
          <p:grpSpPr>
            <a:xfrm>
              <a:off x="2414880" y="4923000"/>
              <a:ext cx="462600" cy="295200"/>
              <a:chOff x="2414880" y="4923000"/>
              <a:chExt cx="462600" cy="295200"/>
            </a:xfrm>
          </p:grpSpPr>
          <p:sp>
            <p:nvSpPr>
              <p:cNvPr id="167" name=""/>
              <p:cNvSpPr/>
              <p:nvPr/>
            </p:nvSpPr>
            <p:spPr>
              <a:xfrm flipH="1">
                <a:off x="2488320" y="4923000"/>
                <a:ext cx="304920" cy="295200"/>
              </a:xfrm>
              <a:prstGeom prst="ellipse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2414520" y="4943520"/>
                <a:ext cx="462600" cy="246240"/>
              </a:xfrm>
              <a:prstGeom prst="rect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333399"/>
                    </a:solidFill>
                    <a:latin typeface="Arial"/>
                  </a:rPr>
                  <a:t>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2373480" y="4334040"/>
              <a:ext cx="266400" cy="590400"/>
            </a:xfrm>
            <a:prstGeom prst="line">
              <a:avLst/>
            </a:prstGeom>
            <a:ln cap="rnd" w="936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913120" y="4334040"/>
            <a:ext cx="487440" cy="884160"/>
            <a:chOff x="2913120" y="4334040"/>
            <a:chExt cx="487440" cy="884160"/>
          </a:xfrm>
        </p:grpSpPr>
        <p:sp>
          <p:nvSpPr>
            <p:cNvPr id="171" name=""/>
            <p:cNvSpPr/>
            <p:nvPr/>
          </p:nvSpPr>
          <p:spPr>
            <a:xfrm>
              <a:off x="2978280" y="4923000"/>
              <a:ext cx="304560" cy="295200"/>
            </a:xfrm>
            <a:prstGeom prst="ellipse">
              <a:avLst/>
            </a:prstGeom>
            <a:noFill/>
            <a:ln cap="rnd" w="936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13120" y="4943520"/>
              <a:ext cx="447480" cy="246240"/>
            </a:xfrm>
            <a:prstGeom prst="rect">
              <a:avLst/>
            </a:prstGeom>
            <a:noFill/>
            <a:ln cap="rnd" w="936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Arial"/>
                </a:rPr>
                <a:t>CH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3130560" y="4334040"/>
              <a:ext cx="270000" cy="590400"/>
            </a:xfrm>
            <a:prstGeom prst="line">
              <a:avLst/>
            </a:prstGeom>
            <a:ln cap="rnd" w="936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3181320" y="400068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9120" y="3027240"/>
            <a:ext cx="227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 HYA a  CH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835520" y="463680"/>
            <a:ext cx="428760" cy="2400120"/>
            <a:chOff x="4835520" y="463680"/>
            <a:chExt cx="428760" cy="2400120"/>
          </a:xfrm>
        </p:grpSpPr>
        <p:sp>
          <p:nvSpPr>
            <p:cNvPr id="177" name=""/>
            <p:cNvSpPr/>
            <p:nvPr/>
          </p:nvSpPr>
          <p:spPr>
            <a:xfrm>
              <a:off x="5018040" y="46368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35520" y="625320"/>
              <a:ext cx="42876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6540480" y="453960"/>
            <a:ext cx="428760" cy="2400480"/>
            <a:chOff x="6540480" y="453960"/>
            <a:chExt cx="428760" cy="2400480"/>
          </a:xfrm>
        </p:grpSpPr>
        <p:sp>
          <p:nvSpPr>
            <p:cNvPr id="180" name=""/>
            <p:cNvSpPr/>
            <p:nvPr/>
          </p:nvSpPr>
          <p:spPr>
            <a:xfrm>
              <a:off x="6723000" y="45396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540480" y="615960"/>
              <a:ext cx="42876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4770360" y="493560"/>
            <a:ext cx="714600" cy="2333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4597200" y="512640"/>
            <a:ext cx="803160" cy="2352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11920" y="136440"/>
            <a:ext cx="205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già presente nel camm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421080" y="4332240"/>
            <a:ext cx="559080" cy="884160"/>
            <a:chOff x="3421080" y="4332240"/>
            <a:chExt cx="559080" cy="884160"/>
          </a:xfrm>
        </p:grpSpPr>
        <p:grpSp>
          <p:nvGrpSpPr>
            <p:cNvPr id="186" name=""/>
            <p:cNvGrpSpPr/>
            <p:nvPr/>
          </p:nvGrpSpPr>
          <p:grpSpPr>
            <a:xfrm>
              <a:off x="3427560" y="4921200"/>
              <a:ext cx="552600" cy="295200"/>
              <a:chOff x="3427560" y="4921200"/>
              <a:chExt cx="552600" cy="295200"/>
            </a:xfrm>
          </p:grpSpPr>
          <p:sp>
            <p:nvSpPr>
              <p:cNvPr id="187" name=""/>
              <p:cNvSpPr/>
              <p:nvPr/>
            </p:nvSpPr>
            <p:spPr>
              <a:xfrm flipH="1">
                <a:off x="3536280" y="4921200"/>
                <a:ext cx="304920" cy="295200"/>
              </a:xfrm>
              <a:prstGeom prst="ellipse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3427200" y="4941720"/>
                <a:ext cx="552600" cy="246240"/>
              </a:xfrm>
              <a:prstGeom prst="rect">
                <a:avLst/>
              </a:prstGeom>
              <a:noFill/>
              <a:ln cap="rnd" w="936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333399"/>
                    </a:solidFill>
                    <a:latin typeface="Arial"/>
                  </a:rPr>
                  <a:t>NAN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3421080" y="4332240"/>
              <a:ext cx="266760" cy="590760"/>
            </a:xfrm>
            <a:prstGeom prst="line">
              <a:avLst/>
            </a:prstGeom>
            <a:ln cap="rnd" w="936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494320" y="414180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21400" y="4181400"/>
            <a:ext cx="88920" cy="304920"/>
          </a:xfrm>
          <a:custGeom>
            <a:avLst/>
            <a:gdLst>
              <a:gd name="textAreaLeft" fmla="*/ 11880 w 88920"/>
              <a:gd name="textAreaRight" fmla="*/ 77040 w 88920"/>
              <a:gd name="textAreaTop" fmla="*/ 53640 h 304920"/>
              <a:gd name="textAreaBottom" fmla="*/ 22032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00" stAng="-5400000" swAng="5400000"/>
                <a:lnTo>
                  <a:pt x="21600" y="11800"/>
                </a:lnTo>
                <a:arcTo wR="21600" hR="7600" stAng="0" swAng="1288428"/>
                <a:lnTo>
                  <a:pt x="14400" y="19665"/>
                </a:lnTo>
                <a:lnTo>
                  <a:pt x="0" y="17300"/>
                </a:lnTo>
                <a:lnTo>
                  <a:pt x="14400" y="11065"/>
                </a:lnTo>
                <a:lnTo>
                  <a:pt x="14400" y="13265"/>
                </a:lnTo>
                <a:arcTo wR="21600" hR="7600" stAng="1288428" swAng="-941842"/>
                <a:lnTo>
                  <a:pt x="20759" y="9700"/>
                </a:lnTo>
                <a:arcTo wR="21600" hR="7600" stAng="-346586" swAng="-5053414"/>
                <a:close/>
              </a:path>
              <a:path fill="darkenLess" w="21600" h="21600">
                <a:moveTo>
                  <a:pt x="0" y="0"/>
                </a:moveTo>
                <a:arcTo wR="21600" hR="7600" stAng="-5400000" swAng="5400000"/>
                <a:lnTo>
                  <a:pt x="21600" y="11800"/>
                </a:lnTo>
                <a:arcTo wR="21600" hR="7600" stAng="0" swAng="-346586"/>
                <a:lnTo>
                  <a:pt x="20759" y="9700"/>
                </a:lnTo>
                <a:arcTo wR="21600" hR="7600" stAng="-346586" swAng="-5053414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95600" y="4829040"/>
            <a:ext cx="161640" cy="266760"/>
          </a:xfrm>
          <a:custGeom>
            <a:avLst/>
            <a:gdLst>
              <a:gd name="textAreaLeft" fmla="*/ 21600 w 161640"/>
              <a:gd name="textAreaRight" fmla="*/ 140040 w 161640"/>
              <a:gd name="textAreaTop" fmla="*/ 46800 h 266760"/>
              <a:gd name="textAreaBottom" fmla="*/ 19260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00" stAng="-5400000" swAng="-5400000"/>
                <a:lnTo>
                  <a:pt x="0" y="11800"/>
                </a:lnTo>
                <a:arcTo wR="21600" hR="7600" stAng="10800000" swAng="-2691708"/>
                <a:lnTo>
                  <a:pt x="14400" y="21165"/>
                </a:lnTo>
                <a:lnTo>
                  <a:pt x="21600" y="17300"/>
                </a:lnTo>
                <a:lnTo>
                  <a:pt x="14400" y="12565"/>
                </a:lnTo>
                <a:lnTo>
                  <a:pt x="14400" y="14765"/>
                </a:lnTo>
                <a:arcTo wR="21600" hR="7600" stAng="8108292" swAng="2345122"/>
                <a:lnTo>
                  <a:pt x="841" y="9700"/>
                </a:lnTo>
                <a:arcTo wR="21600" hR="7600" stAng="-10453414" swAng="5053414"/>
                <a:close/>
              </a:path>
              <a:path fill="darkenLess" w="21600" h="21600">
                <a:moveTo>
                  <a:pt x="21600" y="0"/>
                </a:moveTo>
                <a:arcTo wR="21600" hR="7600" stAng="-5400000" swAng="-5400000"/>
                <a:lnTo>
                  <a:pt x="0" y="7600"/>
                </a:lnTo>
                <a:arcTo wR="21600" hR="7600" stAng="10800000" swAng="-346586"/>
                <a:lnTo>
                  <a:pt x="841" y="9700"/>
                </a:lnTo>
                <a:arcTo wR="21600" hR="7600" stAng="-10453414" swAng="5053414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133720" y="5305320"/>
            <a:ext cx="523800" cy="104760"/>
          </a:xfrm>
          <a:custGeom>
            <a:avLst/>
            <a:gdLst>
              <a:gd name="textAreaLeft" fmla="*/ 92160 w 523800"/>
              <a:gd name="textAreaRight" fmla="*/ 37836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-1288428"/>
                <a:lnTo>
                  <a:pt x="19665" y="14400"/>
                </a:lnTo>
                <a:lnTo>
                  <a:pt x="17300" y="0"/>
                </a:lnTo>
                <a:lnTo>
                  <a:pt x="11065" y="14400"/>
                </a:lnTo>
                <a:lnTo>
                  <a:pt x="13265" y="14400"/>
                </a:lnTo>
                <a:arcTo wR="7600" hR="21600" stAng="4111572" swAng="941842"/>
                <a:lnTo>
                  <a:pt x="9700" y="20759"/>
                </a:lnTo>
                <a:arcTo wR="7600" hR="21600" stAng="5746586" swAng="5053414"/>
                <a:close/>
              </a:path>
              <a:path fill="darkenLess"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346586"/>
                <a:lnTo>
                  <a:pt x="9700" y="20759"/>
                </a:lnTo>
                <a:arcTo wR="7600" hR="21600" stAng="5746586" swAng="5053414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76640" y="404352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03600" y="5322960"/>
            <a:ext cx="523800" cy="104760"/>
          </a:xfrm>
          <a:custGeom>
            <a:avLst/>
            <a:gdLst>
              <a:gd name="textAreaLeft" fmla="*/ 92160 w 523800"/>
              <a:gd name="textAreaRight" fmla="*/ 37836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-1288428"/>
                <a:lnTo>
                  <a:pt x="19665" y="14400"/>
                </a:lnTo>
                <a:lnTo>
                  <a:pt x="17300" y="0"/>
                </a:lnTo>
                <a:lnTo>
                  <a:pt x="11065" y="14400"/>
                </a:lnTo>
                <a:lnTo>
                  <a:pt x="13265" y="14400"/>
                </a:lnTo>
                <a:arcTo wR="7600" hR="21600" stAng="4111572" swAng="941842"/>
                <a:lnTo>
                  <a:pt x="9700" y="20759"/>
                </a:lnTo>
                <a:arcTo wR="7600" hR="21600" stAng="5746586" swAng="5053414"/>
                <a:close/>
              </a:path>
              <a:path fill="darkenLess"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346586"/>
                <a:lnTo>
                  <a:pt x="9700" y="20759"/>
                </a:lnTo>
                <a:arcTo wR="7600" hR="21600" stAng="5746586" swAng="5053414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265560" y="5361120"/>
            <a:ext cx="523800" cy="104760"/>
          </a:xfrm>
          <a:custGeom>
            <a:avLst/>
            <a:gdLst>
              <a:gd name="textAreaLeft" fmla="*/ 92160 w 523800"/>
              <a:gd name="textAreaRight" fmla="*/ 37836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-1288428"/>
                <a:lnTo>
                  <a:pt x="19665" y="14400"/>
                </a:lnTo>
                <a:lnTo>
                  <a:pt x="17300" y="0"/>
                </a:lnTo>
                <a:lnTo>
                  <a:pt x="11065" y="14400"/>
                </a:lnTo>
                <a:lnTo>
                  <a:pt x="13265" y="14400"/>
                </a:lnTo>
                <a:arcTo wR="7600" hR="21600" stAng="4111572" swAng="941842"/>
                <a:lnTo>
                  <a:pt x="9700" y="20759"/>
                </a:lnTo>
                <a:arcTo wR="7600" hR="21600" stAng="5746586" swAng="5053414"/>
                <a:close/>
              </a:path>
              <a:path fill="darkenLess"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346586"/>
                <a:lnTo>
                  <a:pt x="9700" y="20759"/>
                </a:lnTo>
                <a:arcTo wR="7600" hR="21600" stAng="5746586" swAng="5053414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dur="indefinite" fill="hold">
                      <p:stCondLst>
                        <p:cond delay="indefinite"/>
                      </p:stCondLst>
                      <p:childTnLst>
                        <p:par>
                          <p:cTn id="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dur="indefinite" fill="hold">
                      <p:stCondLst>
                        <p:cond delay="indefinite"/>
                      </p:stCondLst>
                      <p:childTnLst>
                        <p:par>
                          <p:cTn id="9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dur="indefinite" fill="hold">
                      <p:stCondLst>
                        <p:cond delay="indefinite"/>
                      </p:stCondLst>
                      <p:childTnLst>
                        <p:par>
                          <p:cTn id="1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dur="indefinite" fill="hold">
                      <p:stCondLst>
                        <p:cond delay="indefinite"/>
                      </p:stCondLst>
                      <p:childTnLst>
                        <p:par>
                          <p:cTn id="1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198" name=""/>
          <p:cNvGrpSpPr/>
          <p:nvPr/>
        </p:nvGrpSpPr>
        <p:grpSpPr>
          <a:xfrm>
            <a:off x="3979080" y="3333600"/>
            <a:ext cx="439920" cy="295560"/>
            <a:chOff x="3979080" y="3333600"/>
            <a:chExt cx="439920" cy="295560"/>
          </a:xfrm>
        </p:grpSpPr>
        <p:sp>
          <p:nvSpPr>
            <p:cNvPr id="199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97908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202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 flipH="1">
            <a:off x="2475000" y="3638520"/>
            <a:ext cx="172728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3217680" y="4027320"/>
            <a:ext cx="433800" cy="295560"/>
            <a:chOff x="3217680" y="4027320"/>
            <a:chExt cx="433800" cy="295560"/>
          </a:xfrm>
        </p:grpSpPr>
        <p:sp>
          <p:nvSpPr>
            <p:cNvPr id="206" name=""/>
            <p:cNvSpPr/>
            <p:nvPr/>
          </p:nvSpPr>
          <p:spPr>
            <a:xfrm>
              <a:off x="3265560" y="4027320"/>
              <a:ext cx="30456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17680" y="404820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 flipH="1">
            <a:off x="3513240" y="3648240"/>
            <a:ext cx="689040" cy="40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4878360" y="4027320"/>
            <a:ext cx="447480" cy="295560"/>
            <a:chOff x="4878360" y="4027320"/>
            <a:chExt cx="447480" cy="295560"/>
          </a:xfrm>
        </p:grpSpPr>
        <p:sp>
          <p:nvSpPr>
            <p:cNvPr id="210" name=""/>
            <p:cNvSpPr/>
            <p:nvPr/>
          </p:nvSpPr>
          <p:spPr>
            <a:xfrm>
              <a:off x="495144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78360" y="404820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N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4191120" y="3657600"/>
            <a:ext cx="85716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979240" y="4027320"/>
            <a:ext cx="474840" cy="295560"/>
            <a:chOff x="5979240" y="4027320"/>
            <a:chExt cx="474840" cy="295560"/>
          </a:xfrm>
        </p:grpSpPr>
        <p:sp>
          <p:nvSpPr>
            <p:cNvPr id="214" name=""/>
            <p:cNvSpPr/>
            <p:nvPr/>
          </p:nvSpPr>
          <p:spPr>
            <a:xfrm>
              <a:off x="60562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79240" y="4048200"/>
              <a:ext cx="474840" cy="24624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Arial"/>
                </a:rPr>
                <a:t>N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210200" y="3648240"/>
            <a:ext cx="1933560" cy="39996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201600" y="2136600"/>
            <a:ext cx="8569440" cy="144720"/>
            <a:chOff x="201600" y="2136600"/>
            <a:chExt cx="8569440" cy="144720"/>
          </a:xfrm>
        </p:grpSpPr>
        <p:sp>
          <p:nvSpPr>
            <p:cNvPr id="218" name=""/>
            <p:cNvSpPr/>
            <p:nvPr/>
          </p:nvSpPr>
          <p:spPr>
            <a:xfrm>
              <a:off x="201600" y="216540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9040" y="2136600"/>
              <a:ext cx="8352000" cy="144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4836960" y="474840"/>
            <a:ext cx="428760" cy="2400120"/>
            <a:chOff x="4836960" y="474840"/>
            <a:chExt cx="428760" cy="2400120"/>
          </a:xfrm>
        </p:grpSpPr>
        <p:sp>
          <p:nvSpPr>
            <p:cNvPr id="221" name=""/>
            <p:cNvSpPr/>
            <p:nvPr/>
          </p:nvSpPr>
          <p:spPr>
            <a:xfrm>
              <a:off x="5019840" y="474840"/>
              <a:ext cx="71280" cy="144360"/>
            </a:xfrm>
            <a:prstGeom prst="downArrow">
              <a:avLst>
                <a:gd name="adj1" fmla="val 50000"/>
                <a:gd name="adj2" fmla="val 50631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836960" y="636480"/>
              <a:ext cx="42876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1892520" y="4334040"/>
            <a:ext cx="490320" cy="884160"/>
            <a:chOff x="1892520" y="4334040"/>
            <a:chExt cx="490320" cy="884160"/>
          </a:xfrm>
        </p:grpSpPr>
        <p:grpSp>
          <p:nvGrpSpPr>
            <p:cNvPr id="224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225" name=""/>
              <p:cNvSpPr/>
              <p:nvPr/>
            </p:nvSpPr>
            <p:spPr>
              <a:xfrm>
                <a:off x="1960560" y="492300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333399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 flipH="1">
              <a:off x="2112840" y="4334040"/>
              <a:ext cx="27000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381400" y="4334040"/>
            <a:ext cx="499320" cy="884160"/>
            <a:chOff x="2381400" y="4334040"/>
            <a:chExt cx="499320" cy="884160"/>
          </a:xfrm>
        </p:grpSpPr>
        <p:grpSp>
          <p:nvGrpSpPr>
            <p:cNvPr id="229" name=""/>
            <p:cNvGrpSpPr/>
            <p:nvPr/>
          </p:nvGrpSpPr>
          <p:grpSpPr>
            <a:xfrm>
              <a:off x="2418120" y="4923000"/>
              <a:ext cx="462600" cy="295200"/>
              <a:chOff x="2418120" y="4923000"/>
              <a:chExt cx="462600" cy="295200"/>
            </a:xfrm>
          </p:grpSpPr>
          <p:sp>
            <p:nvSpPr>
              <p:cNvPr id="230" name=""/>
              <p:cNvSpPr/>
              <p:nvPr/>
            </p:nvSpPr>
            <p:spPr>
              <a:xfrm flipH="1">
                <a:off x="2496240" y="492300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2417760" y="4943520"/>
                <a:ext cx="46260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333399"/>
                    </a:solidFill>
                    <a:latin typeface="Arial"/>
                  </a:rPr>
                  <a:t>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2381400" y="4334040"/>
              <a:ext cx="26640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2913120" y="4334040"/>
            <a:ext cx="487440" cy="884160"/>
            <a:chOff x="2913120" y="4334040"/>
            <a:chExt cx="487440" cy="884160"/>
          </a:xfrm>
        </p:grpSpPr>
        <p:sp>
          <p:nvSpPr>
            <p:cNvPr id="234" name=""/>
            <p:cNvSpPr/>
            <p:nvPr/>
          </p:nvSpPr>
          <p:spPr>
            <a:xfrm>
              <a:off x="2978280" y="492300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13120" y="4943520"/>
              <a:ext cx="44748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Arial"/>
                </a:rPr>
                <a:t>CH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3130560" y="4334040"/>
              <a:ext cx="27000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857840" y="399096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9120" y="3027240"/>
            <a:ext cx="227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 HYA a  CH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6969240" y="453960"/>
            <a:ext cx="428400" cy="2400480"/>
            <a:chOff x="6969240" y="453960"/>
            <a:chExt cx="428400" cy="2400480"/>
          </a:xfrm>
        </p:grpSpPr>
        <p:sp>
          <p:nvSpPr>
            <p:cNvPr id="240" name=""/>
            <p:cNvSpPr/>
            <p:nvPr/>
          </p:nvSpPr>
          <p:spPr>
            <a:xfrm>
              <a:off x="7151760" y="453960"/>
              <a:ext cx="71280" cy="144360"/>
            </a:xfrm>
            <a:prstGeom prst="downArrow">
              <a:avLst>
                <a:gd name="adj1" fmla="val 50000"/>
                <a:gd name="adj2" fmla="val 50631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969240" y="615960"/>
              <a:ext cx="42840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3435480" y="4332240"/>
            <a:ext cx="552600" cy="884160"/>
            <a:chOff x="3435480" y="4332240"/>
            <a:chExt cx="552600" cy="884160"/>
          </a:xfrm>
        </p:grpSpPr>
        <p:grpSp>
          <p:nvGrpSpPr>
            <p:cNvPr id="243" name=""/>
            <p:cNvGrpSpPr/>
            <p:nvPr/>
          </p:nvGrpSpPr>
          <p:grpSpPr>
            <a:xfrm>
              <a:off x="3435480" y="4921200"/>
              <a:ext cx="552600" cy="295200"/>
              <a:chOff x="3435480" y="4921200"/>
              <a:chExt cx="552600" cy="295200"/>
            </a:xfrm>
          </p:grpSpPr>
          <p:sp>
            <p:nvSpPr>
              <p:cNvPr id="244" name=""/>
              <p:cNvSpPr/>
              <p:nvPr/>
            </p:nvSpPr>
            <p:spPr>
              <a:xfrm flipH="1">
                <a:off x="3552120" y="492120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3435120" y="4941720"/>
                <a:ext cx="55260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333399"/>
                    </a:solidFill>
                    <a:latin typeface="Arial"/>
                  </a:rPr>
                  <a:t>NAN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3436920" y="4332240"/>
              <a:ext cx="266760" cy="59076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683320" y="473040"/>
            <a:ext cx="428400" cy="2400480"/>
            <a:chOff x="5683320" y="473040"/>
            <a:chExt cx="428400" cy="2400480"/>
          </a:xfrm>
        </p:grpSpPr>
        <p:sp>
          <p:nvSpPr>
            <p:cNvPr id="248" name=""/>
            <p:cNvSpPr/>
            <p:nvPr/>
          </p:nvSpPr>
          <p:spPr>
            <a:xfrm>
              <a:off x="5865840" y="473040"/>
              <a:ext cx="71280" cy="144360"/>
            </a:xfrm>
            <a:prstGeom prst="downArrow">
              <a:avLst>
                <a:gd name="adj1" fmla="val 50000"/>
                <a:gd name="adj2" fmla="val 50631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683320" y="635040"/>
              <a:ext cx="42840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4770360" y="493560"/>
            <a:ext cx="714600" cy="2333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597200" y="512640"/>
            <a:ext cx="803160" cy="2352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111920" y="136440"/>
            <a:ext cx="205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già presente nel camm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4614840" y="4332240"/>
            <a:ext cx="479520" cy="884160"/>
            <a:chOff x="4614840" y="4332240"/>
            <a:chExt cx="479520" cy="884160"/>
          </a:xfrm>
        </p:grpSpPr>
        <p:sp>
          <p:nvSpPr>
            <p:cNvPr id="254" name=""/>
            <p:cNvSpPr/>
            <p:nvPr/>
          </p:nvSpPr>
          <p:spPr>
            <a:xfrm>
              <a:off x="4672080" y="492120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14840" y="4941720"/>
              <a:ext cx="43380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4824360" y="4332240"/>
              <a:ext cx="270000" cy="59076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5123520" y="4330800"/>
            <a:ext cx="615240" cy="884160"/>
            <a:chOff x="5123520" y="4330800"/>
            <a:chExt cx="615240" cy="884160"/>
          </a:xfrm>
        </p:grpSpPr>
        <p:grpSp>
          <p:nvGrpSpPr>
            <p:cNvPr id="258" name=""/>
            <p:cNvGrpSpPr/>
            <p:nvPr/>
          </p:nvGrpSpPr>
          <p:grpSpPr>
            <a:xfrm>
              <a:off x="5123520" y="4919760"/>
              <a:ext cx="615240" cy="295200"/>
              <a:chOff x="5123520" y="4919760"/>
              <a:chExt cx="615240" cy="295200"/>
            </a:xfrm>
          </p:grpSpPr>
          <p:sp>
            <p:nvSpPr>
              <p:cNvPr id="259" name=""/>
              <p:cNvSpPr/>
              <p:nvPr/>
            </p:nvSpPr>
            <p:spPr>
              <a:xfrm flipH="1">
                <a:off x="5238000" y="491976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123160" y="4940280"/>
                <a:ext cx="61524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333399"/>
                    </a:solidFill>
                    <a:latin typeface="Arial"/>
                  </a:rPr>
                  <a:t>NEW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124600" y="4330800"/>
              <a:ext cx="26640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6521400" y="4181400"/>
            <a:ext cx="88920" cy="304920"/>
          </a:xfrm>
          <a:custGeom>
            <a:avLst/>
            <a:gdLst>
              <a:gd name="textAreaLeft" fmla="*/ 11880 w 88920"/>
              <a:gd name="textAreaRight" fmla="*/ 77040 w 88920"/>
              <a:gd name="textAreaTop" fmla="*/ 53640 h 304920"/>
              <a:gd name="textAreaBottom" fmla="*/ 22032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00" stAng="-5400000" swAng="5400000"/>
                <a:lnTo>
                  <a:pt x="21600" y="11800"/>
                </a:lnTo>
                <a:arcTo wR="21600" hR="7600" stAng="0" swAng="1288428"/>
                <a:lnTo>
                  <a:pt x="14400" y="19665"/>
                </a:lnTo>
                <a:lnTo>
                  <a:pt x="0" y="17300"/>
                </a:lnTo>
                <a:lnTo>
                  <a:pt x="14400" y="11065"/>
                </a:lnTo>
                <a:lnTo>
                  <a:pt x="14400" y="13265"/>
                </a:lnTo>
                <a:arcTo wR="21600" hR="7600" stAng="1288428" swAng="-941842"/>
                <a:lnTo>
                  <a:pt x="20759" y="9700"/>
                </a:lnTo>
                <a:arcTo wR="21600" hR="7600" stAng="-346586" swAng="-5053414"/>
                <a:close/>
              </a:path>
              <a:path fill="darkenLess" w="21600" h="21600">
                <a:moveTo>
                  <a:pt x="0" y="0"/>
                </a:moveTo>
                <a:arcTo wR="21600" hR="7600" stAng="-5400000" swAng="5400000"/>
                <a:lnTo>
                  <a:pt x="21600" y="11800"/>
                </a:lnTo>
                <a:arcTo wR="21600" hR="7600" stAng="0" swAng="-346586"/>
                <a:lnTo>
                  <a:pt x="20759" y="9700"/>
                </a:lnTo>
                <a:arcTo wR="21600" hR="7600" stAng="-346586" swAng="-5053414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95600" y="4829040"/>
            <a:ext cx="161640" cy="266760"/>
          </a:xfrm>
          <a:custGeom>
            <a:avLst/>
            <a:gdLst>
              <a:gd name="textAreaLeft" fmla="*/ 21600 w 161640"/>
              <a:gd name="textAreaRight" fmla="*/ 140040 w 161640"/>
              <a:gd name="textAreaTop" fmla="*/ 46800 h 266760"/>
              <a:gd name="textAreaBottom" fmla="*/ 19260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00" stAng="-5400000" swAng="-5400000"/>
                <a:lnTo>
                  <a:pt x="0" y="11800"/>
                </a:lnTo>
                <a:arcTo wR="21600" hR="7600" stAng="10800000" swAng="-2691708"/>
                <a:lnTo>
                  <a:pt x="14400" y="21165"/>
                </a:lnTo>
                <a:lnTo>
                  <a:pt x="21600" y="17300"/>
                </a:lnTo>
                <a:lnTo>
                  <a:pt x="14400" y="12565"/>
                </a:lnTo>
                <a:lnTo>
                  <a:pt x="14400" y="14765"/>
                </a:lnTo>
                <a:arcTo wR="21600" hR="7600" stAng="8108292" swAng="2345122"/>
                <a:lnTo>
                  <a:pt x="841" y="9700"/>
                </a:lnTo>
                <a:arcTo wR="21600" hR="7600" stAng="-10453414" swAng="5053414"/>
                <a:close/>
              </a:path>
              <a:path fill="darkenLess" w="21600" h="21600">
                <a:moveTo>
                  <a:pt x="21600" y="0"/>
                </a:moveTo>
                <a:arcTo wR="21600" hR="7600" stAng="-5400000" swAng="-5400000"/>
                <a:lnTo>
                  <a:pt x="0" y="7600"/>
                </a:lnTo>
                <a:arcTo wR="21600" hR="7600" stAng="10800000" swAng="-346586"/>
                <a:lnTo>
                  <a:pt x="841" y="9700"/>
                </a:lnTo>
                <a:arcTo wR="21600" hR="7600" stAng="-10453414" swAng="5053414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33720" y="5305320"/>
            <a:ext cx="523800" cy="104760"/>
          </a:xfrm>
          <a:custGeom>
            <a:avLst/>
            <a:gdLst>
              <a:gd name="textAreaLeft" fmla="*/ 92160 w 523800"/>
              <a:gd name="textAreaRight" fmla="*/ 37836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-1288428"/>
                <a:lnTo>
                  <a:pt x="19665" y="14400"/>
                </a:lnTo>
                <a:lnTo>
                  <a:pt x="17300" y="0"/>
                </a:lnTo>
                <a:lnTo>
                  <a:pt x="11065" y="14400"/>
                </a:lnTo>
                <a:lnTo>
                  <a:pt x="13265" y="14400"/>
                </a:lnTo>
                <a:arcTo wR="7600" hR="21600" stAng="4111572" swAng="941842"/>
                <a:lnTo>
                  <a:pt x="9700" y="20759"/>
                </a:lnTo>
                <a:arcTo wR="7600" hR="21600" stAng="5746586" swAng="5053414"/>
                <a:close/>
              </a:path>
              <a:path fill="darkenLess"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346586"/>
                <a:lnTo>
                  <a:pt x="9700" y="20759"/>
                </a:lnTo>
                <a:arcTo wR="7600" hR="21600" stAng="5746586" swAng="5053414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419800" y="406224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03600" y="5322960"/>
            <a:ext cx="523800" cy="104760"/>
          </a:xfrm>
          <a:custGeom>
            <a:avLst/>
            <a:gdLst>
              <a:gd name="textAreaLeft" fmla="*/ 92160 w 523800"/>
              <a:gd name="textAreaRight" fmla="*/ 37836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-1288428"/>
                <a:lnTo>
                  <a:pt x="19665" y="14400"/>
                </a:lnTo>
                <a:lnTo>
                  <a:pt x="17300" y="0"/>
                </a:lnTo>
                <a:lnTo>
                  <a:pt x="11065" y="14400"/>
                </a:lnTo>
                <a:lnTo>
                  <a:pt x="13265" y="14400"/>
                </a:lnTo>
                <a:arcTo wR="7600" hR="21600" stAng="4111572" swAng="941842"/>
                <a:lnTo>
                  <a:pt x="9700" y="20759"/>
                </a:lnTo>
                <a:arcTo wR="7600" hR="21600" stAng="5746586" swAng="5053414"/>
                <a:close/>
              </a:path>
              <a:path fill="darkenLess"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346586"/>
                <a:lnTo>
                  <a:pt x="9700" y="20759"/>
                </a:lnTo>
                <a:arcTo wR="7600" hR="21600" stAng="5746586" swAng="5053414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265560" y="5361120"/>
            <a:ext cx="523800" cy="104760"/>
          </a:xfrm>
          <a:custGeom>
            <a:avLst/>
            <a:gdLst>
              <a:gd name="textAreaLeft" fmla="*/ 92160 w 523800"/>
              <a:gd name="textAreaRight" fmla="*/ 37836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-1288428"/>
                <a:lnTo>
                  <a:pt x="19665" y="14400"/>
                </a:lnTo>
                <a:lnTo>
                  <a:pt x="17300" y="0"/>
                </a:lnTo>
                <a:lnTo>
                  <a:pt x="11065" y="14400"/>
                </a:lnTo>
                <a:lnTo>
                  <a:pt x="13265" y="14400"/>
                </a:lnTo>
                <a:arcTo wR="7600" hR="21600" stAng="4111572" swAng="941842"/>
                <a:lnTo>
                  <a:pt x="9700" y="20759"/>
                </a:lnTo>
                <a:arcTo wR="7600" hR="21600" stAng="5746586" swAng="5053414"/>
                <a:close/>
              </a:path>
              <a:path fill="darkenLess"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346586"/>
                <a:lnTo>
                  <a:pt x="9700" y="20759"/>
                </a:lnTo>
                <a:arcTo wR="7600" hR="21600" stAng="5746586" swAng="5053414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160880" y="501804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44880" y="5321160"/>
            <a:ext cx="524160" cy="104760"/>
          </a:xfrm>
          <a:custGeom>
            <a:avLst/>
            <a:gdLst>
              <a:gd name="textAreaLeft" fmla="*/ 92160 w 524160"/>
              <a:gd name="textAreaRight" fmla="*/ 378720 w 52416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-1288428"/>
                <a:lnTo>
                  <a:pt x="19665" y="14400"/>
                </a:lnTo>
                <a:lnTo>
                  <a:pt x="17300" y="0"/>
                </a:lnTo>
                <a:lnTo>
                  <a:pt x="11065" y="14400"/>
                </a:lnTo>
                <a:lnTo>
                  <a:pt x="13265" y="14400"/>
                </a:lnTo>
                <a:arcTo wR="7600" hR="21600" stAng="4111572" swAng="941842"/>
                <a:lnTo>
                  <a:pt x="9700" y="20759"/>
                </a:lnTo>
                <a:arcTo wR="7600" hR="21600" stAng="5746586" swAng="5053414"/>
                <a:close/>
              </a:path>
              <a:path fill="darkenLess"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346586"/>
                <a:lnTo>
                  <a:pt x="9700" y="20759"/>
                </a:lnTo>
                <a:arcTo wR="7600" hR="21600" stAng="5746586" swAng="5053414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dur="indefinite" fill="hold">
                      <p:stCondLst>
                        <p:cond delay="indefinite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dur="indefinite" fill="hold">
                      <p:stCondLst>
                        <p:cond delay="indefinite"/>
                      </p:stCondLst>
                      <p:childTnLst>
                        <p:par>
                          <p:cTn id="1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271" name=""/>
          <p:cNvGrpSpPr/>
          <p:nvPr/>
        </p:nvGrpSpPr>
        <p:grpSpPr>
          <a:xfrm>
            <a:off x="3979080" y="3333600"/>
            <a:ext cx="439920" cy="295560"/>
            <a:chOff x="3979080" y="3333600"/>
            <a:chExt cx="439920" cy="295560"/>
          </a:xfrm>
        </p:grpSpPr>
        <p:sp>
          <p:nvSpPr>
            <p:cNvPr id="272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97908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275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 flipH="1">
            <a:off x="2475000" y="3638520"/>
            <a:ext cx="172728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3217680" y="4027320"/>
            <a:ext cx="433800" cy="295560"/>
            <a:chOff x="3217680" y="4027320"/>
            <a:chExt cx="433800" cy="295560"/>
          </a:xfrm>
        </p:grpSpPr>
        <p:sp>
          <p:nvSpPr>
            <p:cNvPr id="279" name=""/>
            <p:cNvSpPr/>
            <p:nvPr/>
          </p:nvSpPr>
          <p:spPr>
            <a:xfrm>
              <a:off x="3265560" y="4027320"/>
              <a:ext cx="30456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17680" y="404820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"/>
          <p:cNvSpPr/>
          <p:nvPr/>
        </p:nvSpPr>
        <p:spPr>
          <a:xfrm flipH="1">
            <a:off x="3513240" y="3648240"/>
            <a:ext cx="689040" cy="40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4878360" y="4027320"/>
            <a:ext cx="447480" cy="295560"/>
            <a:chOff x="4878360" y="4027320"/>
            <a:chExt cx="447480" cy="295560"/>
          </a:xfrm>
        </p:grpSpPr>
        <p:sp>
          <p:nvSpPr>
            <p:cNvPr id="283" name=""/>
            <p:cNvSpPr/>
            <p:nvPr/>
          </p:nvSpPr>
          <p:spPr>
            <a:xfrm>
              <a:off x="495144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78360" y="404820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N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4191120" y="3657600"/>
            <a:ext cx="85716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5979240" y="4027320"/>
            <a:ext cx="474840" cy="295560"/>
            <a:chOff x="5979240" y="4027320"/>
            <a:chExt cx="474840" cy="295560"/>
          </a:xfrm>
        </p:grpSpPr>
        <p:sp>
          <p:nvSpPr>
            <p:cNvPr id="287" name=""/>
            <p:cNvSpPr/>
            <p:nvPr/>
          </p:nvSpPr>
          <p:spPr>
            <a:xfrm>
              <a:off x="60562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979240" y="404820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"/>
          <p:cNvSpPr/>
          <p:nvPr/>
        </p:nvSpPr>
        <p:spPr>
          <a:xfrm>
            <a:off x="4210200" y="3648240"/>
            <a:ext cx="193356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201600" y="2270160"/>
            <a:ext cx="8569440" cy="144360"/>
            <a:chOff x="201600" y="2270160"/>
            <a:chExt cx="8569440" cy="144360"/>
          </a:xfrm>
        </p:grpSpPr>
        <p:sp>
          <p:nvSpPr>
            <p:cNvPr id="291" name=""/>
            <p:cNvSpPr/>
            <p:nvPr/>
          </p:nvSpPr>
          <p:spPr>
            <a:xfrm>
              <a:off x="201600" y="229860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9040" y="2270160"/>
              <a:ext cx="835200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836960" y="474840"/>
            <a:ext cx="428760" cy="2400120"/>
            <a:chOff x="4836960" y="474840"/>
            <a:chExt cx="428760" cy="2400120"/>
          </a:xfrm>
        </p:grpSpPr>
        <p:sp>
          <p:nvSpPr>
            <p:cNvPr id="294" name=""/>
            <p:cNvSpPr/>
            <p:nvPr/>
          </p:nvSpPr>
          <p:spPr>
            <a:xfrm>
              <a:off x="5019840" y="474840"/>
              <a:ext cx="71280" cy="144360"/>
            </a:xfrm>
            <a:prstGeom prst="downArrow">
              <a:avLst>
                <a:gd name="adj1" fmla="val 50000"/>
                <a:gd name="adj2" fmla="val 50631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836960" y="636480"/>
              <a:ext cx="42876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1892520" y="4334040"/>
            <a:ext cx="490320" cy="884160"/>
            <a:chOff x="1892520" y="4334040"/>
            <a:chExt cx="490320" cy="884160"/>
          </a:xfrm>
        </p:grpSpPr>
        <p:grpSp>
          <p:nvGrpSpPr>
            <p:cNvPr id="297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298" name=""/>
              <p:cNvSpPr/>
              <p:nvPr/>
            </p:nvSpPr>
            <p:spPr>
              <a:xfrm>
                <a:off x="1960560" y="492300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333399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 flipH="1">
              <a:off x="2112840" y="4334040"/>
              <a:ext cx="27000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2381400" y="4334040"/>
            <a:ext cx="499320" cy="884160"/>
            <a:chOff x="2381400" y="4334040"/>
            <a:chExt cx="499320" cy="884160"/>
          </a:xfrm>
        </p:grpSpPr>
        <p:grpSp>
          <p:nvGrpSpPr>
            <p:cNvPr id="302" name=""/>
            <p:cNvGrpSpPr/>
            <p:nvPr/>
          </p:nvGrpSpPr>
          <p:grpSpPr>
            <a:xfrm>
              <a:off x="2418120" y="4923000"/>
              <a:ext cx="462600" cy="295200"/>
              <a:chOff x="2418120" y="4923000"/>
              <a:chExt cx="462600" cy="295200"/>
            </a:xfrm>
          </p:grpSpPr>
          <p:sp>
            <p:nvSpPr>
              <p:cNvPr id="303" name=""/>
              <p:cNvSpPr/>
              <p:nvPr/>
            </p:nvSpPr>
            <p:spPr>
              <a:xfrm flipH="1">
                <a:off x="2496240" y="492300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2417760" y="4943520"/>
                <a:ext cx="46260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333399"/>
                    </a:solidFill>
                    <a:latin typeface="Arial"/>
                  </a:rPr>
                  <a:t>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2381400" y="4334040"/>
              <a:ext cx="26640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913120" y="4334040"/>
            <a:ext cx="487440" cy="884160"/>
            <a:chOff x="2913120" y="4334040"/>
            <a:chExt cx="487440" cy="884160"/>
          </a:xfrm>
        </p:grpSpPr>
        <p:sp>
          <p:nvSpPr>
            <p:cNvPr id="307" name=""/>
            <p:cNvSpPr/>
            <p:nvPr/>
          </p:nvSpPr>
          <p:spPr>
            <a:xfrm>
              <a:off x="2978280" y="492300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13120" y="4943520"/>
              <a:ext cx="44748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Arial"/>
                </a:rPr>
                <a:t>CH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3130560" y="4334040"/>
              <a:ext cx="27000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972040" y="398160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9120" y="3027240"/>
            <a:ext cx="227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 HYA a  CH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435480" y="4332240"/>
            <a:ext cx="552600" cy="884160"/>
            <a:chOff x="3435480" y="4332240"/>
            <a:chExt cx="552600" cy="884160"/>
          </a:xfrm>
        </p:grpSpPr>
        <p:grpSp>
          <p:nvGrpSpPr>
            <p:cNvPr id="313" name=""/>
            <p:cNvGrpSpPr/>
            <p:nvPr/>
          </p:nvGrpSpPr>
          <p:grpSpPr>
            <a:xfrm>
              <a:off x="3435480" y="4921200"/>
              <a:ext cx="552600" cy="295200"/>
              <a:chOff x="3435480" y="4921200"/>
              <a:chExt cx="552600" cy="295200"/>
            </a:xfrm>
          </p:grpSpPr>
          <p:sp>
            <p:nvSpPr>
              <p:cNvPr id="314" name=""/>
              <p:cNvSpPr/>
              <p:nvPr/>
            </p:nvSpPr>
            <p:spPr>
              <a:xfrm flipH="1">
                <a:off x="3552120" y="492120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3435120" y="4941720"/>
                <a:ext cx="55260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333399"/>
                    </a:solidFill>
                    <a:latin typeface="Arial"/>
                  </a:rPr>
                  <a:t>NAN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" name=""/>
            <p:cNvSpPr/>
            <p:nvPr/>
          </p:nvSpPr>
          <p:spPr>
            <a:xfrm>
              <a:off x="3436920" y="4332240"/>
              <a:ext cx="266760" cy="59076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5264280" y="473040"/>
            <a:ext cx="428400" cy="2400480"/>
            <a:chOff x="5264280" y="473040"/>
            <a:chExt cx="428400" cy="2400480"/>
          </a:xfrm>
        </p:grpSpPr>
        <p:sp>
          <p:nvSpPr>
            <p:cNvPr id="318" name=""/>
            <p:cNvSpPr/>
            <p:nvPr/>
          </p:nvSpPr>
          <p:spPr>
            <a:xfrm>
              <a:off x="5446800" y="473040"/>
              <a:ext cx="71280" cy="144360"/>
            </a:xfrm>
            <a:prstGeom prst="downArrow">
              <a:avLst>
                <a:gd name="adj1" fmla="val 50000"/>
                <a:gd name="adj2" fmla="val 50631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64280" y="635040"/>
              <a:ext cx="42840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4770360" y="493560"/>
            <a:ext cx="714600" cy="2333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4597200" y="512640"/>
            <a:ext cx="803160" cy="2352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111920" y="136440"/>
            <a:ext cx="205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già presente nel camm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614840" y="4332240"/>
            <a:ext cx="479520" cy="884160"/>
            <a:chOff x="4614840" y="4332240"/>
            <a:chExt cx="479520" cy="884160"/>
          </a:xfrm>
        </p:grpSpPr>
        <p:sp>
          <p:nvSpPr>
            <p:cNvPr id="324" name=""/>
            <p:cNvSpPr/>
            <p:nvPr/>
          </p:nvSpPr>
          <p:spPr>
            <a:xfrm>
              <a:off x="4672080" y="492120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614840" y="4941720"/>
              <a:ext cx="43380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24360" y="4332240"/>
              <a:ext cx="270000" cy="59076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5181480" y="4330800"/>
            <a:ext cx="513720" cy="884160"/>
            <a:chOff x="5181480" y="4330800"/>
            <a:chExt cx="513720" cy="884160"/>
          </a:xfrm>
        </p:grpSpPr>
        <p:grpSp>
          <p:nvGrpSpPr>
            <p:cNvPr id="328" name=""/>
            <p:cNvGrpSpPr/>
            <p:nvPr/>
          </p:nvGrpSpPr>
          <p:grpSpPr>
            <a:xfrm>
              <a:off x="5185440" y="4919760"/>
              <a:ext cx="509760" cy="295200"/>
              <a:chOff x="5185440" y="4919760"/>
              <a:chExt cx="509760" cy="295200"/>
            </a:xfrm>
          </p:grpSpPr>
          <p:sp>
            <p:nvSpPr>
              <p:cNvPr id="329" name=""/>
              <p:cNvSpPr/>
              <p:nvPr/>
            </p:nvSpPr>
            <p:spPr>
              <a:xfrm flipH="1">
                <a:off x="5289480" y="4919760"/>
                <a:ext cx="28440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5185440" y="4940280"/>
                <a:ext cx="50976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333399"/>
                    </a:solidFill>
                    <a:latin typeface="Arial"/>
                  </a:rPr>
                  <a:t>NEW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5181480" y="4330800"/>
              <a:ext cx="24768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729760" y="4330800"/>
            <a:ext cx="477360" cy="884160"/>
            <a:chOff x="5729760" y="4330800"/>
            <a:chExt cx="477360" cy="884160"/>
          </a:xfrm>
        </p:grpSpPr>
        <p:sp>
          <p:nvSpPr>
            <p:cNvPr id="333" name=""/>
            <p:cNvSpPr/>
            <p:nvPr/>
          </p:nvSpPr>
          <p:spPr>
            <a:xfrm>
              <a:off x="5784840" y="4919760"/>
              <a:ext cx="30492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29760" y="4940280"/>
              <a:ext cx="43236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Arial"/>
                </a:rPr>
                <a:t>K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5937120" y="4330800"/>
              <a:ext cx="27000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2133720" y="5305320"/>
            <a:ext cx="523800" cy="104760"/>
          </a:xfrm>
          <a:custGeom>
            <a:avLst/>
            <a:gdLst>
              <a:gd name="textAreaLeft" fmla="*/ 92160 w 523800"/>
              <a:gd name="textAreaRight" fmla="*/ 37836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-1288428"/>
                <a:lnTo>
                  <a:pt x="19665" y="14400"/>
                </a:lnTo>
                <a:lnTo>
                  <a:pt x="17300" y="0"/>
                </a:lnTo>
                <a:lnTo>
                  <a:pt x="11065" y="14400"/>
                </a:lnTo>
                <a:lnTo>
                  <a:pt x="13265" y="14400"/>
                </a:lnTo>
                <a:arcTo wR="7600" hR="21600" stAng="4111572" swAng="941842"/>
                <a:lnTo>
                  <a:pt x="9700" y="20759"/>
                </a:lnTo>
                <a:arcTo wR="7600" hR="21600" stAng="5746586" swAng="5053414"/>
                <a:close/>
              </a:path>
              <a:path fill="darkenLess"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346586"/>
                <a:lnTo>
                  <a:pt x="9700" y="20759"/>
                </a:lnTo>
                <a:arcTo wR="7600" hR="21600" stAng="5746586" swAng="5053414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324080" y="4948200"/>
            <a:ext cx="51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33399"/>
                </a:solidFill>
                <a:latin typeface="Arial"/>
              </a:rPr>
              <a:t>co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03600" y="5322960"/>
            <a:ext cx="523800" cy="104760"/>
          </a:xfrm>
          <a:custGeom>
            <a:avLst/>
            <a:gdLst>
              <a:gd name="textAreaLeft" fmla="*/ 92160 w 523800"/>
              <a:gd name="textAreaRight" fmla="*/ 37836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-1288428"/>
                <a:lnTo>
                  <a:pt x="19665" y="14400"/>
                </a:lnTo>
                <a:lnTo>
                  <a:pt x="17300" y="0"/>
                </a:lnTo>
                <a:lnTo>
                  <a:pt x="11065" y="14400"/>
                </a:lnTo>
                <a:lnTo>
                  <a:pt x="13265" y="14400"/>
                </a:lnTo>
                <a:arcTo wR="7600" hR="21600" stAng="4111572" swAng="941842"/>
                <a:lnTo>
                  <a:pt x="9700" y="20759"/>
                </a:lnTo>
                <a:arcTo wR="7600" hR="21600" stAng="5746586" swAng="5053414"/>
                <a:close/>
              </a:path>
              <a:path fill="darkenLess"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346586"/>
                <a:lnTo>
                  <a:pt x="9700" y="20759"/>
                </a:lnTo>
                <a:arcTo wR="7600" hR="21600" stAng="5746586" swAng="5053414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265560" y="5361120"/>
            <a:ext cx="523800" cy="104760"/>
          </a:xfrm>
          <a:custGeom>
            <a:avLst/>
            <a:gdLst>
              <a:gd name="textAreaLeft" fmla="*/ 92160 w 523800"/>
              <a:gd name="textAreaRight" fmla="*/ 37836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-1288428"/>
                <a:lnTo>
                  <a:pt x="19665" y="14400"/>
                </a:lnTo>
                <a:lnTo>
                  <a:pt x="17300" y="0"/>
                </a:lnTo>
                <a:lnTo>
                  <a:pt x="11065" y="14400"/>
                </a:lnTo>
                <a:lnTo>
                  <a:pt x="13265" y="14400"/>
                </a:lnTo>
                <a:arcTo wR="7600" hR="21600" stAng="4111572" swAng="941842"/>
                <a:lnTo>
                  <a:pt x="9700" y="20759"/>
                </a:lnTo>
                <a:arcTo wR="7600" hR="21600" stAng="5746586" swAng="5053414"/>
                <a:close/>
              </a:path>
              <a:path fill="darkenLess"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346586"/>
                <a:lnTo>
                  <a:pt x="9700" y="20759"/>
                </a:lnTo>
                <a:arcTo wR="7600" hR="21600" stAng="5746586" swAng="5053414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160880" y="501804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44880" y="5321160"/>
            <a:ext cx="524160" cy="104760"/>
          </a:xfrm>
          <a:custGeom>
            <a:avLst/>
            <a:gdLst>
              <a:gd name="textAreaLeft" fmla="*/ 92160 w 524160"/>
              <a:gd name="textAreaRight" fmla="*/ 378720 w 52416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-1288428"/>
                <a:lnTo>
                  <a:pt x="19665" y="14400"/>
                </a:lnTo>
                <a:lnTo>
                  <a:pt x="17300" y="0"/>
                </a:lnTo>
                <a:lnTo>
                  <a:pt x="11065" y="14400"/>
                </a:lnTo>
                <a:lnTo>
                  <a:pt x="13265" y="14400"/>
                </a:lnTo>
                <a:arcTo wR="7600" hR="21600" stAng="4111572" swAng="941842"/>
                <a:lnTo>
                  <a:pt x="9700" y="20759"/>
                </a:lnTo>
                <a:arcTo wR="7600" hR="21600" stAng="5746586" swAng="5053414"/>
                <a:close/>
              </a:path>
              <a:path fill="darkenLess"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346586"/>
                <a:lnTo>
                  <a:pt x="9700" y="20759"/>
                </a:lnTo>
                <a:arcTo wR="7600" hR="21600" stAng="5746586" swAng="5053414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62640" y="5329080"/>
            <a:ext cx="523800" cy="104760"/>
          </a:xfrm>
          <a:custGeom>
            <a:avLst/>
            <a:gdLst>
              <a:gd name="textAreaLeft" fmla="*/ 92160 w 523800"/>
              <a:gd name="textAreaRight" fmla="*/ 37836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-1288428"/>
                <a:lnTo>
                  <a:pt x="19665" y="14400"/>
                </a:lnTo>
                <a:lnTo>
                  <a:pt x="17300" y="0"/>
                </a:lnTo>
                <a:lnTo>
                  <a:pt x="11065" y="14400"/>
                </a:lnTo>
                <a:lnTo>
                  <a:pt x="13265" y="14400"/>
                </a:lnTo>
                <a:arcTo wR="7600" hR="21600" stAng="4111572" swAng="941842"/>
                <a:lnTo>
                  <a:pt x="9700" y="20759"/>
                </a:lnTo>
                <a:arcTo wR="7600" hR="21600" stAng="5746586" swAng="5053414"/>
                <a:close/>
              </a:path>
              <a:path fill="darkenLess"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346586"/>
                <a:lnTo>
                  <a:pt x="9700" y="20759"/>
                </a:lnTo>
                <a:arcTo wR="7600" hR="21600" stAng="5746586" swAng="5053414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6053040" y="453960"/>
            <a:ext cx="916200" cy="4998960"/>
            <a:chOff x="6053040" y="453960"/>
            <a:chExt cx="916200" cy="4998960"/>
          </a:xfrm>
        </p:grpSpPr>
        <p:grpSp>
          <p:nvGrpSpPr>
            <p:cNvPr id="344" name=""/>
            <p:cNvGrpSpPr/>
            <p:nvPr/>
          </p:nvGrpSpPr>
          <p:grpSpPr>
            <a:xfrm>
              <a:off x="6540480" y="453960"/>
              <a:ext cx="428760" cy="2400480"/>
              <a:chOff x="6540480" y="453960"/>
              <a:chExt cx="428760" cy="2400480"/>
            </a:xfrm>
          </p:grpSpPr>
          <p:sp>
            <p:nvSpPr>
              <p:cNvPr id="345" name=""/>
              <p:cNvSpPr/>
              <p:nvPr/>
            </p:nvSpPr>
            <p:spPr>
              <a:xfrm>
                <a:off x="6723000" y="453960"/>
                <a:ext cx="71640" cy="144360"/>
              </a:xfrm>
              <a:prstGeom prst="downArrow">
                <a:avLst>
                  <a:gd name="adj1" fmla="val 50000"/>
                  <a:gd name="adj2" fmla="val 50377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540480" y="615960"/>
                <a:ext cx="428760" cy="2238480"/>
              </a:xfrm>
              <a:prstGeom prst="rect">
                <a:avLst/>
              </a:prstGeom>
              <a:noFill/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6053040" y="4338720"/>
              <a:ext cx="801360" cy="1114200"/>
              <a:chOff x="6053040" y="4338720"/>
              <a:chExt cx="801360" cy="1114200"/>
            </a:xfrm>
          </p:grpSpPr>
          <p:sp>
            <p:nvSpPr>
              <p:cNvPr id="348" name=""/>
              <p:cNvSpPr/>
              <p:nvPr/>
            </p:nvSpPr>
            <p:spPr>
              <a:xfrm flipH="1">
                <a:off x="6396120" y="4927680"/>
                <a:ext cx="30456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>
                <a:off x="6274800" y="4938840"/>
                <a:ext cx="57924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333399"/>
                    </a:solidFill>
                    <a:latin typeface="Arial"/>
                  </a:rPr>
                  <a:t>NA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280200" y="4338720"/>
                <a:ext cx="266760" cy="590400"/>
              </a:xfrm>
              <a:prstGeom prst="line">
                <a:avLst/>
              </a:prstGeom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053040" y="5348160"/>
                <a:ext cx="523800" cy="104760"/>
              </a:xfrm>
              <a:custGeom>
                <a:avLst/>
                <a:gdLst>
                  <a:gd name="textAreaLeft" fmla="*/ 92160 w 523800"/>
                  <a:gd name="textAreaRight" fmla="*/ 378360 w 523800"/>
                  <a:gd name="textAreaTop" fmla="*/ 14040 h 104760"/>
                  <a:gd name="textAreaBottom" fmla="*/ 90720 h 104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7600" hR="21600" stAng="10800000" swAng="-5400000"/>
                    <a:lnTo>
                      <a:pt x="11800" y="21600"/>
                    </a:lnTo>
                    <a:arcTo wR="7600" hR="21600" stAng="5400000" swAng="-1288428"/>
                    <a:lnTo>
                      <a:pt x="19665" y="14400"/>
                    </a:lnTo>
                    <a:lnTo>
                      <a:pt x="17300" y="0"/>
                    </a:lnTo>
                    <a:lnTo>
                      <a:pt x="11065" y="14400"/>
                    </a:lnTo>
                    <a:lnTo>
                      <a:pt x="13265" y="14400"/>
                    </a:lnTo>
                    <a:arcTo wR="7600" hR="21600" stAng="4111572" swAng="941842"/>
                    <a:lnTo>
                      <a:pt x="9700" y="20759"/>
                    </a:lnTo>
                    <a:arcTo wR="7600" hR="21600" stAng="5746586" swAng="5053414"/>
                    <a:close/>
                  </a:path>
                  <a:path fill="darkenLess" w="21600" h="21600">
                    <a:moveTo>
                      <a:pt x="0" y="0"/>
                    </a:moveTo>
                    <a:arcTo wR="7600" hR="21600" stAng="10800000" swAng="-5400000"/>
                    <a:lnTo>
                      <a:pt x="11800" y="21600"/>
                    </a:lnTo>
                    <a:arcTo wR="7600" hR="21600" stAng="5400000" swAng="346586"/>
                    <a:lnTo>
                      <a:pt x="9700" y="20759"/>
                    </a:lnTo>
                    <a:arcTo wR="7600" hR="21600" stAng="5746586" swAng="5053414"/>
                    <a:close/>
                  </a:path>
                </a:pathLst>
              </a:custGeom>
              <a:solidFill>
                <a:srgbClr val="bbe0e3"/>
              </a:solidFill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dur="indefinite" fill="hold">
                      <p:stCondLst>
                        <p:cond delay="indefinite"/>
                      </p:stCondLst>
                      <p:childTnLst>
                        <p:par>
                          <p:cTn id="1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dur="indefinite" fill="hold">
                      <p:stCondLst>
                        <p:cond delay="indefinite"/>
                      </p:stCondLst>
                      <p:childTnLst>
                        <p:par>
                          <p:cTn id="1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dur="indefinite" fill="hold">
                      <p:stCondLst>
                        <p:cond delay="indefinite"/>
                      </p:stCondLst>
                      <p:childTnLst>
                        <p:par>
                          <p:cTn id="18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353" name=""/>
          <p:cNvGrpSpPr/>
          <p:nvPr/>
        </p:nvGrpSpPr>
        <p:grpSpPr>
          <a:xfrm>
            <a:off x="3979080" y="3333600"/>
            <a:ext cx="439920" cy="295560"/>
            <a:chOff x="3979080" y="3333600"/>
            <a:chExt cx="439920" cy="295560"/>
          </a:xfrm>
        </p:grpSpPr>
        <p:sp>
          <p:nvSpPr>
            <p:cNvPr id="354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97908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357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 flipH="1">
            <a:off x="2475000" y="3638520"/>
            <a:ext cx="172728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3217680" y="4027320"/>
            <a:ext cx="433800" cy="295560"/>
            <a:chOff x="3217680" y="4027320"/>
            <a:chExt cx="433800" cy="295560"/>
          </a:xfrm>
        </p:grpSpPr>
        <p:sp>
          <p:nvSpPr>
            <p:cNvPr id="361" name=""/>
            <p:cNvSpPr/>
            <p:nvPr/>
          </p:nvSpPr>
          <p:spPr>
            <a:xfrm>
              <a:off x="3265560" y="4027320"/>
              <a:ext cx="30456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17680" y="404820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"/>
          <p:cNvSpPr/>
          <p:nvPr/>
        </p:nvSpPr>
        <p:spPr>
          <a:xfrm flipH="1">
            <a:off x="3513240" y="3648240"/>
            <a:ext cx="689040" cy="40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4878360" y="4027320"/>
            <a:ext cx="447480" cy="295560"/>
            <a:chOff x="4878360" y="4027320"/>
            <a:chExt cx="447480" cy="295560"/>
          </a:xfrm>
        </p:grpSpPr>
        <p:sp>
          <p:nvSpPr>
            <p:cNvPr id="365" name=""/>
            <p:cNvSpPr/>
            <p:nvPr/>
          </p:nvSpPr>
          <p:spPr>
            <a:xfrm>
              <a:off x="495144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878360" y="404820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N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4191120" y="3657600"/>
            <a:ext cx="85716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5979240" y="4027320"/>
            <a:ext cx="474840" cy="295560"/>
            <a:chOff x="5979240" y="4027320"/>
            <a:chExt cx="474840" cy="295560"/>
          </a:xfrm>
        </p:grpSpPr>
        <p:sp>
          <p:nvSpPr>
            <p:cNvPr id="369" name=""/>
            <p:cNvSpPr/>
            <p:nvPr/>
          </p:nvSpPr>
          <p:spPr>
            <a:xfrm>
              <a:off x="60562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979240" y="404820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4210200" y="3648240"/>
            <a:ext cx="193356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192240" y="831960"/>
            <a:ext cx="8569080" cy="144360"/>
            <a:chOff x="192240" y="831960"/>
            <a:chExt cx="8569080" cy="144360"/>
          </a:xfrm>
        </p:grpSpPr>
        <p:sp>
          <p:nvSpPr>
            <p:cNvPr id="373" name=""/>
            <p:cNvSpPr/>
            <p:nvPr/>
          </p:nvSpPr>
          <p:spPr>
            <a:xfrm>
              <a:off x="192240" y="86040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09680" y="831960"/>
              <a:ext cx="835164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379680" y="465120"/>
            <a:ext cx="428760" cy="2400480"/>
            <a:chOff x="3379680" y="465120"/>
            <a:chExt cx="428760" cy="2400480"/>
          </a:xfrm>
        </p:grpSpPr>
        <p:sp>
          <p:nvSpPr>
            <p:cNvPr id="376" name=""/>
            <p:cNvSpPr/>
            <p:nvPr/>
          </p:nvSpPr>
          <p:spPr>
            <a:xfrm>
              <a:off x="3562200" y="46512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379680" y="627120"/>
              <a:ext cx="42876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"/>
          <p:cNvGrpSpPr/>
          <p:nvPr/>
        </p:nvGrpSpPr>
        <p:grpSpPr>
          <a:xfrm>
            <a:off x="1892520" y="4334040"/>
            <a:ext cx="490320" cy="884160"/>
            <a:chOff x="1892520" y="4334040"/>
            <a:chExt cx="490320" cy="884160"/>
          </a:xfrm>
        </p:grpSpPr>
        <p:grpSp>
          <p:nvGrpSpPr>
            <p:cNvPr id="379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380" name=""/>
              <p:cNvSpPr/>
              <p:nvPr/>
            </p:nvSpPr>
            <p:spPr>
              <a:xfrm>
                <a:off x="1960560" y="4923000"/>
                <a:ext cx="30492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" name=""/>
            <p:cNvSpPr/>
            <p:nvPr/>
          </p:nvSpPr>
          <p:spPr>
            <a:xfrm flipH="1">
              <a:off x="2112840" y="4334040"/>
              <a:ext cx="2700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2381400" y="4334040"/>
            <a:ext cx="499320" cy="884160"/>
            <a:chOff x="2381400" y="4334040"/>
            <a:chExt cx="499320" cy="884160"/>
          </a:xfrm>
        </p:grpSpPr>
        <p:grpSp>
          <p:nvGrpSpPr>
            <p:cNvPr id="384" name=""/>
            <p:cNvGrpSpPr/>
            <p:nvPr/>
          </p:nvGrpSpPr>
          <p:grpSpPr>
            <a:xfrm>
              <a:off x="2418120" y="4923000"/>
              <a:ext cx="462600" cy="295200"/>
              <a:chOff x="2418120" y="4923000"/>
              <a:chExt cx="462600" cy="295200"/>
            </a:xfrm>
          </p:grpSpPr>
          <p:sp>
            <p:nvSpPr>
              <p:cNvPr id="385" name=""/>
              <p:cNvSpPr/>
              <p:nvPr/>
            </p:nvSpPr>
            <p:spPr>
              <a:xfrm flipH="1">
                <a:off x="2496240" y="492300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2417760" y="4943520"/>
                <a:ext cx="46260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333399"/>
                    </a:solidFill>
                    <a:latin typeface="Arial"/>
                  </a:rPr>
                  <a:t>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2381400" y="4334040"/>
              <a:ext cx="26640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2913120" y="4334040"/>
            <a:ext cx="487440" cy="884160"/>
            <a:chOff x="2913120" y="4334040"/>
            <a:chExt cx="487440" cy="884160"/>
          </a:xfrm>
        </p:grpSpPr>
        <p:sp>
          <p:nvSpPr>
            <p:cNvPr id="389" name=""/>
            <p:cNvSpPr/>
            <p:nvPr/>
          </p:nvSpPr>
          <p:spPr>
            <a:xfrm>
              <a:off x="2978280" y="492300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13120" y="4943520"/>
              <a:ext cx="44748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Arial"/>
                </a:rPr>
                <a:t>CH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3130560" y="4334040"/>
              <a:ext cx="27000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1876320" y="4876920"/>
            <a:ext cx="46692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19120" y="3027240"/>
            <a:ext cx="227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 HYA a  CH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435480" y="4332240"/>
            <a:ext cx="552600" cy="884160"/>
            <a:chOff x="3435480" y="4332240"/>
            <a:chExt cx="552600" cy="884160"/>
          </a:xfrm>
        </p:grpSpPr>
        <p:grpSp>
          <p:nvGrpSpPr>
            <p:cNvPr id="395" name=""/>
            <p:cNvGrpSpPr/>
            <p:nvPr/>
          </p:nvGrpSpPr>
          <p:grpSpPr>
            <a:xfrm>
              <a:off x="3435480" y="4921200"/>
              <a:ext cx="552600" cy="295200"/>
              <a:chOff x="3435480" y="4921200"/>
              <a:chExt cx="552600" cy="295200"/>
            </a:xfrm>
          </p:grpSpPr>
          <p:sp>
            <p:nvSpPr>
              <p:cNvPr id="396" name=""/>
              <p:cNvSpPr/>
              <p:nvPr/>
            </p:nvSpPr>
            <p:spPr>
              <a:xfrm flipH="1">
                <a:off x="3552120" y="492120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3435120" y="4941720"/>
                <a:ext cx="55260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333399"/>
                    </a:solidFill>
                    <a:latin typeface="Arial"/>
                  </a:rPr>
                  <a:t>NAN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3436920" y="4332240"/>
              <a:ext cx="266760" cy="59076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2616480" y="146160"/>
            <a:ext cx="2058120" cy="2728800"/>
            <a:chOff x="2616480" y="146160"/>
            <a:chExt cx="2058120" cy="2728800"/>
          </a:xfrm>
        </p:grpSpPr>
        <p:sp>
          <p:nvSpPr>
            <p:cNvPr id="400" name=""/>
            <p:cNvSpPr/>
            <p:nvPr/>
          </p:nvSpPr>
          <p:spPr>
            <a:xfrm>
              <a:off x="3274920" y="503280"/>
              <a:ext cx="714600" cy="23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3101760" y="522360"/>
              <a:ext cx="803160" cy="2352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616480" y="146160"/>
              <a:ext cx="205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Arial"/>
                </a:rPr>
                <a:t>già presente nel cammi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4614840" y="4332240"/>
            <a:ext cx="479520" cy="884160"/>
            <a:chOff x="4614840" y="4332240"/>
            <a:chExt cx="479520" cy="884160"/>
          </a:xfrm>
        </p:grpSpPr>
        <p:sp>
          <p:nvSpPr>
            <p:cNvPr id="404" name=""/>
            <p:cNvSpPr/>
            <p:nvPr/>
          </p:nvSpPr>
          <p:spPr>
            <a:xfrm>
              <a:off x="4672080" y="492120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614840" y="4941720"/>
              <a:ext cx="43380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824360" y="4332240"/>
              <a:ext cx="270000" cy="59076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123520" y="4330800"/>
            <a:ext cx="615240" cy="884160"/>
            <a:chOff x="5123520" y="4330800"/>
            <a:chExt cx="615240" cy="884160"/>
          </a:xfrm>
        </p:grpSpPr>
        <p:grpSp>
          <p:nvGrpSpPr>
            <p:cNvPr id="408" name=""/>
            <p:cNvGrpSpPr/>
            <p:nvPr/>
          </p:nvGrpSpPr>
          <p:grpSpPr>
            <a:xfrm>
              <a:off x="5123520" y="4919760"/>
              <a:ext cx="615240" cy="295200"/>
              <a:chOff x="5123520" y="4919760"/>
              <a:chExt cx="615240" cy="295200"/>
            </a:xfrm>
          </p:grpSpPr>
          <p:sp>
            <p:nvSpPr>
              <p:cNvPr id="409" name=""/>
              <p:cNvSpPr/>
              <p:nvPr/>
            </p:nvSpPr>
            <p:spPr>
              <a:xfrm flipH="1">
                <a:off x="5238000" y="491976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H="1">
                <a:off x="5123160" y="4940280"/>
                <a:ext cx="61524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333399"/>
                    </a:solidFill>
                    <a:latin typeface="Arial"/>
                  </a:rPr>
                  <a:t>NEW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5124600" y="4330800"/>
              <a:ext cx="26640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5729760" y="4330800"/>
            <a:ext cx="477360" cy="884160"/>
            <a:chOff x="5729760" y="4330800"/>
            <a:chExt cx="477360" cy="884160"/>
          </a:xfrm>
        </p:grpSpPr>
        <p:sp>
          <p:nvSpPr>
            <p:cNvPr id="413" name=""/>
            <p:cNvSpPr/>
            <p:nvPr/>
          </p:nvSpPr>
          <p:spPr>
            <a:xfrm>
              <a:off x="5784840" y="4919760"/>
              <a:ext cx="30492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29760" y="4940280"/>
              <a:ext cx="43236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Arial"/>
                </a:rPr>
                <a:t>K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5937120" y="4330800"/>
              <a:ext cx="27000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6242040" y="4338720"/>
            <a:ext cx="691200" cy="884160"/>
            <a:chOff x="6242040" y="4338720"/>
            <a:chExt cx="691200" cy="884160"/>
          </a:xfrm>
        </p:grpSpPr>
        <p:grpSp>
          <p:nvGrpSpPr>
            <p:cNvPr id="417" name=""/>
            <p:cNvGrpSpPr/>
            <p:nvPr/>
          </p:nvGrpSpPr>
          <p:grpSpPr>
            <a:xfrm>
              <a:off x="6310440" y="4927680"/>
              <a:ext cx="622800" cy="295200"/>
              <a:chOff x="6310440" y="4927680"/>
              <a:chExt cx="622800" cy="295200"/>
            </a:xfrm>
          </p:grpSpPr>
          <p:sp>
            <p:nvSpPr>
              <p:cNvPr id="418" name=""/>
              <p:cNvSpPr/>
              <p:nvPr/>
            </p:nvSpPr>
            <p:spPr>
              <a:xfrm flipH="1">
                <a:off x="6357240" y="492768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H="1">
                <a:off x="6310440" y="4948200"/>
                <a:ext cx="62280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333399"/>
                    </a:solidFill>
                    <a:latin typeface="Arial"/>
                  </a:rPr>
                  <a:t>NAN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"/>
            <p:cNvSpPr/>
            <p:nvPr/>
          </p:nvSpPr>
          <p:spPr>
            <a:xfrm>
              <a:off x="6242040" y="433872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2703600" y="5322960"/>
            <a:ext cx="523800" cy="104760"/>
          </a:xfrm>
          <a:custGeom>
            <a:avLst/>
            <a:gdLst>
              <a:gd name="textAreaLeft" fmla="*/ 92160 w 523800"/>
              <a:gd name="textAreaRight" fmla="*/ 37836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-1288428"/>
                <a:lnTo>
                  <a:pt x="19665" y="14400"/>
                </a:lnTo>
                <a:lnTo>
                  <a:pt x="17300" y="0"/>
                </a:lnTo>
                <a:lnTo>
                  <a:pt x="11065" y="14400"/>
                </a:lnTo>
                <a:lnTo>
                  <a:pt x="13265" y="14400"/>
                </a:lnTo>
                <a:arcTo wR="7600" hR="21600" stAng="4111572" swAng="941842"/>
                <a:lnTo>
                  <a:pt x="9700" y="20759"/>
                </a:lnTo>
                <a:arcTo wR="7600" hR="21600" stAng="5746586" swAng="5053414"/>
                <a:close/>
              </a:path>
              <a:path fill="darkenLess"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346586"/>
                <a:lnTo>
                  <a:pt x="9700" y="20759"/>
                </a:lnTo>
                <a:arcTo wR="7600" hR="21600" stAng="5746586" swAng="5053414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265560" y="5361120"/>
            <a:ext cx="523800" cy="104760"/>
          </a:xfrm>
          <a:custGeom>
            <a:avLst/>
            <a:gdLst>
              <a:gd name="textAreaLeft" fmla="*/ 92160 w 523800"/>
              <a:gd name="textAreaRight" fmla="*/ 37836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-1288428"/>
                <a:lnTo>
                  <a:pt x="19665" y="14400"/>
                </a:lnTo>
                <a:lnTo>
                  <a:pt x="17300" y="0"/>
                </a:lnTo>
                <a:lnTo>
                  <a:pt x="11065" y="14400"/>
                </a:lnTo>
                <a:lnTo>
                  <a:pt x="13265" y="14400"/>
                </a:lnTo>
                <a:arcTo wR="7600" hR="21600" stAng="4111572" swAng="941842"/>
                <a:lnTo>
                  <a:pt x="9700" y="20759"/>
                </a:lnTo>
                <a:arcTo wR="7600" hR="21600" stAng="5746586" swAng="5053414"/>
                <a:close/>
              </a:path>
              <a:path fill="darkenLess"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346586"/>
                <a:lnTo>
                  <a:pt x="9700" y="20759"/>
                </a:lnTo>
                <a:arcTo wR="7600" hR="21600" stAng="5746586" swAng="5053414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160880" y="501804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44880" y="5321160"/>
            <a:ext cx="524160" cy="104760"/>
          </a:xfrm>
          <a:custGeom>
            <a:avLst/>
            <a:gdLst>
              <a:gd name="textAreaLeft" fmla="*/ 92160 w 524160"/>
              <a:gd name="textAreaRight" fmla="*/ 378720 w 52416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-1288428"/>
                <a:lnTo>
                  <a:pt x="19665" y="14400"/>
                </a:lnTo>
                <a:lnTo>
                  <a:pt x="17300" y="0"/>
                </a:lnTo>
                <a:lnTo>
                  <a:pt x="11065" y="14400"/>
                </a:lnTo>
                <a:lnTo>
                  <a:pt x="13265" y="14400"/>
                </a:lnTo>
                <a:arcTo wR="7600" hR="21600" stAng="4111572" swAng="941842"/>
                <a:lnTo>
                  <a:pt x="9700" y="20759"/>
                </a:lnTo>
                <a:arcTo wR="7600" hR="21600" stAng="5746586" swAng="5053414"/>
                <a:close/>
              </a:path>
              <a:path fill="darkenLess"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346586"/>
                <a:lnTo>
                  <a:pt x="9700" y="20759"/>
                </a:lnTo>
                <a:arcTo wR="7600" hR="21600" stAng="5746586" swAng="5053414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462640" y="5329080"/>
            <a:ext cx="523800" cy="104760"/>
          </a:xfrm>
          <a:custGeom>
            <a:avLst/>
            <a:gdLst>
              <a:gd name="textAreaLeft" fmla="*/ 92160 w 523800"/>
              <a:gd name="textAreaRight" fmla="*/ 37836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-1288428"/>
                <a:lnTo>
                  <a:pt x="19665" y="14400"/>
                </a:lnTo>
                <a:lnTo>
                  <a:pt x="17300" y="0"/>
                </a:lnTo>
                <a:lnTo>
                  <a:pt x="11065" y="14400"/>
                </a:lnTo>
                <a:lnTo>
                  <a:pt x="13265" y="14400"/>
                </a:lnTo>
                <a:arcTo wR="7600" hR="21600" stAng="4111572" swAng="941842"/>
                <a:lnTo>
                  <a:pt x="9700" y="20759"/>
                </a:lnTo>
                <a:arcTo wR="7600" hR="21600" stAng="5746586" swAng="5053414"/>
                <a:close/>
              </a:path>
              <a:path fill="darkenLess"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346586"/>
                <a:lnTo>
                  <a:pt x="9700" y="20759"/>
                </a:lnTo>
                <a:arcTo wR="7600" hR="21600" stAng="5746586" swAng="5053414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32520" y="5318280"/>
            <a:ext cx="523800" cy="104760"/>
          </a:xfrm>
          <a:custGeom>
            <a:avLst/>
            <a:gdLst>
              <a:gd name="textAreaLeft" fmla="*/ 92160 w 523800"/>
              <a:gd name="textAreaRight" fmla="*/ 37836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-1288428"/>
                <a:lnTo>
                  <a:pt x="19665" y="14400"/>
                </a:lnTo>
                <a:lnTo>
                  <a:pt x="17300" y="0"/>
                </a:lnTo>
                <a:lnTo>
                  <a:pt x="11065" y="14400"/>
                </a:lnTo>
                <a:lnTo>
                  <a:pt x="13265" y="14400"/>
                </a:lnTo>
                <a:arcTo wR="7600" hR="21600" stAng="4111572" swAng="941842"/>
                <a:lnTo>
                  <a:pt x="9700" y="20759"/>
                </a:lnTo>
                <a:arcTo wR="7600" hR="21600" stAng="5746586" swAng="5053414"/>
                <a:close/>
              </a:path>
              <a:path fill="darkenLess"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346586"/>
                <a:lnTo>
                  <a:pt x="9700" y="20759"/>
                </a:lnTo>
                <a:arcTo wR="7600" hR="21600" stAng="5746586" swAng="5053414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dur="indefinite" fill="hold">
                      <p:stCondLst>
                        <p:cond delay="indefinite"/>
                      </p:stCondLst>
                      <p:childTnLst>
                        <p:par>
                          <p:cTn id="19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428" name=""/>
          <p:cNvGrpSpPr/>
          <p:nvPr/>
        </p:nvGrpSpPr>
        <p:grpSpPr>
          <a:xfrm>
            <a:off x="3979080" y="3333600"/>
            <a:ext cx="439920" cy="295560"/>
            <a:chOff x="3979080" y="3333600"/>
            <a:chExt cx="439920" cy="295560"/>
          </a:xfrm>
        </p:grpSpPr>
        <p:sp>
          <p:nvSpPr>
            <p:cNvPr id="429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97908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432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4" name=""/>
          <p:cNvSpPr/>
          <p:nvPr/>
        </p:nvSpPr>
        <p:spPr>
          <a:xfrm flipH="1">
            <a:off x="2475000" y="3638520"/>
            <a:ext cx="172728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3217680" y="4027320"/>
            <a:ext cx="433800" cy="295560"/>
            <a:chOff x="3217680" y="4027320"/>
            <a:chExt cx="433800" cy="295560"/>
          </a:xfrm>
        </p:grpSpPr>
        <p:sp>
          <p:nvSpPr>
            <p:cNvPr id="436" name=""/>
            <p:cNvSpPr/>
            <p:nvPr/>
          </p:nvSpPr>
          <p:spPr>
            <a:xfrm>
              <a:off x="3265560" y="4027320"/>
              <a:ext cx="30456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217680" y="404820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"/>
          <p:cNvSpPr/>
          <p:nvPr/>
        </p:nvSpPr>
        <p:spPr>
          <a:xfrm flipH="1">
            <a:off x="3513240" y="3648240"/>
            <a:ext cx="689040" cy="40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4878360" y="4027320"/>
            <a:ext cx="447480" cy="295560"/>
            <a:chOff x="4878360" y="4027320"/>
            <a:chExt cx="447480" cy="295560"/>
          </a:xfrm>
        </p:grpSpPr>
        <p:sp>
          <p:nvSpPr>
            <p:cNvPr id="440" name=""/>
            <p:cNvSpPr/>
            <p:nvPr/>
          </p:nvSpPr>
          <p:spPr>
            <a:xfrm>
              <a:off x="495144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878360" y="404820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N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191120" y="3657600"/>
            <a:ext cx="85716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5979240" y="4027320"/>
            <a:ext cx="474840" cy="295560"/>
            <a:chOff x="5979240" y="4027320"/>
            <a:chExt cx="474840" cy="295560"/>
          </a:xfrm>
        </p:grpSpPr>
        <p:sp>
          <p:nvSpPr>
            <p:cNvPr id="444" name=""/>
            <p:cNvSpPr/>
            <p:nvPr/>
          </p:nvSpPr>
          <p:spPr>
            <a:xfrm>
              <a:off x="60562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5979240" y="404820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4210200" y="3648240"/>
            <a:ext cx="193356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210960" y="2384280"/>
            <a:ext cx="8569440" cy="144720"/>
            <a:chOff x="210960" y="2384280"/>
            <a:chExt cx="8569440" cy="144720"/>
          </a:xfrm>
        </p:grpSpPr>
        <p:sp>
          <p:nvSpPr>
            <p:cNvPr id="448" name=""/>
            <p:cNvSpPr/>
            <p:nvPr/>
          </p:nvSpPr>
          <p:spPr>
            <a:xfrm>
              <a:off x="210960" y="2413080"/>
              <a:ext cx="144720" cy="73080"/>
            </a:xfrm>
            <a:prstGeom prst="rightArrow">
              <a:avLst>
                <a:gd name="adj1" fmla="val 50000"/>
                <a:gd name="adj2" fmla="val 4950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28760" y="2384280"/>
              <a:ext cx="8351640" cy="1447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3379680" y="465120"/>
            <a:ext cx="428760" cy="2400480"/>
            <a:chOff x="3379680" y="465120"/>
            <a:chExt cx="428760" cy="2400480"/>
          </a:xfrm>
        </p:grpSpPr>
        <p:sp>
          <p:nvSpPr>
            <p:cNvPr id="451" name=""/>
            <p:cNvSpPr/>
            <p:nvPr/>
          </p:nvSpPr>
          <p:spPr>
            <a:xfrm>
              <a:off x="3562200" y="465120"/>
              <a:ext cx="71640" cy="144360"/>
            </a:xfrm>
            <a:prstGeom prst="downArrow">
              <a:avLst>
                <a:gd name="adj1" fmla="val 50000"/>
                <a:gd name="adj2" fmla="val 50377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379680" y="627120"/>
              <a:ext cx="42876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1892520" y="4334040"/>
            <a:ext cx="490320" cy="884160"/>
            <a:chOff x="1892520" y="4334040"/>
            <a:chExt cx="490320" cy="884160"/>
          </a:xfrm>
        </p:grpSpPr>
        <p:grpSp>
          <p:nvGrpSpPr>
            <p:cNvPr id="454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455" name=""/>
              <p:cNvSpPr/>
              <p:nvPr/>
            </p:nvSpPr>
            <p:spPr>
              <a:xfrm>
                <a:off x="1960560" y="4923000"/>
                <a:ext cx="30492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" name=""/>
            <p:cNvSpPr/>
            <p:nvPr/>
          </p:nvSpPr>
          <p:spPr>
            <a:xfrm flipH="1">
              <a:off x="2112840" y="4334040"/>
              <a:ext cx="2700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2378160" y="4334040"/>
            <a:ext cx="504000" cy="884160"/>
            <a:chOff x="2378160" y="4334040"/>
            <a:chExt cx="504000" cy="884160"/>
          </a:xfrm>
        </p:grpSpPr>
        <p:grpSp>
          <p:nvGrpSpPr>
            <p:cNvPr id="459" name=""/>
            <p:cNvGrpSpPr/>
            <p:nvPr/>
          </p:nvGrpSpPr>
          <p:grpSpPr>
            <a:xfrm>
              <a:off x="2419560" y="4923000"/>
              <a:ext cx="462600" cy="295200"/>
              <a:chOff x="2419560" y="4923000"/>
              <a:chExt cx="462600" cy="295200"/>
            </a:xfrm>
          </p:grpSpPr>
          <p:sp>
            <p:nvSpPr>
              <p:cNvPr id="460" name=""/>
              <p:cNvSpPr/>
              <p:nvPr/>
            </p:nvSpPr>
            <p:spPr>
              <a:xfrm flipH="1">
                <a:off x="249408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>
                <a:off x="2419200" y="4943520"/>
                <a:ext cx="46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237816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913120" y="4334040"/>
            <a:ext cx="487440" cy="884160"/>
            <a:chOff x="2913120" y="4334040"/>
            <a:chExt cx="487440" cy="884160"/>
          </a:xfrm>
        </p:grpSpPr>
        <p:sp>
          <p:nvSpPr>
            <p:cNvPr id="464" name=""/>
            <p:cNvSpPr/>
            <p:nvPr/>
          </p:nvSpPr>
          <p:spPr>
            <a:xfrm>
              <a:off x="2978280" y="492300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913120" y="4943520"/>
              <a:ext cx="44748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Arial"/>
                </a:rPr>
                <a:t>CH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3130560" y="4334040"/>
              <a:ext cx="27000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"/>
          <p:cNvSpPr/>
          <p:nvPr/>
        </p:nvSpPr>
        <p:spPr>
          <a:xfrm>
            <a:off x="2409840" y="487692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19120" y="3027240"/>
            <a:ext cx="227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 HYA a  CH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3435480" y="4332240"/>
            <a:ext cx="552600" cy="884160"/>
            <a:chOff x="3435480" y="4332240"/>
            <a:chExt cx="552600" cy="884160"/>
          </a:xfrm>
        </p:grpSpPr>
        <p:grpSp>
          <p:nvGrpSpPr>
            <p:cNvPr id="470" name=""/>
            <p:cNvGrpSpPr/>
            <p:nvPr/>
          </p:nvGrpSpPr>
          <p:grpSpPr>
            <a:xfrm>
              <a:off x="3435480" y="4921200"/>
              <a:ext cx="552600" cy="295200"/>
              <a:chOff x="3435480" y="4921200"/>
              <a:chExt cx="552600" cy="295200"/>
            </a:xfrm>
          </p:grpSpPr>
          <p:sp>
            <p:nvSpPr>
              <p:cNvPr id="471" name=""/>
              <p:cNvSpPr/>
              <p:nvPr/>
            </p:nvSpPr>
            <p:spPr>
              <a:xfrm flipH="1">
                <a:off x="3552120" y="492120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H="1">
                <a:off x="3435120" y="4941720"/>
                <a:ext cx="55260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333399"/>
                    </a:solidFill>
                    <a:latin typeface="Arial"/>
                  </a:rPr>
                  <a:t>NAN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>
              <a:off x="3436920" y="4332240"/>
              <a:ext cx="266760" cy="59076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616480" y="146160"/>
            <a:ext cx="2058120" cy="2728800"/>
            <a:chOff x="2616480" y="146160"/>
            <a:chExt cx="2058120" cy="2728800"/>
          </a:xfrm>
        </p:grpSpPr>
        <p:sp>
          <p:nvSpPr>
            <p:cNvPr id="475" name=""/>
            <p:cNvSpPr/>
            <p:nvPr/>
          </p:nvSpPr>
          <p:spPr>
            <a:xfrm>
              <a:off x="3274920" y="503280"/>
              <a:ext cx="714600" cy="23335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3101760" y="522360"/>
              <a:ext cx="803160" cy="23526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616480" y="146160"/>
              <a:ext cx="205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Arial"/>
                </a:rPr>
                <a:t>già presente nel cammin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4614840" y="4332240"/>
            <a:ext cx="479520" cy="884160"/>
            <a:chOff x="4614840" y="4332240"/>
            <a:chExt cx="479520" cy="884160"/>
          </a:xfrm>
        </p:grpSpPr>
        <p:sp>
          <p:nvSpPr>
            <p:cNvPr id="479" name=""/>
            <p:cNvSpPr/>
            <p:nvPr/>
          </p:nvSpPr>
          <p:spPr>
            <a:xfrm>
              <a:off x="4672080" y="492120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614840" y="4941720"/>
              <a:ext cx="43380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>
              <a:off x="4824360" y="4332240"/>
              <a:ext cx="270000" cy="59076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5123520" y="4330800"/>
            <a:ext cx="615240" cy="884160"/>
            <a:chOff x="5123520" y="4330800"/>
            <a:chExt cx="615240" cy="884160"/>
          </a:xfrm>
        </p:grpSpPr>
        <p:grpSp>
          <p:nvGrpSpPr>
            <p:cNvPr id="483" name=""/>
            <p:cNvGrpSpPr/>
            <p:nvPr/>
          </p:nvGrpSpPr>
          <p:grpSpPr>
            <a:xfrm>
              <a:off x="5123520" y="4919760"/>
              <a:ext cx="615240" cy="295200"/>
              <a:chOff x="5123520" y="4919760"/>
              <a:chExt cx="615240" cy="295200"/>
            </a:xfrm>
          </p:grpSpPr>
          <p:sp>
            <p:nvSpPr>
              <p:cNvPr id="484" name=""/>
              <p:cNvSpPr/>
              <p:nvPr/>
            </p:nvSpPr>
            <p:spPr>
              <a:xfrm flipH="1">
                <a:off x="5238000" y="491976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5123160" y="4940280"/>
                <a:ext cx="61524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333399"/>
                    </a:solidFill>
                    <a:latin typeface="Arial"/>
                  </a:rPr>
                  <a:t>NEW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5124600" y="4330800"/>
              <a:ext cx="26640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5729760" y="4330800"/>
            <a:ext cx="477360" cy="884160"/>
            <a:chOff x="5729760" y="4330800"/>
            <a:chExt cx="477360" cy="884160"/>
          </a:xfrm>
        </p:grpSpPr>
        <p:sp>
          <p:nvSpPr>
            <p:cNvPr id="488" name=""/>
            <p:cNvSpPr/>
            <p:nvPr/>
          </p:nvSpPr>
          <p:spPr>
            <a:xfrm>
              <a:off x="5784840" y="4919760"/>
              <a:ext cx="30492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729760" y="4940280"/>
              <a:ext cx="43236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Arial"/>
                </a:rPr>
                <a:t>K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5937120" y="4330800"/>
              <a:ext cx="27000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6242040" y="4338720"/>
            <a:ext cx="691200" cy="884160"/>
            <a:chOff x="6242040" y="4338720"/>
            <a:chExt cx="691200" cy="884160"/>
          </a:xfrm>
        </p:grpSpPr>
        <p:grpSp>
          <p:nvGrpSpPr>
            <p:cNvPr id="492" name=""/>
            <p:cNvGrpSpPr/>
            <p:nvPr/>
          </p:nvGrpSpPr>
          <p:grpSpPr>
            <a:xfrm>
              <a:off x="6310440" y="4927680"/>
              <a:ext cx="622800" cy="295200"/>
              <a:chOff x="6310440" y="4927680"/>
              <a:chExt cx="622800" cy="295200"/>
            </a:xfrm>
          </p:grpSpPr>
          <p:sp>
            <p:nvSpPr>
              <p:cNvPr id="493" name=""/>
              <p:cNvSpPr/>
              <p:nvPr/>
            </p:nvSpPr>
            <p:spPr>
              <a:xfrm flipH="1">
                <a:off x="6357240" y="492768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>
                <a:off x="6310440" y="4948200"/>
                <a:ext cx="62280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333399"/>
                    </a:solidFill>
                    <a:latin typeface="Arial"/>
                  </a:rPr>
                  <a:t>NAN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5" name=""/>
            <p:cNvSpPr/>
            <p:nvPr/>
          </p:nvSpPr>
          <p:spPr>
            <a:xfrm>
              <a:off x="6242040" y="433872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"/>
          <p:cNvGrpSpPr/>
          <p:nvPr/>
        </p:nvGrpSpPr>
        <p:grpSpPr>
          <a:xfrm>
            <a:off x="2111400" y="473040"/>
            <a:ext cx="428760" cy="2400480"/>
            <a:chOff x="2111400" y="473040"/>
            <a:chExt cx="428760" cy="2400480"/>
          </a:xfrm>
        </p:grpSpPr>
        <p:sp>
          <p:nvSpPr>
            <p:cNvPr id="497" name=""/>
            <p:cNvSpPr/>
            <p:nvPr/>
          </p:nvSpPr>
          <p:spPr>
            <a:xfrm>
              <a:off x="2293920" y="473040"/>
              <a:ext cx="71280" cy="144360"/>
            </a:xfrm>
            <a:prstGeom prst="downArrow">
              <a:avLst>
                <a:gd name="adj1" fmla="val 50000"/>
                <a:gd name="adj2" fmla="val 50631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111400" y="635040"/>
              <a:ext cx="428760" cy="22384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2165400" y="5227560"/>
            <a:ext cx="480960" cy="884160"/>
            <a:chOff x="2165400" y="5227560"/>
            <a:chExt cx="480960" cy="884160"/>
          </a:xfrm>
        </p:grpSpPr>
        <p:sp>
          <p:nvSpPr>
            <p:cNvPr id="500" name=""/>
            <p:cNvSpPr/>
            <p:nvPr/>
          </p:nvSpPr>
          <p:spPr>
            <a:xfrm>
              <a:off x="2224080" y="5816520"/>
              <a:ext cx="30492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165400" y="5837400"/>
              <a:ext cx="43992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Arial"/>
                </a:rPr>
                <a:t>B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2376360" y="5227560"/>
              <a:ext cx="270000" cy="59076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3265560" y="5361120"/>
            <a:ext cx="523800" cy="104760"/>
          </a:xfrm>
          <a:custGeom>
            <a:avLst/>
            <a:gdLst>
              <a:gd name="textAreaLeft" fmla="*/ 92160 w 523800"/>
              <a:gd name="textAreaRight" fmla="*/ 37836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-1288428"/>
                <a:lnTo>
                  <a:pt x="19665" y="14400"/>
                </a:lnTo>
                <a:lnTo>
                  <a:pt x="17300" y="0"/>
                </a:lnTo>
                <a:lnTo>
                  <a:pt x="11065" y="14400"/>
                </a:lnTo>
                <a:lnTo>
                  <a:pt x="13265" y="14400"/>
                </a:lnTo>
                <a:arcTo wR="7600" hR="21600" stAng="4111572" swAng="941842"/>
                <a:lnTo>
                  <a:pt x="9700" y="20759"/>
                </a:lnTo>
                <a:arcTo wR="7600" hR="21600" stAng="5746586" swAng="5053414"/>
                <a:close/>
              </a:path>
              <a:path fill="darkenLess"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346586"/>
                <a:lnTo>
                  <a:pt x="9700" y="20759"/>
                </a:lnTo>
                <a:arcTo wR="7600" hR="21600" stAng="5746586" swAng="5053414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160880" y="501804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844880" y="5321160"/>
            <a:ext cx="524160" cy="104760"/>
          </a:xfrm>
          <a:custGeom>
            <a:avLst/>
            <a:gdLst>
              <a:gd name="textAreaLeft" fmla="*/ 92160 w 524160"/>
              <a:gd name="textAreaRight" fmla="*/ 378720 w 52416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-1288428"/>
                <a:lnTo>
                  <a:pt x="19665" y="14400"/>
                </a:lnTo>
                <a:lnTo>
                  <a:pt x="17300" y="0"/>
                </a:lnTo>
                <a:lnTo>
                  <a:pt x="11065" y="14400"/>
                </a:lnTo>
                <a:lnTo>
                  <a:pt x="13265" y="14400"/>
                </a:lnTo>
                <a:arcTo wR="7600" hR="21600" stAng="4111572" swAng="941842"/>
                <a:lnTo>
                  <a:pt x="9700" y="20759"/>
                </a:lnTo>
                <a:arcTo wR="7600" hR="21600" stAng="5746586" swAng="5053414"/>
                <a:close/>
              </a:path>
              <a:path fill="darkenLess"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346586"/>
                <a:lnTo>
                  <a:pt x="9700" y="20759"/>
                </a:lnTo>
                <a:arcTo wR="7600" hR="21600" stAng="5746586" swAng="5053414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462640" y="5329080"/>
            <a:ext cx="523800" cy="104760"/>
          </a:xfrm>
          <a:custGeom>
            <a:avLst/>
            <a:gdLst>
              <a:gd name="textAreaLeft" fmla="*/ 92160 w 523800"/>
              <a:gd name="textAreaRight" fmla="*/ 37836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-1288428"/>
                <a:lnTo>
                  <a:pt x="19665" y="14400"/>
                </a:lnTo>
                <a:lnTo>
                  <a:pt x="17300" y="0"/>
                </a:lnTo>
                <a:lnTo>
                  <a:pt x="11065" y="14400"/>
                </a:lnTo>
                <a:lnTo>
                  <a:pt x="13265" y="14400"/>
                </a:lnTo>
                <a:arcTo wR="7600" hR="21600" stAng="4111572" swAng="941842"/>
                <a:lnTo>
                  <a:pt x="9700" y="20759"/>
                </a:lnTo>
                <a:arcTo wR="7600" hR="21600" stAng="5746586" swAng="5053414"/>
                <a:close/>
              </a:path>
              <a:path fill="darkenLess"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346586"/>
                <a:lnTo>
                  <a:pt x="9700" y="20759"/>
                </a:lnTo>
                <a:arcTo wR="7600" hR="21600" stAng="5746586" swAng="5053414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032520" y="5318280"/>
            <a:ext cx="523800" cy="104760"/>
          </a:xfrm>
          <a:custGeom>
            <a:avLst/>
            <a:gdLst>
              <a:gd name="textAreaLeft" fmla="*/ 92160 w 523800"/>
              <a:gd name="textAreaRight" fmla="*/ 37836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-1288428"/>
                <a:lnTo>
                  <a:pt x="19665" y="14400"/>
                </a:lnTo>
                <a:lnTo>
                  <a:pt x="17300" y="0"/>
                </a:lnTo>
                <a:lnTo>
                  <a:pt x="11065" y="14400"/>
                </a:lnTo>
                <a:lnTo>
                  <a:pt x="13265" y="14400"/>
                </a:lnTo>
                <a:arcTo wR="7600" hR="21600" stAng="4111572" swAng="941842"/>
                <a:lnTo>
                  <a:pt x="9700" y="20759"/>
                </a:lnTo>
                <a:arcTo wR="7600" hR="21600" stAng="5746586" swAng="5053414"/>
                <a:close/>
              </a:path>
              <a:path fill="darkenLess"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346586"/>
                <a:lnTo>
                  <a:pt x="9700" y="20759"/>
                </a:lnTo>
                <a:arcTo wR="7600" hR="21600" stAng="5746586" swAng="5053414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67520" y="5076720"/>
            <a:ext cx="95400" cy="362160"/>
          </a:xfrm>
          <a:custGeom>
            <a:avLst/>
            <a:gdLst>
              <a:gd name="textAreaLeft" fmla="*/ 12600 w 95400"/>
              <a:gd name="textAreaRight" fmla="*/ 82800 w 95400"/>
              <a:gd name="textAreaTop" fmla="*/ 63720 h 362160"/>
              <a:gd name="textAreaBottom" fmla="*/ 26172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00" stAng="-5400000" swAng="5400000"/>
                <a:lnTo>
                  <a:pt x="21600" y="11800"/>
                </a:lnTo>
                <a:arcTo wR="21600" hR="7600" stAng="0" swAng="1288428"/>
                <a:lnTo>
                  <a:pt x="14400" y="19665"/>
                </a:lnTo>
                <a:lnTo>
                  <a:pt x="0" y="17300"/>
                </a:lnTo>
                <a:lnTo>
                  <a:pt x="14400" y="11065"/>
                </a:lnTo>
                <a:lnTo>
                  <a:pt x="14400" y="13265"/>
                </a:lnTo>
                <a:arcTo wR="21600" hR="7600" stAng="1288428" swAng="-941842"/>
                <a:lnTo>
                  <a:pt x="20759" y="9700"/>
                </a:lnTo>
                <a:arcTo wR="21600" hR="7600" stAng="-346586" swAng="-5053414"/>
                <a:close/>
              </a:path>
              <a:path fill="darkenLess" w="21600" h="21600">
                <a:moveTo>
                  <a:pt x="0" y="0"/>
                </a:moveTo>
                <a:arcTo wR="21600" hR="7600" stAng="-5400000" swAng="5400000"/>
                <a:lnTo>
                  <a:pt x="21600" y="11800"/>
                </a:lnTo>
                <a:arcTo wR="21600" hR="7600" stAng="0" swAng="-346586"/>
                <a:lnTo>
                  <a:pt x="20759" y="9700"/>
                </a:lnTo>
                <a:arcTo wR="21600" hR="7600" stAng="-346586" swAng="-5053414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952640" y="5676840"/>
            <a:ext cx="114120" cy="314280"/>
          </a:xfrm>
          <a:custGeom>
            <a:avLst/>
            <a:gdLst>
              <a:gd name="textAreaLeft" fmla="*/ 15120 w 114120"/>
              <a:gd name="textAreaRight" fmla="*/ 99000 w 114120"/>
              <a:gd name="textAreaTop" fmla="*/ 55080 h 314280"/>
              <a:gd name="textAreaBottom" fmla="*/ 227160 h 3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00" stAng="-5400000" swAng="-5400000"/>
                <a:lnTo>
                  <a:pt x="0" y="11800"/>
                </a:lnTo>
                <a:arcTo wR="21600" hR="7600" stAng="10800000" swAng="-2691708"/>
                <a:lnTo>
                  <a:pt x="14400" y="21165"/>
                </a:lnTo>
                <a:lnTo>
                  <a:pt x="21600" y="17300"/>
                </a:lnTo>
                <a:lnTo>
                  <a:pt x="14400" y="12565"/>
                </a:lnTo>
                <a:lnTo>
                  <a:pt x="14400" y="14765"/>
                </a:lnTo>
                <a:arcTo wR="21600" hR="7600" stAng="8108292" swAng="2345122"/>
                <a:lnTo>
                  <a:pt x="841" y="9700"/>
                </a:lnTo>
                <a:arcTo wR="21600" hR="7600" stAng="-10453414" swAng="5053414"/>
                <a:close/>
              </a:path>
              <a:path fill="darkenLess" w="21600" h="21600">
                <a:moveTo>
                  <a:pt x="21600" y="0"/>
                </a:moveTo>
                <a:arcTo wR="21600" hR="7600" stAng="-5400000" swAng="-5400000"/>
                <a:lnTo>
                  <a:pt x="0" y="7600"/>
                </a:lnTo>
                <a:arcTo wR="21600" hR="7600" stAng="10800000" swAng="-346586"/>
                <a:lnTo>
                  <a:pt x="841" y="9700"/>
                </a:lnTo>
                <a:arcTo wR="21600" hR="7600" stAng="-10453414" swAng="5053414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dur="indefinite" fill="hold">
                      <p:stCondLst>
                        <p:cond delay="indefinite"/>
                      </p:stCondLst>
                      <p:childTnLst>
                        <p:par>
                          <p:cTn id="2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dur="indefinite" fill="hold">
                      <p:stCondLst>
                        <p:cond delay="indefinite"/>
                      </p:stCondLst>
                      <p:childTnLst>
                        <p:par>
                          <p:cTn id="2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dur="indefinite" fill="hold">
                      <p:stCondLst>
                        <p:cond delay="indefinite"/>
                      </p:stCondLst>
                      <p:childTnLst>
                        <p:par>
                          <p:cTn id="2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96000" cy="2752560"/>
          </a:xfrm>
          <a:prstGeom prst="rect">
            <a:avLst/>
          </a:prstGeom>
          <a:ln w="0">
            <a:noFill/>
          </a:ln>
        </p:spPr>
      </p:pic>
      <p:grpSp>
        <p:nvGrpSpPr>
          <p:cNvPr id="511" name=""/>
          <p:cNvGrpSpPr/>
          <p:nvPr/>
        </p:nvGrpSpPr>
        <p:grpSpPr>
          <a:xfrm>
            <a:off x="3979080" y="3333600"/>
            <a:ext cx="439920" cy="295560"/>
            <a:chOff x="3979080" y="3333600"/>
            <a:chExt cx="439920" cy="295560"/>
          </a:xfrm>
        </p:grpSpPr>
        <p:sp>
          <p:nvSpPr>
            <p:cNvPr id="512" name=""/>
            <p:cNvSpPr/>
            <p:nvPr/>
          </p:nvSpPr>
          <p:spPr>
            <a:xfrm>
              <a:off x="4038480" y="333360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979080" y="3354480"/>
              <a:ext cx="43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HY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2154240" y="4027320"/>
            <a:ext cx="447480" cy="295560"/>
            <a:chOff x="2154240" y="4027320"/>
            <a:chExt cx="447480" cy="295560"/>
          </a:xfrm>
        </p:grpSpPr>
        <p:sp>
          <p:nvSpPr>
            <p:cNvPr id="515" name=""/>
            <p:cNvSpPr/>
            <p:nvPr/>
          </p:nvSpPr>
          <p:spPr>
            <a:xfrm>
              <a:off x="22366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54240" y="405756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B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 flipH="1">
            <a:off x="2475000" y="3638520"/>
            <a:ext cx="172728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3217680" y="4027320"/>
            <a:ext cx="433800" cy="295560"/>
            <a:chOff x="3217680" y="4027320"/>
            <a:chExt cx="433800" cy="295560"/>
          </a:xfrm>
        </p:grpSpPr>
        <p:sp>
          <p:nvSpPr>
            <p:cNvPr id="519" name=""/>
            <p:cNvSpPr/>
            <p:nvPr/>
          </p:nvSpPr>
          <p:spPr>
            <a:xfrm>
              <a:off x="3265560" y="4027320"/>
              <a:ext cx="30456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217680" y="4048200"/>
              <a:ext cx="433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"/>
          <p:cNvSpPr/>
          <p:nvPr/>
        </p:nvSpPr>
        <p:spPr>
          <a:xfrm flipH="1">
            <a:off x="3513240" y="3648240"/>
            <a:ext cx="689040" cy="40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878360" y="4027320"/>
            <a:ext cx="447480" cy="295560"/>
            <a:chOff x="4878360" y="4027320"/>
            <a:chExt cx="447480" cy="295560"/>
          </a:xfrm>
        </p:grpSpPr>
        <p:sp>
          <p:nvSpPr>
            <p:cNvPr id="523" name=""/>
            <p:cNvSpPr/>
            <p:nvPr/>
          </p:nvSpPr>
          <p:spPr>
            <a:xfrm>
              <a:off x="495144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878360" y="404820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NA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4191120" y="3657600"/>
            <a:ext cx="85716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5979240" y="4027320"/>
            <a:ext cx="474840" cy="295560"/>
            <a:chOff x="5979240" y="4027320"/>
            <a:chExt cx="474840" cy="295560"/>
          </a:xfrm>
        </p:grpSpPr>
        <p:sp>
          <p:nvSpPr>
            <p:cNvPr id="527" name=""/>
            <p:cNvSpPr/>
            <p:nvPr/>
          </p:nvSpPr>
          <p:spPr>
            <a:xfrm>
              <a:off x="6056280" y="4027320"/>
              <a:ext cx="304920" cy="295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79240" y="4048200"/>
              <a:ext cx="474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NE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"/>
          <p:cNvSpPr/>
          <p:nvPr/>
        </p:nvSpPr>
        <p:spPr>
          <a:xfrm>
            <a:off x="4210200" y="3648240"/>
            <a:ext cx="1933560" cy="39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201600" y="1555920"/>
            <a:ext cx="8569440" cy="144360"/>
            <a:chOff x="201600" y="1555920"/>
            <a:chExt cx="8569440" cy="144360"/>
          </a:xfrm>
        </p:grpSpPr>
        <p:sp>
          <p:nvSpPr>
            <p:cNvPr id="531" name=""/>
            <p:cNvSpPr/>
            <p:nvPr/>
          </p:nvSpPr>
          <p:spPr>
            <a:xfrm>
              <a:off x="201600" y="1584360"/>
              <a:ext cx="144360" cy="73080"/>
            </a:xfrm>
            <a:prstGeom prst="rightArrow">
              <a:avLst>
                <a:gd name="adj1" fmla="val 50000"/>
                <a:gd name="adj2" fmla="val 49384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19040" y="1555920"/>
              <a:ext cx="8352000" cy="1443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"/>
          <p:cNvGrpSpPr/>
          <p:nvPr/>
        </p:nvGrpSpPr>
        <p:grpSpPr>
          <a:xfrm>
            <a:off x="1892520" y="4334040"/>
            <a:ext cx="490320" cy="884160"/>
            <a:chOff x="1892520" y="4334040"/>
            <a:chExt cx="490320" cy="884160"/>
          </a:xfrm>
        </p:grpSpPr>
        <p:grpSp>
          <p:nvGrpSpPr>
            <p:cNvPr id="534" name=""/>
            <p:cNvGrpSpPr/>
            <p:nvPr/>
          </p:nvGrpSpPr>
          <p:grpSpPr>
            <a:xfrm>
              <a:off x="1892520" y="4923000"/>
              <a:ext cx="455040" cy="295200"/>
              <a:chOff x="1892520" y="4923000"/>
              <a:chExt cx="455040" cy="295200"/>
            </a:xfrm>
          </p:grpSpPr>
          <p:sp>
            <p:nvSpPr>
              <p:cNvPr id="535" name=""/>
              <p:cNvSpPr/>
              <p:nvPr/>
            </p:nvSpPr>
            <p:spPr>
              <a:xfrm>
                <a:off x="1960560" y="4923000"/>
                <a:ext cx="30492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2520" y="4943520"/>
                <a:ext cx="455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AU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 flipH="1">
              <a:off x="2112840" y="4334040"/>
              <a:ext cx="2700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2378160" y="4334040"/>
            <a:ext cx="504000" cy="884160"/>
            <a:chOff x="2378160" y="4334040"/>
            <a:chExt cx="504000" cy="884160"/>
          </a:xfrm>
        </p:grpSpPr>
        <p:grpSp>
          <p:nvGrpSpPr>
            <p:cNvPr id="539" name=""/>
            <p:cNvGrpSpPr/>
            <p:nvPr/>
          </p:nvGrpSpPr>
          <p:grpSpPr>
            <a:xfrm>
              <a:off x="2419560" y="4923000"/>
              <a:ext cx="462600" cy="295200"/>
              <a:chOff x="2419560" y="4923000"/>
              <a:chExt cx="462600" cy="295200"/>
            </a:xfrm>
          </p:grpSpPr>
          <p:sp>
            <p:nvSpPr>
              <p:cNvPr id="540" name=""/>
              <p:cNvSpPr/>
              <p:nvPr/>
            </p:nvSpPr>
            <p:spPr>
              <a:xfrm flipH="1">
                <a:off x="2494080" y="4923000"/>
                <a:ext cx="304560" cy="2952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 flipH="1">
                <a:off x="2419200" y="4943520"/>
                <a:ext cx="462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000000"/>
                    </a:solidFill>
                    <a:latin typeface="Arial"/>
                  </a:rPr>
                  <a:t>RO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"/>
            <p:cNvSpPr/>
            <p:nvPr/>
          </p:nvSpPr>
          <p:spPr>
            <a:xfrm>
              <a:off x="2378160" y="4334040"/>
              <a:ext cx="26676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2913120" y="4334040"/>
            <a:ext cx="487440" cy="884160"/>
            <a:chOff x="2913120" y="4334040"/>
            <a:chExt cx="487440" cy="884160"/>
          </a:xfrm>
        </p:grpSpPr>
        <p:sp>
          <p:nvSpPr>
            <p:cNvPr id="544" name=""/>
            <p:cNvSpPr/>
            <p:nvPr/>
          </p:nvSpPr>
          <p:spPr>
            <a:xfrm>
              <a:off x="2978280" y="4923000"/>
              <a:ext cx="304560" cy="29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913120" y="4943520"/>
              <a:ext cx="447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CH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3130560" y="4334040"/>
              <a:ext cx="27000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"/>
          <p:cNvSpPr/>
          <p:nvPr/>
        </p:nvSpPr>
        <p:spPr>
          <a:xfrm>
            <a:off x="2886120" y="4886280"/>
            <a:ext cx="466560" cy="380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19120" y="3027240"/>
            <a:ext cx="227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eadth First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a HYA a  CH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"/>
          <p:cNvGrpSpPr/>
          <p:nvPr/>
        </p:nvGrpSpPr>
        <p:grpSpPr>
          <a:xfrm>
            <a:off x="3425760" y="4332240"/>
            <a:ext cx="556920" cy="884160"/>
            <a:chOff x="3425760" y="4332240"/>
            <a:chExt cx="556920" cy="884160"/>
          </a:xfrm>
        </p:grpSpPr>
        <p:grpSp>
          <p:nvGrpSpPr>
            <p:cNvPr id="550" name=""/>
            <p:cNvGrpSpPr/>
            <p:nvPr/>
          </p:nvGrpSpPr>
          <p:grpSpPr>
            <a:xfrm>
              <a:off x="3430080" y="4921200"/>
              <a:ext cx="552600" cy="295200"/>
              <a:chOff x="3430080" y="4921200"/>
              <a:chExt cx="552600" cy="295200"/>
            </a:xfrm>
          </p:grpSpPr>
          <p:sp>
            <p:nvSpPr>
              <p:cNvPr id="551" name=""/>
              <p:cNvSpPr/>
              <p:nvPr/>
            </p:nvSpPr>
            <p:spPr>
              <a:xfrm flipH="1">
                <a:off x="3540960" y="492120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 flipH="1">
                <a:off x="3429720" y="4941720"/>
                <a:ext cx="55260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333399"/>
                    </a:solidFill>
                    <a:latin typeface="Arial"/>
                  </a:rPr>
                  <a:t>NAN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" name=""/>
            <p:cNvSpPr/>
            <p:nvPr/>
          </p:nvSpPr>
          <p:spPr>
            <a:xfrm>
              <a:off x="3425760" y="4332240"/>
              <a:ext cx="266760" cy="59076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4614840" y="4332240"/>
            <a:ext cx="479520" cy="884160"/>
            <a:chOff x="4614840" y="4332240"/>
            <a:chExt cx="479520" cy="884160"/>
          </a:xfrm>
        </p:grpSpPr>
        <p:sp>
          <p:nvSpPr>
            <p:cNvPr id="555" name=""/>
            <p:cNvSpPr/>
            <p:nvPr/>
          </p:nvSpPr>
          <p:spPr>
            <a:xfrm>
              <a:off x="4672080" y="4921200"/>
              <a:ext cx="30456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614840" y="4941720"/>
              <a:ext cx="43380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Arial"/>
                </a:rPr>
                <a:t>LAG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4824360" y="4332240"/>
              <a:ext cx="270000" cy="59076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" name=""/>
          <p:cNvGrpSpPr/>
          <p:nvPr/>
        </p:nvGrpSpPr>
        <p:grpSpPr>
          <a:xfrm>
            <a:off x="5123520" y="4330800"/>
            <a:ext cx="615240" cy="884160"/>
            <a:chOff x="5123520" y="4330800"/>
            <a:chExt cx="615240" cy="884160"/>
          </a:xfrm>
        </p:grpSpPr>
        <p:grpSp>
          <p:nvGrpSpPr>
            <p:cNvPr id="559" name=""/>
            <p:cNvGrpSpPr/>
            <p:nvPr/>
          </p:nvGrpSpPr>
          <p:grpSpPr>
            <a:xfrm>
              <a:off x="5123520" y="4919760"/>
              <a:ext cx="615240" cy="295200"/>
              <a:chOff x="5123520" y="4919760"/>
              <a:chExt cx="615240" cy="295200"/>
            </a:xfrm>
          </p:grpSpPr>
          <p:sp>
            <p:nvSpPr>
              <p:cNvPr id="560" name=""/>
              <p:cNvSpPr/>
              <p:nvPr/>
            </p:nvSpPr>
            <p:spPr>
              <a:xfrm flipH="1">
                <a:off x="5238000" y="491976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 flipH="1">
                <a:off x="5123160" y="4940280"/>
                <a:ext cx="61524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333399"/>
                    </a:solidFill>
                    <a:latin typeface="Arial"/>
                  </a:rPr>
                  <a:t>NEW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" name=""/>
            <p:cNvSpPr/>
            <p:nvPr/>
          </p:nvSpPr>
          <p:spPr>
            <a:xfrm>
              <a:off x="5124600" y="4330800"/>
              <a:ext cx="26640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5729760" y="4330800"/>
            <a:ext cx="477360" cy="884160"/>
            <a:chOff x="5729760" y="4330800"/>
            <a:chExt cx="477360" cy="884160"/>
          </a:xfrm>
        </p:grpSpPr>
        <p:sp>
          <p:nvSpPr>
            <p:cNvPr id="564" name=""/>
            <p:cNvSpPr/>
            <p:nvPr/>
          </p:nvSpPr>
          <p:spPr>
            <a:xfrm>
              <a:off x="5784840" y="4919760"/>
              <a:ext cx="30492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729760" y="4940280"/>
              <a:ext cx="43236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Arial"/>
                </a:rPr>
                <a:t>K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5937120" y="4330800"/>
              <a:ext cx="27000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6235560" y="4338720"/>
            <a:ext cx="697680" cy="884160"/>
            <a:chOff x="6235560" y="4338720"/>
            <a:chExt cx="697680" cy="884160"/>
          </a:xfrm>
        </p:grpSpPr>
        <p:grpSp>
          <p:nvGrpSpPr>
            <p:cNvPr id="568" name=""/>
            <p:cNvGrpSpPr/>
            <p:nvPr/>
          </p:nvGrpSpPr>
          <p:grpSpPr>
            <a:xfrm>
              <a:off x="6310440" y="4927680"/>
              <a:ext cx="622800" cy="295200"/>
              <a:chOff x="6310440" y="4927680"/>
              <a:chExt cx="622800" cy="295200"/>
            </a:xfrm>
          </p:grpSpPr>
          <p:sp>
            <p:nvSpPr>
              <p:cNvPr id="569" name=""/>
              <p:cNvSpPr/>
              <p:nvPr/>
            </p:nvSpPr>
            <p:spPr>
              <a:xfrm flipH="1">
                <a:off x="6349320" y="4927680"/>
                <a:ext cx="304920" cy="295200"/>
              </a:xfrm>
              <a:prstGeom prst="ellipse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 flipH="1">
                <a:off x="6310440" y="4948200"/>
                <a:ext cx="622800" cy="246240"/>
              </a:xfrm>
              <a:prstGeom prst="rect">
                <a:avLst/>
              </a:prstGeom>
              <a:noFill/>
              <a:ln cap="rnd" w="3240">
                <a:solidFill>
                  <a:srgbClr val="333399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000" spc="-1" strike="noStrike">
                    <a:solidFill>
                      <a:srgbClr val="333399"/>
                    </a:solidFill>
                    <a:latin typeface="Arial"/>
                  </a:rPr>
                  <a:t>NAN    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6235560" y="4338720"/>
              <a:ext cx="266760" cy="59040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2165400" y="5227560"/>
            <a:ext cx="480960" cy="884160"/>
            <a:chOff x="2165400" y="5227560"/>
            <a:chExt cx="480960" cy="884160"/>
          </a:xfrm>
        </p:grpSpPr>
        <p:sp>
          <p:nvSpPr>
            <p:cNvPr id="573" name=""/>
            <p:cNvSpPr/>
            <p:nvPr/>
          </p:nvSpPr>
          <p:spPr>
            <a:xfrm>
              <a:off x="2224080" y="5816520"/>
              <a:ext cx="304920" cy="295200"/>
            </a:xfrm>
            <a:prstGeom prst="ellipse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165400" y="5837400"/>
              <a:ext cx="439920" cy="246240"/>
            </a:xfrm>
            <a:prstGeom prst="rect">
              <a:avLst/>
            </a:prstGeom>
            <a:noFill/>
            <a:ln cap="rnd" w="3240">
              <a:solidFill>
                <a:srgbClr val="333399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Arial"/>
                </a:rPr>
                <a:t>BA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2376360" y="5227560"/>
              <a:ext cx="270000" cy="590760"/>
            </a:xfrm>
            <a:prstGeom prst="line">
              <a:avLst/>
            </a:prstGeom>
            <a:ln cap="rnd" w="3240">
              <a:solidFill>
                <a:srgbClr val="333399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4160880" y="5018040"/>
            <a:ext cx="314280" cy="10476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844880" y="5321160"/>
            <a:ext cx="524160" cy="104760"/>
          </a:xfrm>
          <a:custGeom>
            <a:avLst/>
            <a:gdLst>
              <a:gd name="textAreaLeft" fmla="*/ 92160 w 524160"/>
              <a:gd name="textAreaRight" fmla="*/ 378720 w 52416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-1288428"/>
                <a:lnTo>
                  <a:pt x="19665" y="14400"/>
                </a:lnTo>
                <a:lnTo>
                  <a:pt x="17300" y="0"/>
                </a:lnTo>
                <a:lnTo>
                  <a:pt x="11065" y="14400"/>
                </a:lnTo>
                <a:lnTo>
                  <a:pt x="13265" y="14400"/>
                </a:lnTo>
                <a:arcTo wR="7600" hR="21600" stAng="4111572" swAng="941842"/>
                <a:lnTo>
                  <a:pt x="9700" y="20759"/>
                </a:lnTo>
                <a:arcTo wR="7600" hR="21600" stAng="5746586" swAng="5053414"/>
                <a:close/>
              </a:path>
              <a:path fill="darkenLess"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346586"/>
                <a:lnTo>
                  <a:pt x="9700" y="20759"/>
                </a:lnTo>
                <a:arcTo wR="7600" hR="21600" stAng="5746586" swAng="5053414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462640" y="5329080"/>
            <a:ext cx="523800" cy="104760"/>
          </a:xfrm>
          <a:custGeom>
            <a:avLst/>
            <a:gdLst>
              <a:gd name="textAreaLeft" fmla="*/ 92160 w 523800"/>
              <a:gd name="textAreaRight" fmla="*/ 37836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-1288428"/>
                <a:lnTo>
                  <a:pt x="19665" y="14400"/>
                </a:lnTo>
                <a:lnTo>
                  <a:pt x="17300" y="0"/>
                </a:lnTo>
                <a:lnTo>
                  <a:pt x="11065" y="14400"/>
                </a:lnTo>
                <a:lnTo>
                  <a:pt x="13265" y="14400"/>
                </a:lnTo>
                <a:arcTo wR="7600" hR="21600" stAng="4111572" swAng="941842"/>
                <a:lnTo>
                  <a:pt x="9700" y="20759"/>
                </a:lnTo>
                <a:arcTo wR="7600" hR="21600" stAng="5746586" swAng="5053414"/>
                <a:close/>
              </a:path>
              <a:path fill="darkenLess"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346586"/>
                <a:lnTo>
                  <a:pt x="9700" y="20759"/>
                </a:lnTo>
                <a:arcTo wR="7600" hR="21600" stAng="5746586" swAng="5053414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032520" y="5318280"/>
            <a:ext cx="523800" cy="104760"/>
          </a:xfrm>
          <a:custGeom>
            <a:avLst/>
            <a:gdLst>
              <a:gd name="textAreaLeft" fmla="*/ 92160 w 523800"/>
              <a:gd name="textAreaRight" fmla="*/ 378360 w 523800"/>
              <a:gd name="textAreaTop" fmla="*/ 14040 h 104760"/>
              <a:gd name="textAreaBottom" fmla="*/ 90720 h 1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-1288428"/>
                <a:lnTo>
                  <a:pt x="19665" y="14400"/>
                </a:lnTo>
                <a:lnTo>
                  <a:pt x="17300" y="0"/>
                </a:lnTo>
                <a:lnTo>
                  <a:pt x="11065" y="14400"/>
                </a:lnTo>
                <a:lnTo>
                  <a:pt x="13265" y="14400"/>
                </a:lnTo>
                <a:arcTo wR="7600" hR="21600" stAng="4111572" swAng="941842"/>
                <a:lnTo>
                  <a:pt x="9700" y="20759"/>
                </a:lnTo>
                <a:arcTo wR="7600" hR="21600" stAng="5746586" swAng="5053414"/>
                <a:close/>
              </a:path>
              <a:path fill="darkenLess" w="21600" h="21600">
                <a:moveTo>
                  <a:pt x="0" y="0"/>
                </a:moveTo>
                <a:arcTo wR="7600" hR="21600" stAng="10800000" swAng="-5400000"/>
                <a:lnTo>
                  <a:pt x="11800" y="21600"/>
                </a:lnTo>
                <a:arcTo wR="7600" hR="21600" stAng="5400000" swAng="346586"/>
                <a:lnTo>
                  <a:pt x="9700" y="20759"/>
                </a:lnTo>
                <a:arcTo wR="7600" hR="21600" stAng="5746586" swAng="5053414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067520" y="5076720"/>
            <a:ext cx="95400" cy="362160"/>
          </a:xfrm>
          <a:custGeom>
            <a:avLst/>
            <a:gdLst>
              <a:gd name="textAreaLeft" fmla="*/ 12600 w 95400"/>
              <a:gd name="textAreaRight" fmla="*/ 82800 w 95400"/>
              <a:gd name="textAreaTop" fmla="*/ 63720 h 362160"/>
              <a:gd name="textAreaBottom" fmla="*/ 261720 h 36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00" stAng="-5400000" swAng="5400000"/>
                <a:lnTo>
                  <a:pt x="21600" y="11800"/>
                </a:lnTo>
                <a:arcTo wR="21600" hR="7600" stAng="0" swAng="1288428"/>
                <a:lnTo>
                  <a:pt x="14400" y="19665"/>
                </a:lnTo>
                <a:lnTo>
                  <a:pt x="0" y="17300"/>
                </a:lnTo>
                <a:lnTo>
                  <a:pt x="14400" y="11065"/>
                </a:lnTo>
                <a:lnTo>
                  <a:pt x="14400" y="13265"/>
                </a:lnTo>
                <a:arcTo wR="21600" hR="7600" stAng="1288428" swAng="-941842"/>
                <a:lnTo>
                  <a:pt x="20759" y="9700"/>
                </a:lnTo>
                <a:arcTo wR="21600" hR="7600" stAng="-346586" swAng="-5053414"/>
                <a:close/>
              </a:path>
              <a:path fill="darkenLess" w="21600" h="21600">
                <a:moveTo>
                  <a:pt x="0" y="0"/>
                </a:moveTo>
                <a:arcTo wR="21600" hR="7600" stAng="-5400000" swAng="5400000"/>
                <a:lnTo>
                  <a:pt x="21600" y="11800"/>
                </a:lnTo>
                <a:arcTo wR="21600" hR="7600" stAng="0" swAng="-346586"/>
                <a:lnTo>
                  <a:pt x="20759" y="9700"/>
                </a:lnTo>
                <a:arcTo wR="21600" hR="7600" stAng="-346586" swAng="-5053414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952640" y="5676840"/>
            <a:ext cx="114120" cy="314280"/>
          </a:xfrm>
          <a:custGeom>
            <a:avLst/>
            <a:gdLst>
              <a:gd name="textAreaLeft" fmla="*/ 15120 w 114120"/>
              <a:gd name="textAreaRight" fmla="*/ 99000 w 114120"/>
              <a:gd name="textAreaTop" fmla="*/ 55080 h 314280"/>
              <a:gd name="textAreaBottom" fmla="*/ 227160 h 3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600" stAng="-5400000" swAng="-5400000"/>
                <a:lnTo>
                  <a:pt x="0" y="11800"/>
                </a:lnTo>
                <a:arcTo wR="21600" hR="7600" stAng="10800000" swAng="-2691708"/>
                <a:lnTo>
                  <a:pt x="14400" y="21165"/>
                </a:lnTo>
                <a:lnTo>
                  <a:pt x="21600" y="17300"/>
                </a:lnTo>
                <a:lnTo>
                  <a:pt x="14400" y="12565"/>
                </a:lnTo>
                <a:lnTo>
                  <a:pt x="14400" y="14765"/>
                </a:lnTo>
                <a:arcTo wR="21600" hR="7600" stAng="8108292" swAng="2345122"/>
                <a:lnTo>
                  <a:pt x="841" y="9700"/>
                </a:lnTo>
                <a:arcTo wR="21600" hR="7600" stAng="-10453414" swAng="5053414"/>
                <a:close/>
              </a:path>
              <a:path fill="darkenLess" w="21600" h="21600">
                <a:moveTo>
                  <a:pt x="21600" y="0"/>
                </a:moveTo>
                <a:arcTo wR="21600" hR="7600" stAng="-5400000" swAng="-5400000"/>
                <a:lnTo>
                  <a:pt x="0" y="7600"/>
                </a:lnTo>
                <a:arcTo wR="21600" hR="7600" stAng="10800000" swAng="-346586"/>
                <a:lnTo>
                  <a:pt x="841" y="9700"/>
                </a:lnTo>
                <a:arcTo wR="21600" hR="7600" stAng="-10453414" swAng="5053414"/>
                <a:close/>
              </a:path>
            </a:pathLst>
          </a:custGeom>
          <a:solidFill>
            <a:srgbClr val="bbe0e3"/>
          </a:solidFill>
          <a:ln cap="rnd" w="3240">
            <a:solidFill>
              <a:srgbClr val="3333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dur="indefinite" fill="hold">
                      <p:stCondLst>
                        <p:cond delay="indefinite"/>
                      </p:stCondLst>
                      <p:childTnLst>
                        <p:par>
                          <p:cTn id="2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Alessandro Sperduti</dc:creator>
  <dc:description/>
  <dc:language>en-US</dc:language>
  <cp:lastModifiedBy> Alessandro Sperduti</cp:lastModifiedBy>
  <cp:revision>0</cp:revision>
  <dc:subject/>
  <dc:title>Diapositiva 1</dc:title>
</cp:coreProperties>
</file>