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camera.wav" ContentType="audio/x-wav"/>
  <Override PartName="/ppt/media/image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1C3-6AA8-4C6C-803B-AB0A7820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128-EB55-4580-A20C-821DB9D6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EDB-7D08-480C-878D-EE3F0979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016-C2A9-483A-BCFB-C177EFF9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86E6-4845-4926-BD4B-7B593A9E5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25BC-1C81-44DA-BB0F-5477C92AA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A88BE-7C0D-4433-8294-12746177F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01BCA-AFB5-4A8A-9DCD-3D5E339332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A6531-7ED1-4EE3-9854-61910988D2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74DFA-5C99-4A46-B878-9340ABB59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203C7-119D-4770-B940-1035D8F42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7E0-BA77-47D7-B807-A834AE7C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C3AF-505C-492C-BFE5-2884FF132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7AEA7-9473-4151-AD9C-73826A3EB0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23AAE-8978-4BAB-86F3-38068A8B3E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06E4A-DB50-49B6-877F-2A6D9C64DA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4A88-0673-4D06-98A0-3A27FFE100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66890-897B-4263-A924-7249C932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CADA0-886B-420A-81A7-BD5411F3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AD6B4-29D1-4BC6-8CA6-BA5C59D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68E53-4642-413C-8CD3-7C3B3F96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C938C1-63C6-4370-8E03-9734D0A4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BBC-D9A6-4B59-BF59-B022092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17013-F731-4047-987B-0F1EE5F7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630EA-18A9-4B39-BB2B-3A7F04FE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F37D3-30C5-4E03-A4A3-ED8B0D6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B9E8E-B0BB-45F6-9067-823B32C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91BC9-A89D-4AC0-A9F9-A681CF1A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A491B-F4A9-4895-AE18-CE75A29B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8DD1B-5804-4BF1-95BC-40C17B18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30F-3544-4AF7-9527-3AE90DD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953-4921-43B4-9B83-31BFB813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826-A999-4EEA-8BBC-8D2E116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C3C-4265-48B5-9C57-F711533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CE6-E527-44B2-9CBE-BB196C4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9C8-5817-47AD-A387-CDFC46F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F90-2EA8-40D5-A329-3D7281028F0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0AA1-16D1-49C8-B5E2-FC2419B517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-723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35480" indent="-28296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6969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6969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69696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69696"/>
                </a:solidFill>
                <a:latin typeface="Tw Cen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9966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410-CE6D-4563-805F-124C8F044AD0}" type="slidenum">
              <a:rPr b="0" lang="en-GB" sz="2400" spc="-1" strike="noStrike">
                <a:solidFill>
                  <a:srgbClr val="9966ff"/>
                </a:solidFill>
                <a:latin typeface="Tw Cen MT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anificazione (Plan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olo 11, Russell &amp; Nor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960" y="6427800"/>
            <a:ext cx="537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sta presentazione include lucidi creati da: B.J. Dorr, L. Getoor, A. Lazaric, Russel &amp; Norvig, M. Simi, S. Sce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cci Princip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olo delle situ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nello spazio degli s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rtial order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fi di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omposizione Gerarchica (HTN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Reattivo (Reactive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gni livello contie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i i letteral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sere veri in quel passo, dipendentemente dalle azioni eseg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e le azion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vere le precondizioni soddisfatte in quel p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o trascurate tutte le possibili interazioni negative fra azioni e letter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letterale che appare per la prima volta a livello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n implica l’esistenza di un piano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ssi che lo raggiung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ò sicuramente non esiste un piano con meno di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ssi che lo raggiunge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struzione in tempo polinomiale con grado ba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fo di planning usato per costruire euristiche ammissibili: h(s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istanza tra lo stato s e il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letterale che non compare nel grafo di planning implica la non esistenza di un piano, h(s) =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  <a:ea typeface="Sy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 di un letterale: primo livello in cui comp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Stima migliore d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 se si usa grafo di planning seriale (usa mutua esclusione fra coppie di azioni (azioni persistenti escluse): una sola azione al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Max-level: massimo livello fra tutti i sotto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sum:somma i livelli dei sotto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in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Set-level: livello dove tutti i sottogoal appaiono e nessuna coppia di sottogoal è in mutua esclus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ammissibile e buono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con Calcolo delle Situ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base:  rappresentare il problema di planning i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alcolo delle situazioni ci permette di ragionare sui cambiamenti d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inferenza (theorem proving) per “provare” che una particolare sequenza di azioni, quando applicata alla situazione che caratterizza lo stato del mondo, condurrà al risultato desiderato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piano = pr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1720" y="1142640"/>
            <a:ext cx="865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Ini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a sentenza logica su (situazione)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(Milk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t(Home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no descrizioni di come il mondo cambia a causa delle azioni dell’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,s) Have(Milk,Result(a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a=Buy(Milk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(Grocery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ve(Milk, 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(Milk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(a,s) già visto (la situazione risultante dalla esecuzione della azione a nella situazione 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ze di azioni: Result'(l,s) è il risultato della esecuzione della lista di azioni (l) a partire da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Result'([ ],s) 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p,s) Result'([a|p],s) = Result'(p,Result(a,s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soluzione è un piano  che quando applicato allo stato iniziale conduce ad una situazione che soddisfa la query di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Milk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Bananas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Drill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ci si aspetta un piano (cioè un assegnamento di variabile tramite unificazione) tale 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[Go(Grocery), Buy(Milk), Buy(Bananas), Go(HardwareStore), Buy(Drill), Go(Hom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le Situazioni: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oria va bene, ma il problem solving (ricerca) è esponenziale nel caso pe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ltre, la risoluzione trov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 (=piano), non necessariamente un buon pian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ordiamoci anche del Problema del Frame, della Qualifica e della Ramific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è meglio usar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guaggio ristret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goritmo specializzato (plann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uttosto che un dimostratore generale di teo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presentazioni base per i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91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ccio classico usato negli anni 7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 rappresentati come una congiunzione di letterali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oal sono congiunzioni di letterali, ma possono avere variabili che sono assunte esse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antificate esistenz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?x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c’è bisogno di specificare completamente lo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pecificato significa non rilevante o assunto f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resenta molti casi in poca mem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sso rappresenta solo i cambiamenti nello stato piuttosto che l’intera situ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contrario di un dimostratore di teoremi, non cerca se il goal è vero, ma se c’è una sequenza di azioni che lo raggi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ppresentazione Operatori/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98004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operatori contengono tre componen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zione del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giunzione di letterali posi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t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giunzione di letterali positivi o negativi che descrivono come la situazione cambia quando si applica l’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[Action:  Go(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zioni:  At(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(here,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tto:  At(t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(here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te le variabili sono quantificate universal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variabili di situazione sono implic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recondizioni devono essere vere nello stato precedente all’applicazione dell’operatore; gli effetti sono veri immediatamente d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3124080"/>
            <a:ext cx="16002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09920" y="3200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0" y="27432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 ,Path(here,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9520" y="40766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there)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352680" y="3429000"/>
            <a:ext cx="3657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72000" y="4191120"/>
            <a:ext cx="22096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105520" y="312408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o dei bloc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1536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mondo dei blocchi è un micro-mondo che consiste di un tavolo, un insieme di blocchi e un manipolatore robo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uni vincoli del domi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blocco può essere immediatamente sopra un 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qualsiasi numero di blocchi sul tav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anipolatore può mantenere un solo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resentazione tip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0" y="4267080"/>
            <a:ext cx="3833640" cy="2471040"/>
            <a:chOff x="4572000" y="4267080"/>
            <a:chExt cx="3833640" cy="2471040"/>
          </a:xfrm>
        </p:grpSpPr>
        <p:sp>
          <p:nvSpPr>
            <p:cNvPr id="213" name=""/>
            <p:cNvSpPr/>
            <p:nvPr/>
          </p:nvSpPr>
          <p:spPr>
            <a:xfrm>
              <a:off x="4572000" y="6248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9200" y="5867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5000" y="5867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486040" y="4267080"/>
              <a:ext cx="571320" cy="995040"/>
              <a:chOff x="5486040" y="4267080"/>
              <a:chExt cx="571320" cy="995040"/>
            </a:xfrm>
          </p:grpSpPr>
          <p:sp>
            <p:nvSpPr>
              <p:cNvPr id="218" name=""/>
              <p:cNvSpPr/>
              <p:nvPr/>
            </p:nvSpPr>
            <p:spPr>
              <a:xfrm flipV="1" rot="16200000">
                <a:off x="5521680" y="47260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5316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392960" y="64008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V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o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6120" y="4172040"/>
            <a:ext cx="722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, CLEAR(C), 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124080" y="1600200"/>
            <a:ext cx="4848120" cy="2638800"/>
            <a:chOff x="3124080" y="1600200"/>
            <a:chExt cx="4848120" cy="2638800"/>
          </a:xfrm>
        </p:grpSpPr>
        <p:grpSp>
          <p:nvGrpSpPr>
            <p:cNvPr id="224" name=""/>
            <p:cNvGrpSpPr/>
            <p:nvPr/>
          </p:nvGrpSpPr>
          <p:grpSpPr>
            <a:xfrm>
              <a:off x="3124080" y="1600200"/>
              <a:ext cx="3048120" cy="2438280"/>
              <a:chOff x="3124080" y="1600200"/>
              <a:chExt cx="3048120" cy="243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3124080" y="396216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339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83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33920" y="274320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4648320" y="1600200"/>
                <a:ext cx="609480" cy="609120"/>
                <a:chOff x="4648320" y="1600200"/>
                <a:chExt cx="609480" cy="609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48320" y="19047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64832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53240" y="1600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25780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6211080" y="365760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AVOL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24080" y="1600200"/>
            <a:ext cx="3048120" cy="2438280"/>
            <a:chOff x="3124080" y="1600200"/>
            <a:chExt cx="3048120" cy="2438280"/>
          </a:xfrm>
        </p:grpSpPr>
        <p:sp>
          <p:nvSpPr>
            <p:cNvPr id="237" name=""/>
            <p:cNvSpPr/>
            <p:nvPr/>
          </p:nvSpPr>
          <p:spPr>
            <a:xfrm>
              <a:off x="3124080" y="3962520"/>
              <a:ext cx="30481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3920" y="3352680"/>
              <a:ext cx="60948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33920" y="27432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213372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648320" y="1600200"/>
              <a:ext cx="609480" cy="609120"/>
              <a:chOff x="4648320" y="1600200"/>
              <a:chExt cx="609480" cy="609120"/>
            </a:xfrm>
          </p:grpSpPr>
          <p:sp>
            <p:nvSpPr>
              <p:cNvPr id="242" name=""/>
              <p:cNvSpPr/>
              <p:nvPr/>
            </p:nvSpPr>
            <p:spPr>
              <a:xfrm>
                <a:off x="4648320" y="190476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4832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53240" y="160020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5780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995400" y="440064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A), ON(C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000" y="541800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l goal G è raggiunto in uno stato S se tutte 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e proposizioni in G sono anch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vare un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quenza di azioni (pia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raggiunge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do eseguita a partire da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o iniziale del mo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ioè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descrizioni di operatori (azioni primitive dell’agen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iniziale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olare un piano, che 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sequenza di istanze di operatori, tale che eseguita a partire dallo stato iniziale cambia il mondo in modo da portarlo in uno stato che soddisfa la descrizione dello stato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goal sono usualmente specificati come una  congiunzione di (sotto)goal da raggiun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1752480"/>
            <a:ext cx="6553440" cy="2057400"/>
          </a:xfrm>
          <a:prstGeom prst="rect">
            <a:avLst/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1828800"/>
            <a:ext cx="6519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ack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HANDEMPTY, BLOCK(x), BLOCK(y),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        CLEAR(x), ON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HANDEMPTY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LEAR(x), HOLDING(x),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(x,y), CLEA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2590920"/>
            <a:ext cx="8535240" cy="2181600"/>
            <a:chOff x="762120" y="2590920"/>
            <a:chExt cx="8535240" cy="2181600"/>
          </a:xfrm>
        </p:grpSpPr>
        <p:sp>
          <p:nvSpPr>
            <p:cNvPr id="252" name=""/>
            <p:cNvSpPr/>
            <p:nvPr/>
          </p:nvSpPr>
          <p:spPr>
            <a:xfrm>
              <a:off x="762120" y="2590920"/>
              <a:ext cx="914040" cy="1981080"/>
            </a:xfrm>
            <a:custGeom>
              <a:avLst/>
              <a:gdLst/>
              <a:ahLst/>
              <a:rect l="l" t="t" r="r" b="b"/>
              <a:pathLst>
                <a:path w="57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576" y="124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3640" y="4191120"/>
              <a:ext cx="78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recondizioni: </a:t>
              </a:r>
              <a:r>
                <a:rPr b="0" lang="en-US" sz="2800" spc="-1" strike="noStrike">
                  <a:solidFill>
                    <a:srgbClr val="008000"/>
                  </a:solidFill>
                  <a:latin typeface="Tahoma"/>
                </a:rPr>
                <a:t>congiunzione di proposi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42480" y="3290760"/>
            <a:ext cx="4839480" cy="1038600"/>
            <a:chOff x="942480" y="3290760"/>
            <a:chExt cx="4839480" cy="1038600"/>
          </a:xfrm>
        </p:grpSpPr>
        <p:grpSp>
          <p:nvGrpSpPr>
            <p:cNvPr id="255" name=""/>
            <p:cNvGrpSpPr/>
            <p:nvPr/>
          </p:nvGrpSpPr>
          <p:grpSpPr>
            <a:xfrm>
              <a:off x="942480" y="3290760"/>
              <a:ext cx="686160" cy="838440"/>
              <a:chOff x="942480" y="3290760"/>
              <a:chExt cx="686160" cy="8384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942480" y="3290760"/>
                <a:ext cx="2286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42840" y="3290760"/>
                <a:ext cx="0" cy="8384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42840" y="4129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553760" y="3747960"/>
              <a:ext cx="422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Effetto: </a:t>
              </a:r>
              <a:r>
                <a:rPr b="0" lang="en-US" sz="2800" spc="-1" strike="noStrike">
                  <a:solidFill>
                    <a:srgbClr val="990000"/>
                  </a:solidFill>
                  <a:latin typeface="Tahoma"/>
                </a:rPr>
                <a:t>lista di letter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1760" y="3048120"/>
            <a:ext cx="4803120" cy="3035160"/>
            <a:chOff x="491760" y="3048120"/>
            <a:chExt cx="4803120" cy="3035160"/>
          </a:xfrm>
        </p:grpSpPr>
        <p:sp>
          <p:nvSpPr>
            <p:cNvPr id="261" name=""/>
            <p:cNvSpPr/>
            <p:nvPr/>
          </p:nvSpPr>
          <p:spPr>
            <a:xfrm>
              <a:off x="1944720" y="3048120"/>
              <a:ext cx="20937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800" y="3505320"/>
              <a:ext cx="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1760" y="5257800"/>
              <a:ext cx="4803120" cy="825480"/>
            </a:xfrm>
            <a:prstGeom prst="rect">
              <a:avLst/>
            </a:prstGeom>
            <a:solidFill>
              <a:srgbClr val="ffd7a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ignifica: Rimuove HANDEMPTY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258160" y="2971800"/>
            <a:ext cx="3321720" cy="3110040"/>
            <a:chOff x="5258160" y="2971800"/>
            <a:chExt cx="3321720" cy="3110040"/>
          </a:xfrm>
        </p:grpSpPr>
        <p:sp>
          <p:nvSpPr>
            <p:cNvPr id="265" name=""/>
            <p:cNvSpPr/>
            <p:nvPr/>
          </p:nvSpPr>
          <p:spPr>
            <a:xfrm>
              <a:off x="5258160" y="5256360"/>
              <a:ext cx="3321720" cy="825480"/>
            </a:xfrm>
            <a:prstGeom prst="rect">
              <a:avLst/>
            </a:prstGeom>
            <a:solidFill>
              <a:srgbClr val="dee3f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Significa: Aggiungi 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HOLDING(x) 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5000" y="2971800"/>
              <a:ext cx="175248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629040" y="3581280"/>
              <a:ext cx="20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1523880"/>
            <a:ext cx="3308400" cy="2637000"/>
            <a:chOff x="762120" y="1523880"/>
            <a:chExt cx="3308400" cy="2637000"/>
          </a:xfrm>
        </p:grpSpPr>
        <p:grpSp>
          <p:nvGrpSpPr>
            <p:cNvPr id="270" name=""/>
            <p:cNvGrpSpPr/>
            <p:nvPr/>
          </p:nvGrpSpPr>
          <p:grpSpPr>
            <a:xfrm>
              <a:off x="762120" y="1523880"/>
              <a:ext cx="3048120" cy="2438280"/>
              <a:chOff x="762120" y="1523880"/>
              <a:chExt cx="3048120" cy="2438280"/>
            </a:xfrm>
          </p:grpSpPr>
          <p:sp>
            <p:nvSpPr>
              <p:cNvPr id="271" name=""/>
              <p:cNvSpPr/>
              <p:nvPr/>
            </p:nvSpPr>
            <p:spPr>
              <a:xfrm>
                <a:off x="762120" y="388584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9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3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71960" y="26668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2286360" y="1523880"/>
                <a:ext cx="609480" cy="609120"/>
                <a:chOff x="2286360" y="1523880"/>
                <a:chExt cx="609480" cy="609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286360" y="182844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8636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91280" y="15238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9584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3886560" y="3581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46920" y="2263680"/>
            <a:ext cx="52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8f5f"/>
                </a:solidFill>
                <a:latin typeface="Arial"/>
              </a:rPr>
              <a:t>BLOCK(A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LOCK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(C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LEAR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3886200"/>
            <a:ext cx="30477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86000" y="1523880"/>
            <a:ext cx="609480" cy="609840"/>
            <a:chOff x="2286000" y="1523880"/>
            <a:chExt cx="609480" cy="609840"/>
          </a:xfrm>
        </p:grpSpPr>
        <p:sp>
          <p:nvSpPr>
            <p:cNvPr id="289" name=""/>
            <p:cNvSpPr/>
            <p:nvPr/>
          </p:nvSpPr>
          <p:spPr>
            <a:xfrm>
              <a:off x="2286000" y="18288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920" y="152388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886200" y="3581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6920" y="2263680"/>
            <a:ext cx="522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CLEAR(C), HANDEMP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OLDING(C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40120" y="2558520"/>
            <a:ext cx="3657600" cy="610200"/>
            <a:chOff x="4740120" y="2558520"/>
            <a:chExt cx="3657600" cy="610200"/>
          </a:xfrm>
        </p:grpSpPr>
        <p:sp>
          <p:nvSpPr>
            <p:cNvPr id="297" name=""/>
            <p:cNvSpPr/>
            <p:nvPr/>
          </p:nvSpPr>
          <p:spPr>
            <a:xfrm flipV="1">
              <a:off x="6264000" y="3016080"/>
              <a:ext cx="175248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740120" y="2939760"/>
              <a:ext cx="1371600" cy="2286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54720" y="2558520"/>
              <a:ext cx="1143000" cy="3049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3560" y="1606680"/>
            <a:ext cx="81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BLOCK(y), CLEAR(x), ON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(x,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45640" y="2825640"/>
            <a:ext cx="7919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, BLOCK(x), BLOCK(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9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800" y="5187960"/>
            <a:ext cx="737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utDow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TAVOLO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6800" y="4044960"/>
            <a:ext cx="773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ck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CLEAR(x), 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309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314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317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322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6629400" y="1752480"/>
            <a:ext cx="20574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328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333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336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341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6629400" y="1752480"/>
            <a:ext cx="2190600" cy="376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down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lann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62120" y="1600200"/>
            <a:ext cx="1752480" cy="1503360"/>
            <a:chOff x="762120" y="1600200"/>
            <a:chExt cx="1752480" cy="1503360"/>
          </a:xfrm>
        </p:grpSpPr>
        <p:sp>
          <p:nvSpPr>
            <p:cNvPr id="346" name=""/>
            <p:cNvSpPr/>
            <p:nvPr/>
          </p:nvSpPr>
          <p:spPr>
            <a:xfrm>
              <a:off x="762120" y="160020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762120" y="1600200"/>
              <a:ext cx="1752480" cy="1503360"/>
              <a:chOff x="762120" y="1600200"/>
              <a:chExt cx="1752480" cy="1503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62120" y="1600200"/>
                <a:ext cx="1582560" cy="1181880"/>
                <a:chOff x="762120" y="1600200"/>
                <a:chExt cx="1582560" cy="1181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62120" y="27453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07856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5340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078560" y="215424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1553400" y="1600200"/>
                  <a:ext cx="316440" cy="295200"/>
                  <a:chOff x="1553400" y="1600200"/>
                  <a:chExt cx="316440" cy="29520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1553400" y="174780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55340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711800" y="16002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86984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8" name=""/>
              <p:cNvSpPr/>
              <p:nvPr/>
            </p:nvSpPr>
            <p:spPr>
              <a:xfrm>
                <a:off x="2345760" y="264636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228600" y="3352680"/>
            <a:ext cx="4876920" cy="2935440"/>
            <a:chOff x="228600" y="3352680"/>
            <a:chExt cx="4876920" cy="2935440"/>
          </a:xfrm>
        </p:grpSpPr>
        <p:grpSp>
          <p:nvGrpSpPr>
            <p:cNvPr id="360" name=""/>
            <p:cNvGrpSpPr/>
            <p:nvPr/>
          </p:nvGrpSpPr>
          <p:grpSpPr>
            <a:xfrm>
              <a:off x="3352680" y="3352680"/>
              <a:ext cx="1752840" cy="1503360"/>
              <a:chOff x="3352680" y="3352680"/>
              <a:chExt cx="1752840" cy="1503360"/>
            </a:xfrm>
          </p:grpSpPr>
          <p:sp>
            <p:nvSpPr>
              <p:cNvPr id="361" name=""/>
              <p:cNvSpPr/>
              <p:nvPr/>
            </p:nvSpPr>
            <p:spPr>
              <a:xfrm>
                <a:off x="3352680" y="33526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352680" y="3352680"/>
                <a:ext cx="1752840" cy="1503360"/>
                <a:chOff x="3352680" y="3352680"/>
                <a:chExt cx="1752840" cy="1503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352680" y="4498920"/>
                  <a:ext cx="158292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68760" y="4202280"/>
                  <a:ext cx="3175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145040" y="420228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46480" y="3906720"/>
                  <a:ext cx="31752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4145040" y="3352680"/>
                  <a:ext cx="315720" cy="295200"/>
                  <a:chOff x="4145040" y="3352680"/>
                  <a:chExt cx="315720" cy="2952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4145040" y="3500280"/>
                    <a:ext cx="31572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14504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303080" y="33526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46076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2" name=""/>
                <p:cNvSpPr/>
                <p:nvPr/>
              </p:nvSpPr>
              <p:spPr>
                <a:xfrm>
                  <a:off x="4937040" y="4398840"/>
                  <a:ext cx="16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762120" y="5105520"/>
              <a:ext cx="1600200" cy="1182600"/>
              <a:chOff x="762120" y="5105520"/>
              <a:chExt cx="1600200" cy="1182600"/>
            </a:xfrm>
          </p:grpSpPr>
          <p:sp>
            <p:nvSpPr>
              <p:cNvPr id="374" name=""/>
              <p:cNvSpPr/>
              <p:nvPr/>
            </p:nvSpPr>
            <p:spPr>
              <a:xfrm>
                <a:off x="7621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62120" y="5105520"/>
                <a:ext cx="1582560" cy="1182600"/>
                <a:chOff x="762120" y="5105520"/>
                <a:chExt cx="1582560" cy="11826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62120" y="6251760"/>
                  <a:ext cx="1582560" cy="36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77840" y="5954760"/>
                  <a:ext cx="3171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54120" y="5954760"/>
                  <a:ext cx="3153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6680" y="5958000"/>
                  <a:ext cx="317160" cy="2952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1554120" y="5105520"/>
                  <a:ext cx="315360" cy="295200"/>
                  <a:chOff x="1554120" y="5105520"/>
                  <a:chExt cx="315360" cy="295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15541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5541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7118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8694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85" name=""/>
            <p:cNvSpPr/>
            <p:nvPr/>
          </p:nvSpPr>
          <p:spPr>
            <a:xfrm>
              <a:off x="2362320" y="39625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388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28600" y="45720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952880" y="2133720"/>
            <a:ext cx="609840" cy="1828800"/>
            <a:chOff x="4952880" y="2133720"/>
            <a:chExt cx="609840" cy="1828800"/>
          </a:xfrm>
        </p:grpSpPr>
        <p:sp>
          <p:nvSpPr>
            <p:cNvPr id="389" name=""/>
            <p:cNvSpPr/>
            <p:nvPr/>
          </p:nvSpPr>
          <p:spPr>
            <a:xfrm>
              <a:off x="49528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288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362320" y="5105520"/>
            <a:ext cx="2666520" cy="1503360"/>
            <a:chOff x="2362320" y="5105520"/>
            <a:chExt cx="2666520" cy="1503360"/>
          </a:xfrm>
        </p:grpSpPr>
        <p:grpSp>
          <p:nvGrpSpPr>
            <p:cNvPr id="392" name=""/>
            <p:cNvGrpSpPr/>
            <p:nvPr/>
          </p:nvGrpSpPr>
          <p:grpSpPr>
            <a:xfrm>
              <a:off x="3276720" y="5105520"/>
              <a:ext cx="1752120" cy="1503360"/>
              <a:chOff x="3276720" y="5105520"/>
              <a:chExt cx="1752120" cy="1503360"/>
            </a:xfrm>
          </p:grpSpPr>
          <p:sp>
            <p:nvSpPr>
              <p:cNvPr id="393" name=""/>
              <p:cNvSpPr/>
              <p:nvPr/>
            </p:nvSpPr>
            <p:spPr>
              <a:xfrm>
                <a:off x="32767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36840" y="6075360"/>
                <a:ext cx="16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276720" y="5105520"/>
                <a:ext cx="1752120" cy="1503360"/>
                <a:chOff x="3276720" y="5105520"/>
                <a:chExt cx="1752120" cy="15033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276720" y="62517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592440" y="595512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95680" y="594396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70160" y="52531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4068720" y="5105520"/>
                  <a:ext cx="315360" cy="295200"/>
                  <a:chOff x="4068720" y="5105520"/>
                  <a:chExt cx="315360" cy="295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0687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0687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2264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3840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"/>
                <p:cNvSpPr/>
                <p:nvPr/>
              </p:nvSpPr>
              <p:spPr>
                <a:xfrm>
                  <a:off x="4860720" y="615168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"/>
            <p:cNvSpPr/>
            <p:nvPr/>
          </p:nvSpPr>
          <p:spPr>
            <a:xfrm>
              <a:off x="236232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62320" y="62485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5105520"/>
            <a:ext cx="2742840" cy="1503360"/>
            <a:chOff x="4876920" y="5105520"/>
            <a:chExt cx="2742840" cy="1503360"/>
          </a:xfrm>
        </p:grpSpPr>
        <p:grpSp>
          <p:nvGrpSpPr>
            <p:cNvPr id="409" name=""/>
            <p:cNvGrpSpPr/>
            <p:nvPr/>
          </p:nvGrpSpPr>
          <p:grpSpPr>
            <a:xfrm>
              <a:off x="5867280" y="5105520"/>
              <a:ext cx="1752480" cy="1503360"/>
              <a:chOff x="5867280" y="5105520"/>
              <a:chExt cx="1752480" cy="1503360"/>
            </a:xfrm>
          </p:grpSpPr>
          <p:sp>
            <p:nvSpPr>
              <p:cNvPr id="410" name=""/>
              <p:cNvSpPr/>
              <p:nvPr/>
            </p:nvSpPr>
            <p:spPr>
              <a:xfrm>
                <a:off x="586728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5867280" y="5105520"/>
                <a:ext cx="1752480" cy="1503360"/>
                <a:chOff x="5867280" y="5105520"/>
                <a:chExt cx="1752480" cy="150336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867280" y="5105520"/>
                  <a:ext cx="1582920" cy="1181880"/>
                  <a:chOff x="5867280" y="5105520"/>
                  <a:chExt cx="1582920" cy="11818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5867280" y="6250680"/>
                    <a:ext cx="158292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1837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6589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183720" y="565956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6658920" y="5105520"/>
                    <a:ext cx="316440" cy="295200"/>
                    <a:chOff x="6658920" y="5105520"/>
                    <a:chExt cx="316440" cy="29520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658920" y="5253120"/>
                      <a:ext cx="31644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665892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817320" y="51055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97536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22" name=""/>
                <p:cNvSpPr/>
                <p:nvPr/>
              </p:nvSpPr>
              <p:spPr>
                <a:xfrm>
                  <a:off x="7450920" y="6151680"/>
                  <a:ext cx="168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"/>
            <p:cNvSpPr/>
            <p:nvPr/>
          </p:nvSpPr>
          <p:spPr>
            <a:xfrm>
              <a:off x="4876920" y="5638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6920" y="6248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248520" y="3352680"/>
            <a:ext cx="1981080" cy="2286000"/>
            <a:chOff x="6248520" y="3352680"/>
            <a:chExt cx="1981080" cy="2286000"/>
          </a:xfrm>
        </p:grpSpPr>
        <p:grpSp>
          <p:nvGrpSpPr>
            <p:cNvPr id="426" name=""/>
            <p:cNvGrpSpPr/>
            <p:nvPr/>
          </p:nvGrpSpPr>
          <p:grpSpPr>
            <a:xfrm>
              <a:off x="6248520" y="3352680"/>
              <a:ext cx="1752120" cy="1752840"/>
              <a:chOff x="6248520" y="3352680"/>
              <a:chExt cx="1752120" cy="17528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248520" y="3352680"/>
                <a:ext cx="1752120" cy="1503360"/>
                <a:chOff x="6248520" y="3352680"/>
                <a:chExt cx="1752120" cy="15033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48520" y="335268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248520" y="3352680"/>
                  <a:ext cx="1752120" cy="1503360"/>
                  <a:chOff x="6248520" y="3352680"/>
                  <a:chExt cx="1752120" cy="15033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6248520" y="4498920"/>
                    <a:ext cx="158256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564240" y="4201920"/>
                    <a:ext cx="31716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40520" y="3490920"/>
                    <a:ext cx="3153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64240" y="3906720"/>
                    <a:ext cx="31716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7040520" y="3352680"/>
                    <a:ext cx="315360" cy="295200"/>
                    <a:chOff x="7040520" y="3352680"/>
                    <a:chExt cx="315360" cy="29520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040520" y="3500280"/>
                      <a:ext cx="31536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70405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19820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35588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"/>
                  <p:cNvSpPr/>
                  <p:nvPr/>
                </p:nvSpPr>
                <p:spPr>
                  <a:xfrm>
                    <a:off x="783252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0" name=""/>
              <p:cNvSpPr/>
              <p:nvPr/>
            </p:nvSpPr>
            <p:spPr>
              <a:xfrm flipV="1">
                <a:off x="6705720" y="4495680"/>
                <a:ext cx="3808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746748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629400" y="1523880"/>
            <a:ext cx="1905120" cy="2438640"/>
            <a:chOff x="6629400" y="1523880"/>
            <a:chExt cx="1905120" cy="2438640"/>
          </a:xfrm>
        </p:grpSpPr>
        <p:grpSp>
          <p:nvGrpSpPr>
            <p:cNvPr id="443" name=""/>
            <p:cNvGrpSpPr/>
            <p:nvPr/>
          </p:nvGrpSpPr>
          <p:grpSpPr>
            <a:xfrm>
              <a:off x="6629400" y="1523880"/>
              <a:ext cx="1752480" cy="1503360"/>
              <a:chOff x="6629400" y="1523880"/>
              <a:chExt cx="1752480" cy="1503360"/>
            </a:xfrm>
          </p:grpSpPr>
          <p:sp>
            <p:nvSpPr>
              <p:cNvPr id="444" name=""/>
              <p:cNvSpPr/>
              <p:nvPr/>
            </p:nvSpPr>
            <p:spPr>
              <a:xfrm>
                <a:off x="6629400" y="15238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6629400" y="1523880"/>
                <a:ext cx="1752480" cy="1503360"/>
                <a:chOff x="6629400" y="1523880"/>
                <a:chExt cx="1752480" cy="15033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629400" y="267012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45480" y="237348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43680" y="1792440"/>
                  <a:ext cx="31608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945480" y="20779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7421400" y="1523880"/>
                  <a:ext cx="316080" cy="295200"/>
                  <a:chOff x="7421400" y="1523880"/>
                  <a:chExt cx="316080" cy="2952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421400" y="1671480"/>
                    <a:ext cx="31608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42140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579440" y="15238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73748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5" name=""/>
                <p:cNvSpPr/>
                <p:nvPr/>
              </p:nvSpPr>
              <p:spPr>
                <a:xfrm>
                  <a:off x="8213760" y="257004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 flipV="1">
              <a:off x="7010280" y="26665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4872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62120" y="1600200"/>
            <a:ext cx="4343400" cy="3255840"/>
            <a:chOff x="762120" y="1600200"/>
            <a:chExt cx="4343400" cy="3255840"/>
          </a:xfrm>
        </p:grpSpPr>
        <p:grpSp>
          <p:nvGrpSpPr>
            <p:cNvPr id="459" name=""/>
            <p:cNvGrpSpPr/>
            <p:nvPr/>
          </p:nvGrpSpPr>
          <p:grpSpPr>
            <a:xfrm>
              <a:off x="762120" y="1600200"/>
              <a:ext cx="4343400" cy="3255840"/>
              <a:chOff x="762120" y="1600200"/>
              <a:chExt cx="4343400" cy="32558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352680" y="1600200"/>
                <a:ext cx="1752840" cy="1503360"/>
                <a:chOff x="3352680" y="1600200"/>
                <a:chExt cx="1752840" cy="15033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352680" y="160020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3352680" y="1600200"/>
                  <a:ext cx="1752840" cy="1503360"/>
                  <a:chOff x="3352680" y="1600200"/>
                  <a:chExt cx="1752840" cy="15033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3352680" y="2746440"/>
                    <a:ext cx="158292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668760" y="2449440"/>
                    <a:ext cx="31752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145040" y="1738440"/>
                    <a:ext cx="31572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668760" y="2154240"/>
                    <a:ext cx="31752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4145040" y="1600200"/>
                    <a:ext cx="315720" cy="295200"/>
                    <a:chOff x="4145040" y="1600200"/>
                    <a:chExt cx="315720" cy="29520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145040" y="174780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14504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303080" y="16002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46076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2" name=""/>
                  <p:cNvSpPr/>
                  <p:nvPr/>
                </p:nvSpPr>
                <p:spPr>
                  <a:xfrm>
                    <a:off x="4937040" y="2646360"/>
                    <a:ext cx="1684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" name=""/>
              <p:cNvGrpSpPr/>
              <p:nvPr/>
            </p:nvGrpSpPr>
            <p:grpSpPr>
              <a:xfrm>
                <a:off x="762120" y="3352680"/>
                <a:ext cx="1752480" cy="1503360"/>
                <a:chOff x="762120" y="3352680"/>
                <a:chExt cx="1752480" cy="15033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62120" y="337032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762120" y="3352680"/>
                  <a:ext cx="1752480" cy="1503360"/>
                  <a:chOff x="762120" y="3352680"/>
                  <a:chExt cx="1752480" cy="15033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762120" y="4498920"/>
                    <a:ext cx="158256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1078200" y="4202280"/>
                    <a:ext cx="3171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1554120" y="4202280"/>
                    <a:ext cx="31608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1555920" y="3500280"/>
                    <a:ext cx="31752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1554120" y="3352680"/>
                    <a:ext cx="316080" cy="295200"/>
                    <a:chOff x="1554120" y="3352680"/>
                    <a:chExt cx="316080" cy="2952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554120" y="3500280"/>
                      <a:ext cx="31608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15541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171216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187020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>
                    <a:off x="234648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6" name=""/>
              <p:cNvSpPr/>
              <p:nvPr/>
            </p:nvSpPr>
            <p:spPr>
              <a:xfrm>
                <a:off x="2362320" y="2133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23880" y="2819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1552320" y="2895480"/>
              <a:ext cx="14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tack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15520" y="175248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ickup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90080" y="3200400"/>
            <a:ext cx="871668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Forward planning ricerca lo spazio degli 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4480" y="4648320"/>
            <a:ext cx="8050320" cy="1068840"/>
          </a:xfrm>
          <a:prstGeom prst="rect">
            <a:avLst/>
          </a:prstGeom>
          <a:solidFill>
            <a:srgbClr val="ffe5e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 generale, molte azioni applicabili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o stato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fattore di branching e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oni Rilev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zione è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ileva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 goal se uno dei suoi effetti combacia con una proposizione d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(B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HOLDING(B), BLOCK(A), CLEA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ON(B,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(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(B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LEAR(B), HANDEMP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rilevante per ON(B,A), ON(C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4880" y="1676520"/>
            <a:ext cx="21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78800" y="23623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41200" y="2971800"/>
            <a:ext cx="3955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499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>
            <a:off x="4100400" y="2087640"/>
            <a:ext cx="1440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569760" y="2075040"/>
            <a:ext cx="536760" cy="42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92480" y="2090880"/>
            <a:ext cx="1422360" cy="3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0360" y="3962520"/>
            <a:ext cx="7697160" cy="2043720"/>
          </a:xfrm>
          <a:prstGeom prst="rect">
            <a:avLst/>
          </a:prstGeom>
          <a:solidFill>
            <a:srgbClr val="efffe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In generale, ci sono molte meno azioni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rilevanti per un goal che 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applicabili 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 fattore di branching p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piccolo che con il forwar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379600" y="16081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46800" y="198900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61480" y="229392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520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3454560" y="198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225600" y="198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0360" y="3284640"/>
            <a:ext cx="8949600" cy="2760840"/>
            <a:chOff x="90360" y="3284640"/>
            <a:chExt cx="8949600" cy="2760840"/>
          </a:xfrm>
        </p:grpSpPr>
        <p:sp>
          <p:nvSpPr>
            <p:cNvPr id="536" name=""/>
            <p:cNvSpPr/>
            <p:nvPr/>
          </p:nvSpPr>
          <p:spPr>
            <a:xfrm>
              <a:off x="90360" y="4275000"/>
              <a:ext cx="89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C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C,TAVOLO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A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ANDEMPTY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B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965880" y="3284640"/>
              <a:ext cx="7241400" cy="2760840"/>
              <a:chOff x="965880" y="3284640"/>
              <a:chExt cx="7241400" cy="2760840"/>
            </a:xfrm>
          </p:grpSpPr>
          <p:sp>
            <p:nvSpPr>
              <p:cNvPr id="538" name=""/>
              <p:cNvSpPr/>
              <p:nvPr/>
            </p:nvSpPr>
            <p:spPr>
              <a:xfrm>
                <a:off x="965880" y="3589200"/>
                <a:ext cx="598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C), ON(C,TAVOLO), HOLDING(B), CLEAR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43920" y="3284640"/>
                <a:ext cx="120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Stack(B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36360" y="3970440"/>
                <a:ext cx="113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ickup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36720" y="4579920"/>
                <a:ext cx="13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utdown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72840" y="4960800"/>
                <a:ext cx="598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A), CLEAR(B), ON(B,TAVOLO), HOLDING(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35280" y="5342040"/>
                <a:ext cx="147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Unstack(C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92240" y="5646600"/>
                <a:ext cx="711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B), ON(B,TAVOLO), CLEAR(C), HANDEMPTY, ON(C,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4560" y="336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4560" y="3970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54560" y="4656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54560" y="5342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225600" y="336060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225600" y="39704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225600" y="46562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225600" y="53420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331920" y="2674800"/>
            <a:ext cx="7115040" cy="703800"/>
            <a:chOff x="331920" y="2674800"/>
            <a:chExt cx="7115040" cy="703800"/>
          </a:xfrm>
        </p:grpSpPr>
        <p:sp>
          <p:nvSpPr>
            <p:cNvPr id="554" name=""/>
            <p:cNvSpPr/>
            <p:nvPr/>
          </p:nvSpPr>
          <p:spPr>
            <a:xfrm>
              <a:off x="3636720" y="26748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ahoma"/>
                </a:rPr>
                <a:t>Pickup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1920" y="2979720"/>
              <a:ext cx="71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A), CLEAR(B), HANDEMPTY, CLEAR(C), ON(C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54560" y="2674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225600" y="2674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90800" y="3200400"/>
            <a:ext cx="865116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Backward planning ricerca lo spazio dei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“produrre” un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ncipi pri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oscenza delle azioni) per generare un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ied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delli formali delle a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ased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cup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 piano già prodotto per una situazione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isi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 piano recuperato per adattarlo al problema in 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e azioni a caso, registrando gli ef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nde ricompense, modelli di azioni, poli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ning in STRIP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PS mantiene due strutture da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sta di St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utti i predicati correntemente ve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la di Go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una pila di goal da risolvere, con il goal corrente in testa alla pi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il goal corrente non è soddisfatto dallo stato presente, esamina gli effetti positivi degli operatori, e inserisce l’operatore e la lista delle precondizioni sulla pila.  (Subgo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do il goal corrente è soddisfatto, lo rimuove dalla pi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do un operatore è in testa alla pila, registra l’applicazione dell’operatore sulla sequenza del piano e usa gli effetti per aggiornare lo stato cor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26520" y="64533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fonte: R. Si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21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6520" y="64533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fonte: R. Si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79640" y="1903320"/>
            <a:ext cx="1665360" cy="2745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627200" cy="14353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766520" y="404640"/>
            <a:ext cx="55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zione di S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181080" y="189000"/>
            <a:ext cx="4338360" cy="3076560"/>
            <a:chOff x="181080" y="189000"/>
            <a:chExt cx="4338360" cy="3076560"/>
          </a:xfrm>
        </p:grpSpPr>
        <p:sp>
          <p:nvSpPr>
            <p:cNvPr id="569" name=""/>
            <p:cNvSpPr/>
            <p:nvPr/>
          </p:nvSpPr>
          <p:spPr>
            <a:xfrm>
              <a:off x="20016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160" y="549360"/>
              <a:ext cx="4319280" cy="271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9200" y="26892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20880" y="26733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4160" y="2257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64160" y="11779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7000" y="2709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43880" y="26938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1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645080" y="189000"/>
            <a:ext cx="4338720" cy="3076560"/>
            <a:chOff x="4645080" y="189000"/>
            <a:chExt cx="4338720" cy="3076560"/>
          </a:xfrm>
        </p:grpSpPr>
        <p:sp>
          <p:nvSpPr>
            <p:cNvPr id="579" name=""/>
            <p:cNvSpPr/>
            <p:nvPr/>
          </p:nvSpPr>
          <p:spPr>
            <a:xfrm>
              <a:off x="466416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64160" y="549360"/>
              <a:ext cx="4319640" cy="271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13200" y="26892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84880" y="26733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8160" y="2257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28160" y="11779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1000" y="2709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07880" y="26938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5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49080" y="19162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49080" y="1557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79280" y="3429000"/>
            <a:ext cx="4319640" cy="3095640"/>
            <a:chOff x="179280" y="3429000"/>
            <a:chExt cx="4319640" cy="3095640"/>
          </a:xfrm>
        </p:grpSpPr>
        <p:sp>
          <p:nvSpPr>
            <p:cNvPr id="591" name=""/>
            <p:cNvSpPr/>
            <p:nvPr/>
          </p:nvSpPr>
          <p:spPr>
            <a:xfrm>
              <a:off x="179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9280" y="378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7680" y="5948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00360" y="5932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2280" y="5516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3640" y="4437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15120" y="5969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3360" y="5952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1080" y="342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78760" y="5175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5680" y="47959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0920" y="44370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643280" y="3429000"/>
            <a:ext cx="4319640" cy="3095640"/>
            <a:chOff x="4643280" y="3429000"/>
            <a:chExt cx="4319640" cy="3095640"/>
          </a:xfrm>
        </p:grpSpPr>
        <p:sp>
          <p:nvSpPr>
            <p:cNvPr id="604" name=""/>
            <p:cNvSpPr/>
            <p:nvPr/>
          </p:nvSpPr>
          <p:spPr>
            <a:xfrm>
              <a:off x="4643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3280" y="378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1680" y="6093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64360" y="607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76280" y="56610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07640" y="458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9480" y="6113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87360" y="6097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5080" y="342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42760" y="5302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79680" y="49402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4920" y="4581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55200" y="4221000"/>
              <a:ext cx="1238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68600" y="3860640"/>
              <a:ext cx="10112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179280" y="189000"/>
            <a:ext cx="4319640" cy="3095640"/>
            <a:chOff x="179280" y="189000"/>
            <a:chExt cx="4319640" cy="3095640"/>
          </a:xfrm>
        </p:grpSpPr>
        <p:sp>
          <p:nvSpPr>
            <p:cNvPr id="619" name=""/>
            <p:cNvSpPr/>
            <p:nvPr/>
          </p:nvSpPr>
          <p:spPr>
            <a:xfrm>
              <a:off x="17928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9280" y="54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7680" y="285264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00360" y="283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2280" y="24210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43640" y="134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15120" y="2873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23360" y="2857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1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78760" y="2062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5680" y="17002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920" y="1341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1200" y="981000"/>
              <a:ext cx="1238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643280" y="189000"/>
            <a:ext cx="4319640" cy="3456000"/>
            <a:chOff x="4643280" y="189000"/>
            <a:chExt cx="4319640" cy="3456000"/>
          </a:xfrm>
        </p:grpSpPr>
        <p:sp>
          <p:nvSpPr>
            <p:cNvPr id="633" name=""/>
            <p:cNvSpPr/>
            <p:nvPr/>
          </p:nvSpPr>
          <p:spPr>
            <a:xfrm>
              <a:off x="464328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3280" y="549360"/>
              <a:ext cx="4319640" cy="309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54760" y="321300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36000" y="31971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49360" y="285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78920" y="17017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52200" y="32338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8640" y="3218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45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15840" y="2494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52760" y="21337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88000" y="1773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24600" y="1413000"/>
              <a:ext cx="1445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STACK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17080" y="1052640"/>
              <a:ext cx="291924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,CLEAR(C),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9440" y="3429000"/>
            <a:ext cx="4389480" cy="3168720"/>
            <a:chOff x="109440" y="3429000"/>
            <a:chExt cx="4389480" cy="3168720"/>
          </a:xfrm>
        </p:grpSpPr>
        <p:sp>
          <p:nvSpPr>
            <p:cNvPr id="648" name=""/>
            <p:cNvSpPr/>
            <p:nvPr/>
          </p:nvSpPr>
          <p:spPr>
            <a:xfrm>
              <a:off x="179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9280" y="3789360"/>
              <a:ext cx="4319640" cy="2808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7680" y="6164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00360" y="6148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2280" y="573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43640" y="4653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15120" y="6184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3360" y="6168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9440" y="34290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539100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5680" y="501156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920" y="46530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1440" y="4292640"/>
              <a:ext cx="1445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STACK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573440" y="3689280"/>
            <a:ext cx="4389480" cy="2908440"/>
            <a:chOff x="4573440" y="3689280"/>
            <a:chExt cx="4389480" cy="2908440"/>
          </a:xfrm>
        </p:grpSpPr>
        <p:sp>
          <p:nvSpPr>
            <p:cNvPr id="662" name=""/>
            <p:cNvSpPr/>
            <p:nvPr/>
          </p:nvSpPr>
          <p:spPr>
            <a:xfrm>
              <a:off x="4643280" y="374184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43280" y="404964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50000" y="60213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32680" y="60055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44600" y="558972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75960" y="451008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OLD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47440" y="60418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55320" y="6026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3440" y="36892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11080" y="524844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48000" y="486900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3240" y="451008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51960" y="3727440"/>
              <a:ext cx="15339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79280" y="457200"/>
            <a:ext cx="360360" cy="2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79280" y="765000"/>
            <a:ext cx="4319640" cy="254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85640" y="2736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668680" y="27208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80600" y="230508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1960" y="122544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HOLDING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LEAR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83440" y="2757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091320" y="27417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09440" y="40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46720" y="1963800"/>
            <a:ext cx="8636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4000" y="158436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7960" y="442800"/>
            <a:ext cx="15339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573800" y="404640"/>
            <a:ext cx="4389120" cy="2908440"/>
            <a:chOff x="4573800" y="404640"/>
            <a:chExt cx="4389120" cy="2908440"/>
          </a:xfrm>
        </p:grpSpPr>
        <p:sp>
          <p:nvSpPr>
            <p:cNvPr id="688" name=""/>
            <p:cNvSpPr/>
            <p:nvPr/>
          </p:nvSpPr>
          <p:spPr>
            <a:xfrm>
              <a:off x="4643280" y="457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3280" y="76500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50000" y="27367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32680" y="27208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44600" y="230508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75960" y="122544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47440" y="27576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55320" y="27417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3800" y="404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11080" y="196380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53400" y="44280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09800" y="3573360"/>
            <a:ext cx="4389120" cy="2908440"/>
            <a:chOff x="109800" y="3573360"/>
            <a:chExt cx="4389120" cy="2908440"/>
          </a:xfrm>
        </p:grpSpPr>
        <p:sp>
          <p:nvSpPr>
            <p:cNvPr id="700" name=""/>
            <p:cNvSpPr/>
            <p:nvPr/>
          </p:nvSpPr>
          <p:spPr>
            <a:xfrm>
              <a:off x="179280" y="362592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9280" y="393372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5640" y="5905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68680" y="58896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0600" y="54738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44360" y="4437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3440" y="59259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91320" y="59101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9800" y="3573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200" y="508464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9400" y="361152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0920" y="472428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573800" y="3355920"/>
            <a:ext cx="4389120" cy="3095640"/>
            <a:chOff x="4573800" y="3355920"/>
            <a:chExt cx="4389120" cy="3095640"/>
          </a:xfrm>
        </p:grpSpPr>
        <p:sp>
          <p:nvSpPr>
            <p:cNvPr id="713" name=""/>
            <p:cNvSpPr/>
            <p:nvPr/>
          </p:nvSpPr>
          <p:spPr>
            <a:xfrm>
              <a:off x="4643280" y="340848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43280" y="371628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00760" y="60199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49960" y="60040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95360" y="558792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09800" y="450864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8560" y="60404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72960" y="60246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800" y="3355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9920" y="522756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53400" y="339408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45160" y="48672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89760" y="4510080"/>
              <a:ext cx="1229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94160" y="4149720"/>
              <a:ext cx="10206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4573800" y="1555920"/>
            <a:ext cx="4389120" cy="3240000"/>
            <a:chOff x="4573800" y="1555920"/>
            <a:chExt cx="4389120" cy="3240000"/>
          </a:xfrm>
        </p:grpSpPr>
        <p:sp>
          <p:nvSpPr>
            <p:cNvPr id="728" name=""/>
            <p:cNvSpPr/>
            <p:nvPr/>
          </p:nvSpPr>
          <p:spPr>
            <a:xfrm>
              <a:off x="4643280" y="160812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73800" y="1555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3280" y="1916280"/>
              <a:ext cx="4319640" cy="287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00760" y="4292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49960" y="427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95360" y="3860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09800" y="278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98560" y="4313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72960" y="4297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1840" y="3519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98760" y="31399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53400" y="159372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4000" y="27795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21080" y="2419200"/>
              <a:ext cx="1081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KUP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16360" y="2060640"/>
              <a:ext cx="339624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,CLEAR(A), 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50920" y="1752480"/>
            <a:ext cx="360360" cy="2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0920" y="2060640"/>
            <a:ext cx="4319640" cy="273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8040" y="43639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57600" y="43480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2640" y="393228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17440" y="285264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05840" y="4384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80240" y="4368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1080" y="170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69120" y="3591000"/>
            <a:ext cx="8636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6040" y="321156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0680" y="1738440"/>
            <a:ext cx="25581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; STACK(C,B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1280" y="2851200"/>
            <a:ext cx="211932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,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86240" y="2494080"/>
            <a:ext cx="122940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50920" y="312840"/>
            <a:ext cx="36036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50920" y="620640"/>
            <a:ext cx="4319640" cy="208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36400" y="22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85960" y="22604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31360" y="184464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844360" y="76500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HAND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34200" y="2297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108960" y="2281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1080" y="26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5680" y="148608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60680" y="298440"/>
            <a:ext cx="25581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; STACK(C,B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0920" y="1125360"/>
            <a:ext cx="211932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,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765000"/>
            <a:ext cx="1081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646880" y="260280"/>
            <a:ext cx="4389120" cy="2448000"/>
            <a:chOff x="4646880" y="260280"/>
            <a:chExt cx="4389120" cy="2448000"/>
          </a:xfrm>
        </p:grpSpPr>
        <p:sp>
          <p:nvSpPr>
            <p:cNvPr id="771" name=""/>
            <p:cNvSpPr/>
            <p:nvPr/>
          </p:nvSpPr>
          <p:spPr>
            <a:xfrm>
              <a:off x="4716360" y="31284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16360" y="620640"/>
              <a:ext cx="4319640" cy="208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14800" y="22795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64360" y="2263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09760" y="184788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48960" y="1128600"/>
              <a:ext cx="129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12600" y="23004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87360" y="2284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46880" y="2602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52760" y="14860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27560" y="298440"/>
              <a:ext cx="34815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88000" y="1125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81080" y="2886120"/>
            <a:ext cx="4389480" cy="1982880"/>
            <a:chOff x="181080" y="2886120"/>
            <a:chExt cx="4389480" cy="1982880"/>
          </a:xfrm>
        </p:grpSpPr>
        <p:sp>
          <p:nvSpPr>
            <p:cNvPr id="784" name=""/>
            <p:cNvSpPr/>
            <p:nvPr/>
          </p:nvSpPr>
          <p:spPr>
            <a:xfrm>
              <a:off x="250920" y="293832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0920" y="3246480"/>
              <a:ext cx="4319640" cy="1622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6560" y="44355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616120" y="44197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1520" y="4003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0720" y="3284640"/>
              <a:ext cx="129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4360" y="4456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39120" y="44402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1080" y="28861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7240" y="364320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1760" y="2924280"/>
              <a:ext cx="34815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43640" y="2854440"/>
            <a:ext cx="4389120" cy="2446200"/>
            <a:chOff x="4643640" y="2854440"/>
            <a:chExt cx="4389120" cy="2446200"/>
          </a:xfrm>
        </p:grpSpPr>
        <p:sp>
          <p:nvSpPr>
            <p:cNvPr id="796" name=""/>
            <p:cNvSpPr/>
            <p:nvPr/>
          </p:nvSpPr>
          <p:spPr>
            <a:xfrm>
              <a:off x="4713120" y="290664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13120" y="3214800"/>
              <a:ext cx="4319640" cy="2085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37040" y="47242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86600" y="4708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32000" y="429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64720" y="3429000"/>
              <a:ext cx="129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34840" y="4745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09600" y="4729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43640" y="2854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24320" y="2892600"/>
              <a:ext cx="3435840" cy="489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TACK(A,C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003640" y="609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73040" y="5013360"/>
            <a:ext cx="3733920" cy="1684440"/>
            <a:chOff x="473040" y="5013360"/>
            <a:chExt cx="3733920" cy="1684440"/>
          </a:xfrm>
        </p:grpSpPr>
        <p:sp>
          <p:nvSpPr>
            <p:cNvPr id="808" name=""/>
            <p:cNvSpPr/>
            <p:nvPr/>
          </p:nvSpPr>
          <p:spPr>
            <a:xfrm>
              <a:off x="473040" y="6308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22600" y="6292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00720" y="5013360"/>
              <a:ext cx="129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cc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cc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70840" y="6329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5240" y="6313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539640" y="5229360"/>
              <a:ext cx="165600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Goa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raggiunto!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ani subottim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89000" indent="-189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le seguenti 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obj,loc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Un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Inside(obj,plane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Fly(plane,from,to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plane,from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plane,to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from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tato iniziale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t(obj1,locA), At(obj2,locA), At(747,locA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oal: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, 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iano: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d(obj1,747,locA); Fly(747,locA,locB); Unload(obj1,747,locB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y(747,locB,locA); Load(obj2,747,locA); Fly(747,locA,locB); Unload(obj2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560" y="37944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Esercizio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817" name=""/>
          <p:cNvSpPr/>
          <p:nvPr/>
        </p:nvSpPr>
        <p:spPr>
          <a:xfrm>
            <a:off x="6283440" y="302580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092320" y="306396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632560" y="549360"/>
            <a:ext cx="2590560" cy="2644920"/>
            <a:chOff x="5632560" y="549360"/>
            <a:chExt cx="2590560" cy="2644920"/>
          </a:xfrm>
        </p:grpSpPr>
        <p:grpSp>
          <p:nvGrpSpPr>
            <p:cNvPr id="820" name=""/>
            <p:cNvGrpSpPr/>
            <p:nvPr/>
          </p:nvGrpSpPr>
          <p:grpSpPr>
            <a:xfrm>
              <a:off x="5632560" y="549360"/>
              <a:ext cx="2590560" cy="2197800"/>
              <a:chOff x="5632560" y="549360"/>
              <a:chExt cx="2590560" cy="219780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9240" y="1920600"/>
                <a:ext cx="685800" cy="685080"/>
                <a:chOff x="6699240" y="1920600"/>
                <a:chExt cx="685800" cy="68508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6699240" y="1920600"/>
                  <a:ext cx="685800" cy="68508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967440" y="20883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935040" y="21038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235280" y="21038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6699240" y="1158480"/>
                <a:ext cx="685800" cy="761400"/>
                <a:chOff x="6699240" y="1158480"/>
                <a:chExt cx="685800" cy="7614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6699240" y="1158480"/>
                  <a:ext cx="685800" cy="76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007400" y="13852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981120" y="137952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280640" y="14022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632560" y="2606400"/>
                <a:ext cx="2590560" cy="14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89760" y="2107800"/>
                <a:ext cx="3571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6699240" y="549360"/>
                <a:ext cx="695160" cy="647280"/>
                <a:chOff x="6699240" y="549360"/>
                <a:chExt cx="695160" cy="6472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9240" y="549360"/>
                  <a:ext cx="695160" cy="64728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03800" y="7776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"/>
              <p:cNvSpPr/>
              <p:nvPr/>
            </p:nvSpPr>
            <p:spPr>
              <a:xfrm>
                <a:off x="6448680" y="2147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665760" y="28890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441440" y="1311120"/>
            <a:ext cx="2590920" cy="1943640"/>
            <a:chOff x="1441440" y="1311120"/>
            <a:chExt cx="2590920" cy="1943640"/>
          </a:xfrm>
        </p:grpSpPr>
        <p:grpSp>
          <p:nvGrpSpPr>
            <p:cNvPr id="839" name=""/>
            <p:cNvGrpSpPr/>
            <p:nvPr/>
          </p:nvGrpSpPr>
          <p:grpSpPr>
            <a:xfrm>
              <a:off x="1441440" y="1311120"/>
              <a:ext cx="2590920" cy="1474560"/>
              <a:chOff x="1441440" y="1311120"/>
              <a:chExt cx="2590920" cy="147456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2889360" y="1311120"/>
                <a:ext cx="685800" cy="685440"/>
                <a:chOff x="2889360" y="1311120"/>
                <a:chExt cx="685800" cy="6854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2889360" y="131112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157560" y="14788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125160" y="149436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425400" y="14943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670040" y="1920600"/>
                <a:ext cx="685800" cy="761760"/>
                <a:chOff x="1670040" y="1920600"/>
                <a:chExt cx="685800" cy="7617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670040" y="192060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978200" y="214740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51920" y="214164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251440" y="21643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"/>
              <p:cNvSpPr/>
              <p:nvPr/>
            </p:nvSpPr>
            <p:spPr>
              <a:xfrm>
                <a:off x="1441440" y="264456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898640" y="214596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2889360" y="1996920"/>
                <a:ext cx="695160" cy="647640"/>
                <a:chOff x="2889360" y="1996920"/>
                <a:chExt cx="695160" cy="647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2889360" y="1996920"/>
                  <a:ext cx="695160" cy="64764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193920" y="222552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2257560" y="21855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1974960" y="294948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nzioni Tip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 atomico: ogni azione è indivi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concorrenti non sono ammesse (anche se le azioni non hanno bisogno di essere ordinate fra loro nel p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deterministiche: il risultato delle azioni è completamente determinato, non c’è incertezza nel loro eff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la sola causa di cambiamento del m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omniscente: ha conoscenza completa dello stato del 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sed World As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utto quello che si sa vero è incluso nella descrizione dello stato. Ciò che non è descritto è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azione fra sottogo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i di planning semplici assumono che i sottogoal possano essere raggiunti indipend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ni sottogoal può essere risolto separatamente e poi le relative soluzioni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sercizio precedente mostra questo aspetto tramite la così detta  “Anomalia di Sussman”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luzione a on(a,b)  (tramite unstack(c,a), stack(a,b) ) è disfatta quando si risolve il secondo  sottogoal on(b,c) (tramite unstack(a,b), stack(b,c)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risolve per primo on(b,c), la soluzione sarà disfatta da 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classico non è in grado di superare quest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i non risolvi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uti alla linearità e ad azioni irrevers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obj,loc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Un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Inside(obj,plane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Fly(plane,from,to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plane,from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Have-fuel(plane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plane,to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from)]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Have-fuel(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tato iniziale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t(obj1,locA), At(obj2,locA), At(747,locA), Have-fuel(7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oal: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, 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i non risolvi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iamo di risolvere prima il sottogoal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obj1,747,locA); Fly(747,locA,locB); Unload(obj1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 non riusciamo a raggiunger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t(obj2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ché è finito il carbur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iamo di risolvere prima il sottogoal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obj2,747,locA); Fly(747,locA,locB); Unload(obj2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 non riusciamo a raggiunger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t(obj1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ché è finito il carbur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ogni caso STRIPS non è in grado di risolvere il problem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ning nello spazio degli stati: riassu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zio delle situazioni (localizzazione, possediment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iano è una soluzione trovata “cercando” tra le situazioni i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progress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ca il goal in avanti (forward) a partire dallo stato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regress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ca all’indietro (backward) a partire da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zi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lema della Anomalia di Sus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ning nello spazio dei pian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alternativa è l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icerca attraverso lo spazio dei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ia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iuttosto che delle situ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arte da u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iano parzi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viene espanso e raffinato fino a raggiungere un piano completo che risolve il probl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peratori di raffin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ggiungono vincoli a piani parziali e operatori di modifica effettuano altri cambiam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i alla STRI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ono risultare in un piano parziale del go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ghtShoe, LeftSho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tial-order planning (PO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line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ruisce un piano come un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quenza totalmente ordi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non-lineare (aka partial-order plann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ruisce un piano come un insieme di passi con alcuni vincoli tempor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coli della form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1&lt;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il passo S1 deve venire prima di S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ff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piano  ordinato parzialmente (POP) per mezz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ggiunta di un nuovo passo al pia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ggiunta di un nuovo vinco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i passi già presenti nel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P può esse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izz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vertito in un piano totalmente ordinato) attraverso un ordinamento top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imo Impeg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lanner non-lineari  incorporano il principio del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nimo impegno (least commitme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scelgono solo quelle azioni, ordinamenti, e assegnamenti di variabili che sono assolutamente necessari, lasciando le altre decisioni a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ta di prendere decisioni premature su aspetti che non con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lanner lineare sceglie sempre di aggiungere un passo in un punto preciso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lanner non-lineare sceglie di aggiungere un passo ed eventualmente qualche vincolo temporale fra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ano Non-line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ass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ni passo ha la descrizione di un operatore, precondizioni e post-con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nk causa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…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 significa che uno dei propositi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di raggiungere la precondizione C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incoli di ordin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…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 caso in cui i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ve venire prima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iano non-lineare è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ni passo menzionato in (2) e (3) è i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 prerequisito C, allora esiste un link causale in (2) nella forma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er qualch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è in (2) e il pass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in (1), 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minaccia”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rende C falso), allora (3) contien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 Piano Inizi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piano inizia nello stesso 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758040" y="3124080"/>
            <a:ext cx="1628280" cy="2590920"/>
            <a:chOff x="3758040" y="3124080"/>
            <a:chExt cx="1628280" cy="2590920"/>
          </a:xfrm>
        </p:grpSpPr>
        <p:sp>
          <p:nvSpPr>
            <p:cNvPr id="876" name=""/>
            <p:cNvSpPr/>
            <p:nvPr/>
          </p:nvSpPr>
          <p:spPr>
            <a:xfrm>
              <a:off x="4114800" y="312408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91120" y="3276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4114800" y="5029200"/>
              <a:ext cx="1020600" cy="685800"/>
              <a:chOff x="4114800" y="5029200"/>
              <a:chExt cx="1020600" cy="685800"/>
            </a:xfrm>
          </p:grpSpPr>
          <p:sp>
            <p:nvSpPr>
              <p:cNvPr id="879" name=""/>
              <p:cNvSpPr/>
              <p:nvPr/>
            </p:nvSpPr>
            <p:spPr>
              <a:xfrm>
                <a:off x="4114800" y="502920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14800" y="523080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3758040" y="3809880"/>
              <a:ext cx="16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Iniz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27960" y="4648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7200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mpio Ban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59720" y="3429000"/>
            <a:ext cx="2462040" cy="2590920"/>
            <a:chOff x="459720" y="3429000"/>
            <a:chExt cx="2462040" cy="2590920"/>
          </a:xfrm>
        </p:grpSpPr>
        <p:sp>
          <p:nvSpPr>
            <p:cNvPr id="887" name=""/>
            <p:cNvSpPr/>
            <p:nvPr/>
          </p:nvSpPr>
          <p:spPr>
            <a:xfrm>
              <a:off x="1265400" y="342900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41720" y="35816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265400" y="5334120"/>
              <a:ext cx="1020600" cy="685800"/>
              <a:chOff x="1265400" y="5334120"/>
              <a:chExt cx="1020600" cy="685800"/>
            </a:xfrm>
          </p:grpSpPr>
          <p:sp>
            <p:nvSpPr>
              <p:cNvPr id="890" name=""/>
              <p:cNvSpPr/>
              <p:nvPr/>
            </p:nvSpPr>
            <p:spPr>
              <a:xfrm>
                <a:off x="1265400" y="533412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65400" y="553572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1630440" y="4114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9720" y="4977000"/>
              <a:ext cx="24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ightShoeOn  ^ LeftShoe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22600" y="41148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3505320" y="3657600"/>
            <a:ext cx="4800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: {S1:[Op(Action:Start)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[Op(Action:Finis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: RightShoeOn^LeftShoeOn)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: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menti: {S1&lt;S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vs.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e problem solving possono spesso risolvere lo stesso tip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è più potente per le rappresentazioni e i metodi u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, goal, e azioni sono decomposte in insiemi di sentenze (usualmente in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spesso procede attraverso l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zio dei pi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ce dello spazio degli stat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che se esistono pianificatori basati sugli st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oal possono essere pianificati indipendentemente, riducendo la complessità del problema di 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733920" y="213372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819520" y="33526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7242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19520" y="45720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9880" y="5715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35232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340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27672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1814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2900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49532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incoli ed euristich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iungere solo passi che raggiungono una precondizione correntemente non raggi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e un approccio a minimo-impeg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ordinare passi a meno che non sia strettamente neces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orare link causal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ggo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a condizi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aggiungere mai un passo intermedi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vio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na azione parallela minacci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eat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cioè, ha l’effetto di negare (in gergo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bbe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isolvere la minaccia aggiungendo vincoli tempor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ma di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o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opp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opo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49440" y="3284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rcRect l="0" t="12121" r="15686" b="48485"/>
          <a:stretch/>
        </p:blipFill>
        <p:spPr>
          <a:xfrm>
            <a:off x="0" y="990720"/>
            <a:ext cx="8507520" cy="51451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1908000" y="510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79480" y="5103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81120" y="5103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soluzione delle Minac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ning Non-line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380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248520" y="1523880"/>
            <a:ext cx="2666880" cy="2743200"/>
            <a:chOff x="6248520" y="1523880"/>
            <a:chExt cx="2666880" cy="2743200"/>
          </a:xfrm>
        </p:grpSpPr>
        <p:sp>
          <p:nvSpPr>
            <p:cNvPr id="932" name=""/>
            <p:cNvSpPr/>
            <p:nvPr/>
          </p:nvSpPr>
          <p:spPr>
            <a:xfrm>
              <a:off x="6248520" y="1523880"/>
              <a:ext cx="121896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96080" y="3962520"/>
              <a:ext cx="1219320" cy="30456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58000" y="1828800"/>
              <a:ext cx="1447920" cy="2133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159200" y="1219320"/>
            <a:ext cx="3394800" cy="1254960"/>
            <a:chOff x="1159200" y="1219320"/>
            <a:chExt cx="3394800" cy="1254960"/>
          </a:xfrm>
        </p:grpSpPr>
        <p:sp>
          <p:nvSpPr>
            <p:cNvPr id="937" name=""/>
            <p:cNvSpPr/>
            <p:nvPr/>
          </p:nvSpPr>
          <p:spPr>
            <a:xfrm>
              <a:off x="1159200" y="2014560"/>
              <a:ext cx="3394800" cy="459720"/>
            </a:xfrm>
            <a:prstGeom prst="rect">
              <a:avLst/>
            </a:prstGeom>
            <a:solidFill>
              <a:srgbClr val="fff5c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Il piano è incompl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43200" y="1219320"/>
              <a:ext cx="2286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077480" y="762120"/>
            <a:ext cx="6618600" cy="3581280"/>
            <a:chOff x="1077480" y="762120"/>
            <a:chExt cx="6618600" cy="3581280"/>
          </a:xfrm>
        </p:grpSpPr>
        <p:grpSp>
          <p:nvGrpSpPr>
            <p:cNvPr id="940" name=""/>
            <p:cNvGrpSpPr/>
            <p:nvPr/>
          </p:nvGrpSpPr>
          <p:grpSpPr>
            <a:xfrm>
              <a:off x="1077480" y="762120"/>
              <a:ext cx="5018400" cy="459720"/>
              <a:chOff x="1077480" y="762120"/>
              <a:chExt cx="5018400" cy="459720"/>
            </a:xfrm>
          </p:grpSpPr>
          <p:sp>
            <p:nvSpPr>
              <p:cNvPr id="941" name=""/>
              <p:cNvSpPr/>
              <p:nvPr/>
            </p:nvSpPr>
            <p:spPr>
              <a:xfrm>
                <a:off x="1077480" y="762120"/>
                <a:ext cx="3440520" cy="459720"/>
              </a:xfrm>
              <a:prstGeom prst="rect">
                <a:avLst/>
              </a:prstGeom>
              <a:solidFill>
                <a:srgbClr val="fff5cd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ahoma"/>
                  </a:rPr>
                  <a:t>Precondizioni Apert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4267080" y="838080"/>
                <a:ext cx="1828800" cy="15264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4267080" y="990720"/>
              <a:ext cx="3429000" cy="335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668560" y="457200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C,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19320" y="3809880"/>
            <a:ext cx="518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066680" y="1752480"/>
            <a:ext cx="6477120" cy="3733920"/>
            <a:chOff x="1066680" y="1752480"/>
            <a:chExt cx="6477120" cy="3733920"/>
          </a:xfrm>
        </p:grpSpPr>
        <p:sp>
          <p:nvSpPr>
            <p:cNvPr id="959" name=""/>
            <p:cNvSpPr/>
            <p:nvPr/>
          </p:nvSpPr>
          <p:spPr>
            <a:xfrm>
              <a:off x="1066680" y="5181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24480" y="1752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2286000" y="2057400"/>
              <a:ext cx="4800600" cy="3276360"/>
              <a:chOff x="2286000" y="2057400"/>
              <a:chExt cx="4800600" cy="3276360"/>
            </a:xfrm>
          </p:grpSpPr>
          <p:sp>
            <p:nvSpPr>
              <p:cNvPr id="962" name=""/>
              <p:cNvSpPr/>
              <p:nvPr/>
            </p:nvSpPr>
            <p:spPr>
              <a:xfrm>
                <a:off x="5867280" y="4800600"/>
                <a:ext cx="1219320" cy="304920"/>
              </a:xfrm>
              <a:prstGeom prst="ellipse">
                <a:avLst/>
              </a:prstGeom>
              <a:noFill/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86000" y="4952520"/>
                <a:ext cx="3581280" cy="3812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6477120" y="2057400"/>
                <a:ext cx="457200" cy="274320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1219320" y="3048120"/>
            <a:ext cx="4800600" cy="1600200"/>
            <a:chOff x="1219320" y="3048120"/>
            <a:chExt cx="4800600" cy="1600200"/>
          </a:xfrm>
        </p:grpSpPr>
        <p:sp>
          <p:nvSpPr>
            <p:cNvPr id="1000" name=""/>
            <p:cNvSpPr/>
            <p:nvPr/>
          </p:nvSpPr>
          <p:spPr>
            <a:xfrm>
              <a:off x="1219320" y="3809880"/>
              <a:ext cx="4800600" cy="8384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2976120" y="3048120"/>
              <a:ext cx="1453320" cy="1143000"/>
              <a:chOff x="2976120" y="3048120"/>
              <a:chExt cx="1453320" cy="1143000"/>
            </a:xfrm>
          </p:grpSpPr>
          <p:sp>
            <p:nvSpPr>
              <p:cNvPr id="1002" name=""/>
              <p:cNvSpPr/>
              <p:nvPr/>
            </p:nvSpPr>
            <p:spPr>
              <a:xfrm>
                <a:off x="2976120" y="3048120"/>
                <a:ext cx="145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581280" y="3429000"/>
                <a:ext cx="0" cy="76212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4" name=""/>
          <p:cNvGrpSpPr/>
          <p:nvPr/>
        </p:nvGrpSpPr>
        <p:grpSpPr>
          <a:xfrm>
            <a:off x="4095000" y="1828800"/>
            <a:ext cx="2077200" cy="2743200"/>
            <a:chOff x="4095000" y="1828800"/>
            <a:chExt cx="2077200" cy="2743200"/>
          </a:xfrm>
        </p:grpSpPr>
        <p:sp>
          <p:nvSpPr>
            <p:cNvPr id="1005" name=""/>
            <p:cNvSpPr/>
            <p:nvPr/>
          </p:nvSpPr>
          <p:spPr>
            <a:xfrm>
              <a:off x="5867280" y="1828800"/>
              <a:ext cx="304920" cy="274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4095000" y="3504960"/>
              <a:ext cx="1924920" cy="493200"/>
              <a:chOff x="4095000" y="3504960"/>
              <a:chExt cx="1924920" cy="493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095000" y="3538440"/>
                <a:ext cx="15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ahoma"/>
                  </a:rPr>
                  <a:t>minac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5257800" y="3504960"/>
                <a:ext cx="7621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9" name=""/>
          <p:cNvGrpSpPr/>
          <p:nvPr/>
        </p:nvGrpSpPr>
        <p:grpSpPr>
          <a:xfrm>
            <a:off x="1467360" y="1481040"/>
            <a:ext cx="5085720" cy="3090960"/>
            <a:chOff x="1467360" y="1481040"/>
            <a:chExt cx="5085720" cy="3090960"/>
          </a:xfrm>
        </p:grpSpPr>
        <p:sp>
          <p:nvSpPr>
            <p:cNvPr id="1010" name=""/>
            <p:cNvSpPr/>
            <p:nvPr/>
          </p:nvSpPr>
          <p:spPr>
            <a:xfrm flipH="1">
              <a:off x="6248520" y="2743200"/>
              <a:ext cx="304560" cy="18288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1467360" y="1481040"/>
              <a:ext cx="4933440" cy="1871640"/>
              <a:chOff x="1467360" y="1481040"/>
              <a:chExt cx="4933440" cy="1871640"/>
            </a:xfrm>
          </p:grpSpPr>
          <p:sp>
            <p:nvSpPr>
              <p:cNvPr id="1012" name=""/>
              <p:cNvSpPr/>
              <p:nvPr/>
            </p:nvSpPr>
            <p:spPr>
              <a:xfrm>
                <a:off x="3048120" y="2133720"/>
                <a:ext cx="3352680" cy="121896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67360" y="1481040"/>
                <a:ext cx="156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anche lu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219320" y="3809880"/>
            <a:ext cx="4800600" cy="8384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6248520" y="2743200"/>
            <a:ext cx="304560" cy="18288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867280" y="1828800"/>
            <a:ext cx="30492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239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219320" y="1981080"/>
            <a:ext cx="4114800" cy="1828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5638680" y="2057400"/>
            <a:ext cx="91440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018800" y="1371600"/>
            <a:ext cx="5379120" cy="1191240"/>
          </a:xfrm>
          <a:prstGeom prst="rect">
            <a:avLst/>
          </a:prstGeom>
          <a:solidFill>
            <a:srgbClr val="ebf9f2"/>
          </a:solidFill>
          <a:ln w="93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Un piano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consistente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è uno in cui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non ci sono cicli e nessun conflitto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tra chi soddisfa e chi min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985400" y="2743200"/>
            <a:ext cx="5255640" cy="1191240"/>
          </a:xfrm>
          <a:prstGeom prst="rect">
            <a:avLst/>
          </a:prstGeom>
          <a:solidFill>
            <a:srgbClr val="fff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conflitto può essere elimina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ncolando l’ordine tra le 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aggiungendo nuove 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a funzione successore è un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: deve essere “applicata” ad uno stato per conoscere quali azioni sono possibili nello stato e quale è l’effetto di ogn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5280" y="4807080"/>
            <a:ext cx="5414040" cy="825480"/>
          </a:xfrm>
          <a:prstGeom prst="rect">
            <a:avLst/>
          </a:prstGeom>
          <a:solidFill>
            <a:srgbClr val="ffd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rimenti, nel mondo reale un agen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rebbe sopraffatto da azioni irrile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f7efcd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76520"/>
            <a:ext cx="72392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Supponiamo che il goal sia HAVE(MILK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Da qualche stato iniziale dove HAVE(MILK) non è soddisfatto, la funzione successore deve essere applicata ripetutamente per generare eventualmente uno stato dove HAVE(MILK) è soddisfat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Una rappresentazione esplicita delle azioni possibili e i loro effetti aiuterebbe il problem solver 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a selezionare le azioni rilev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1219320" y="2057400"/>
            <a:ext cx="5028840" cy="3124080"/>
            <a:chOff x="1219320" y="2057400"/>
            <a:chExt cx="5028840" cy="3124080"/>
          </a:xfrm>
        </p:grpSpPr>
        <p:sp>
          <p:nvSpPr>
            <p:cNvPr id="1079" name=""/>
            <p:cNvSpPr/>
            <p:nvPr/>
          </p:nvSpPr>
          <p:spPr>
            <a:xfrm flipH="1" flipV="1">
              <a:off x="5866920" y="2057400"/>
              <a:ext cx="38124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1219320" y="2057400"/>
              <a:ext cx="464796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742000" y="579132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219320" y="3809880"/>
            <a:ext cx="4572000" cy="20574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6400440" y="2743200"/>
            <a:ext cx="152280" cy="31240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867280" y="1828800"/>
            <a:ext cx="304920" cy="40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019560" y="2057400"/>
            <a:ext cx="228600" cy="312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219320" y="2057400"/>
            <a:ext cx="4647960" cy="17524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85880" y="762120"/>
            <a:ext cx="6468840" cy="2288520"/>
          </a:xfrm>
          <a:prstGeom prst="rect">
            <a:avLst/>
          </a:prstGeom>
          <a:solidFill>
            <a:srgbClr val="ebf9f2"/>
          </a:solidFill>
          <a:ln w="381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~ euristica Most-constrained-variable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in CSP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sceglie la precondizione non raggi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che può essere soddisfatta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nel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minor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numero di modi po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ON(C,TAV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219320" y="380988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284800" y="175248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219320" y="2057040"/>
            <a:ext cx="4647960" cy="3429000"/>
            <a:chOff x="1219320" y="2057040"/>
            <a:chExt cx="4647960" cy="3429000"/>
          </a:xfrm>
        </p:grpSpPr>
        <p:sp>
          <p:nvSpPr>
            <p:cNvPr id="1199" name=""/>
            <p:cNvSpPr/>
            <p:nvPr/>
          </p:nvSpPr>
          <p:spPr>
            <a:xfrm flipV="1">
              <a:off x="1219320" y="2057400"/>
              <a:ext cx="426708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029200" y="2057040"/>
              <a:ext cx="838080" cy="3429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3352680" y="2057400"/>
              <a:ext cx="2286000" cy="281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242600" y="6095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846520" y="3657600"/>
            <a:ext cx="17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CLEAR(C)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563480" y="2438280"/>
            <a:ext cx="7099560" cy="1800360"/>
          </a:xfrm>
          <a:prstGeom prst="rect">
            <a:avLst/>
          </a:prstGeom>
          <a:solidFill>
            <a:srgbClr val="f7efcd"/>
          </a:solidFill>
          <a:ln w="28440">
            <a:solidFill>
              <a:srgbClr val="a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Il piano è </a:t>
            </a:r>
            <a:r>
              <a:rPr b="1" lang="en-US" sz="2800" spc="-1" strike="noStrike" u="sng">
                <a:solidFill>
                  <a:srgbClr val="a00050"/>
                </a:solidFill>
                <a:uFillTx/>
                <a:latin typeface="Tahoma"/>
              </a:rPr>
              <a:t>completo</a:t>
            </a: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 poiché og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recondizione di ogni passo è aggiunta</a:t>
            </a:r>
            <a:br>
              <a:rPr sz="2800"/>
            </a:b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da qualche passo precedente, e nes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asso intermedio  la canc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itmo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itmo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l test di goal è un’altra funzione black-box, gli stati sono strutture dati specializzate sul dominio, e le euristiche devono essere fornite per ogni nuov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7652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upponiamo che il goal 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MILK)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nza una rappresentazione esplicita del goal, il problem solver non può sapere che uno stato dove HAVE(MILK) è già raggiunto è più promettente di uno stato dove né HAVE(MILK) né HAVE(BOOK) è r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rietà di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mo nondeterministico: in caso di fallimento effettua backtracking sui punti di scelta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choice poi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lta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 raggiunger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lta di demotion o promotion in caso di minac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lezione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irrevoc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P è corretto, completo e sistematico (nessuna ripetizio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istono estensioni (es. azioni rappresentate con FO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e se fornito di euristiche derivate dalla descrizione de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zioni rappresentate con F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. Mondo dei bloc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ondizione aperta:  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B(Z,X,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Z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Z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Clear(Y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notare che </a:t>
            </a:r>
            <a:r>
              <a:rPr b="0" lang="en-US" sz="2200" spc="-1" strike="noStrike">
                <a:solidFill>
                  <a:srgbClr val="d60093"/>
                </a:solidFill>
                <a:latin typeface="Times New Roman"/>
                <a:ea typeface="Arial"/>
              </a:rPr>
              <a:t>On(a,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= On(Z,Y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con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{Z/a,Y/b} e quindi bisogna applicar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ov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1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ve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B(a,X,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a,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Clear(b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otare che X rimane non istanz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upponiamo di aggiungere M1 al piano. Quindi aggiungiamo il link caus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→  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nel piano c’è già una azione M2 con effetto ¬On(a,Q) c’è una minaccia solo se Q pren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er rappresentare questa situazione si deve aggiungere il vin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Q ≠ b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in generale  </a:t>
            </a:r>
            <a:r>
              <a:rPr b="0" lang="it-IT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ar ≠ cos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oppure </a:t>
            </a:r>
            <a:r>
              <a:rPr b="0" lang="it-IT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ar ≠ va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4960" y="4419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 con variabi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tra 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T(W,X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W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W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W,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W,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t  costante: significa TAV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638680" y="3657600"/>
            <a:ext cx="2590560" cy="2645280"/>
            <a:chOff x="5638680" y="3657600"/>
            <a:chExt cx="2590560" cy="2645280"/>
          </a:xfrm>
        </p:grpSpPr>
        <p:grpSp>
          <p:nvGrpSpPr>
            <p:cNvPr id="1269" name=""/>
            <p:cNvGrpSpPr/>
            <p:nvPr/>
          </p:nvGrpSpPr>
          <p:grpSpPr>
            <a:xfrm>
              <a:off x="5638680" y="3657600"/>
              <a:ext cx="2590560" cy="2198520"/>
              <a:chOff x="5638680" y="3657600"/>
              <a:chExt cx="2590560" cy="2198520"/>
            </a:xfrm>
          </p:grpSpPr>
          <p:grpSp>
            <p:nvGrpSpPr>
              <p:cNvPr id="1270" name=""/>
              <p:cNvGrpSpPr/>
              <p:nvPr/>
            </p:nvGrpSpPr>
            <p:grpSpPr>
              <a:xfrm>
                <a:off x="6705360" y="5029200"/>
                <a:ext cx="685800" cy="685440"/>
                <a:chOff x="6705360" y="5029200"/>
                <a:chExt cx="685800" cy="68544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6705360" y="502920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973560" y="51969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953400" y="521244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241400" y="52124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705360" y="4267080"/>
                <a:ext cx="685800" cy="761760"/>
                <a:chOff x="6705360" y="4267080"/>
                <a:chExt cx="685800" cy="761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705360" y="426708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013520" y="44938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002000" y="44881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286760" y="45108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5638680" y="571500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95880" y="521640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"/>
              <p:cNvGrpSpPr/>
              <p:nvPr/>
            </p:nvGrpSpPr>
            <p:grpSpPr>
              <a:xfrm>
                <a:off x="6705360" y="3657600"/>
                <a:ext cx="695160" cy="647640"/>
                <a:chOff x="6705360" y="3657600"/>
                <a:chExt cx="695160" cy="6476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705360" y="3657600"/>
                  <a:ext cx="69516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009920" y="388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5" name=""/>
              <p:cNvSpPr/>
              <p:nvPr/>
            </p:nvSpPr>
            <p:spPr>
              <a:xfrm>
                <a:off x="6454800" y="52563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6671880" y="59976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447920" y="4419720"/>
            <a:ext cx="2590560" cy="1943640"/>
            <a:chOff x="1447920" y="4419720"/>
            <a:chExt cx="2590560" cy="1943640"/>
          </a:xfrm>
        </p:grpSpPr>
        <p:grpSp>
          <p:nvGrpSpPr>
            <p:cNvPr id="1288" name=""/>
            <p:cNvGrpSpPr/>
            <p:nvPr/>
          </p:nvGrpSpPr>
          <p:grpSpPr>
            <a:xfrm>
              <a:off x="1447920" y="4419720"/>
              <a:ext cx="2590560" cy="1474560"/>
              <a:chOff x="1447920" y="4419720"/>
              <a:chExt cx="2590560" cy="147456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2895480" y="4419720"/>
                <a:ext cx="685440" cy="685440"/>
                <a:chOff x="2895480" y="4419720"/>
                <a:chExt cx="685440" cy="68544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2895480" y="4419720"/>
                  <a:ext cx="68544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163680" y="45874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143160" y="460296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431520" y="46029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1676160" y="5029200"/>
                <a:ext cx="685440" cy="761760"/>
                <a:chOff x="1676160" y="5029200"/>
                <a:chExt cx="685440" cy="76176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1676160" y="5029200"/>
                  <a:ext cx="68544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983960" y="5256000"/>
                  <a:ext cx="3348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972800" y="52502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257200" y="52729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1447920" y="575316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904760" y="5254560"/>
                <a:ext cx="3567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2895480" y="5105520"/>
                <a:ext cx="694800" cy="647640"/>
                <a:chOff x="2895480" y="5105520"/>
                <a:chExt cx="694800" cy="6476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2895480" y="5105520"/>
                  <a:ext cx="69480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199680" y="5334120"/>
                  <a:ext cx="145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4" name=""/>
              <p:cNvSpPr/>
              <p:nvPr/>
            </p:nvSpPr>
            <p:spPr>
              <a:xfrm>
                <a:off x="2263320" y="5294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1981080" y="6058080"/>
              <a:ext cx="155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08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16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2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3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3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4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47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5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5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6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7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7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84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8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3581280" y="1951200"/>
            <a:ext cx="1371600" cy="457200"/>
            <a:chOff x="3581280" y="1951200"/>
            <a:chExt cx="1371600" cy="457200"/>
          </a:xfrm>
        </p:grpSpPr>
        <p:sp>
          <p:nvSpPr>
            <p:cNvPr id="1396" name=""/>
            <p:cNvSpPr/>
            <p:nvPr/>
          </p:nvSpPr>
          <p:spPr>
            <a:xfrm>
              <a:off x="3581280" y="195120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50280" y="202752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066680" y="2408400"/>
            <a:ext cx="8153280" cy="350280"/>
            <a:chOff x="1066680" y="2408400"/>
            <a:chExt cx="8153280" cy="350280"/>
          </a:xfrm>
        </p:grpSpPr>
        <p:sp>
          <p:nvSpPr>
            <p:cNvPr id="1399" name=""/>
            <p:cNvSpPr/>
            <p:nvPr/>
          </p:nvSpPr>
          <p:spPr>
            <a:xfrm>
              <a:off x="1066680" y="242244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286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292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4008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001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576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0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1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1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422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l goal può consistere di tanti sottogoal indipendenti, ma non c’è modo che il problem solver lo sa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02760" y="2286000"/>
            <a:ext cx="6330240" cy="1191240"/>
          </a:xfrm>
          <a:prstGeom prst="rect">
            <a:avLst/>
          </a:prstGeom>
          <a:solidFill>
            <a:srgbClr val="ffebe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VE(MILK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 HAVE(BOOK)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ggiunti da due sequenze di azioni qu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27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430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3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4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4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905120" y="3154320"/>
            <a:ext cx="1822320" cy="457200"/>
            <a:chOff x="1905120" y="3154320"/>
            <a:chExt cx="1822320" cy="457200"/>
          </a:xfrm>
        </p:grpSpPr>
        <p:sp>
          <p:nvSpPr>
            <p:cNvPr id="1454" name=""/>
            <p:cNvSpPr/>
            <p:nvPr/>
          </p:nvSpPr>
          <p:spPr>
            <a:xfrm>
              <a:off x="1905120" y="31543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974960" y="32302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"/>
          <p:cNvSpPr/>
          <p:nvPr/>
        </p:nvSpPr>
        <p:spPr>
          <a:xfrm>
            <a:off x="1066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209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048120" y="3701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62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465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7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7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8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488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9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0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0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1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2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525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2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3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4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4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5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6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565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7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80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83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9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9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0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606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1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8" name=""/>
          <p:cNvCxnSpPr>
            <a:stCxn id="1587" idx="2"/>
            <a:endCxn id="1594" idx="3"/>
          </p:cNvCxnSpPr>
          <p:nvPr/>
        </p:nvCxnSpPr>
        <p:spPr>
          <a:xfrm rot="5400000">
            <a:off x="5145120" y="1275480"/>
            <a:ext cx="2041920" cy="488844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sp>
        <p:nvSpPr>
          <p:cNvPr id="161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1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22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25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3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3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4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48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1447920" y="2971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57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9" name=""/>
          <p:cNvSpPr/>
          <p:nvPr/>
        </p:nvSpPr>
        <p:spPr>
          <a:xfrm flipH="1">
            <a:off x="4114440" y="2666880"/>
            <a:ext cx="2438280" cy="4572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0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66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662" name=""/>
            <p:cNvCxnSpPr>
              <a:stCxn id="1630" idx="1"/>
              <a:endCxn id="1634" idx="0"/>
            </p:cNvCxnSpPr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66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6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67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70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7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8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8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93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1701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0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"/>
          <p:cNvSpPr/>
          <p:nvPr/>
        </p:nvSpPr>
        <p:spPr>
          <a:xfrm flipH="1">
            <a:off x="3962520" y="2743200"/>
            <a:ext cx="274320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8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0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1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1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715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718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2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3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3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741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04812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749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6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 flipH="1">
            <a:off x="4038120" y="2666880"/>
            <a:ext cx="266724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3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64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65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66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0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1771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1066680" y="2330280"/>
            <a:ext cx="8153280" cy="351000"/>
            <a:chOff x="1066680" y="2330280"/>
            <a:chExt cx="8153280" cy="351000"/>
          </a:xfrm>
        </p:grpSpPr>
        <p:sp>
          <p:nvSpPr>
            <p:cNvPr id="1774" name=""/>
            <p:cNvSpPr/>
            <p:nvPr/>
          </p:nvSpPr>
          <p:spPr>
            <a:xfrm>
              <a:off x="1066680" y="2344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86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292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4008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001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6576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8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8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9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799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802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219320" y="3625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2096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048120" y="363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y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1810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1981080" y="3962520"/>
            <a:ext cx="990720" cy="685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821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4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825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826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827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1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832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835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84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84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85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861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869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88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3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884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885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886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888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 rappres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planning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pre le black-b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sando la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gi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 rappresent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7160" y="3789360"/>
            <a:ext cx="6272280" cy="1495800"/>
            <a:chOff x="2747160" y="3789360"/>
            <a:chExt cx="6272280" cy="1495800"/>
          </a:xfrm>
        </p:grpSpPr>
        <p:sp>
          <p:nvSpPr>
            <p:cNvPr id="184" name=""/>
            <p:cNvSpPr/>
            <p:nvPr/>
          </p:nvSpPr>
          <p:spPr>
            <a:xfrm>
              <a:off x="2747160" y="378936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 sol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44400" y="378936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appresentazioni Logi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6000" y="4703760"/>
              <a:ext cx="1870920" cy="581400"/>
            </a:xfrm>
            <a:prstGeom prst="rect">
              <a:avLst/>
            </a:prstGeom>
            <a:solidFill>
              <a:srgbClr val="e1ffe1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lan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86280" y="417024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357880" y="417024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896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899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90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1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1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923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1981080" y="4038480"/>
            <a:ext cx="91440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934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36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937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938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939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941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3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948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0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961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964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97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7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8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581280" y="5334120"/>
            <a:ext cx="1524240" cy="38088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990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001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3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004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005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006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008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2012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5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2026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2029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03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04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04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2052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943520" y="4540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218640" y="4540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969720" y="5257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008680" y="5257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628488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728480" y="5257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7493760" y="454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06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70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07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072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07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075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2085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0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2091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685800" y="2316240"/>
            <a:ext cx="8153280" cy="350280"/>
            <a:chOff x="685800" y="2316240"/>
            <a:chExt cx="8153280" cy="350280"/>
          </a:xfrm>
        </p:grpSpPr>
        <p:sp>
          <p:nvSpPr>
            <p:cNvPr id="2094" name=""/>
            <p:cNvSpPr/>
            <p:nvPr/>
          </p:nvSpPr>
          <p:spPr>
            <a:xfrm>
              <a:off x="68580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905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6483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0199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620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2767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10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10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11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2117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2125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136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38" name=""/>
          <p:cNvCxnSpPr/>
          <p:nvPr/>
        </p:nvCxnSpPr>
        <p:spPr>
          <a:xfrm rot="5400000">
            <a:off x="4999680" y="1247760"/>
            <a:ext cx="204408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13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14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14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143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ità di avere delle buone euristi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 per planning lineari che per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 problemi di planning non è facile derivare delle euristiche ammi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o strumento molto utile per costruire delle euristiche ammissibile è il 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grafo di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ccoglie informazioni su quali piani sono impossibili non prendendo in considerazione le minacce e il “consumo” dei letterali che chiudono le precondi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69440" y="1736280"/>
            <a:ext cx="38530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grafo di planning è un grafo costruito a livell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rimo livello è costituito dai letterali dello stato ini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uccessivi livelli sono ottenuti dalla applicazione ripetuta delle azioni che hanno i prerequisiti soddisfat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ltre i letterali di un livello sono riportati al livello successiv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persistence 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variabili !  No troppi oggetti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7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9" name="" descr=""/>
          <p:cNvPicPr/>
          <p:nvPr/>
        </p:nvPicPr>
        <p:blipFill>
          <a:blip r:embed="rId1"/>
          <a:stretch/>
        </p:blipFill>
        <p:spPr>
          <a:xfrm>
            <a:off x="1219320" y="232416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2160" name=""/>
          <p:cNvSpPr/>
          <p:nvPr/>
        </p:nvSpPr>
        <p:spPr>
          <a:xfrm>
            <a:off x="685800" y="1690560"/>
            <a:ext cx="7429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diamo un esempio su un problema sempl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2" name="" descr=""/>
          <p:cNvPicPr/>
          <p:nvPr/>
        </p:nvPicPr>
        <p:blipFill>
          <a:blip r:embed="rId1"/>
          <a:stretch/>
        </p:blipFill>
        <p:spPr>
          <a:xfrm>
            <a:off x="609480" y="1511280"/>
            <a:ext cx="8077320" cy="4451400"/>
          </a:xfrm>
          <a:prstGeom prst="rect">
            <a:avLst/>
          </a:prstGeom>
          <a:ln w="0">
            <a:noFill/>
          </a:ln>
        </p:spPr>
      </p:pic>
      <p:sp>
        <p:nvSpPr>
          <p:cNvPr id="2163" name=""/>
          <p:cNvSpPr/>
          <p:nvPr/>
        </p:nvSpPr>
        <p:spPr>
          <a:xfrm>
            <a:off x="806760" y="596268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espansione del grafo termina qu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vello i+1 = livell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045040"/>
          </a:xfrm>
          <a:prstGeom prst="rect">
            <a:avLst/>
          </a:prstGeom>
          <a:ln w="0">
            <a:noFill/>
          </a:ln>
        </p:spPr>
      </p:pic>
      <p:sp>
        <p:nvSpPr>
          <p:cNvPr id="2166" name=""/>
          <p:cNvSpPr/>
          <p:nvPr/>
        </p:nvSpPr>
        <p:spPr>
          <a:xfrm>
            <a:off x="314280" y="1089000"/>
            <a:ext cx="2400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nflitt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link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utua esclusione (mu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onsistent eff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na azione nega l’effetto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o degli effetti di una azione è la negazione di una precondizione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eting nee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na delle precondizioni di una azione è la negazione di una delle precondizioni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onsistent supp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tterali allo stesso livello sono in conflitto se uno è la negazione dell’altro o se ogni possibile coppia di azioni che potrebbe raggiungere i due letterali è mutuamente esclus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8:04:48Z</dcterms:created>
  <dc:creator> Alessandro Sperduti</dc:creator>
  <dc:description/>
  <dc:language>en-US</dc:language>
  <cp:lastModifiedBy> Alessandro Sperduti</cp:lastModifiedBy>
  <dcterms:modified xsi:type="dcterms:W3CDTF">2007-05-30T09:15:22Z</dcterms:modified>
  <cp:revision>98</cp:revision>
  <dc:subject/>
  <dc:title>Pianificazione (Planning)</dc:title>
</cp:coreProperties>
</file>