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008F-11F7-449A-9B85-DE01EE62A0C1}" type="slidenum">
              <a:rPr b="0" lang="en-NZ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-2666880" y="0"/>
            <a:ext cx="12191760" cy="9144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0240" y="4361040"/>
            <a:ext cx="503712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12B-B0C0-4FD2-A83B-12F9191F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A1E-F730-4F44-861A-92EF8EB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195-983F-462B-93E5-F40A1F7E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E1D-E14F-433A-BD42-AA1EE1E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2C3-4800-4C3A-B524-E489429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59B-D745-4562-9134-919BA09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6E4-BF8C-4B58-A03B-F04EDA6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75E-321D-4677-8613-0DFB78DC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63D-0A62-479B-9194-B5311CD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3CB-1BDC-4B5E-94AF-7E05CCB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37F-1259-4249-98D1-777722F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1A5-C7CE-43A7-9A0C-3FF4DAC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7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0AE-D739-40A8-B770-4C923A9C966F}" type="slidenum">
              <a:rPr b="0" lang="en-AU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kasabov@aut.ac.n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2124000" y="6524640"/>
            <a:ext cx="540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nkasabov@aut.ac.nz</a:t>
            </a: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                  www.kedri.inf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1628640"/>
            <a:ext cx="742968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Machine Learning: 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The Knowledge Engineering Approach </a:t>
            </a:r>
            <a:br>
              <a:rPr sz="2000"/>
            </a:br>
            <a:br>
              <a:rPr sz="1800"/>
            </a:b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Lecture  2:  Unsupervised ML Methods </a:t>
            </a:r>
            <a:br>
              <a:rPr sz="2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of. Nikola Kasabov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700360" y="549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9900"/>
                </a:solidFill>
                <a:latin typeface="Times New Roman"/>
              </a:rPr>
              <a:t>University of Padova, May 201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02444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advTm="1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3581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Unicode MS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Arial Unicode MS"/>
              </a:rPr>
              <a:t>Applications of SOM for visual exploration of dat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5832" t="11938" r="10741" b="3099"/>
          <a:stretch/>
        </p:blipFill>
        <p:spPr>
          <a:xfrm>
            <a:off x="4311720" y="3068640"/>
            <a:ext cx="4832280" cy="32558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5"/>
          <p:cNvGrpSpPr/>
          <p:nvPr/>
        </p:nvGrpSpPr>
        <p:grpSpPr>
          <a:xfrm>
            <a:off x="0" y="549360"/>
            <a:ext cx="4726080" cy="4017960"/>
            <a:chOff x="0" y="549360"/>
            <a:chExt cx="4726080" cy="4017960"/>
          </a:xfrm>
        </p:grpSpPr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4726080" cy="401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7"/>
            <p:cNvGrpSpPr/>
            <p:nvPr/>
          </p:nvGrpSpPr>
          <p:grpSpPr>
            <a:xfrm>
              <a:off x="282240" y="2387520"/>
              <a:ext cx="4238640" cy="1518480"/>
              <a:chOff x="282240" y="2387520"/>
              <a:chExt cx="4238640" cy="1518480"/>
            </a:xfrm>
          </p:grpSpPr>
          <p:sp>
            <p:nvSpPr>
              <p:cNvPr id="95" name="Line 8"/>
              <p:cNvSpPr/>
              <p:nvPr/>
            </p:nvSpPr>
            <p:spPr>
              <a:xfrm>
                <a:off x="282240" y="3266640"/>
                <a:ext cx="49428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 flipV="1">
                <a:off x="776520" y="2627280"/>
                <a:ext cx="7056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 flipV="1">
                <a:off x="847080" y="2387520"/>
                <a:ext cx="49428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341720" y="2387520"/>
                <a:ext cx="3108240" cy="151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4450320" y="3346560"/>
                <a:ext cx="70560" cy="55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20872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NZ" sz="2400" spc="-1" strike="noStrike">
                <a:solidFill>
                  <a:srgbClr val="c00000"/>
                </a:solidFill>
                <a:latin typeface="Arial Unicode MS"/>
              </a:rPr>
              <a:t>Evolving Self Organised Maps (ESOM) </a:t>
            </a:r>
            <a:br>
              <a:rPr sz="2400"/>
            </a:br>
            <a:r>
              <a:rPr b="0" lang="en-NZ" sz="2000" spc="-1" strike="noStrike">
                <a:solidFill>
                  <a:srgbClr val="c00000"/>
                </a:solidFill>
                <a:latin typeface="Arial Unicode MS"/>
              </a:rPr>
              <a:t>(Deng and Kasabov, 2003)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c00000"/>
                </a:solidFill>
                <a:latin typeface="Arial Unicode MS"/>
              </a:rPr>
              <a:t>- 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earning is in the original data space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 - No pre-defined number of output nodes (neurons) 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Algorithm:</a:t>
            </a:r>
            <a:br>
              <a:rPr sz="1800"/>
            </a:br>
            <a:br>
              <a:rPr sz="24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1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 Input a new data vector 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  Find a set S of prototypes that are closer to 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than a pre-defined threshold.  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 3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  If S is null, go to step 4 (inser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),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otherwise – calculate the activations a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of all nodes from S and go to step 5 (updating).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 4 (insertion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): Create a new node 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for 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and make a connection between this node and its two closest nodes (nearest  neighbours) that will form a set S. 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 5 (updating)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 Modify all prototypes in S and re-calculate the connections s(i,j) between  the winning node i (or the newly created one) and all the nodes j in the set S:                        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s(i,j) = a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 Unicode MS"/>
              </a:rPr>
              <a:t>i 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 Unicode MS"/>
              </a:rPr>
              <a:t>j 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/ max {a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, a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}  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 6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 After a certain number of input data are presented to the system, prune the weakest connections. If isolated nodes appear, prune them as well.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Step 7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go to step 1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Footer Placeholder 6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c00000"/>
                </a:solidFill>
                <a:latin typeface="Arial Unicode MS"/>
              </a:rPr>
              <a:t>4. Generic applications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836280"/>
            <a:ext cx="8135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Clustering of time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series data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5" name="Picture 4" descr="esom"/>
          <p:cNvPicPr/>
          <p:nvPr/>
        </p:nvPicPr>
        <p:blipFill>
          <a:blip r:embed="rId1"/>
          <a:stretch/>
        </p:blipFill>
        <p:spPr>
          <a:xfrm>
            <a:off x="3627360" y="3817800"/>
            <a:ext cx="3353040" cy="2476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lu5"/>
          <p:cNvPicPr/>
          <p:nvPr/>
        </p:nvPicPr>
        <p:blipFill>
          <a:blip r:embed="rId2"/>
          <a:stretch/>
        </p:blipFill>
        <p:spPr>
          <a:xfrm>
            <a:off x="4923000" y="2065320"/>
            <a:ext cx="2000160" cy="150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lu72"/>
          <p:cNvPicPr/>
          <p:nvPr/>
        </p:nvPicPr>
        <p:blipFill>
          <a:blip r:embed="rId3"/>
          <a:stretch/>
        </p:blipFill>
        <p:spPr>
          <a:xfrm>
            <a:off x="2484360" y="1989000"/>
            <a:ext cx="2181240" cy="163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lu70"/>
          <p:cNvPicPr/>
          <p:nvPr/>
        </p:nvPicPr>
        <p:blipFill>
          <a:blip r:embed="rId4"/>
          <a:stretch/>
        </p:blipFill>
        <p:spPr>
          <a:xfrm>
            <a:off x="1417680" y="427500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109" name="Line 8"/>
          <p:cNvSpPr/>
          <p:nvPr/>
        </p:nvSpPr>
        <p:spPr>
          <a:xfrm flipH="1">
            <a:off x="5303880" y="358920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170160" y="2903400"/>
            <a:ext cx="1600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1798560" y="5646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</a:rPr>
              <a:t>Evolving SOMs (ESOM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</a:rPr>
              <a:t>ESOM structure from Mackey-Glass time series ( Fig 2.19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1029"/>
          <p:cNvSpPr/>
          <p:nvPr/>
        </p:nvSpPr>
        <p:spPr>
          <a:xfrm>
            <a:off x="1685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Unicode MS"/>
              </a:rPr>
              <a:t>Clustering for filling missing valu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81000"/>
            <a:ext cx="79185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ssume that the value 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i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is missing in a vector (sample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m= 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1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2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…,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i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…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n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2. Find the closest K samples to sample  Sm based on the distance, measured with the use of the only available variables 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s not included) –  a set Sm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3. Substitute 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 Unicode MS"/>
              </a:rPr>
              <a:t>i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 =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Ʃ   (1-dj)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Unicode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/ (Ʃ (1-dj) 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j=1,K                       j=1,K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here dj is the distance between sample Sm and sample Sj from the set Sm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 For every new input vector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, find the closest K samples to build a model (the new vector x is a center of a cluster and find K closest members of this cluster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00000"/>
                </a:solidFill>
                <a:latin typeface="Arial Unicode MS"/>
              </a:rPr>
              <a:t>Clustering for Classification Task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</a:rPr>
              <a:t>The training data for the benchmark two-spiral problem; a) the two-spiral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</a:rPr>
              <a:t>benchmark data; b) evolved structures of SOM (left) and ESOM (right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</a:rPr>
              <a:t>(fig. 2.1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685800" y="1981080"/>
          <a:ext cx="23623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23623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"/>
          <p:cNvGraphicFramePr/>
          <p:nvPr/>
        </p:nvGraphicFramePr>
        <p:xfrm>
          <a:off x="3276720" y="2133720"/>
          <a:ext cx="2049480" cy="18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133720"/>
                    <a:ext cx="204948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4"/>
          <p:cNvGraphicFramePr/>
          <p:nvPr/>
        </p:nvGraphicFramePr>
        <p:xfrm>
          <a:off x="5791320" y="2133720"/>
          <a:ext cx="213336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133720"/>
                    <a:ext cx="2133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Unicode MS"/>
                <a:ea typeface="Times New Roman"/>
              </a:rPr>
              <a:t>On-line Colour Quantis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cerned with the reduction of the number of colours, n, an image is represented into a smaller number of colours, m, without degrading the quality of the imag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eps for image quantisation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p all n colours of the pixels of an image into the RGB space and clustering all the data points into a smaller number of clusters (e.g. 256) that best represent each colour of the original pictur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bstitute the original colour for each pixel with its closest prototype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Unicode MS"/>
                <a:ea typeface="Times New Roman"/>
              </a:rPr>
              <a:t>Colour Quantisation using ESO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OM algorithm is applied to problem of on-line colour quantisation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sults are compared with those achieved by applying other methods, including median-cut, octree, and Wu's method</a:t>
            </a:r>
            <a:r>
              <a:rPr b="0" lang="en-A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OM not only achieves a very small value of average quantisation error, its error variance is also the smallest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is explains why images quantised by ESOM have better visual quality than those done by other methods.</a:t>
            </a:r>
            <a:r>
              <a:rPr b="0" lang="en-A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accuracy of ESOM is comparable with the other methods, and in several cases, e.g., the Lena image, the best one achieved</a:t>
            </a:r>
            <a:r>
              <a:rPr b="0" lang="en-A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ing ESOM, takes only one epoch of propagating pixels through the ESOM structure, while the other methods require many iterations</a:t>
            </a:r>
            <a:r>
              <a:rPr b="0" lang="en-A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Unicode MS"/>
                <a:ea typeface="Times New Roman"/>
              </a:rPr>
              <a:t>Colour Quantisation using ESO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38858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  <a:ea typeface="Times New Roman"/>
              </a:rPr>
              <a:t>Pool Balls benchmark image (fig. 12.3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  <a:ea typeface="Times New Roman"/>
              </a:rPr>
              <a:t>Mandrill benchmark image (fig. 12.4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b2b2b2"/>
                </a:solidFill>
                <a:latin typeface="Arial Unicode MS"/>
                <a:ea typeface="Times New Roman"/>
              </a:rPr>
              <a:t>Lenna benchmark image (fig. 12.5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3" name="Object 2"/>
          <p:cNvGraphicFramePr/>
          <p:nvPr/>
        </p:nvGraphicFramePr>
        <p:xfrm>
          <a:off x="1066680" y="1752480"/>
          <a:ext cx="1752840" cy="15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175284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3"/>
          <p:cNvGraphicFramePr/>
          <p:nvPr/>
        </p:nvGraphicFramePr>
        <p:xfrm>
          <a:off x="3352680" y="1752480"/>
          <a:ext cx="1676520" cy="16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752480"/>
                    <a:ext cx="167652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4"/>
          <p:cNvGraphicFramePr/>
          <p:nvPr/>
        </p:nvGraphicFramePr>
        <p:xfrm>
          <a:off x="5638680" y="1676520"/>
          <a:ext cx="1741680" cy="16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676520"/>
                    <a:ext cx="174168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</a:rPr>
              <a:t>Further Reading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lustering algorithms (Hartigan, 1975;  Bezdek, 1987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-means clustering (MacQueen, 1967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uzzy C-means clustering (Bezdek, 1981, 1987, 1993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remental clustering (Fisher, 1989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daptive Resonance Theory (Carpenter and Grossberg, 1987,90,91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elf-organizing maps (Kohonen, 1977, 1982, 1990, 1993, 1997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haotic SOM (Dingle  et al, 1993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ural gas (Martinez and Schulten, 1994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owing neural gas (Fritzke, 1995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ynamic topology representing networks (Si et   al, 2000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ernel-based equiprobabilistic topographic map formation (Van Hulle, 1998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topological  neural  map for on-line learning (Gaussier and Zrehen, 1994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ynamic cell structures (Bruske and Sommer, 1995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owing cell structures (Fritzke, 1992 and 1994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OM (Deng and Kasabov,2003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CM (Kasabov and Song, 2002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patial tessellation (Okabe et al, 1992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4978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Unicode MS"/>
              </a:rPr>
              <a:t>                                 </a:t>
            </a:r>
            <a:r>
              <a:rPr b="1" lang="en-GB" sz="2800" spc="-1" strike="noStrike">
                <a:solidFill>
                  <a:srgbClr val="ff0000"/>
                </a:solidFill>
                <a:latin typeface="Arial Unicode MS"/>
              </a:rPr>
              <a:t>Content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ypes of unsupervised learn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2.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lustering. Evolving clustering method (ECM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3.  Vector quantisation. Self-organising maps - SOM and ES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4.  Generic application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.  Assignment specification </a:t>
            </a: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hapter 2 from the text book) 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Footer Placeholder 3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999720"/>
            <a:ext cx="814356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Kasabov, Evolving connectionist systems: The Knowledge engineering approach, Springer 2007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Kasabov, Foundations of neural networks, fuzzy systems and knowledge engineering, MIT Press, 199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, D., N. Kasabov, On-line pattern analysis by evolving self-organising maps, Neurocomputing , Volume 51, April (2003)  87-10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abov, N., and Song, Q., DENFIS: Dynamic Evolving Neural-Fuzzy Inference System and its Application for Time Series Prediction, IEEE Transactions on Fuzzy System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l. 10, 2, April, (2002) 144-154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 Unicode MS"/>
              </a:rPr>
              <a:t>1. Types of unsupervised Learnin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71360"/>
            <a:ext cx="7924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 Unicode MS"/>
              </a:rPr>
              <a:t>Clustering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Discovering groupings (clusters) of data represented by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 Unicode MS"/>
              </a:rPr>
              <a:t>Cluster centr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 Unicode MS"/>
              </a:rPr>
              <a:t>Membership degree of each sample to each clust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 Unicode MS"/>
              </a:rPr>
              <a:t>Exact and fuzzy clusterin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 Unicode MS"/>
              </a:rPr>
              <a:t>Vector Quantis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Mapping data vectors from the original to a smaller dimensional space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 Unicode MS"/>
              </a:rPr>
              <a:t>Prototype Learning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Similar to clustering, but instead of cluster centers, prototypes of data points are found to represent all data to some degree of accuracy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00000"/>
                </a:solidFill>
                <a:latin typeface="Arial Unicode MS"/>
              </a:rPr>
              <a:t>Distance measu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544200" y="1158120"/>
            <a:ext cx="142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. Euclidean distanc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443400" y="1700280"/>
                <a:ext cx="15699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uc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yi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" name="Rectangle 5"/>
          <p:cNvSpPr/>
          <p:nvPr/>
        </p:nvSpPr>
        <p:spPr>
          <a:xfrm>
            <a:off x="3492360" y="2455200"/>
            <a:ext cx="28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. City block distance (Hamming distance)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3137040" y="2781360"/>
                <a:ext cx="23684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it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" name="Rectangle 7"/>
          <p:cNvSpPr/>
          <p:nvPr/>
        </p:nvSpPr>
        <p:spPr>
          <a:xfrm>
            <a:off x="3621960" y="364428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. Cosine distance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3100320" y="4005360"/>
                <a:ext cx="2330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xiyi</m:t>
                        </m:r>
                      </m:e>
                    </m:rad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10"/>
          <p:cNvSpPr/>
          <p:nvPr/>
        </p:nvSpPr>
        <p:spPr>
          <a:xfrm>
            <a:off x="3458520" y="479664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4. Correlation distance 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0" y="3036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Rectangle 12"/>
          <p:cNvSpPr/>
          <p:nvPr/>
        </p:nvSpPr>
        <p:spPr>
          <a:xfrm>
            <a:off x="0" y="32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674800" y="5300640"/>
                <a:ext cx="3495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o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i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yi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c00000"/>
                </a:solidFill>
                <a:latin typeface="Arial Unicode MS"/>
              </a:rPr>
              <a:t>2. Clustering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Batch mode (off line) clustering – many iterations to optimise the cluster centre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On-line (evolving, adaptive, incremental) clustering – one pass of data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Pre-fixed or evolving number of cluster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Learns K cluster centres as the mean value of the data vectors (examples, samples) in this cluster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Optimisation is based on the minimum distance of each sample to its cluster center and maximum distance between the centr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Pre-fixed number of cluster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Hierarchical clust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Fuzzy clustering (Bezdek, 1981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Optimisation is based not on ‘crisp’ membership (0 or 1) but on fuzzy membership degree (between 0 and 1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2000160" y="6500880"/>
            <a:ext cx="5000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</a:rPr>
              <a:t>                             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00000"/>
                </a:solidFill>
                <a:latin typeface="Arial Unicode MS"/>
              </a:rPr>
              <a:t>ECM: Evolving clustering method (Kasabov and Song, 2002) </a:t>
            </a:r>
            <a:r>
              <a:rPr b="0" lang="en-NZ" sz="2000" spc="-1" strike="noStrike">
                <a:solidFill>
                  <a:srgbClr val="ff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764640"/>
            <a:ext cx="76532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 Unicode MS"/>
              </a:rPr>
              <a:t>Fast one-pass algorithm for dynamic clustering of input of stream data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 Unicode MS"/>
              </a:rPr>
              <a:t>Performs a simple evolving, on-line, maximum distance based clustering, designed for on-line evolving clustering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 Unicode MS"/>
              </a:rPr>
              <a:t>ECMc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suitable for off-line and on-line clust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Applies a global optimisation technique to the results from EC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Unicode MS"/>
              </a:rPr>
              <a:t>Works in an off-line, iterative mode on a batch of dat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83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00000"/>
                </a:solidFill>
                <a:latin typeface="Arial Unicode MS"/>
              </a:rPr>
              <a:t>Evolving clustering method (ECM) </a:t>
            </a:r>
            <a:br>
              <a:rPr sz="2400"/>
            </a:br>
            <a:r>
              <a:rPr b="0" lang="en-NZ" sz="1800" spc="-1" strike="noStrike">
                <a:solidFill>
                  <a:srgbClr val="c00000"/>
                </a:solidFill>
                <a:latin typeface="Arial Unicode MS"/>
              </a:rPr>
              <a:t>(pp.61-67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57322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Times New Roman"/>
              </a:rPr>
              <a:t>An evolving clustering process using ECM with consecutiv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Times New Roman"/>
              </a:rPr>
              <a:t>examples x1 to x9 in a 2D space (Kasabov and Song, DENFIS, IEEE Tr FS, 2002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8000" y="1052640"/>
          <a:ext cx="8883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52640"/>
                    <a:ext cx="8883720" cy="4680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Unicode MS"/>
              </a:rPr>
              <a:t>The ECM algorith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920" y="836280"/>
            <a:ext cx="86421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0. Create the first cluster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by simply taking the position of the first example from the input data stream as the first cluster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and setting a value 0 for its cluster radius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1. IF all examples from the data stream have been processed, THEN the clustering process finishes, ELSE the current input example,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is taken and the normalised Euclidean distanc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between this example and all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already created cluster centres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||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||, 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1, 2, … ,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is calculated.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2. IF there is a cluster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with a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a cluster radius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and distance valu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m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such that: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a)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||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 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||  =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min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{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} =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min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{ ||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|| }, for 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1, 2, … ,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; and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b)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&lt;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THEN the current example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is considered belonging to this cluster. In this case neither a new cluster is created, nor any existing cluster is updated (e.g. data vectors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4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and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). The algorithm then returns to Step 1.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ELSE: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3.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Find a cluster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(with a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a cluster radius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and a distance valu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which cluster has a minimum valu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min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}, 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= 1, 2, …,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4.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IF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s greater than 2×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thr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the example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does not belong to any existing cluster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THEN A new cluster is created in the same way as described in Step 0. Return to Step 1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5: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   IF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s not greater than 2×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Dthr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THEN the cluster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s updated by moving its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and increasing its radius valu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. The updated radius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 Unicode MS"/>
              </a:rPr>
              <a:t>new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is set to be equal to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/2 and the new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 Unicode MS"/>
              </a:rPr>
              <a:t>new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is located on the line connecting input vector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and the old cluster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, so that distance from the new centre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c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 Unicode MS"/>
              </a:rPr>
              <a:t>new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to the point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is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equal to 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Ru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 Unicode MS"/>
              </a:rPr>
              <a:t>new</a:t>
            </a:r>
            <a:r>
              <a:rPr b="0" i="1" lang="en-GB" sz="1400" spc="-1" strike="noStrike" baseline="-25000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e.g. input data points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, 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  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Arial Unicode MS"/>
              </a:rPr>
              <a:t>7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Arial Unicode M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in the Figure above). The algorithm then returns to Step 1.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c00000"/>
                </a:solidFill>
                <a:latin typeface="Arial Unicode MS"/>
              </a:rPr>
              <a:t>3. Vector Quantisation. Self Organising Maps (SOM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52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 Unicode MS"/>
              </a:rPr>
              <a:t>Teuvo Kohonen, TU Helsinki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The neurons form a topologically organised map (2D, 3D etc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Each neuron specializes during the training to react to similar input vectors from a group (cluster) of the input spac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Neurons in output layer are competitiv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SOMs preserve similarity between input vectors from the input space as </a:t>
            </a:r>
            <a:r>
              <a:rPr b="0" i="1" lang="en-NZ" sz="1800" spc="-1" strike="noStrike">
                <a:solidFill>
                  <a:srgbClr val="000000"/>
                </a:solidFill>
                <a:latin typeface="Arial Unicode MS"/>
              </a:rPr>
              <a:t>topological closeness of neurons</a:t>
            </a:r>
            <a:r>
              <a:rPr b="0" lang="en-NZ" sz="1800" spc="-1" strike="noStrike">
                <a:solidFill>
                  <a:srgbClr val="000000"/>
                </a:solidFill>
                <a:latin typeface="Arial Unicode MS"/>
              </a:rPr>
              <a:t> in the output space (the map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Footer Placeholder 6"/>
          <p:cNvSpPr/>
          <p:nvPr/>
        </p:nvSpPr>
        <p:spPr>
          <a:xfrm>
            <a:off x="305928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Unicode MS"/>
              </a:rPr>
              <a:t>nkasabov@aut.ac.nz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940360" y="1125360"/>
          <a:ext cx="280836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125360"/>
                    <a:ext cx="280836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02:59:00Z</dcterms:created>
  <dc:creator>AUT</dc:creator>
  <dc:description/>
  <dc:language>en-US</dc:language>
  <cp:lastModifiedBy>ДИАНА</cp:lastModifiedBy>
  <dcterms:modified xsi:type="dcterms:W3CDTF">2011-05-19T06:54:51Z</dcterms:modified>
  <cp:revision>187</cp:revision>
  <dc:subject/>
  <dc:title>Gene Trajectory Clustering with a Hybrid Genetic Algorithm and Expectation Maximization Method</dc:title>
</cp:coreProperties>
</file>