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02E-3558-40E4-BEA6-2D98EAF3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B93-970D-4057-8D1D-F9E5167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427-5BC1-4201-BA9B-D04CADC6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FBC-423A-429C-A1C4-2756ED2B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E13-8219-45E2-A72E-78F50A1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E1C-D6DF-4A32-A0BD-706887D5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AAC-27FA-4B23-92F6-57D0E0E9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235-3A6A-4BA9-A0DA-29A098D1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CF5-8DC8-4DD4-8EFA-77A9FC3C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A91-1630-42B0-B9EF-EDBDD37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84C-C1C1-4121-88AC-CE16B60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987-D6A2-4458-BDD6-7CB98FA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42ED-A800-4074-8932-120A89EA4F7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anificazione (Planning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olo 11, Russell &amp; Nor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0960" y="6427800"/>
            <a:ext cx="537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sta presentazione include lucidi creati da: B.J. Dorr, L. Getoor, A. Lazaric, Russel &amp; Norvig, M. Simi, S. Sce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ci Princip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olo delle situ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nello spazio degli s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rtial order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fi di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omposizione Gerarchica (HTN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Reattivo (Reactive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con Calcolo delle Situ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base:  rappresentare il problema di planning i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alcolo delle situazioni ci permette di ragionare sui cambiamenti d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inferenza (theorem proving) per “provare” che una particolare sequenza di azioni, quando applicata alla situazione che caratterizza lo stato del mondo, condurrà al risultato desiderato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piano = pr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1720" y="1142640"/>
            <a:ext cx="865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Iniz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a sentenza logica su (situazione)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(Milk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t(Home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ono descrizioni di come il mondo cambia a causa delle azioni dell’ ag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,s) Have(Milk,Result(a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a=Buy(Milk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(Grocery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ve(Milk, 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(Milk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(a,s) già visto (la situazione risultante dalla esecuzione della azione a nella situazione 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ze di azioni: Result'(l,s) è il risultato della esecuzione della lista di azioni (l) a partire da 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Result'([ ],s) 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p,s) Result'([a|p],s) = Result'(p,Result(a,s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soluzione è un piano  che quando applicato allo stato iniziale conduce ad una situazione che soddisfa la query di go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Home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Milk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Bananas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Drill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ci si aspetta un piano (cioè un assegnamento di variabile tramite unificazione) tale c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[Go(Grocery), Buy(Milk), Buy(Bananas), Go(HardwareStore), Buy(Drill), Go(Home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le Situazioni: Anali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oria va bene, ma il problem solving (ricerca) è esponenziale nel caso pe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ltre, la risoluzione trov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 (=piano), non necessariamente un buon pian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ordiamoci anche del Problema del Frame, della Qualifica e della Ramific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è meglio usar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guaggio ristret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lgoritmo specializzato (plann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uttosto che un dimostratore generale di teor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presentazioni base per i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9912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ccio classico usato negli anni 7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 rappresentati come una congiunzione di letterali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oal sono congiunzioni di letterali, ma possono avere variabili che sono assunte esser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antificate esistenz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?x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c’è bisogno di specificare completamente lo s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pecificato significa non rilevante o assunto f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resenta molti casi in poca mem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sso rappresenta solo i cambiamenti nello stato piuttosto che l’intera situ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contrario di un dimostratore di teoremi, non cerca se il goal è vero, ma se c’è una sequenza di azioni che lo raggiu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ppresentazione Operatori/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98004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operatori contengono tre componen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zione del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ndi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giunzione di letterali posi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t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giunzione di letterali positivi o negativi che descrivono come la situazione cambia quando si applica l’ope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[Action:  Go(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zioni:  At(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(here,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tto:  At(t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(here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te le variabili sono quantificate universal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variabili di situazione sono implic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recondizioni devono essere vere nello stato precedente all’applicazione dell’operatore; gli effetti sono veri immediatamente d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3124080"/>
            <a:ext cx="16002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09920" y="3200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(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02400" y="27432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 ,Path(here,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89520" y="40766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there)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429000"/>
            <a:ext cx="3657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4191120"/>
            <a:ext cx="22096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312408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o dei bloc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1536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mondo dei blocchi è un micro-mondo che consiste di un tavolo, un insieme di blocchi e un manipolatore robo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uni vincoli del domi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olo blocco può essere immediatamente sopra un 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qualsiasi numero di blocchi sul tav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anipolatore può mantenere un solo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presentazione tip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4267080"/>
            <a:ext cx="3833640" cy="2471040"/>
            <a:chOff x="4572000" y="4267080"/>
            <a:chExt cx="3833640" cy="2471040"/>
          </a:xfrm>
        </p:grpSpPr>
        <p:sp>
          <p:nvSpPr>
            <p:cNvPr id="96" name=""/>
            <p:cNvSpPr/>
            <p:nvPr/>
          </p:nvSpPr>
          <p:spPr>
            <a:xfrm>
              <a:off x="4572000" y="6248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9200" y="5867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9200" y="548640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5867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486040" y="4267080"/>
              <a:ext cx="571320" cy="995040"/>
              <a:chOff x="5486040" y="4267080"/>
              <a:chExt cx="571320" cy="995040"/>
            </a:xfrm>
          </p:grpSpPr>
          <p:sp>
            <p:nvSpPr>
              <p:cNvPr id="101" name=""/>
              <p:cNvSpPr/>
              <p:nvPr/>
            </p:nvSpPr>
            <p:spPr>
              <a:xfrm flipV="1" rot="16200000">
                <a:off x="5521680" y="47260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5316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392960" y="64008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V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o 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6120" y="4172040"/>
            <a:ext cx="722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B), CLEAR(C), HAND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24080" y="1600200"/>
            <a:ext cx="4848120" cy="2638800"/>
            <a:chOff x="3124080" y="1600200"/>
            <a:chExt cx="4848120" cy="2638800"/>
          </a:xfrm>
        </p:grpSpPr>
        <p:grpSp>
          <p:nvGrpSpPr>
            <p:cNvPr id="107" name=""/>
            <p:cNvGrpSpPr/>
            <p:nvPr/>
          </p:nvGrpSpPr>
          <p:grpSpPr>
            <a:xfrm>
              <a:off x="3124080" y="1600200"/>
              <a:ext cx="3048120" cy="2438280"/>
              <a:chOff x="3124080" y="1600200"/>
              <a:chExt cx="3048120" cy="2438280"/>
            </a:xfrm>
          </p:grpSpPr>
          <p:sp>
            <p:nvSpPr>
              <p:cNvPr id="108" name=""/>
              <p:cNvSpPr/>
              <p:nvPr/>
            </p:nvSpPr>
            <p:spPr>
              <a:xfrm>
                <a:off x="3124080" y="396216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483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274320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4648320" y="1600200"/>
                <a:ext cx="609480" cy="609120"/>
                <a:chOff x="4648320" y="1600200"/>
                <a:chExt cx="609480" cy="6091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648320" y="19047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64832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953240" y="160020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5780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6211080" y="3657600"/>
              <a:ext cx="17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AVOL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124080" y="1600200"/>
            <a:ext cx="3048120" cy="2438280"/>
            <a:chOff x="3124080" y="1600200"/>
            <a:chExt cx="3048120" cy="2438280"/>
          </a:xfrm>
        </p:grpSpPr>
        <p:sp>
          <p:nvSpPr>
            <p:cNvPr id="120" name=""/>
            <p:cNvSpPr/>
            <p:nvPr/>
          </p:nvSpPr>
          <p:spPr>
            <a:xfrm>
              <a:off x="3124080" y="3962520"/>
              <a:ext cx="30481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3920" y="3352680"/>
              <a:ext cx="60948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274320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213372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648320" y="1600200"/>
              <a:ext cx="609480" cy="609120"/>
              <a:chOff x="4648320" y="1600200"/>
              <a:chExt cx="609480" cy="609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648320" y="1904760"/>
                <a:ext cx="609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4832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53240" y="160020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80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995400" y="440064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A), ON(C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000" y="541800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l goal G è raggiunto in uno stato S se tutte 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e proposizioni in G sono anch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vare un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quenza di azioni (pia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 raggiunge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do eseguita a partire da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o iniziale del mo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ioè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descrizioni di operatori (azioni primitive dell’agen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iniziale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olare un piano, che 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sequenza di istanze di operatori, tale che eseguita a partire dallo stato iniziale cambia il mondo in modo da portarlo in uno stato che soddisfa la descrizione dello stato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goal sono usualmente specificati come una  congiunzione di (sotto)goal da raggiung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752480"/>
            <a:ext cx="6553440" cy="2057400"/>
          </a:xfrm>
          <a:prstGeom prst="rect">
            <a:avLst/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1160" y="1828800"/>
            <a:ext cx="6519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tack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HANDEMPTY, BLOCK(x), BLOCK(y), 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        CLEAR(x), ON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HANDEMPTY,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LEAR(x), HOLDING(x),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(x,y), CLEA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120" y="2590920"/>
            <a:ext cx="8535240" cy="2181600"/>
            <a:chOff x="762120" y="2590920"/>
            <a:chExt cx="8535240" cy="2181600"/>
          </a:xfrm>
        </p:grpSpPr>
        <p:sp>
          <p:nvSpPr>
            <p:cNvPr id="135" name=""/>
            <p:cNvSpPr/>
            <p:nvPr/>
          </p:nvSpPr>
          <p:spPr>
            <a:xfrm>
              <a:off x="762120" y="2590920"/>
              <a:ext cx="914040" cy="1981080"/>
            </a:xfrm>
            <a:custGeom>
              <a:avLst/>
              <a:gdLst/>
              <a:ahLst/>
              <a:rect l="l" t="t" r="r" b="b"/>
              <a:pathLst>
                <a:path w="57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576" y="124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3640" y="4191120"/>
              <a:ext cx="789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recondizioni: </a:t>
              </a:r>
              <a:r>
                <a:rPr b="0" lang="en-US" sz="2800" spc="-1" strike="noStrike">
                  <a:solidFill>
                    <a:srgbClr val="008000"/>
                  </a:solidFill>
                  <a:latin typeface="Tahoma"/>
                </a:rPr>
                <a:t>congiunzione di proposizio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42480" y="3290760"/>
            <a:ext cx="4839480" cy="1038600"/>
            <a:chOff x="942480" y="3290760"/>
            <a:chExt cx="4839480" cy="1038600"/>
          </a:xfrm>
        </p:grpSpPr>
        <p:grpSp>
          <p:nvGrpSpPr>
            <p:cNvPr id="138" name=""/>
            <p:cNvGrpSpPr/>
            <p:nvPr/>
          </p:nvGrpSpPr>
          <p:grpSpPr>
            <a:xfrm>
              <a:off x="942480" y="3290760"/>
              <a:ext cx="686160" cy="838440"/>
              <a:chOff x="942480" y="3290760"/>
              <a:chExt cx="686160" cy="83844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942480" y="3290760"/>
                <a:ext cx="2286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42840" y="3290760"/>
                <a:ext cx="0" cy="8384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42840" y="4129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553760" y="3747960"/>
              <a:ext cx="422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Effetto: </a:t>
              </a:r>
              <a:r>
                <a:rPr b="0" lang="en-US" sz="2800" spc="-1" strike="noStrike">
                  <a:solidFill>
                    <a:srgbClr val="990000"/>
                  </a:solidFill>
                  <a:latin typeface="Tahoma"/>
                </a:rPr>
                <a:t>lista di letter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1760" y="3048120"/>
            <a:ext cx="4803120" cy="3035160"/>
            <a:chOff x="491760" y="3048120"/>
            <a:chExt cx="4803120" cy="3035160"/>
          </a:xfrm>
        </p:grpSpPr>
        <p:sp>
          <p:nvSpPr>
            <p:cNvPr id="144" name=""/>
            <p:cNvSpPr/>
            <p:nvPr/>
          </p:nvSpPr>
          <p:spPr>
            <a:xfrm>
              <a:off x="1944720" y="3048120"/>
              <a:ext cx="20937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3505320"/>
              <a:ext cx="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1760" y="5257800"/>
              <a:ext cx="4803120" cy="825480"/>
            </a:xfrm>
            <a:prstGeom prst="rect">
              <a:avLst/>
            </a:prstGeom>
            <a:solidFill>
              <a:srgbClr val="ffd7a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ignifica: Rimuove HANDEMPTY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258160" y="2971800"/>
            <a:ext cx="3321720" cy="3110040"/>
            <a:chOff x="5258160" y="2971800"/>
            <a:chExt cx="3321720" cy="3110040"/>
          </a:xfrm>
        </p:grpSpPr>
        <p:sp>
          <p:nvSpPr>
            <p:cNvPr id="148" name=""/>
            <p:cNvSpPr/>
            <p:nvPr/>
          </p:nvSpPr>
          <p:spPr>
            <a:xfrm>
              <a:off x="5258160" y="5256360"/>
              <a:ext cx="3321720" cy="825480"/>
            </a:xfrm>
            <a:prstGeom prst="rect">
              <a:avLst/>
            </a:prstGeom>
            <a:solidFill>
              <a:srgbClr val="dee3f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Significa: Aggiungi 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HOLDING(x) 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2971800"/>
              <a:ext cx="175248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629040" y="3581280"/>
              <a:ext cx="205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523880"/>
            <a:ext cx="3308400" cy="2637000"/>
            <a:chOff x="762120" y="1523880"/>
            <a:chExt cx="3308400" cy="2637000"/>
          </a:xfrm>
        </p:grpSpPr>
        <p:grpSp>
          <p:nvGrpSpPr>
            <p:cNvPr id="153" name=""/>
            <p:cNvGrpSpPr/>
            <p:nvPr/>
          </p:nvGrpSpPr>
          <p:grpSpPr>
            <a:xfrm>
              <a:off x="762120" y="1523880"/>
              <a:ext cx="3048120" cy="2438280"/>
              <a:chOff x="762120" y="1523880"/>
              <a:chExt cx="3048120" cy="243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762120" y="388584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719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3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71960" y="26668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2286360" y="1523880"/>
                <a:ext cx="609480" cy="609120"/>
                <a:chOff x="2286360" y="1523880"/>
                <a:chExt cx="609480" cy="60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286360" y="182844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28636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591280" y="15238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84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3886560" y="35812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6920" y="2263680"/>
            <a:ext cx="522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8f5f"/>
                </a:solidFill>
                <a:latin typeface="Arial"/>
              </a:rPr>
              <a:t>BLOCK(A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LOCK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(C,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LEAR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86200"/>
            <a:ext cx="30477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0" y="1523880"/>
            <a:ext cx="609480" cy="609840"/>
            <a:chOff x="2286000" y="1523880"/>
            <a:chExt cx="609480" cy="609840"/>
          </a:xfrm>
        </p:grpSpPr>
        <p:sp>
          <p:nvSpPr>
            <p:cNvPr id="172" name=""/>
            <p:cNvSpPr/>
            <p:nvPr/>
          </p:nvSpPr>
          <p:spPr>
            <a:xfrm>
              <a:off x="2286000" y="18288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152388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86200" y="3581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6920" y="2263680"/>
            <a:ext cx="522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CLEAR(C), HANDEMP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OLDING(C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40120" y="2558520"/>
            <a:ext cx="3657600" cy="610200"/>
            <a:chOff x="4740120" y="2558520"/>
            <a:chExt cx="3657600" cy="610200"/>
          </a:xfrm>
        </p:grpSpPr>
        <p:sp>
          <p:nvSpPr>
            <p:cNvPr id="180" name=""/>
            <p:cNvSpPr/>
            <p:nvPr/>
          </p:nvSpPr>
          <p:spPr>
            <a:xfrm flipV="1">
              <a:off x="6264000" y="3016080"/>
              <a:ext cx="175248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740120" y="2939760"/>
              <a:ext cx="1371600" cy="2286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254720" y="2558520"/>
              <a:ext cx="1143000" cy="3049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“produrre” un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z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ncipi pri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oscenza delle azioni) per generare un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ied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delli formali delle a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Based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cup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 piano già prodotto per una situazione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isi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l piano recuperato per adattarlo al problema in 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e azioni a caso, registrando gli eff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nde ricompense, modelli di azioni, poli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nzioni Tip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 atomico: ogni azione è indivis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concorrenti non sono ammesse (anche se le azioni non hanno bisogno di essere ordinate fra loro nel p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deterministiche: il risultato delle azioni è completamente determinato, non c’è incertezza nel loro eff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la sola causa di cambiamento del mo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omniscente: ha conoscenza completa dello stato del m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osed World As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utto quello che si sa vero è incluso nella descrizione dello stato. Ciò che non è descritto è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vs.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e problem solving possono spesso risolvere lo stesso tip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è più potente per le rappresentazioni e i metodi u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, goal, e azioni sono decomposte in insiemi di sentenze (usualmente in F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cerca spesso procede attraverso l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azio dei pia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ce dello spazio degli stat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che se esistono pianificatori basati sugli st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goal possono essere pianificati indipendentemente, riducendo la complessità del problema di 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a funzione successore è un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: deve essere “applicata” ad uno stato per conoscere quali azioni sono possibili nello stato e quale è l’effetto di ogn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75280" y="4807080"/>
            <a:ext cx="5414040" cy="825480"/>
          </a:xfrm>
          <a:prstGeom prst="rect">
            <a:avLst/>
          </a:prstGeom>
          <a:solidFill>
            <a:srgbClr val="ffd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trimenti, nel mondo reale un agent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rebbe sopraffatto da azioni irrile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f7efcd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676520"/>
            <a:ext cx="72392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Supponiamo che il goal sia HAVE(MILK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Da qualche stato iniziale dove HAVE(MILK) non è soddisfatto, la funzione successore deve essere applicata ripetutamente per generare eventualmente uno stato dove HAVE(MILK) è soddisfat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Una rappresentazione esplicita delle azioni possibili e i loro effetti aiuterebbe il problem solver 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a selezionare le azioni rilev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l test di goal è un’altra funzione black-box, gli stati sono strutture dati specializzate sul dominio, e le euristiche devono essere fornite per ogni nuov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67652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upponiamo che il goal 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MILK)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nza una rappresentazione esplicita del goal, il problem solver non può sapere che uno stato dove HAVE(MILK) è già raggiunto è più promettente di uno stato dove né HAVE(MILK) né HAVE(BOOK) è rag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l goal può consistere di tanti sottogoal indipendenti, ma non c’è modo che il problem solver lo sa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02760" y="2286000"/>
            <a:ext cx="6330240" cy="1191240"/>
          </a:xfrm>
          <a:prstGeom prst="rect">
            <a:avLst/>
          </a:prstGeom>
          <a:solidFill>
            <a:srgbClr val="ffebe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VE(MILK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 HAVE(BOOK) possono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ggiunti da due sequenze di azioni qu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: rappresent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planning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pre le black-b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sando la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gic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 rappresent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70760" y="3276720"/>
            <a:ext cx="6272280" cy="1495800"/>
            <a:chOff x="2570760" y="3276720"/>
            <a:chExt cx="6272280" cy="1495800"/>
          </a:xfrm>
        </p:grpSpPr>
        <p:sp>
          <p:nvSpPr>
            <p:cNvPr id="67" name=""/>
            <p:cNvSpPr/>
            <p:nvPr/>
          </p:nvSpPr>
          <p:spPr>
            <a:xfrm>
              <a:off x="2570760" y="3276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 sol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68000" y="327672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appresentazioni Logi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9600" y="4191120"/>
              <a:ext cx="1870920" cy="581400"/>
            </a:xfrm>
            <a:prstGeom prst="rect">
              <a:avLst/>
            </a:prstGeom>
            <a:solidFill>
              <a:srgbClr val="e1ffe1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lan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36576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181480" y="365760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9:51:38Z</dcterms:created>
  <dc:creator> Alessandro Sperduti</dc:creator>
  <dc:description/>
  <dc:language>en-US</dc:language>
  <cp:lastModifiedBy> Alessandro Sperduti</cp:lastModifiedBy>
  <dcterms:modified xsi:type="dcterms:W3CDTF">2006-05-30T19:52:04Z</dcterms:modified>
  <cp:revision>1</cp:revision>
  <dc:subject/>
  <dc:title>Pianificazione (Planning)</dc:title>
</cp:coreProperties>
</file>