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7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673-E112-49EE-915B-E9BD3B84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16A-BB66-4ADA-A943-9EEA432C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512-3765-468D-A1C2-CCEE5CF6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151-3E73-4EC4-8B14-4D875C90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3EC-569A-44AC-860A-B68DBCC4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263-8CED-46A9-8428-15CC3B6A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F01-2B4B-4322-BADA-09BAD973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73E-2D08-492D-AE4D-25991ED2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767-C956-4841-9D41-FFC2A325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C6D-7783-412A-9BD4-D5E65AA1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FAC-520D-46B1-8D9D-45B20BB2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F4DB-CB6F-4C18-8E55-57063E3C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768E-A827-40F9-9B7F-BB18296D632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e 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53560" y="1606680"/>
            <a:ext cx="81543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ANDEMPTY, BLOCK(x), BLOCK(y), CLEAR(x), ON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x), HOLDING(x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(x,y), CLEAR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5640" y="2825640"/>
            <a:ext cx="7919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OLDING(x), BLOCK(x), BLOCK(y), CLEAR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ON(x,y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y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(x), CLEAR(x), 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7160" y="491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800" y="5187960"/>
            <a:ext cx="7371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utDown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OLDING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ON(x,TAVOLO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ING(x), CLEAR(x), 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6800" y="4044960"/>
            <a:ext cx="7733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cku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= HANDEMPTY, BLOCK(x), CLEAR(x), ON(x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x), HOLDING(x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x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637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rciz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283440" y="3025800"/>
            <a:ext cx="488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92320" y="3063960"/>
            <a:ext cx="488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632560" y="549360"/>
            <a:ext cx="2590560" cy="2644920"/>
            <a:chOff x="5632560" y="549360"/>
            <a:chExt cx="2590560" cy="2644920"/>
          </a:xfrm>
        </p:grpSpPr>
        <p:grpSp>
          <p:nvGrpSpPr>
            <p:cNvPr id="424" name=""/>
            <p:cNvGrpSpPr/>
            <p:nvPr/>
          </p:nvGrpSpPr>
          <p:grpSpPr>
            <a:xfrm>
              <a:off x="5632560" y="549360"/>
              <a:ext cx="2590560" cy="2197800"/>
              <a:chOff x="5632560" y="549360"/>
              <a:chExt cx="2590560" cy="21978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6699240" y="1920600"/>
                <a:ext cx="685800" cy="685080"/>
                <a:chOff x="6699240" y="1920600"/>
                <a:chExt cx="685800" cy="68508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6699240" y="1920600"/>
                  <a:ext cx="685800" cy="68508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967440" y="208836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935040" y="210384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235280" y="210384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699240" y="1158480"/>
                <a:ext cx="685800" cy="761400"/>
                <a:chOff x="6699240" y="1158480"/>
                <a:chExt cx="685800" cy="761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699240" y="1158480"/>
                  <a:ext cx="685800" cy="7614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7007400" y="138528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981120" y="137952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80640" y="140220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5632560" y="2606400"/>
                <a:ext cx="2590560" cy="14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089760" y="2107800"/>
                <a:ext cx="3571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6699240" y="549360"/>
                <a:ext cx="695160" cy="647280"/>
                <a:chOff x="6699240" y="549360"/>
                <a:chExt cx="695160" cy="64728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699240" y="549360"/>
                  <a:ext cx="695160" cy="647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003800" y="7776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6448680" y="21477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6665760" y="28890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441440" y="1311120"/>
            <a:ext cx="2590920" cy="1943640"/>
            <a:chOff x="1441440" y="1311120"/>
            <a:chExt cx="2590920" cy="1943640"/>
          </a:xfrm>
        </p:grpSpPr>
        <p:grpSp>
          <p:nvGrpSpPr>
            <p:cNvPr id="443" name=""/>
            <p:cNvGrpSpPr/>
            <p:nvPr/>
          </p:nvGrpSpPr>
          <p:grpSpPr>
            <a:xfrm>
              <a:off x="1441440" y="1311120"/>
              <a:ext cx="2590920" cy="1474560"/>
              <a:chOff x="1441440" y="1311120"/>
              <a:chExt cx="2590920" cy="147456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2889360" y="1311120"/>
                <a:ext cx="685800" cy="685440"/>
                <a:chOff x="2889360" y="1311120"/>
                <a:chExt cx="685800" cy="6854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889360" y="131112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157560" y="147888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125160" y="149436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425400" y="149436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1670040" y="1920600"/>
                <a:ext cx="685800" cy="761760"/>
                <a:chOff x="1670040" y="1920600"/>
                <a:chExt cx="685800" cy="7617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1670040" y="1920600"/>
                  <a:ext cx="68580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978200" y="214740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951920" y="214164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251440" y="21643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>
                <a:off x="1441440" y="2644560"/>
                <a:ext cx="259092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898640" y="214596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2889360" y="1996920"/>
                <a:ext cx="695160" cy="647640"/>
                <a:chOff x="2889360" y="1996920"/>
                <a:chExt cx="695160" cy="6476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889360" y="1996920"/>
                  <a:ext cx="695160" cy="647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193920" y="222552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>
                <a:off x="2257560" y="21855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974960" y="2949480"/>
              <a:ext cx="155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ver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65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164160" indent="-16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possibile piano generato 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st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c,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ack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stack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,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stack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ck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160" indent="-16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 altro piano generabile 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[stack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unstack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,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unstack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,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ck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unstack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,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stack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stack(a,b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160" indent="-16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l piano ideale non sempre ottenibile con pianificazione “lineare” (dipende dalla rappresentazione scelta per lo stato iniziale, ad esempio se on(c,T) è in fondo alla pi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[unstack(c,a), stack(b, c), stack(a, b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zione fra sotto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23840" indent="-123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i di planning semplici assumono che i sottogoal possano essere raggiunti indipendent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1400" indent="-12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i sottogoal può essere risolto separatamente e poi le relative soluzioni concat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840" indent="-123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ercizio precedente mostra questo aspetto tramite la così detta  “Anomalia di Sussman”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1400" indent="-12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oluzione a on(a,b)  (tramite unstack(c,a), stack(a,b) ) è disfatta quando si risolve il secondo  sottogoal on(b,c) (tramite unstack(a,b), stack(b,c)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1400" indent="-12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si risolve per primo on(b,c), la soluzione sarà disfatta da on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23840" indent="-123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PS classico non è in grado di superare quest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23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nello spazio degli stati: riassu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5840" indent="-19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zio delle situazioni (localizzazione, possedimenti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840" indent="-19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iano è una soluzione trovata “cercando” tra le situazioni il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840" indent="-19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lanner progressi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rca il goal in avanti (forward) a partire dallo stato iniz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840" indent="-19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lanner regressi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rca all’indietro (backward) a partire dal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840" indent="-195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tenzio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a della Anomalia di Suss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nello spazio dei pi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75680" indent="-17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alternativa è l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icerca attraverso lo spazio dei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pia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iuttosto che delle situazi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56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5680" indent="-17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parte da u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iano parzi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 viene espanso e raffinato fino a raggiungere un piano completo che risolve il probl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56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5680" indent="-1756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peratori di raffin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giungono vincoli a piani parziali e operatori di modifica effettuano altri cambiame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56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5680" indent="-17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i alla STRI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1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(ACTION: RightShoe, PRECOND: RightSockOn, EFFECT: RightShoe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1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(ACTION: RightSock, EFFECT: RightSock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1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(ACTION: LeftShoe, PRECOND: LeftSockOn, EFFECT: LeftShoe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1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(ACTION: LeftSock, EFFECT: leftSock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ono risultare in un piano parziale del go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RightShoe, LeftShoe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al-order planning (P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166680" indent="-166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lanner line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struisce un piano come una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quenza totalmente ordin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a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lanner non-lineare (aka partial-order planne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struisce un piano come un insieme di passi con alcuni vincoli tempor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ncoli della form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1&lt;S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il passo S1 deve venire prima di S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aff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 piano  ordinato parzialmente (POP) per mezzo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1677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giunta di un nuovo passo al pia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1677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giunta di un nuovo vinco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i passi già presenti nel p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POP può esser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inearizza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nvertito in un piano totalmente ordinato) attraverso un ordinamento top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o Impe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nner non-lineari  incorporano il principio del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inimo impegno (least commitme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3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scelgono solo quelle azioni, ordinamenti, e assegnamenti di variabili che sono assolutamente necessari, lasciando le altre decisioni a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3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ta di prendere decisioni premature su aspetti che non cont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planner lineare sceglie sempre di aggiungere un passo in un punto preciso della seque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planner non-lineare sceglie di aggiungere un passo ed eventualmente qualche vincolo temporale fra pa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ano Non-line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153000" indent="-153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Un insieme di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as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21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ni passo ha la descrizione di un operatore, precondizioni e post-cond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Un insieme di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k causa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 …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C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21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significa che uno dei propositi del pass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è di raggiungere la precondizione C del pass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Un insieme di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ncoli di ordin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 …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21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 caso in cui il pass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 venire prima del pass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3000" indent="-153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piano non-lineare è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le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5200" indent="-154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i passo menzionato in (2) e (3) è in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5200" indent="-154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 prerequisito C, allora esiste un link causale in (2) nella forma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C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er qualch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5200" indent="-154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C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è in (2) e il passo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è in (1), 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minaccia”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C,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rende C falso), allora (3) contien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5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5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5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Piano Iniz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iano inizia nello stesso m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758040" y="3124080"/>
            <a:ext cx="1628280" cy="2590920"/>
            <a:chOff x="3758040" y="3124080"/>
            <a:chExt cx="1628280" cy="2590920"/>
          </a:xfrm>
        </p:grpSpPr>
        <p:sp>
          <p:nvSpPr>
            <p:cNvPr id="478" name=""/>
            <p:cNvSpPr/>
            <p:nvPr/>
          </p:nvSpPr>
          <p:spPr>
            <a:xfrm>
              <a:off x="4114800" y="3124080"/>
              <a:ext cx="99072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91120" y="3276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: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4114800" y="5029200"/>
              <a:ext cx="1020600" cy="685800"/>
              <a:chOff x="4114800" y="5029200"/>
              <a:chExt cx="1020600" cy="685800"/>
            </a:xfrm>
          </p:grpSpPr>
          <p:sp>
            <p:nvSpPr>
              <p:cNvPr id="481" name=""/>
              <p:cNvSpPr/>
              <p:nvPr/>
            </p:nvSpPr>
            <p:spPr>
              <a:xfrm>
                <a:off x="4114800" y="5029200"/>
                <a:ext cx="99684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14800" y="5230800"/>
                <a:ext cx="102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2:Fini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3758040" y="3809880"/>
              <a:ext cx="162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tato Inizi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27960" y="464832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tato Go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72000" y="38098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 Ba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171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(ACTION: RightShoe, PRECOND: RightSockOn, EFFECT: RightShoe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(ACTION: RightSock, EFFECT: RightSock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(ACTION: LeftShoe, PRECOND: LeftSockOn, EFFECT: LeftShoe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0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(ACTION: LeftSock, EFFECT: leftSock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59720" y="3429000"/>
            <a:ext cx="2462040" cy="2590920"/>
            <a:chOff x="459720" y="3429000"/>
            <a:chExt cx="2462040" cy="2590920"/>
          </a:xfrm>
        </p:grpSpPr>
        <p:sp>
          <p:nvSpPr>
            <p:cNvPr id="489" name=""/>
            <p:cNvSpPr/>
            <p:nvPr/>
          </p:nvSpPr>
          <p:spPr>
            <a:xfrm>
              <a:off x="1265400" y="3429000"/>
              <a:ext cx="99072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1720" y="35816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:St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1265400" y="5334120"/>
              <a:ext cx="1020600" cy="685800"/>
              <a:chOff x="1265400" y="5334120"/>
              <a:chExt cx="1020600" cy="685800"/>
            </a:xfrm>
          </p:grpSpPr>
          <p:sp>
            <p:nvSpPr>
              <p:cNvPr id="492" name=""/>
              <p:cNvSpPr/>
              <p:nvPr/>
            </p:nvSpPr>
            <p:spPr>
              <a:xfrm>
                <a:off x="1265400" y="5334120"/>
                <a:ext cx="99684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265400" y="5535720"/>
                <a:ext cx="102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2:Finis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1630440" y="41148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9720" y="4977000"/>
              <a:ext cx="24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ightShoeOn  ^ LeftShoe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22600" y="411480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505320" y="3657600"/>
            <a:ext cx="4800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: {S1:[Op(Action:Start)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[Op(Action:Finis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: RightShoeOn^LeftShoeOn)]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: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menti: {S1&lt;S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2860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o ini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819520" y="2286000"/>
            <a:ext cx="3581280" cy="1828800"/>
            <a:chOff x="2819520" y="2286000"/>
            <a:chExt cx="3581280" cy="1828800"/>
          </a:xfrm>
        </p:grpSpPr>
        <p:sp>
          <p:nvSpPr>
            <p:cNvPr id="50" name=""/>
            <p:cNvSpPr/>
            <p:nvPr/>
          </p:nvSpPr>
          <p:spPr>
            <a:xfrm>
              <a:off x="2819520" y="3962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76720" y="3581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86400" y="358128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520" y="3581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200040" y="2286000"/>
              <a:ext cx="571320" cy="995040"/>
              <a:chOff x="3200040" y="2286000"/>
              <a:chExt cx="571320" cy="995040"/>
            </a:xfrm>
          </p:grpSpPr>
          <p:sp>
            <p:nvSpPr>
              <p:cNvPr id="55" name=""/>
              <p:cNvSpPr/>
              <p:nvPr/>
            </p:nvSpPr>
            <p:spPr>
              <a:xfrm flipV="1" rot="16200000">
                <a:off x="3235680" y="274500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467160" y="22860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2819520" y="4952880"/>
            <a:ext cx="3581280" cy="1523880"/>
            <a:chOff x="2819520" y="4952880"/>
            <a:chExt cx="3581280" cy="1523880"/>
          </a:xfrm>
        </p:grpSpPr>
        <p:sp>
          <p:nvSpPr>
            <p:cNvPr id="58" name=""/>
            <p:cNvSpPr/>
            <p:nvPr/>
          </p:nvSpPr>
          <p:spPr>
            <a:xfrm>
              <a:off x="2819520" y="6324480"/>
              <a:ext cx="3581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5000" y="518148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15000" y="5562360"/>
              <a:ext cx="38124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5000" y="5943240"/>
              <a:ext cx="3812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4419360" y="4952880"/>
              <a:ext cx="571320" cy="995040"/>
              <a:chOff x="4419360" y="4952880"/>
              <a:chExt cx="571320" cy="995040"/>
            </a:xfrm>
          </p:grpSpPr>
          <p:sp>
            <p:nvSpPr>
              <p:cNvPr id="63" name=""/>
              <p:cNvSpPr/>
              <p:nvPr/>
            </p:nvSpPr>
            <p:spPr>
              <a:xfrm flipV="1" rot="16200000">
                <a:off x="4455000" y="54118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86480" y="49528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"/>
          <p:cNvSpPr/>
          <p:nvPr/>
        </p:nvSpPr>
        <p:spPr>
          <a:xfrm>
            <a:off x="6629400" y="1752480"/>
            <a:ext cx="205740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ia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u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(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0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33920" y="213372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19520" y="3352680"/>
            <a:ext cx="9903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724280" y="3352680"/>
            <a:ext cx="9907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24280" y="4572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457200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809880" y="5715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352320" y="29718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43400" y="29718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8148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429000" y="54100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495320" y="54100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: vincoli ed eurist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186840" indent="-186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iungere solo passi che raggiungono una precondizione correntemente non raggiu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e un approccio a minimo-impeg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0160" indent="-18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ordinare passi a meno che non sia strettamente necess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6840" indent="-186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orare link causali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ggo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a condizio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0160" indent="-18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aggiungere mai un passo intermedi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 vio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0160" indent="-18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una azione parallela minaccia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t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oè, ha l’effetto di negare (in gergo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bb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solvere la minaccia aggiungendo vincoli tempor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193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inar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ma di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opp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58880" indent="-193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inar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p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6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9040" y="35053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rcRect l="0" t="12121" r="15686" b="48485"/>
          <a:stretch/>
        </p:blipFill>
        <p:spPr>
          <a:xfrm>
            <a:off x="0" y="990720"/>
            <a:ext cx="8507520" cy="51451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1908000" y="5103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ac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479480" y="51037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81120" y="5103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oluzione delle Minac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Non-line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19320" y="38098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6248520" y="1523880"/>
            <a:ext cx="2666880" cy="2743200"/>
            <a:chOff x="6248520" y="1523880"/>
            <a:chExt cx="2666880" cy="2743200"/>
          </a:xfrm>
        </p:grpSpPr>
        <p:sp>
          <p:nvSpPr>
            <p:cNvPr id="534" name=""/>
            <p:cNvSpPr/>
            <p:nvPr/>
          </p:nvSpPr>
          <p:spPr>
            <a:xfrm>
              <a:off x="6248520" y="1523880"/>
              <a:ext cx="121896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96080" y="3962520"/>
              <a:ext cx="1219320" cy="30456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58000" y="1828800"/>
              <a:ext cx="1447920" cy="21337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59200" y="1219320"/>
            <a:ext cx="3394800" cy="1254960"/>
            <a:chOff x="1159200" y="1219320"/>
            <a:chExt cx="3394800" cy="1254960"/>
          </a:xfrm>
        </p:grpSpPr>
        <p:sp>
          <p:nvSpPr>
            <p:cNvPr id="539" name=""/>
            <p:cNvSpPr/>
            <p:nvPr/>
          </p:nvSpPr>
          <p:spPr>
            <a:xfrm>
              <a:off x="1159200" y="2014560"/>
              <a:ext cx="3394800" cy="459720"/>
            </a:xfrm>
            <a:prstGeom prst="rect">
              <a:avLst/>
            </a:prstGeom>
            <a:solidFill>
              <a:srgbClr val="fff5c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Il piano è incomple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43200" y="1219320"/>
              <a:ext cx="22860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1077480" y="762120"/>
            <a:ext cx="6618600" cy="3581280"/>
            <a:chOff x="1077480" y="762120"/>
            <a:chExt cx="6618600" cy="3581280"/>
          </a:xfrm>
        </p:grpSpPr>
        <p:grpSp>
          <p:nvGrpSpPr>
            <p:cNvPr id="542" name=""/>
            <p:cNvGrpSpPr/>
            <p:nvPr/>
          </p:nvGrpSpPr>
          <p:grpSpPr>
            <a:xfrm>
              <a:off x="1077480" y="762120"/>
              <a:ext cx="5018400" cy="459720"/>
              <a:chOff x="1077480" y="762120"/>
              <a:chExt cx="5018400" cy="459720"/>
            </a:xfrm>
          </p:grpSpPr>
          <p:sp>
            <p:nvSpPr>
              <p:cNvPr id="543" name=""/>
              <p:cNvSpPr/>
              <p:nvPr/>
            </p:nvSpPr>
            <p:spPr>
              <a:xfrm>
                <a:off x="1077480" y="762120"/>
                <a:ext cx="3440520" cy="459720"/>
              </a:xfrm>
              <a:prstGeom prst="rect">
                <a:avLst/>
              </a:prstGeom>
              <a:solidFill>
                <a:srgbClr val="fff5cd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Tahoma"/>
                  </a:rPr>
                  <a:t>Precondizioni Apert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4267080" y="838080"/>
                <a:ext cx="1828800" cy="15264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>
              <a:off x="4267080" y="990720"/>
              <a:ext cx="3429000" cy="33526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668560" y="457200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C,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3809880"/>
            <a:ext cx="518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066680" y="1752480"/>
            <a:ext cx="6477120" cy="3733920"/>
            <a:chOff x="1066680" y="1752480"/>
            <a:chExt cx="6477120" cy="3733920"/>
          </a:xfrm>
        </p:grpSpPr>
        <p:sp>
          <p:nvSpPr>
            <p:cNvPr id="561" name=""/>
            <p:cNvSpPr/>
            <p:nvPr/>
          </p:nvSpPr>
          <p:spPr>
            <a:xfrm>
              <a:off x="1066680" y="5181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24480" y="1752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2286000" y="2057400"/>
              <a:ext cx="4800600" cy="3276360"/>
              <a:chOff x="2286000" y="2057400"/>
              <a:chExt cx="4800600" cy="3276360"/>
            </a:xfrm>
          </p:grpSpPr>
          <p:sp>
            <p:nvSpPr>
              <p:cNvPr id="564" name=""/>
              <p:cNvSpPr/>
              <p:nvPr/>
            </p:nvSpPr>
            <p:spPr>
              <a:xfrm>
                <a:off x="5867280" y="4800600"/>
                <a:ext cx="1219320" cy="304920"/>
              </a:xfrm>
              <a:prstGeom prst="ellipse">
                <a:avLst/>
              </a:prstGeom>
              <a:noFill/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286000" y="4952520"/>
                <a:ext cx="3581280" cy="38124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6477120" y="2057400"/>
                <a:ext cx="457200" cy="274320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219320" y="3048120"/>
            <a:ext cx="4800600" cy="1600200"/>
            <a:chOff x="1219320" y="3048120"/>
            <a:chExt cx="4800600" cy="1600200"/>
          </a:xfrm>
        </p:grpSpPr>
        <p:sp>
          <p:nvSpPr>
            <p:cNvPr id="602" name=""/>
            <p:cNvSpPr/>
            <p:nvPr/>
          </p:nvSpPr>
          <p:spPr>
            <a:xfrm>
              <a:off x="1219320" y="3809880"/>
              <a:ext cx="4800600" cy="83844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2976120" y="3048120"/>
              <a:ext cx="1453320" cy="1143000"/>
              <a:chOff x="2976120" y="3048120"/>
              <a:chExt cx="1453320" cy="1143000"/>
            </a:xfrm>
          </p:grpSpPr>
          <p:sp>
            <p:nvSpPr>
              <p:cNvPr id="604" name=""/>
              <p:cNvSpPr/>
              <p:nvPr/>
            </p:nvSpPr>
            <p:spPr>
              <a:xfrm>
                <a:off x="2976120" y="3048120"/>
                <a:ext cx="145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581280" y="3429000"/>
                <a:ext cx="0" cy="76212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6" name=""/>
          <p:cNvGrpSpPr/>
          <p:nvPr/>
        </p:nvGrpSpPr>
        <p:grpSpPr>
          <a:xfrm>
            <a:off x="4095000" y="1828800"/>
            <a:ext cx="2077200" cy="2743200"/>
            <a:chOff x="4095000" y="1828800"/>
            <a:chExt cx="2077200" cy="2743200"/>
          </a:xfrm>
        </p:grpSpPr>
        <p:sp>
          <p:nvSpPr>
            <p:cNvPr id="607" name=""/>
            <p:cNvSpPr/>
            <p:nvPr/>
          </p:nvSpPr>
          <p:spPr>
            <a:xfrm>
              <a:off x="5867280" y="1828800"/>
              <a:ext cx="304920" cy="274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4095000" y="3504960"/>
              <a:ext cx="1924920" cy="493200"/>
              <a:chOff x="4095000" y="3504960"/>
              <a:chExt cx="1924920" cy="493200"/>
            </a:xfrm>
          </p:grpSpPr>
          <p:sp>
            <p:nvSpPr>
              <p:cNvPr id="609" name=""/>
              <p:cNvSpPr/>
              <p:nvPr/>
            </p:nvSpPr>
            <p:spPr>
              <a:xfrm>
                <a:off x="4095000" y="3538440"/>
                <a:ext cx="15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ahoma"/>
                  </a:rPr>
                  <a:t>minacc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257800" y="3504960"/>
                <a:ext cx="7621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1" name=""/>
          <p:cNvGrpSpPr/>
          <p:nvPr/>
        </p:nvGrpSpPr>
        <p:grpSpPr>
          <a:xfrm>
            <a:off x="1467360" y="1481040"/>
            <a:ext cx="5085720" cy="3090960"/>
            <a:chOff x="1467360" y="1481040"/>
            <a:chExt cx="5085720" cy="3090960"/>
          </a:xfrm>
        </p:grpSpPr>
        <p:sp>
          <p:nvSpPr>
            <p:cNvPr id="612" name=""/>
            <p:cNvSpPr/>
            <p:nvPr/>
          </p:nvSpPr>
          <p:spPr>
            <a:xfrm flipH="1">
              <a:off x="6248520" y="2743200"/>
              <a:ext cx="304560" cy="18288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1467360" y="1481040"/>
              <a:ext cx="4933440" cy="1871640"/>
              <a:chOff x="1467360" y="1481040"/>
              <a:chExt cx="4933440" cy="1871640"/>
            </a:xfrm>
          </p:grpSpPr>
          <p:sp>
            <p:nvSpPr>
              <p:cNvPr id="614" name=""/>
              <p:cNvSpPr/>
              <p:nvPr/>
            </p:nvSpPr>
            <p:spPr>
              <a:xfrm>
                <a:off x="3048120" y="2133720"/>
                <a:ext cx="3352680" cy="121896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467360" y="1481040"/>
                <a:ext cx="1566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anche lu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19320" y="3809880"/>
            <a:ext cx="4800600" cy="83844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6248520" y="2743200"/>
            <a:ext cx="304560" cy="182880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867280" y="1828800"/>
            <a:ext cx="304920" cy="274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239440" y="17524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1219320" y="1981080"/>
            <a:ext cx="4114800" cy="1828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5638680" y="2057400"/>
            <a:ext cx="914400" cy="220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018800" y="1371600"/>
            <a:ext cx="5379120" cy="1191240"/>
          </a:xfrm>
          <a:prstGeom prst="rect">
            <a:avLst/>
          </a:prstGeom>
          <a:solidFill>
            <a:srgbClr val="ebf9f2"/>
          </a:solidFill>
          <a:ln w="93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Un piano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consistente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è uno in cui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non ci sono cicli e nessun conflitto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tra chi soddisfa e chi minac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85400" y="2743200"/>
            <a:ext cx="5255640" cy="1191240"/>
          </a:xfrm>
          <a:prstGeom prst="rect">
            <a:avLst/>
          </a:prstGeom>
          <a:solidFill>
            <a:srgbClr val="fff5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conflitto può essere elimina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ncolando l’ordine tra le azion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 aggiungendo nuove 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2860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o inizi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n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819520" y="2286000"/>
            <a:ext cx="3581280" cy="1828800"/>
            <a:chOff x="2819520" y="2286000"/>
            <a:chExt cx="3581280" cy="1828800"/>
          </a:xfrm>
        </p:grpSpPr>
        <p:sp>
          <p:nvSpPr>
            <p:cNvPr id="69" name=""/>
            <p:cNvSpPr/>
            <p:nvPr/>
          </p:nvSpPr>
          <p:spPr>
            <a:xfrm>
              <a:off x="2819520" y="3962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76720" y="3581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6400" y="358128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62520" y="3581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200040" y="2286000"/>
              <a:ext cx="571320" cy="995040"/>
              <a:chOff x="3200040" y="2286000"/>
              <a:chExt cx="571320" cy="995040"/>
            </a:xfrm>
          </p:grpSpPr>
          <p:sp>
            <p:nvSpPr>
              <p:cNvPr id="74" name=""/>
              <p:cNvSpPr/>
              <p:nvPr/>
            </p:nvSpPr>
            <p:spPr>
              <a:xfrm flipV="1" rot="16200000">
                <a:off x="3235680" y="274500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67160" y="228600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2819520" y="4952880"/>
            <a:ext cx="3581280" cy="1523880"/>
            <a:chOff x="2819520" y="4952880"/>
            <a:chExt cx="3581280" cy="1523880"/>
          </a:xfrm>
        </p:grpSpPr>
        <p:sp>
          <p:nvSpPr>
            <p:cNvPr id="77" name=""/>
            <p:cNvSpPr/>
            <p:nvPr/>
          </p:nvSpPr>
          <p:spPr>
            <a:xfrm>
              <a:off x="2819520" y="6324480"/>
              <a:ext cx="3581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5000" y="5181480"/>
              <a:ext cx="3812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15000" y="5562360"/>
              <a:ext cx="38124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15000" y="5943240"/>
              <a:ext cx="38124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419360" y="4952880"/>
              <a:ext cx="571320" cy="995040"/>
              <a:chOff x="4419360" y="4952880"/>
              <a:chExt cx="571320" cy="995040"/>
            </a:xfrm>
          </p:grpSpPr>
          <p:sp>
            <p:nvSpPr>
              <p:cNvPr id="82" name=""/>
              <p:cNvSpPr/>
              <p:nvPr/>
            </p:nvSpPr>
            <p:spPr>
              <a:xfrm flipV="1" rot="16200000">
                <a:off x="4455000" y="54118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86480" y="49528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>
            <a:off x="6629400" y="1752480"/>
            <a:ext cx="2190600" cy="376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ia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down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u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219320" y="2057400"/>
            <a:ext cx="5028840" cy="3124080"/>
            <a:chOff x="1219320" y="2057400"/>
            <a:chExt cx="5028840" cy="3124080"/>
          </a:xfrm>
        </p:grpSpPr>
        <p:sp>
          <p:nvSpPr>
            <p:cNvPr id="681" name=""/>
            <p:cNvSpPr/>
            <p:nvPr/>
          </p:nvSpPr>
          <p:spPr>
            <a:xfrm flipH="1" flipV="1">
              <a:off x="5866920" y="2057400"/>
              <a:ext cx="38124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219320" y="2057400"/>
              <a:ext cx="464796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742000" y="579132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19320" y="3809880"/>
            <a:ext cx="4572000" cy="205740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400440" y="2743200"/>
            <a:ext cx="152280" cy="31240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1828800"/>
            <a:ext cx="304920" cy="40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6019560" y="2057400"/>
            <a:ext cx="228600" cy="3124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1219320" y="2057400"/>
            <a:ext cx="4647960" cy="17524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85880" y="762120"/>
            <a:ext cx="6468840" cy="2288520"/>
          </a:xfrm>
          <a:prstGeom prst="rect">
            <a:avLst/>
          </a:prstGeom>
          <a:solidFill>
            <a:srgbClr val="ebf9f2"/>
          </a:solidFill>
          <a:ln w="381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~ euristica Most-constrained-variable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in CSP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sceglie la precondizione non raggi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che può essere soddisfatta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nel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minor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numero di modi poss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ON(C,TAVO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219320" y="3809880"/>
            <a:ext cx="3657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284800" y="175248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219320" y="2057040"/>
            <a:ext cx="4647960" cy="3429000"/>
            <a:chOff x="1219320" y="2057040"/>
            <a:chExt cx="4647960" cy="3429000"/>
          </a:xfrm>
        </p:grpSpPr>
        <p:sp>
          <p:nvSpPr>
            <p:cNvPr id="801" name=""/>
            <p:cNvSpPr/>
            <p:nvPr/>
          </p:nvSpPr>
          <p:spPr>
            <a:xfrm flipV="1">
              <a:off x="1219320" y="2057400"/>
              <a:ext cx="426708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029200" y="2057040"/>
              <a:ext cx="838080" cy="34290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3352680" y="2057400"/>
              <a:ext cx="2286000" cy="2819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242600" y="6095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46520" y="3657600"/>
            <a:ext cx="17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CLEAR(C)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563480" y="2438280"/>
            <a:ext cx="7099560" cy="1800360"/>
          </a:xfrm>
          <a:prstGeom prst="rect">
            <a:avLst/>
          </a:prstGeom>
          <a:solidFill>
            <a:srgbClr val="f7efcd"/>
          </a:solidFill>
          <a:ln w="28440">
            <a:solidFill>
              <a:srgbClr val="a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Il piano è </a:t>
            </a:r>
            <a:r>
              <a:rPr b="1" lang="en-US" sz="2800" spc="-1" strike="noStrike" u="sng">
                <a:solidFill>
                  <a:srgbClr val="a00050"/>
                </a:solidFill>
                <a:uFillTx/>
                <a:latin typeface="Tahoma"/>
              </a:rPr>
              <a:t>completo</a:t>
            </a: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 poiché og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recondizione di ogni passo è aggiunta</a:t>
            </a:r>
            <a:br>
              <a:rPr sz="2800"/>
            </a:b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da qualche passo precedente, e nes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asso intermedio  la canc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mo P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mo P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487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ward Planning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2120" y="1600200"/>
            <a:ext cx="1752480" cy="1503360"/>
            <a:chOff x="762120" y="1600200"/>
            <a:chExt cx="1752480" cy="1503360"/>
          </a:xfrm>
        </p:grpSpPr>
        <p:sp>
          <p:nvSpPr>
            <p:cNvPr id="87" name=""/>
            <p:cNvSpPr/>
            <p:nvPr/>
          </p:nvSpPr>
          <p:spPr>
            <a:xfrm>
              <a:off x="762120" y="160020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62120" y="1600200"/>
              <a:ext cx="1752480" cy="1503360"/>
              <a:chOff x="762120" y="1600200"/>
              <a:chExt cx="1752480" cy="15033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762120" y="1600200"/>
                <a:ext cx="1582560" cy="1181880"/>
                <a:chOff x="762120" y="1600200"/>
                <a:chExt cx="1582560" cy="1181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762120" y="274536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078560" y="244980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553400" y="244980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078560" y="215424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" name=""/>
                <p:cNvGrpSpPr/>
                <p:nvPr/>
              </p:nvGrpSpPr>
              <p:grpSpPr>
                <a:xfrm>
                  <a:off x="1553400" y="1600200"/>
                  <a:ext cx="316440" cy="295200"/>
                  <a:chOff x="1553400" y="1600200"/>
                  <a:chExt cx="316440" cy="29520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1553400" y="174780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553400" y="17478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711800" y="16002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869840" y="174780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9" name=""/>
              <p:cNvSpPr/>
              <p:nvPr/>
            </p:nvSpPr>
            <p:spPr>
              <a:xfrm>
                <a:off x="2345760" y="264636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228600" y="3352680"/>
            <a:ext cx="4876920" cy="2935440"/>
            <a:chOff x="228600" y="3352680"/>
            <a:chExt cx="4876920" cy="2935440"/>
          </a:xfrm>
        </p:grpSpPr>
        <p:grpSp>
          <p:nvGrpSpPr>
            <p:cNvPr id="101" name=""/>
            <p:cNvGrpSpPr/>
            <p:nvPr/>
          </p:nvGrpSpPr>
          <p:grpSpPr>
            <a:xfrm>
              <a:off x="3352680" y="3352680"/>
              <a:ext cx="1752840" cy="1503360"/>
              <a:chOff x="3352680" y="3352680"/>
              <a:chExt cx="1752840" cy="1503360"/>
            </a:xfrm>
          </p:grpSpPr>
          <p:sp>
            <p:nvSpPr>
              <p:cNvPr id="102" name=""/>
              <p:cNvSpPr/>
              <p:nvPr/>
            </p:nvSpPr>
            <p:spPr>
              <a:xfrm>
                <a:off x="3352680" y="335268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3352680" y="3352680"/>
                <a:ext cx="1752840" cy="1503360"/>
                <a:chOff x="3352680" y="3352680"/>
                <a:chExt cx="1752840" cy="15033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3352680" y="4498920"/>
                  <a:ext cx="158292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668760" y="4202280"/>
                  <a:ext cx="3175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145040" y="4202280"/>
                  <a:ext cx="3157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146480" y="3906720"/>
                  <a:ext cx="31752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4145040" y="3352680"/>
                  <a:ext cx="315720" cy="295200"/>
                  <a:chOff x="4145040" y="3352680"/>
                  <a:chExt cx="315720" cy="29520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4145040" y="3500280"/>
                    <a:ext cx="31572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4145040" y="35002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4303080" y="33526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4460760" y="35002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4937040" y="4398840"/>
                  <a:ext cx="168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" name=""/>
            <p:cNvGrpSpPr/>
            <p:nvPr/>
          </p:nvGrpSpPr>
          <p:grpSpPr>
            <a:xfrm>
              <a:off x="762120" y="5105520"/>
              <a:ext cx="1600200" cy="1182600"/>
              <a:chOff x="762120" y="5105520"/>
              <a:chExt cx="1600200" cy="118260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12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62120" y="5105520"/>
                <a:ext cx="1582560" cy="1182600"/>
                <a:chOff x="762120" y="5105520"/>
                <a:chExt cx="1582560" cy="1182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62120" y="6251760"/>
                  <a:ext cx="1582560" cy="363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077840" y="5954760"/>
                  <a:ext cx="317160" cy="297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554120" y="5954760"/>
                  <a:ext cx="315360" cy="297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66680" y="5958000"/>
                  <a:ext cx="317160" cy="2952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1554120" y="5105520"/>
                  <a:ext cx="315360" cy="295200"/>
                  <a:chOff x="1554120" y="5105520"/>
                  <a:chExt cx="315360" cy="295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1554120" y="5253120"/>
                    <a:ext cx="31536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55412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711800" y="5105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86948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6" name=""/>
            <p:cNvSpPr/>
            <p:nvPr/>
          </p:nvSpPr>
          <p:spPr>
            <a:xfrm>
              <a:off x="2362320" y="39625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28600" y="45720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952880" y="2133720"/>
            <a:ext cx="609840" cy="1828800"/>
            <a:chOff x="4952880" y="2133720"/>
            <a:chExt cx="609840" cy="1828800"/>
          </a:xfrm>
        </p:grpSpPr>
        <p:sp>
          <p:nvSpPr>
            <p:cNvPr id="130" name=""/>
            <p:cNvSpPr/>
            <p:nvPr/>
          </p:nvSpPr>
          <p:spPr>
            <a:xfrm>
              <a:off x="4952880" y="21337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5288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362320" y="5105520"/>
            <a:ext cx="2666520" cy="1503360"/>
            <a:chOff x="2362320" y="5105520"/>
            <a:chExt cx="2666520" cy="1503360"/>
          </a:xfrm>
        </p:grpSpPr>
        <p:grpSp>
          <p:nvGrpSpPr>
            <p:cNvPr id="133" name=""/>
            <p:cNvGrpSpPr/>
            <p:nvPr/>
          </p:nvGrpSpPr>
          <p:grpSpPr>
            <a:xfrm>
              <a:off x="3276720" y="5105520"/>
              <a:ext cx="1752120" cy="1503360"/>
              <a:chOff x="3276720" y="5105520"/>
              <a:chExt cx="1752120" cy="1503360"/>
            </a:xfrm>
          </p:grpSpPr>
          <p:sp>
            <p:nvSpPr>
              <p:cNvPr id="134" name=""/>
              <p:cNvSpPr/>
              <p:nvPr/>
            </p:nvSpPr>
            <p:spPr>
              <a:xfrm>
                <a:off x="327672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36840" y="6075360"/>
                <a:ext cx="168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3276720" y="5105520"/>
                <a:ext cx="1752120" cy="1503360"/>
                <a:chOff x="3276720" y="5105520"/>
                <a:chExt cx="1752120" cy="15033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276720" y="625176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592440" y="5955120"/>
                  <a:ext cx="31716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495680" y="5943960"/>
                  <a:ext cx="31572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070160" y="5253120"/>
                  <a:ext cx="31716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4068720" y="5105520"/>
                  <a:ext cx="315360" cy="295200"/>
                  <a:chOff x="4068720" y="5105520"/>
                  <a:chExt cx="315360" cy="29520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4068720" y="5253120"/>
                    <a:ext cx="31536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06872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226400" y="5105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4384080" y="5253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4860720" y="6151680"/>
                  <a:ext cx="168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2362320" y="563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62320" y="624852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76920" y="5105520"/>
            <a:ext cx="2742840" cy="1503360"/>
            <a:chOff x="4876920" y="5105520"/>
            <a:chExt cx="2742840" cy="1503360"/>
          </a:xfrm>
        </p:grpSpPr>
        <p:grpSp>
          <p:nvGrpSpPr>
            <p:cNvPr id="150" name=""/>
            <p:cNvGrpSpPr/>
            <p:nvPr/>
          </p:nvGrpSpPr>
          <p:grpSpPr>
            <a:xfrm>
              <a:off x="5867280" y="5105520"/>
              <a:ext cx="1752480" cy="1503360"/>
              <a:chOff x="5867280" y="5105520"/>
              <a:chExt cx="1752480" cy="1503360"/>
            </a:xfrm>
          </p:grpSpPr>
          <p:sp>
            <p:nvSpPr>
              <p:cNvPr id="151" name=""/>
              <p:cNvSpPr/>
              <p:nvPr/>
            </p:nvSpPr>
            <p:spPr>
              <a:xfrm>
                <a:off x="5867280" y="510552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5867280" y="5105520"/>
                <a:ext cx="1752480" cy="1503360"/>
                <a:chOff x="5867280" y="5105520"/>
                <a:chExt cx="1752480" cy="150336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5867280" y="5105520"/>
                  <a:ext cx="1582920" cy="1181880"/>
                  <a:chOff x="5867280" y="5105520"/>
                  <a:chExt cx="1582920" cy="118188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5867280" y="6250680"/>
                    <a:ext cx="1582920" cy="3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183720" y="595512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658920" y="595512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6183720" y="5659560"/>
                    <a:ext cx="31644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6658920" y="5105520"/>
                    <a:ext cx="316440" cy="295200"/>
                    <a:chOff x="6658920" y="5105520"/>
                    <a:chExt cx="316440" cy="29520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658920" y="5253120"/>
                      <a:ext cx="31644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658920" y="52531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817320" y="51055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975360" y="525312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" name=""/>
                <p:cNvSpPr/>
                <p:nvPr/>
              </p:nvSpPr>
              <p:spPr>
                <a:xfrm>
                  <a:off x="7450920" y="6151680"/>
                  <a:ext cx="168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4876920" y="56386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6920" y="6248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248520" y="3352680"/>
            <a:ext cx="1981080" cy="2286000"/>
            <a:chOff x="6248520" y="3352680"/>
            <a:chExt cx="1981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248520" y="3352680"/>
              <a:ext cx="1752120" cy="1752840"/>
              <a:chOff x="6248520" y="3352680"/>
              <a:chExt cx="1752120" cy="17528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6248520" y="3352680"/>
                <a:ext cx="1752120" cy="1503360"/>
                <a:chOff x="6248520" y="3352680"/>
                <a:chExt cx="1752120" cy="1503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248520" y="335268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" name=""/>
                <p:cNvGrpSpPr/>
                <p:nvPr/>
              </p:nvGrpSpPr>
              <p:grpSpPr>
                <a:xfrm>
                  <a:off x="6248520" y="3352680"/>
                  <a:ext cx="1752120" cy="1503360"/>
                  <a:chOff x="6248520" y="3352680"/>
                  <a:chExt cx="1752120" cy="150336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6248520" y="4498920"/>
                    <a:ext cx="1582560" cy="36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6564240" y="4201920"/>
                    <a:ext cx="317160" cy="297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7040520" y="3490920"/>
                    <a:ext cx="31536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564240" y="3906720"/>
                    <a:ext cx="317160" cy="2952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7040520" y="3352680"/>
                    <a:ext cx="315360" cy="295200"/>
                    <a:chOff x="7040520" y="3352680"/>
                    <a:chExt cx="315360" cy="29520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7040520" y="3500280"/>
                      <a:ext cx="31536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704052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198200" y="33526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735588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0" name=""/>
                  <p:cNvSpPr/>
                  <p:nvPr/>
                </p:nvSpPr>
                <p:spPr>
                  <a:xfrm>
                    <a:off x="7832520" y="4398840"/>
                    <a:ext cx="1681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1" name=""/>
              <p:cNvSpPr/>
              <p:nvPr/>
            </p:nvSpPr>
            <p:spPr>
              <a:xfrm flipV="1">
                <a:off x="6705720" y="4495680"/>
                <a:ext cx="38088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7467480" y="5638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629400" y="1523880"/>
            <a:ext cx="1905120" cy="2438640"/>
            <a:chOff x="6629400" y="1523880"/>
            <a:chExt cx="1905120" cy="2438640"/>
          </a:xfrm>
        </p:grpSpPr>
        <p:grpSp>
          <p:nvGrpSpPr>
            <p:cNvPr id="184" name=""/>
            <p:cNvGrpSpPr/>
            <p:nvPr/>
          </p:nvGrpSpPr>
          <p:grpSpPr>
            <a:xfrm>
              <a:off x="6629400" y="1523880"/>
              <a:ext cx="1752480" cy="1503360"/>
              <a:chOff x="6629400" y="1523880"/>
              <a:chExt cx="1752480" cy="1503360"/>
            </a:xfrm>
          </p:grpSpPr>
          <p:sp>
            <p:nvSpPr>
              <p:cNvPr id="185" name=""/>
              <p:cNvSpPr/>
              <p:nvPr/>
            </p:nvSpPr>
            <p:spPr>
              <a:xfrm>
                <a:off x="6629400" y="1523880"/>
                <a:ext cx="1600200" cy="1143000"/>
              </a:xfrm>
              <a:prstGeom prst="rect">
                <a:avLst/>
              </a:prstGeom>
              <a:solidFill>
                <a:srgbClr val="ebf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6629400" y="1523880"/>
                <a:ext cx="1752480" cy="1503360"/>
                <a:chOff x="6629400" y="1523880"/>
                <a:chExt cx="1752480" cy="15033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629400" y="267012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45480" y="2373480"/>
                  <a:ext cx="31716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943680" y="1792440"/>
                  <a:ext cx="316080" cy="296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945480" y="2077920"/>
                  <a:ext cx="31716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7421400" y="1523880"/>
                  <a:ext cx="316080" cy="295200"/>
                  <a:chOff x="7421400" y="1523880"/>
                  <a:chExt cx="316080" cy="2952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7421400" y="1671480"/>
                    <a:ext cx="31608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7421400" y="16714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7579440" y="15238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737480" y="167148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>
                  <a:off x="8213760" y="2570040"/>
                  <a:ext cx="1681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" name=""/>
            <p:cNvSpPr/>
            <p:nvPr/>
          </p:nvSpPr>
          <p:spPr>
            <a:xfrm flipV="1">
              <a:off x="7010280" y="2666520"/>
              <a:ext cx="457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48720" y="3962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600200"/>
            <a:ext cx="4343400" cy="3255840"/>
            <a:chOff x="762120" y="1600200"/>
            <a:chExt cx="4343400" cy="3255840"/>
          </a:xfrm>
        </p:grpSpPr>
        <p:grpSp>
          <p:nvGrpSpPr>
            <p:cNvPr id="200" name=""/>
            <p:cNvGrpSpPr/>
            <p:nvPr/>
          </p:nvGrpSpPr>
          <p:grpSpPr>
            <a:xfrm>
              <a:off x="762120" y="1600200"/>
              <a:ext cx="4343400" cy="3255840"/>
              <a:chOff x="762120" y="1600200"/>
              <a:chExt cx="4343400" cy="3255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352680" y="1600200"/>
                <a:ext cx="1752840" cy="1503360"/>
                <a:chOff x="3352680" y="1600200"/>
                <a:chExt cx="1752840" cy="15033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352680" y="160020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3352680" y="1600200"/>
                  <a:ext cx="1752840" cy="1503360"/>
                  <a:chOff x="3352680" y="1600200"/>
                  <a:chExt cx="1752840" cy="150336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3352680" y="2746440"/>
                    <a:ext cx="1582920" cy="363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668760" y="2449440"/>
                    <a:ext cx="317520" cy="2970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4145040" y="1738440"/>
                    <a:ext cx="31572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668760" y="2154240"/>
                    <a:ext cx="317520" cy="29520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4145040" y="1600200"/>
                    <a:ext cx="315720" cy="295200"/>
                    <a:chOff x="4145040" y="1600200"/>
                    <a:chExt cx="315720" cy="29520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4145040" y="1747800"/>
                      <a:ext cx="31572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145040" y="17478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303080" y="16002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460760" y="174780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3" name=""/>
                  <p:cNvSpPr/>
                  <p:nvPr/>
                </p:nvSpPr>
                <p:spPr>
                  <a:xfrm>
                    <a:off x="4937040" y="2646360"/>
                    <a:ext cx="1684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762120" y="3352680"/>
                <a:ext cx="1752480" cy="1503360"/>
                <a:chOff x="762120" y="3352680"/>
                <a:chExt cx="1752480" cy="150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762120" y="3370320"/>
                  <a:ext cx="1600200" cy="1143000"/>
                </a:xfrm>
                <a:prstGeom prst="rect">
                  <a:avLst/>
                </a:prstGeom>
                <a:solidFill>
                  <a:srgbClr val="ebf5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762120" y="3352680"/>
                  <a:ext cx="1752480" cy="1503360"/>
                  <a:chOff x="762120" y="3352680"/>
                  <a:chExt cx="1752480" cy="150336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762120" y="4498920"/>
                    <a:ext cx="1582560" cy="367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1078200" y="4202280"/>
                    <a:ext cx="31716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1554120" y="4202280"/>
                    <a:ext cx="316080" cy="29664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1555920" y="3500280"/>
                    <a:ext cx="317520" cy="2955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1554120" y="3352680"/>
                    <a:ext cx="316080" cy="295200"/>
                    <a:chOff x="1554120" y="3352680"/>
                    <a:chExt cx="316080" cy="29520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1554120" y="3500280"/>
                      <a:ext cx="316080" cy="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155412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1712160" y="33526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1870200" y="3500280"/>
                      <a:ext cx="0" cy="147600"/>
                    </a:xfrm>
                    <a:prstGeom prst="line">
                      <a:avLst/>
                    </a:prstGeom>
                    <a:ln w="38160">
                      <a:solidFill>
                        <a:srgbClr val="008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6" name=""/>
                  <p:cNvSpPr/>
                  <p:nvPr/>
                </p:nvSpPr>
                <p:spPr>
                  <a:xfrm>
                    <a:off x="2346480" y="4398840"/>
                    <a:ext cx="1681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7" name=""/>
              <p:cNvSpPr/>
              <p:nvPr/>
            </p:nvSpPr>
            <p:spPr>
              <a:xfrm>
                <a:off x="2362320" y="213372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523880" y="28195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1552320" y="2895480"/>
              <a:ext cx="14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Unstack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15520" y="175248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Pickup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90080" y="3200400"/>
            <a:ext cx="8716680" cy="581400"/>
          </a:xfrm>
          <a:prstGeom prst="rect">
            <a:avLst/>
          </a:prstGeom>
          <a:solidFill>
            <a:srgbClr val="ffe5f8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Forward planning ricerca lo spazio degli s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4480" y="4648320"/>
            <a:ext cx="8050320" cy="1068840"/>
          </a:xfrm>
          <a:prstGeom prst="rect">
            <a:avLst/>
          </a:prstGeom>
          <a:solidFill>
            <a:srgbClr val="ffe5e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 generale, molte azioni applicabili 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o stato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fattore di branching en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rietà di P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4680" indent="-184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goritmo nondeterministico: in caso di fallimento effettua backtracking sui punti di scelta </a:t>
            </a: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(choice point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6440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lta di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raggiungere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440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lta di demotion o promotion in caso di minac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440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elezione di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è irrevoc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4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P è corretto, completo e sistematico (nessuna ripetizion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sistono estensioni (es. azioni rappresentate con FOL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84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fficiente se fornito di euristiche derivate dalla descrizione del probl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: variabili non istanzi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1520" indent="-191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zioni rappresentate con FO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1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. Mondo dei bloc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ndizione aperta: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On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io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65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(ACTION: MoveB(Z,X,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65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: On(Z,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ear(Z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ear(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65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: On(Z,Y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ear(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On(Z,X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Clear(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520" indent="-1915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notare che </a:t>
            </a:r>
            <a:r>
              <a:rPr b="0" lang="en-US" sz="3100" spc="-1" strike="noStrike">
                <a:solidFill>
                  <a:srgbClr val="d60093"/>
                </a:solidFill>
                <a:latin typeface="Arial"/>
                <a:ea typeface="Arial"/>
              </a:rPr>
              <a:t>On(a,b)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= On(Z,Y)</a:t>
            </a:r>
            <a:r>
              <a:rPr b="0" lang="el-GR" sz="3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  <a:ea typeface="Arial"/>
              </a:rPr>
              <a:t>  con </a:t>
            </a:r>
            <a:r>
              <a:rPr b="0" lang="el-GR" sz="3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{Z/a,Y/b} e quindi bisogna applicare </a:t>
            </a:r>
            <a:r>
              <a:rPr b="0" lang="el-GR" sz="31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l-GR" sz="31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l-GR" sz="31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l-GR" sz="31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31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l-GR" sz="3100" spc="-1" strike="noStrike">
                <a:solidFill>
                  <a:srgbClr val="000000"/>
                </a:solidFill>
                <a:latin typeface="Arial"/>
                <a:ea typeface="Arial"/>
              </a:rPr>
              <a:t>)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152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: variabili non istanzi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2000" indent="-16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M1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Move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)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90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(ACTION: MoveB(a,X,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0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: On(a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ear(a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ear(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0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: On(a,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ea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On(a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Clear(b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02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are che X rimane non istanzi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pponiamo di aggiungere M1 al piano. Quindi aggiungiamo il link caus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2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  →  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Se nel piano c’è già una azione M2 con effetto ¬On(a,Q) c’è una minaccia solo se Q prend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Per rappresentare questa situazione si deve aggiungere il vinc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Q ≠ b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in generale 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  <a:ea typeface="Arial"/>
              </a:rPr>
              <a:t>var ≠ cos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oppure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  <a:ea typeface="Arial"/>
              </a:rPr>
              <a:t>var ≠ va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494960" y="44197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 con varia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ra azi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(ACTION: MoveT(W,X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: On(W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ear(W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: On(W,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ea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On(W,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  costante: significa TAV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5638680" y="3657600"/>
            <a:ext cx="2590560" cy="2645280"/>
            <a:chOff x="5638680" y="3657600"/>
            <a:chExt cx="2590560" cy="2645280"/>
          </a:xfrm>
        </p:grpSpPr>
        <p:grpSp>
          <p:nvGrpSpPr>
            <p:cNvPr id="871" name=""/>
            <p:cNvGrpSpPr/>
            <p:nvPr/>
          </p:nvGrpSpPr>
          <p:grpSpPr>
            <a:xfrm>
              <a:off x="5638680" y="3657600"/>
              <a:ext cx="2590560" cy="2198520"/>
              <a:chOff x="5638680" y="3657600"/>
              <a:chExt cx="2590560" cy="2198520"/>
            </a:xfrm>
          </p:grpSpPr>
          <p:grpSp>
            <p:nvGrpSpPr>
              <p:cNvPr id="872" name=""/>
              <p:cNvGrpSpPr/>
              <p:nvPr/>
            </p:nvGrpSpPr>
            <p:grpSpPr>
              <a:xfrm>
                <a:off x="6705360" y="5029200"/>
                <a:ext cx="685800" cy="685440"/>
                <a:chOff x="6705360" y="5029200"/>
                <a:chExt cx="685800" cy="68544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6705360" y="502920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973560" y="519696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953400" y="521244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7241400" y="521244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705360" y="4267080"/>
                <a:ext cx="685800" cy="761760"/>
                <a:chOff x="6705360" y="4267080"/>
                <a:chExt cx="685800" cy="76176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705360" y="4267080"/>
                  <a:ext cx="68580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7013520" y="449388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7002000" y="448812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7286760" y="451080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"/>
              <p:cNvSpPr/>
              <p:nvPr/>
            </p:nvSpPr>
            <p:spPr>
              <a:xfrm>
                <a:off x="5638680" y="571500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095880" y="521640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6705360" y="3657600"/>
                <a:ext cx="695160" cy="647640"/>
                <a:chOff x="6705360" y="3657600"/>
                <a:chExt cx="695160" cy="64764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6705360" y="3657600"/>
                  <a:ext cx="695160" cy="647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009920" y="38862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7" name=""/>
              <p:cNvSpPr/>
              <p:nvPr/>
            </p:nvSpPr>
            <p:spPr>
              <a:xfrm>
                <a:off x="6454800" y="52563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>
              <a:off x="6671880" y="59976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447920" y="4419720"/>
            <a:ext cx="2590560" cy="1943640"/>
            <a:chOff x="1447920" y="4419720"/>
            <a:chExt cx="2590560" cy="1943640"/>
          </a:xfrm>
        </p:grpSpPr>
        <p:grpSp>
          <p:nvGrpSpPr>
            <p:cNvPr id="890" name=""/>
            <p:cNvGrpSpPr/>
            <p:nvPr/>
          </p:nvGrpSpPr>
          <p:grpSpPr>
            <a:xfrm>
              <a:off x="1447920" y="4419720"/>
              <a:ext cx="2590560" cy="1474560"/>
              <a:chOff x="1447920" y="4419720"/>
              <a:chExt cx="2590560" cy="1474560"/>
            </a:xfrm>
          </p:grpSpPr>
          <p:grpSp>
            <p:nvGrpSpPr>
              <p:cNvPr id="891" name=""/>
              <p:cNvGrpSpPr/>
              <p:nvPr/>
            </p:nvGrpSpPr>
            <p:grpSpPr>
              <a:xfrm>
                <a:off x="2895480" y="4419720"/>
                <a:ext cx="685440" cy="685440"/>
                <a:chOff x="2895480" y="4419720"/>
                <a:chExt cx="685440" cy="68544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2895480" y="4419720"/>
                  <a:ext cx="68544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63680" y="458748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43160" y="460296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431520" y="460296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1676160" y="5029200"/>
                <a:ext cx="685440" cy="761760"/>
                <a:chOff x="1676160" y="5029200"/>
                <a:chExt cx="685440" cy="7617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1676160" y="5029200"/>
                  <a:ext cx="68544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1983960" y="5256000"/>
                  <a:ext cx="3348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972800" y="525024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2257200" y="52729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1" name=""/>
              <p:cNvSpPr/>
              <p:nvPr/>
            </p:nvSpPr>
            <p:spPr>
              <a:xfrm>
                <a:off x="1447920" y="575316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904760" y="5254560"/>
                <a:ext cx="3567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"/>
              <p:cNvGrpSpPr/>
              <p:nvPr/>
            </p:nvGrpSpPr>
            <p:grpSpPr>
              <a:xfrm>
                <a:off x="2895480" y="5105520"/>
                <a:ext cx="694800" cy="647640"/>
                <a:chOff x="2895480" y="5105520"/>
                <a:chExt cx="694800" cy="64764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2895480" y="5105520"/>
                  <a:ext cx="694800" cy="647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199680" y="5334120"/>
                  <a:ext cx="145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"/>
              <p:cNvSpPr/>
              <p:nvPr/>
            </p:nvSpPr>
            <p:spPr>
              <a:xfrm>
                <a:off x="2263320" y="52941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1981080" y="6058080"/>
              <a:ext cx="1557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910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918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926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932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940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943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949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957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960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965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972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980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986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99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3581280" y="1951200"/>
            <a:ext cx="1371600" cy="457200"/>
            <a:chOff x="3581280" y="1951200"/>
            <a:chExt cx="1371600" cy="457200"/>
          </a:xfrm>
        </p:grpSpPr>
        <p:sp>
          <p:nvSpPr>
            <p:cNvPr id="998" name=""/>
            <p:cNvSpPr/>
            <p:nvPr/>
          </p:nvSpPr>
          <p:spPr>
            <a:xfrm>
              <a:off x="3581280" y="195120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950280" y="202752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066680" y="2408400"/>
            <a:ext cx="8153280" cy="350280"/>
            <a:chOff x="1066680" y="2408400"/>
            <a:chExt cx="8153280" cy="350280"/>
          </a:xfrm>
        </p:grpSpPr>
        <p:sp>
          <p:nvSpPr>
            <p:cNvPr id="1001" name=""/>
            <p:cNvSpPr/>
            <p:nvPr/>
          </p:nvSpPr>
          <p:spPr>
            <a:xfrm>
              <a:off x="1066680" y="242244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286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0292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008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001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6576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008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014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019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024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oni Rileva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azione è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rilevan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un goal se uno dei suoi effetti combacia con una proposizione del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(B,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HOLDING(B), BLOCK(A), CLEAR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ON(B,A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(A)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ING(B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CLEAR(B), HANDEMP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rilevante per ON(B,A), ON(C,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029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032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039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045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050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1905120" y="3154320"/>
            <a:ext cx="1822320" cy="457200"/>
            <a:chOff x="1905120" y="3154320"/>
            <a:chExt cx="1822320" cy="457200"/>
          </a:xfrm>
        </p:grpSpPr>
        <p:sp>
          <p:nvSpPr>
            <p:cNvPr id="1056" name=""/>
            <p:cNvSpPr/>
            <p:nvPr/>
          </p:nvSpPr>
          <p:spPr>
            <a:xfrm>
              <a:off x="1905120" y="31543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974960" y="32302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1066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09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048120" y="3701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064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067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074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080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085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090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101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104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111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117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122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127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130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141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144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151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157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162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167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177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182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185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192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198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2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203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208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217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9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0" name=""/>
          <p:cNvCxnSpPr>
            <a:stCxn id="1189" idx="2"/>
            <a:endCxn id="1196" idx="3"/>
          </p:cNvCxnSpPr>
          <p:nvPr/>
        </p:nvCxnSpPr>
        <p:spPr>
          <a:xfrm rot="5400000">
            <a:off x="5145120" y="1275480"/>
            <a:ext cx="2041920" cy="488844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sp>
        <p:nvSpPr>
          <p:cNvPr id="1221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1224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1227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234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240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245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1250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1447920" y="29718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259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 flipH="1">
            <a:off x="4114440" y="2666880"/>
            <a:ext cx="2438280" cy="4572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2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263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264" name=""/>
            <p:cNvCxnSpPr>
              <a:stCxn id="1232" idx="1"/>
              <a:endCxn id="1236" idx="0"/>
            </p:cNvCxnSpPr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265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1269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1272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279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285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290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1295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1303" name="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307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"/>
          <p:cNvSpPr/>
          <p:nvPr/>
        </p:nvSpPr>
        <p:spPr>
          <a:xfrm flipH="1">
            <a:off x="3962520" y="2743200"/>
            <a:ext cx="274320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0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311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312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313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317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9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320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27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333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38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0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1343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048120" y="3733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1351" name="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3" name="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362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4" name=""/>
          <p:cNvSpPr/>
          <p:nvPr/>
        </p:nvSpPr>
        <p:spPr>
          <a:xfrm flipH="1">
            <a:off x="4038120" y="2666880"/>
            <a:ext cx="266724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5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366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367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368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2" name="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1373" name="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1066680" y="2330280"/>
            <a:ext cx="8153280" cy="351000"/>
            <a:chOff x="1066680" y="2330280"/>
            <a:chExt cx="8153280" cy="351000"/>
          </a:xfrm>
        </p:grpSpPr>
        <p:sp>
          <p:nvSpPr>
            <p:cNvPr id="1376" name=""/>
            <p:cNvSpPr/>
            <p:nvPr/>
          </p:nvSpPr>
          <p:spPr>
            <a:xfrm>
              <a:off x="1066680" y="2344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286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292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4008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01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6576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383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5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389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3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394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0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401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404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219320" y="36259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209680" y="3625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048120" y="363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y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1412" name="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4" name="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1981080" y="3962520"/>
            <a:ext cx="990720" cy="685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2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423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6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427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428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429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3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434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6" name="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1437" name="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444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450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455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/>
            <a:ahLst/>
            <a:rect l="l" t="t" r="r" b="b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463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1471" name="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482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4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5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486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487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488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490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4880" y="1676520"/>
            <a:ext cx="2197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ON(C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78800" y="236232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ack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041200" y="2971800"/>
            <a:ext cx="39556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HOLDING(C), 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400800" y="1676520"/>
            <a:ext cx="1752480" cy="1503360"/>
            <a:chOff x="6400800" y="1676520"/>
            <a:chExt cx="1752480" cy="1503360"/>
          </a:xfrm>
        </p:grpSpPr>
        <p:sp>
          <p:nvSpPr>
            <p:cNvPr id="240" name=""/>
            <p:cNvSpPr/>
            <p:nvPr/>
          </p:nvSpPr>
          <p:spPr>
            <a:xfrm>
              <a:off x="6400800" y="167652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400800" y="1676520"/>
              <a:ext cx="1752480" cy="1503360"/>
              <a:chOff x="6400800" y="1676520"/>
              <a:chExt cx="1752480" cy="150336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6400800" y="1676520"/>
                <a:ext cx="1582560" cy="1181880"/>
                <a:chOff x="6400800" y="1676520"/>
                <a:chExt cx="1582560" cy="11818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400800" y="282168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71724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19208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717240" y="223056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192080" y="1676520"/>
                  <a:ext cx="316440" cy="295200"/>
                  <a:chOff x="7192080" y="1676520"/>
                  <a:chExt cx="316440" cy="2952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7192080" y="182412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19208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350480" y="1676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750852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"/>
              <p:cNvSpPr/>
              <p:nvPr/>
            </p:nvSpPr>
            <p:spPr>
              <a:xfrm>
                <a:off x="7984440" y="272268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100400" y="2087640"/>
            <a:ext cx="14400" cy="88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569760" y="2075040"/>
            <a:ext cx="536760" cy="421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92480" y="2090880"/>
            <a:ext cx="1422360" cy="31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90360" y="3962520"/>
            <a:ext cx="7697160" cy="2043720"/>
          </a:xfrm>
          <a:prstGeom prst="rect">
            <a:avLst/>
          </a:prstGeom>
          <a:solidFill>
            <a:srgbClr val="efffef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In generale, ci sono molte meno azioni 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rilevanti per un goal che 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applicabili </a:t>
            </a: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 fattore di branching pi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piccolo che con il forward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7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498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1501" name="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7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08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514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519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1525" name="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7" name="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1981080" y="4038480"/>
            <a:ext cx="91440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536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38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539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540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541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543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5" name="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/>
            <a:ahLst/>
            <a:rect l="l" t="t" r="r" b="b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550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563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566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573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579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584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/>
            <a:ahLst/>
            <a:rect l="l" t="t" r="r" b="b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581280" y="5334120"/>
            <a:ext cx="1524240" cy="38088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1592" name="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603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05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606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607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608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610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2" name="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3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614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6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1628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1631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7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638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644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649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1654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6" name="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943520" y="4540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218640" y="4540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3969720" y="5257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5008680" y="5257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6284880" y="5257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7728480" y="5257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7493760" y="4540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670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72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673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674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675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677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/>
            <a:ahLst/>
            <a:rect l="l" t="t" r="r" b="b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1687" name="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9" name="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2" name="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1693" name="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685800" y="2316240"/>
            <a:ext cx="8153280" cy="350280"/>
            <a:chOff x="685800" y="2316240"/>
            <a:chExt cx="8153280" cy="350280"/>
          </a:xfrm>
        </p:grpSpPr>
        <p:sp>
          <p:nvSpPr>
            <p:cNvPr id="1696" name=""/>
            <p:cNvSpPr/>
            <p:nvPr/>
          </p:nvSpPr>
          <p:spPr>
            <a:xfrm>
              <a:off x="68580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905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6483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0199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620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2767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703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8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709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3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714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6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719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1727" name="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9" name="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738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40" name=""/>
          <p:cNvCxnSpPr/>
          <p:nvPr/>
        </p:nvCxnSpPr>
        <p:spPr>
          <a:xfrm rot="5400000">
            <a:off x="4999680" y="1247760"/>
            <a:ext cx="204408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741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742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743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745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6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182520" indent="-1825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ecessità di avere delle buone euristich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3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a per planning lineari che per 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3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 problemi di planning non è facile derivare delle euristiche ammissi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o strumento molto utile per costruire delle euristiche ammissibile è il </a:t>
            </a:r>
            <a:r>
              <a:rPr b="0" lang="en-US" sz="3500" spc="-1" strike="noStrike">
                <a:solidFill>
                  <a:srgbClr val="333399"/>
                </a:solidFill>
                <a:latin typeface="Arial"/>
              </a:rPr>
              <a:t>grafo di plann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458640" indent="-183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ccoglie informazioni su quali piani sono impossibili non prendendo in considerazione le minacce e il “consumo” dei letterali che chiudono le precondizion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69440" y="1736280"/>
            <a:ext cx="385308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162000" indent="-16200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 grafo di planning è un grafo costruito a livelli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6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primo livello è costituito dai letterali dello stato iniz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6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uccessivi livelli sono ottenuti dalla applicazione ripetuta delle azioni che hanno i prerequisiti soddisfat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7880" indent="-16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ltre i letterali di un livello sono riportati al livello successiv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persistence 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variabili !  No troppi oggetti 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9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28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1"/>
          <a:stretch/>
        </p:blipFill>
        <p:spPr>
          <a:xfrm>
            <a:off x="1219320" y="2324160"/>
            <a:ext cx="6400800" cy="3959280"/>
          </a:xfrm>
          <a:prstGeom prst="rect">
            <a:avLst/>
          </a:prstGeom>
          <a:ln w="0">
            <a:noFill/>
          </a:ln>
        </p:spPr>
      </p:pic>
      <p:sp>
        <p:nvSpPr>
          <p:cNvPr id="1762" name=""/>
          <p:cNvSpPr/>
          <p:nvPr/>
        </p:nvSpPr>
        <p:spPr>
          <a:xfrm>
            <a:off x="685800" y="1690560"/>
            <a:ext cx="7429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175680" indent="-175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Vediamo un esempio su un problema semplic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4" name="" descr=""/>
          <p:cNvPicPr/>
          <p:nvPr/>
        </p:nvPicPr>
        <p:blipFill>
          <a:blip r:embed="rId1"/>
          <a:stretch/>
        </p:blipFill>
        <p:spPr>
          <a:xfrm>
            <a:off x="609480" y="1511280"/>
            <a:ext cx="8077320" cy="4451400"/>
          </a:xfrm>
          <a:prstGeom prst="rect">
            <a:avLst/>
          </a:prstGeom>
          <a:ln w="0">
            <a:noFill/>
          </a:ln>
        </p:spPr>
      </p:pic>
      <p:sp>
        <p:nvSpPr>
          <p:cNvPr id="1765" name=""/>
          <p:cNvSpPr/>
          <p:nvPr/>
        </p:nvSpPr>
        <p:spPr>
          <a:xfrm>
            <a:off x="806760" y="5962680"/>
            <a:ext cx="76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espansione del grafo termina quan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ivello i+1 = livello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5045040"/>
          </a:xfrm>
          <a:prstGeom prst="rect">
            <a:avLst/>
          </a:prstGeom>
          <a:ln w="0">
            <a:noFill/>
          </a:ln>
        </p:spPr>
      </p:pic>
      <p:sp>
        <p:nvSpPr>
          <p:cNvPr id="1768" name=""/>
          <p:cNvSpPr/>
          <p:nvPr/>
        </p:nvSpPr>
        <p:spPr>
          <a:xfrm>
            <a:off x="314280" y="1089000"/>
            <a:ext cx="24004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Conflitti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link di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mutua esclusione (mu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6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77840" indent="-177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Inconsistent effec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una azione nega l’effetto di un’alt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Interference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o degli effetti di una azione è la negazione di una precondizione di un’alt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Competing need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una delle precondizioni di una azione è la negazione di una delle precondizioni di un’altr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Inconsistent suppor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: letterali allo stesso livello sono in conflitto se uno è la negazione dell’altro o se ogni possibile coppia di azioni che potrebbe raggiungere i due letterali è mutuamente esclusiv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379600" y="160812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ON(C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46800" y="198900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Stack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1480" y="229392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(B,A), HOLDING(C), 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400800" y="1676520"/>
            <a:ext cx="1752480" cy="1503360"/>
            <a:chOff x="6400800" y="1676520"/>
            <a:chExt cx="1752480" cy="1503360"/>
          </a:xfrm>
        </p:grpSpPr>
        <p:sp>
          <p:nvSpPr>
            <p:cNvPr id="261" name=""/>
            <p:cNvSpPr/>
            <p:nvPr/>
          </p:nvSpPr>
          <p:spPr>
            <a:xfrm>
              <a:off x="6400800" y="1676520"/>
              <a:ext cx="1600200" cy="1143000"/>
            </a:xfrm>
            <a:prstGeom prst="rect">
              <a:avLst/>
            </a:prstGeom>
            <a:solidFill>
              <a:srgbClr val="ebf5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6400800" y="1676520"/>
              <a:ext cx="1752480" cy="1503360"/>
              <a:chOff x="6400800" y="1676520"/>
              <a:chExt cx="1752480" cy="150336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6400800" y="1676520"/>
                <a:ext cx="1582560" cy="1181880"/>
                <a:chOff x="6400800" y="1676520"/>
                <a:chExt cx="1582560" cy="11818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400800" y="2821680"/>
                  <a:ext cx="1582560" cy="36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71724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192080" y="252612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717240" y="2230560"/>
                  <a:ext cx="316440" cy="295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7192080" y="1676520"/>
                  <a:ext cx="316440" cy="295200"/>
                  <a:chOff x="7192080" y="1676520"/>
                  <a:chExt cx="316440" cy="2952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7192080" y="1824120"/>
                    <a:ext cx="316440" cy="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719208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7350480" y="16765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7508520" y="1824120"/>
                    <a:ext cx="0" cy="147600"/>
                  </a:xfrm>
                  <a:prstGeom prst="line">
                    <a:avLst/>
                  </a:prstGeom>
                  <a:ln w="381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3" name=""/>
              <p:cNvSpPr/>
              <p:nvPr/>
            </p:nvSpPr>
            <p:spPr>
              <a:xfrm>
                <a:off x="7984440" y="2722680"/>
                <a:ext cx="168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3454560" y="198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225600" y="19890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90360" y="3284640"/>
            <a:ext cx="8949600" cy="2760840"/>
            <a:chOff x="90360" y="3284640"/>
            <a:chExt cx="8949600" cy="2760840"/>
          </a:xfrm>
        </p:grpSpPr>
        <p:sp>
          <p:nvSpPr>
            <p:cNvPr id="277" name=""/>
            <p:cNvSpPr/>
            <p:nvPr/>
          </p:nvSpPr>
          <p:spPr>
            <a:xfrm>
              <a:off x="90360" y="4275000"/>
              <a:ext cx="894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C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C,TAVOLO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A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ANDEMPTY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LEAR(B),</a:t>
              </a: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B,TAVOL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965880" y="3284640"/>
              <a:ext cx="7241400" cy="2760840"/>
              <a:chOff x="965880" y="3284640"/>
              <a:chExt cx="7241400" cy="2760840"/>
            </a:xfrm>
          </p:grpSpPr>
          <p:sp>
            <p:nvSpPr>
              <p:cNvPr id="279" name=""/>
              <p:cNvSpPr/>
              <p:nvPr/>
            </p:nvSpPr>
            <p:spPr>
              <a:xfrm>
                <a:off x="965880" y="3589200"/>
                <a:ext cx="598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C), ON(C,TAVOLO), HOLDING(B), CLEAR(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43920" y="3284640"/>
                <a:ext cx="120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Stack(B,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36360" y="3970440"/>
                <a:ext cx="1133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Pickup(B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36720" y="4579920"/>
                <a:ext cx="1355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Putdown(C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72840" y="4960800"/>
                <a:ext cx="5988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A), CLEAR(B), ON(B,TAVOLO), HOLDING(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35280" y="5342040"/>
                <a:ext cx="147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990000"/>
                    </a:solidFill>
                    <a:latin typeface="Tahoma"/>
                  </a:rPr>
                  <a:t>Unstack(C,A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092240" y="5646600"/>
                <a:ext cx="711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LEAR(B), ON(B,TAVOLO), CLEAR(C), HANDEMPTY, ON(C,A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54560" y="33606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54560" y="3970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54560" y="46562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54560" y="53420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3225600" y="336060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225600" y="39704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3225600" y="46562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3225600" y="5342040"/>
                <a:ext cx="22860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331920" y="2674800"/>
            <a:ext cx="7115040" cy="703800"/>
            <a:chOff x="331920" y="2674800"/>
            <a:chExt cx="7115040" cy="703800"/>
          </a:xfrm>
        </p:grpSpPr>
        <p:sp>
          <p:nvSpPr>
            <p:cNvPr id="295" name=""/>
            <p:cNvSpPr/>
            <p:nvPr/>
          </p:nvSpPr>
          <p:spPr>
            <a:xfrm>
              <a:off x="3636720" y="2674800"/>
              <a:ext cx="112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ahoma"/>
                </a:rPr>
                <a:t>Pickup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1920" y="2979720"/>
              <a:ext cx="71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(B,A), CLEAR(B), HANDEMPTY, CLEAR(C), ON(C,TAVOL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54560" y="2674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225600" y="267480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90800" y="3200400"/>
            <a:ext cx="8651160" cy="581400"/>
          </a:xfrm>
          <a:prstGeom prst="rect">
            <a:avLst/>
          </a:prstGeom>
          <a:solidFill>
            <a:srgbClr val="ffe5f8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Backward planning ricerca lo spazio dei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59840" indent="-159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gni livello contien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60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ti i letterali c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trebb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sere veri in quel passo, dipendentemente dalle azioni eseg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60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te le azioni c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trebb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re le precondizioni soddisfatte in quel pa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no trascurate tutte le possibili interazioni negative fra azioni e letteral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 letterale che appare per la prima volta a livello </a:t>
            </a:r>
            <a:r>
              <a:rPr b="0" i="1" lang="en-US" sz="31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non implica l’esistenza di un piano in </a:t>
            </a:r>
            <a:r>
              <a:rPr b="0" i="1" lang="en-US" sz="31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passi che lo raggiung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rò sicuramente non esiste un piano con meno di </a:t>
            </a:r>
            <a:r>
              <a:rPr b="0" i="1" lang="en-US" sz="31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passi che lo raggiunge 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5984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Costruzione in tempo polinomiale con grado bass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159840" indent="-15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fo di planning usato per costruire euristiche ammissibili: h(s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stanza tra lo stato s e il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60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letterale che non compare nel grafo di planning implica la non esistenza di un piano, h(s) = </a:t>
            </a:r>
            <a:r>
              <a:rPr b="1" lang="en-US" sz="2400" spc="-1" strike="noStrike">
                <a:solidFill>
                  <a:srgbClr val="000000"/>
                </a:solidFill>
                <a:latin typeface="Symath"/>
                <a:ea typeface="Symath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60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ymath"/>
              </a:rPr>
              <a:t>level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ymath"/>
              </a:rPr>
              <a:t> di un letterale: primo livello in cui com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-160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ymath"/>
              </a:rPr>
              <a:t>Stima migliore d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ymath"/>
              </a:rPr>
              <a:t>level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ymath"/>
              </a:rPr>
              <a:t> se si usa grafo di planning seriale (usa mutua esclusione fra coppie di azioni (azioni persistenti escluse): una sola azione alla vol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ymath"/>
              </a:rPr>
              <a:t>Max-level: massimo livello fra tutti i sotto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ymath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ymath"/>
              </a:rPr>
              <a:t>(ammissi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ymath"/>
              </a:rPr>
              <a:t>Level sum:somma i livelli dei sotto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ymath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ymath"/>
              </a:rPr>
              <a:t>(inammissi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ymath"/>
              </a:rPr>
              <a:t>Set-level: livello dove tutti i sottogoal appaiono e nessuna coppia di sottogoal è in mutua esclusi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ymath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Symath"/>
              </a:rPr>
              <a:t>(ammissibile e buono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0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in S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180000" indent="-180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PS mantiene due strutture d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8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a di Sta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utti i predicati correntemente ve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8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a di 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una pila di goal da risolvere, con il goal corrente in testa alla p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il goal corrente non è soddisfatto dallo stato presente, esamina gli effetti positivi degli operatori, e inserisce l’operatore e la lista delle precondizioni sulla pila.  (Subgo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il goal corrente è soddisfatto, lo rimuove dalla pi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un operatore è in testa alla pila, registra l’applicazione dell’operatore sulla sequenza del piano e usa gli effetti per aggiornare lo stato cor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608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 di funzionamento di S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334120" y="1447920"/>
            <a:ext cx="2590560" cy="1939680"/>
            <a:chOff x="5334120" y="1447920"/>
            <a:chExt cx="2590560" cy="1939680"/>
          </a:xfrm>
        </p:grpSpPr>
        <p:grpSp>
          <p:nvGrpSpPr>
            <p:cNvPr id="305" name=""/>
            <p:cNvGrpSpPr/>
            <p:nvPr/>
          </p:nvGrpSpPr>
          <p:grpSpPr>
            <a:xfrm>
              <a:off x="6781680" y="1447920"/>
              <a:ext cx="685800" cy="685440"/>
              <a:chOff x="6781680" y="1447920"/>
              <a:chExt cx="685800" cy="685440"/>
            </a:xfrm>
          </p:grpSpPr>
          <p:sp>
            <p:nvSpPr>
              <p:cNvPr id="306" name=""/>
              <p:cNvSpPr/>
              <p:nvPr/>
            </p:nvSpPr>
            <p:spPr>
              <a:xfrm>
                <a:off x="6781680" y="1447920"/>
                <a:ext cx="685800" cy="6854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049880" y="1615680"/>
                <a:ext cx="349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17480" y="1631160"/>
                <a:ext cx="16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17720" y="16311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781680" y="2057400"/>
              <a:ext cx="685800" cy="761760"/>
              <a:chOff x="6781680" y="2057400"/>
              <a:chExt cx="685800" cy="761760"/>
            </a:xfrm>
          </p:grpSpPr>
          <p:sp>
            <p:nvSpPr>
              <p:cNvPr id="311" name=""/>
              <p:cNvSpPr/>
              <p:nvPr/>
            </p:nvSpPr>
            <p:spPr>
              <a:xfrm>
                <a:off x="6781680" y="2057400"/>
                <a:ext cx="685800" cy="7617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089840" y="2284200"/>
                <a:ext cx="33516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063560" y="227844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363080" y="230112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5334120" y="2743200"/>
              <a:ext cx="2590560" cy="1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91320" y="2244600"/>
              <a:ext cx="357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629320" y="2095560"/>
              <a:ext cx="695160" cy="647640"/>
              <a:chOff x="5629320" y="2095560"/>
              <a:chExt cx="695160" cy="647640"/>
            </a:xfrm>
          </p:grpSpPr>
          <p:sp>
            <p:nvSpPr>
              <p:cNvPr id="318" name=""/>
              <p:cNvSpPr/>
              <p:nvPr/>
            </p:nvSpPr>
            <p:spPr>
              <a:xfrm>
                <a:off x="5629320" y="2095560"/>
                <a:ext cx="695160" cy="647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3880" y="2324160"/>
                <a:ext cx="14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150240" y="228456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83440" y="3025800"/>
              <a:ext cx="4888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67320" y="30258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07520" y="30258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143000" y="1409760"/>
            <a:ext cx="2590920" cy="1977840"/>
            <a:chOff x="1143000" y="1409760"/>
            <a:chExt cx="2590920" cy="1977840"/>
          </a:xfrm>
        </p:grpSpPr>
        <p:grpSp>
          <p:nvGrpSpPr>
            <p:cNvPr id="325" name=""/>
            <p:cNvGrpSpPr/>
            <p:nvPr/>
          </p:nvGrpSpPr>
          <p:grpSpPr>
            <a:xfrm>
              <a:off x="1523880" y="2057400"/>
              <a:ext cx="685800" cy="685440"/>
              <a:chOff x="1523880" y="2057400"/>
              <a:chExt cx="685800" cy="685440"/>
            </a:xfrm>
          </p:grpSpPr>
          <p:sp>
            <p:nvSpPr>
              <p:cNvPr id="326" name=""/>
              <p:cNvSpPr/>
              <p:nvPr/>
            </p:nvSpPr>
            <p:spPr>
              <a:xfrm>
                <a:off x="1523880" y="2057400"/>
                <a:ext cx="685800" cy="6854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92080" y="2225160"/>
                <a:ext cx="349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59680" y="2240640"/>
                <a:ext cx="16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59920" y="224064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590920" y="2057400"/>
              <a:ext cx="685800" cy="761760"/>
              <a:chOff x="2590920" y="2057400"/>
              <a:chExt cx="685800" cy="761760"/>
            </a:xfrm>
          </p:grpSpPr>
          <p:sp>
            <p:nvSpPr>
              <p:cNvPr id="331" name=""/>
              <p:cNvSpPr/>
              <p:nvPr/>
            </p:nvSpPr>
            <p:spPr>
              <a:xfrm>
                <a:off x="2590920" y="2057400"/>
                <a:ext cx="685800" cy="7617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99080" y="2284200"/>
                <a:ext cx="33516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72800" y="227844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72320" y="230112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143000" y="2743200"/>
              <a:ext cx="2590920" cy="1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0200" y="2244600"/>
              <a:ext cx="357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523880" y="1409760"/>
              <a:ext cx="695160" cy="647640"/>
              <a:chOff x="1523880" y="1409760"/>
              <a:chExt cx="695160" cy="647640"/>
            </a:xfrm>
          </p:grpSpPr>
          <p:sp>
            <p:nvSpPr>
              <p:cNvPr id="338" name=""/>
              <p:cNvSpPr/>
              <p:nvPr/>
            </p:nvSpPr>
            <p:spPr>
              <a:xfrm>
                <a:off x="1523880" y="1409760"/>
                <a:ext cx="695160" cy="647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828440" y="1638360"/>
                <a:ext cx="14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959120" y="228456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92320" y="3025800"/>
              <a:ext cx="4888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76520" y="3048120"/>
              <a:ext cx="155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16400" y="30258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324000" y="3733920"/>
            <a:ext cx="508608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c, b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on(a,T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on(b,T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c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4000" y="3733920"/>
            <a:ext cx="508608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b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a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943600" y="4343400"/>
            <a:ext cx="2590920" cy="2248560"/>
            <a:chOff x="5943600" y="4343400"/>
            <a:chExt cx="2590920" cy="2248560"/>
          </a:xfrm>
        </p:grpSpPr>
        <p:grpSp>
          <p:nvGrpSpPr>
            <p:cNvPr id="348" name=""/>
            <p:cNvGrpSpPr/>
            <p:nvPr/>
          </p:nvGrpSpPr>
          <p:grpSpPr>
            <a:xfrm>
              <a:off x="6324480" y="4991040"/>
              <a:ext cx="685800" cy="685440"/>
              <a:chOff x="6324480" y="4991040"/>
              <a:chExt cx="685800" cy="685440"/>
            </a:xfrm>
          </p:grpSpPr>
          <p:sp>
            <p:nvSpPr>
              <p:cNvPr id="349" name=""/>
              <p:cNvSpPr/>
              <p:nvPr/>
            </p:nvSpPr>
            <p:spPr>
              <a:xfrm>
                <a:off x="6324480" y="4991040"/>
                <a:ext cx="685800" cy="6854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92680" y="5158800"/>
                <a:ext cx="349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60280" y="5174280"/>
                <a:ext cx="16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60520" y="517428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391520" y="4991040"/>
              <a:ext cx="685800" cy="761760"/>
              <a:chOff x="7391520" y="4991040"/>
              <a:chExt cx="685800" cy="761760"/>
            </a:xfrm>
          </p:grpSpPr>
          <p:sp>
            <p:nvSpPr>
              <p:cNvPr id="354" name=""/>
              <p:cNvSpPr/>
              <p:nvPr/>
            </p:nvSpPr>
            <p:spPr>
              <a:xfrm>
                <a:off x="7391520" y="4991040"/>
                <a:ext cx="685800" cy="7617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99680" y="5217840"/>
                <a:ext cx="33516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73400" y="52120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972920" y="52347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943600" y="5676840"/>
              <a:ext cx="2590920" cy="14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00800" y="5178600"/>
              <a:ext cx="357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6324480" y="4343400"/>
              <a:ext cx="695160" cy="647640"/>
              <a:chOff x="6324480" y="4343400"/>
              <a:chExt cx="695160" cy="647640"/>
            </a:xfrm>
          </p:grpSpPr>
          <p:sp>
            <p:nvSpPr>
              <p:cNvPr id="361" name=""/>
              <p:cNvSpPr/>
              <p:nvPr/>
            </p:nvSpPr>
            <p:spPr>
              <a:xfrm>
                <a:off x="6324480" y="4343400"/>
                <a:ext cx="695160" cy="647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629040" y="4572000"/>
                <a:ext cx="14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6759720" y="52182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92920" y="5959440"/>
              <a:ext cx="4888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77120" y="5981760"/>
              <a:ext cx="15573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Stato corr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17000" y="595944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9400" y="5162400"/>
              <a:ext cx="357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88320" y="520236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21520" y="5943600"/>
              <a:ext cx="4888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45600" y="59436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715000" y="4343400"/>
            <a:ext cx="3048120" cy="1904760"/>
            <a:chOff x="5715000" y="4343400"/>
            <a:chExt cx="3048120" cy="1904760"/>
          </a:xfrm>
        </p:grpSpPr>
        <p:sp>
          <p:nvSpPr>
            <p:cNvPr id="372" name=""/>
            <p:cNvSpPr/>
            <p:nvPr/>
          </p:nvSpPr>
          <p:spPr>
            <a:xfrm>
              <a:off x="5715000" y="4343400"/>
              <a:ext cx="3048120" cy="19047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5791320" y="4724280"/>
              <a:ext cx="2590920" cy="1406520"/>
              <a:chOff x="5791320" y="4724280"/>
              <a:chExt cx="2590920" cy="1406520"/>
            </a:xfrm>
          </p:grpSpPr>
          <p:sp>
            <p:nvSpPr>
              <p:cNvPr id="374" name=""/>
              <p:cNvSpPr/>
              <p:nvPr/>
            </p:nvSpPr>
            <p:spPr>
              <a:xfrm>
                <a:off x="6664320" y="5769000"/>
                <a:ext cx="489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60760" y="5790960"/>
                <a:ext cx="1707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w Cen MT"/>
                  </a:rPr>
                  <a:t>Stato corr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088400" y="576900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6858000" y="4724280"/>
                <a:ext cx="685800" cy="685440"/>
                <a:chOff x="6858000" y="4724280"/>
                <a:chExt cx="685800" cy="6854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6858000" y="472428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126200" y="489204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93800" y="490752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394040" y="49075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620120" y="4724280"/>
                <a:ext cx="685800" cy="685440"/>
                <a:chOff x="7620120" y="4724280"/>
                <a:chExt cx="685800" cy="68544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620120" y="4724280"/>
                  <a:ext cx="685800" cy="68544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928280" y="4928400"/>
                  <a:ext cx="335160" cy="38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902000" y="492336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201520" y="49435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5791320" y="5410080"/>
                <a:ext cx="259092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48520" y="491148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6019920" y="4724280"/>
                <a:ext cx="695160" cy="685440"/>
                <a:chOff x="6019920" y="4724280"/>
                <a:chExt cx="695160" cy="6854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6019920" y="4724280"/>
                  <a:ext cx="695160" cy="6854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324480" y="49662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6607440" y="495144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5638680" y="3657600"/>
            <a:ext cx="3048120" cy="2514600"/>
            <a:chOff x="5638680" y="3657600"/>
            <a:chExt cx="3048120" cy="2514600"/>
          </a:xfrm>
        </p:grpSpPr>
        <p:sp>
          <p:nvSpPr>
            <p:cNvPr id="394" name=""/>
            <p:cNvSpPr/>
            <p:nvPr/>
          </p:nvSpPr>
          <p:spPr>
            <a:xfrm>
              <a:off x="5638680" y="3657600"/>
              <a:ext cx="3048120" cy="25146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7391520" y="4213440"/>
              <a:ext cx="685800" cy="685440"/>
              <a:chOff x="7391520" y="4213440"/>
              <a:chExt cx="685800" cy="685440"/>
            </a:xfrm>
          </p:grpSpPr>
          <p:sp>
            <p:nvSpPr>
              <p:cNvPr id="396" name=""/>
              <p:cNvSpPr/>
              <p:nvPr/>
            </p:nvSpPr>
            <p:spPr>
              <a:xfrm>
                <a:off x="7391520" y="4213440"/>
                <a:ext cx="685800" cy="6854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659720" y="4381200"/>
                <a:ext cx="349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627320" y="4396680"/>
                <a:ext cx="16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27560" y="439668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391520" y="4822920"/>
              <a:ext cx="685800" cy="761760"/>
              <a:chOff x="7391520" y="4822920"/>
              <a:chExt cx="685800" cy="761760"/>
            </a:xfrm>
          </p:grpSpPr>
          <p:sp>
            <p:nvSpPr>
              <p:cNvPr id="401" name=""/>
              <p:cNvSpPr/>
              <p:nvPr/>
            </p:nvSpPr>
            <p:spPr>
              <a:xfrm>
                <a:off x="7391520" y="4822920"/>
                <a:ext cx="685800" cy="7617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99680" y="5049720"/>
                <a:ext cx="33516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73400" y="504396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972920" y="506664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5943600" y="5508720"/>
              <a:ext cx="2590920" cy="14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6238800" y="4861080"/>
              <a:ext cx="695160" cy="647640"/>
              <a:chOff x="6238800" y="4861080"/>
              <a:chExt cx="695160" cy="647640"/>
            </a:xfrm>
          </p:grpSpPr>
          <p:sp>
            <p:nvSpPr>
              <p:cNvPr id="407" name=""/>
              <p:cNvSpPr/>
              <p:nvPr/>
            </p:nvSpPr>
            <p:spPr>
              <a:xfrm>
                <a:off x="6238800" y="4861080"/>
                <a:ext cx="695160" cy="647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543360" y="5089680"/>
                <a:ext cx="14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6400800" y="5791320"/>
              <a:ext cx="19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w Cen MT"/>
                </a:rPr>
                <a:t>Stato corr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85800" y="3657600"/>
            <a:ext cx="474984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b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a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373392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ea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stack(a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a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ear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b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a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65760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nstack(a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a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ear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b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a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3657600"/>
            <a:ext cx="4800600" cy="26510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a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ear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b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a,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73392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365760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ear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ea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tack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365760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ea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tack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65760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tack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373392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n(c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4000" y="3733920"/>
            <a:ext cx="51624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  <p:sndAc>
      <p:stSnd>
        <p:snd r:embed="rId1" name="camera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9:49:57Z</dcterms:created>
  <dc:creator> Alessandro Sperduti</dc:creator>
  <dc:description/>
  <dc:language>en-US</dc:language>
  <cp:lastModifiedBy> Alessandro Sperduti</cp:lastModifiedBy>
  <dcterms:modified xsi:type="dcterms:W3CDTF">2006-06-05T09:50:15Z</dcterms:modified>
  <cp:revision>1</cp:revision>
  <dc:subject/>
  <dc:title>Rappresentazione delle Azioni</dc:title>
</cp:coreProperties>
</file>