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FDD1-E7F2-46F3-8F2E-8B8BEEFA3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813A-23CA-40E0-A836-4A1DBC4B1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5794-4351-4EAE-AD38-99342C795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4420-7095-4A3A-B4C0-A09DC40C9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29E1-8AEE-44EF-B384-9C7C9D171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0D4A-BA7B-401D-8D78-0F8FAB832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4A3B-2403-40E0-86CE-6C5B48792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2679-4817-48A6-A6B8-9346F15D2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3940-61EA-4871-B0FD-3F666D6A1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40F9-7194-440B-8118-12E465E9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924A-69AD-4386-9F5C-7290EC36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D815-78CB-4652-A5FE-1FFC61DD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AEA65-35C8-4FFF-9568-A94C64A58B13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ianificazione (Planning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43434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itolo 11, Russell &amp; Norv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0960" y="6427800"/>
            <a:ext cx="537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Questa presentazione include lucidi creati da: B.J. Dorr, L. Getoor, A. Lazaric, Russel &amp; Norvig, M. Simi, S. Sceff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roacci Principa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7840" y="1600200"/>
            <a:ext cx="774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00520" indent="-20052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Calcolo delle situazio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0520" indent="-20052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Planning nello spazio degli sta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0520" indent="-20052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Partial order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0520" indent="-20052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Grafi di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0520" indent="-20052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Decomposizione Gerarchica (HTN plannin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0520" indent="-20052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Planning Reattivo (Reactive plannin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0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nning con Calcolo delle Situazio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 base:  rappresentare il problema di planning in F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 calcolo delle situazioni ci permette di ragionare sui cambiamenti del mo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 inferenza (theorem proving) per “provare” che una particolare sequenza di azioni, quando applicata alla situazione che caratterizza lo stato del mondo, condurrà al risultato desiderato   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(piano = prov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olo delle Situa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1720" y="1142640"/>
            <a:ext cx="865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o Inizia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una sentenza logica su (situazione)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(Home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(Milk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(Bananas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(Drill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o Go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) At(Home,s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(Milk,s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(Bananas,s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(Drill,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or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sono descrizioni di come il mondo cambia a causa delle azioni dell’ agent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,s) Have(Milk,Result(a,s)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(a=Buy(Milk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(Grocery,s)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Have(Milk, s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op(Milk)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(a,s) già visto (la situazione risultante dalla esecuzione della azione a nella situazione 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ze di azioni: Result'(l,s) è il risultato della esecuzione della lista di azioni (l) a partire da 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) Result'([ ],s) =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,p,s) Result'([a|p],s) = Result'(p,Result(a,s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olo delle Situa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a soluzione è un piano  che quando applicato allo stato iniziale conduce ad una situazione che soddisfa la query di goal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(Home,Result'(p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(Milk,Result'(p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(Bananas,Result'(p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(Drill,Result'(p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ndi ci si aspetta un piano (cioè un assegnamento di variabile tramite unificazione) tale ch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[Go(Grocery), Buy(Milk), Buy(Bananas), Go(HardwareStore), Buy(Drill), Go(Home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lcolo delle Situazioni: Analis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oria va bene, ma il problem solving (ricerca) è esponenziale nel caso pessi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oltre, la risoluzione trova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u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va (=piano), non necessariamente un buon piano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cordiamoci anche del Problema del Frame, della Qualifica e della Ramificazion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ndi è meglio usare un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inguaggio ristret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 un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lgoritmo specializzato (plann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iuttosto che un dimostratore generale di teore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appresentazioni base per il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99128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ccio classico usato negli anni 70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 rappresentati come una congiunzione di letterali 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(Home)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(Milk)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(bananas)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goal sono congiunzioni di letterali, ma possono avere variabili che sono assunte essere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quantificate esistenzial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(?x)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(Milk)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(bananas)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 c’è bisogno di specificare completamente lo sta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specificato significa non rilevante o assunto fal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ppresenta molti casi in poca memor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sso rappresenta solo i cambiamenti nello stato piuttosto che l’intera situazi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 contrario di un dimostratore di teoremi, non cerca se il goal è vero, ma se c’è una sequenza di azioni che lo raggiun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appresentazione Operatori/azio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6980040" cy="60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i operatori contengono tre component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zione delle az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condizion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congiunzione di letterali positiv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ffett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congiunzione di letterali positivi o negativi che descrivono come la situazione cambia quando si applica l’opera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empi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[Action:  Go(there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ondizioni:  At(here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th(here,there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etto:  At(there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(here)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utte le variabili sono quantificate universalmen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 variabili di situazione sono implici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 precondizioni devono essere vere nello stato precedente all’applicazione dell’operatore; gli effetti sono veri immediatamente do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3124080"/>
            <a:ext cx="1600200" cy="914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009920" y="320040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(the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02400" y="2743200"/>
            <a:ext cx="25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(here) ,Path(here,the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689520" y="4076640"/>
            <a:ext cx="21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(there) 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¬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(he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352680" y="3429000"/>
            <a:ext cx="365760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4572000" y="4191120"/>
            <a:ext cx="220968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105520" y="3124080"/>
            <a:ext cx="1447560" cy="914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do dei blocch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415360" cy="52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 mondo dei blocchi è un micro-mondo che consiste di un tavolo, un insieme di blocchi e un manipolatore robo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cuni vincoli del domin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solo blocco può essere immediatamente sopra un al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qualsiasi numero di blocchi sul tavo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 manipolatore può mantenere un solo bloc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ppresentazione tip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(a,tavo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(c,tavo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(b,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emp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(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4572000" y="4267080"/>
            <a:ext cx="3833640" cy="2471040"/>
            <a:chOff x="4572000" y="4267080"/>
            <a:chExt cx="3833640" cy="2471040"/>
          </a:xfrm>
        </p:grpSpPr>
        <p:sp>
          <p:nvSpPr>
            <p:cNvPr id="96" name=""/>
            <p:cNvSpPr/>
            <p:nvPr/>
          </p:nvSpPr>
          <p:spPr>
            <a:xfrm>
              <a:off x="4572000" y="6248160"/>
              <a:ext cx="358128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029200" y="5867280"/>
              <a:ext cx="38088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029200" y="5486400"/>
              <a:ext cx="380880" cy="3808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715000" y="5867280"/>
              <a:ext cx="3808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5486040" y="4267080"/>
              <a:ext cx="571320" cy="995040"/>
              <a:chOff x="5486040" y="4267080"/>
              <a:chExt cx="571320" cy="995040"/>
            </a:xfrm>
          </p:grpSpPr>
          <p:sp>
            <p:nvSpPr>
              <p:cNvPr id="101" name=""/>
              <p:cNvSpPr/>
              <p:nvPr/>
            </p:nvSpPr>
            <p:spPr>
              <a:xfrm flipV="1" rot="16200000">
                <a:off x="5521680" y="4726080"/>
                <a:ext cx="500040" cy="571320"/>
              </a:xfrm>
              <a:custGeom>
                <a:avLst/>
                <a:gdLst>
                  <a:gd name="textAreaLeft" fmla="*/ 0 w 500040"/>
                  <a:gd name="textAreaRight" fmla="*/ 350640 w 500040"/>
                  <a:gd name="textAreaTop" fmla="*/ 23760 h 571320"/>
                  <a:gd name="textAreaBottom" fmla="*/ 547560 h 571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900"/>
                      <a:pt x="21600" y="1800"/>
                    </a:cubicBezTo>
                    <a:lnTo>
                      <a:pt x="21600" y="19800"/>
                    </a:lnTo>
                    <a:cubicBezTo>
                      <a:pt x="21600" y="20700"/>
                      <a:pt x="10800" y="21600"/>
                      <a:pt x="0" y="21600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753160" y="4267080"/>
                <a:ext cx="0" cy="457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7392960" y="6400800"/>
              <a:ext cx="101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AVO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ppresentazione dello Sta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96120" y="4172040"/>
            <a:ext cx="7223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giunzione di proposizion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CK(A), BLOCK(B), BLOCK(C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(A,TAVOLO), ON(B,TAVOLO), ON(C,A)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(B), CLEAR(C), HANDEMP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124080" y="1600200"/>
            <a:ext cx="4848120" cy="2638800"/>
            <a:chOff x="3124080" y="1600200"/>
            <a:chExt cx="4848120" cy="2638800"/>
          </a:xfrm>
        </p:grpSpPr>
        <p:grpSp>
          <p:nvGrpSpPr>
            <p:cNvPr id="107" name=""/>
            <p:cNvGrpSpPr/>
            <p:nvPr/>
          </p:nvGrpSpPr>
          <p:grpSpPr>
            <a:xfrm>
              <a:off x="3124080" y="1600200"/>
              <a:ext cx="3048120" cy="2438280"/>
              <a:chOff x="3124080" y="1600200"/>
              <a:chExt cx="3048120" cy="2438280"/>
            </a:xfrm>
          </p:grpSpPr>
          <p:sp>
            <p:nvSpPr>
              <p:cNvPr id="108" name=""/>
              <p:cNvSpPr/>
              <p:nvPr/>
            </p:nvSpPr>
            <p:spPr>
              <a:xfrm>
                <a:off x="3124080" y="3962160"/>
                <a:ext cx="304812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733920" y="3352680"/>
                <a:ext cx="609480" cy="6094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648320" y="3352680"/>
                <a:ext cx="609480" cy="6094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733920" y="2743200"/>
                <a:ext cx="609480" cy="6094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" name=""/>
              <p:cNvGrpSpPr/>
              <p:nvPr/>
            </p:nvGrpSpPr>
            <p:grpSpPr>
              <a:xfrm>
                <a:off x="4648320" y="1600200"/>
                <a:ext cx="609480" cy="609120"/>
                <a:chOff x="4648320" y="1600200"/>
                <a:chExt cx="609480" cy="60912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4648320" y="1904760"/>
                  <a:ext cx="609480" cy="0"/>
                </a:xfrm>
                <a:prstGeom prst="line">
                  <a:avLst/>
                </a:prstGeom>
                <a:ln w="381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4648320" y="190476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4953240" y="160020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5257800" y="190476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" name=""/>
            <p:cNvSpPr/>
            <p:nvPr/>
          </p:nvSpPr>
          <p:spPr>
            <a:xfrm>
              <a:off x="6211080" y="3657600"/>
              <a:ext cx="1761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TAVOL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ppresentazione del 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124080" y="1600200"/>
            <a:ext cx="3048120" cy="2438280"/>
            <a:chOff x="3124080" y="1600200"/>
            <a:chExt cx="3048120" cy="2438280"/>
          </a:xfrm>
        </p:grpSpPr>
        <p:sp>
          <p:nvSpPr>
            <p:cNvPr id="120" name=""/>
            <p:cNvSpPr/>
            <p:nvPr/>
          </p:nvSpPr>
          <p:spPr>
            <a:xfrm>
              <a:off x="3124080" y="3962520"/>
              <a:ext cx="3048120" cy="75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733920" y="3352680"/>
              <a:ext cx="609480" cy="609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733920" y="2743200"/>
              <a:ext cx="60948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733920" y="2133720"/>
              <a:ext cx="60948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4648320" y="1600200"/>
              <a:ext cx="609480" cy="609120"/>
              <a:chOff x="4648320" y="1600200"/>
              <a:chExt cx="609480" cy="609120"/>
            </a:xfrm>
          </p:grpSpPr>
          <p:sp>
            <p:nvSpPr>
              <p:cNvPr id="125" name=""/>
              <p:cNvSpPr/>
              <p:nvPr/>
            </p:nvSpPr>
            <p:spPr>
              <a:xfrm>
                <a:off x="4648320" y="1904760"/>
                <a:ext cx="609480" cy="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648320" y="1904760"/>
                <a:ext cx="0" cy="30456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953240" y="1600200"/>
                <a:ext cx="0" cy="30456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257800" y="1904760"/>
                <a:ext cx="0" cy="30456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"/>
          <p:cNvSpPr/>
          <p:nvPr/>
        </p:nvSpPr>
        <p:spPr>
          <a:xfrm>
            <a:off x="995400" y="4400640"/>
            <a:ext cx="5822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giunzione di proposizion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(A,TAVOLO), ON(B,A), ON(C,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90000" y="5418000"/>
            <a:ext cx="7988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Il goal G è raggiunto in uno stato S se tutte </a:t>
            </a:r>
            <a:br>
              <a:rPr sz="3200"/>
            </a:b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le proposizioni in G sono anche in 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a di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ovare una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quenza di azioni (piano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e raggiunge un dato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go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ando eseguita a partire da un dato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tato iniziale del mon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Cioè d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insieme di descrizioni di operatori (azioni primitive dell’agente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a descrizione dello stato iniziale, 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a descrizione dello stato go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olare un piano, che 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a sequenza di istanze di operatori, tale che eseguita a partire dallo stato iniziale cambia il mondo in modo da portarlo in uno stato che soddisfa la descrizione dello stato go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goal sono usualmente specificati come una  congiunzione di (sotto)goal da raggiung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066680" y="1752480"/>
            <a:ext cx="6553440" cy="2057400"/>
          </a:xfrm>
          <a:prstGeom prst="rect">
            <a:avLst/>
          </a:prstGeom>
          <a:solidFill>
            <a:srgbClr val="d9ff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ppresentazione delle A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91160" y="1828800"/>
            <a:ext cx="65199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stack(x,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P 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HANDEMPTY, BLOCK(x), BLOCK(y), </a:t>
            </a:r>
            <a:br>
              <a:rPr sz="2400"/>
            </a:b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         CLEAR(x), ON(x,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E =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99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HANDEMPTY, </a:t>
            </a:r>
            <a:r>
              <a:rPr b="1" lang="en-US" sz="2400" spc="-1" strike="noStrike">
                <a:solidFill>
                  <a:srgbClr val="99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CLEAR(x), HOLDING(x),</a:t>
            </a:r>
            <a:br>
              <a:rPr sz="2400"/>
            </a:b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        </a:t>
            </a:r>
            <a:r>
              <a:rPr b="1" lang="en-US" sz="2400" spc="-1" strike="noStrike">
                <a:solidFill>
                  <a:srgbClr val="99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ON(x,y), CLEAR(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62120" y="2590920"/>
            <a:ext cx="8535240" cy="2181600"/>
            <a:chOff x="762120" y="2590920"/>
            <a:chExt cx="8535240" cy="2181600"/>
          </a:xfrm>
        </p:grpSpPr>
        <p:sp>
          <p:nvSpPr>
            <p:cNvPr id="135" name=""/>
            <p:cNvSpPr/>
            <p:nvPr/>
          </p:nvSpPr>
          <p:spPr>
            <a:xfrm>
              <a:off x="762120" y="2590920"/>
              <a:ext cx="914040" cy="1981080"/>
            </a:xfrm>
            <a:custGeom>
              <a:avLst/>
              <a:gdLst/>
              <a:ahLst/>
              <a:rect l="l" t="t" r="r" b="b"/>
              <a:pathLst>
                <a:path w="576" h="1248">
                  <a:moveTo>
                    <a:pt x="288" y="0"/>
                  </a:moveTo>
                  <a:lnTo>
                    <a:pt x="0" y="0"/>
                  </a:lnTo>
                  <a:lnTo>
                    <a:pt x="0" y="1248"/>
                  </a:lnTo>
                  <a:lnTo>
                    <a:pt x="576" y="1248"/>
                  </a:ln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403640" y="4191120"/>
              <a:ext cx="7893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8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8000"/>
                  </a:solidFill>
                  <a:latin typeface="Tahoma"/>
                </a:rPr>
                <a:t>Precondizioni: </a:t>
              </a:r>
              <a:r>
                <a:rPr b="0" lang="en-US" sz="2800" spc="-1" strike="noStrike">
                  <a:solidFill>
                    <a:srgbClr val="008000"/>
                  </a:solidFill>
                  <a:latin typeface="Tahoma"/>
                </a:rPr>
                <a:t>congiunzione di proposizion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942480" y="3290760"/>
            <a:ext cx="4839480" cy="1038600"/>
            <a:chOff x="942480" y="3290760"/>
            <a:chExt cx="4839480" cy="1038600"/>
          </a:xfrm>
        </p:grpSpPr>
        <p:grpSp>
          <p:nvGrpSpPr>
            <p:cNvPr id="138" name=""/>
            <p:cNvGrpSpPr/>
            <p:nvPr/>
          </p:nvGrpSpPr>
          <p:grpSpPr>
            <a:xfrm>
              <a:off x="942480" y="3290760"/>
              <a:ext cx="686160" cy="838440"/>
              <a:chOff x="942480" y="3290760"/>
              <a:chExt cx="686160" cy="838440"/>
            </a:xfrm>
          </p:grpSpPr>
          <p:sp>
            <p:nvSpPr>
              <p:cNvPr id="139" name=""/>
              <p:cNvSpPr/>
              <p:nvPr/>
            </p:nvSpPr>
            <p:spPr>
              <a:xfrm flipH="1">
                <a:off x="942480" y="3290760"/>
                <a:ext cx="228600" cy="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942840" y="3290760"/>
                <a:ext cx="0" cy="83844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942840" y="4129200"/>
                <a:ext cx="685800" cy="0"/>
              </a:xfrm>
              <a:prstGeom prst="line">
                <a:avLst/>
              </a:prstGeom>
              <a:ln w="38160">
                <a:solidFill>
                  <a:srgbClr val="99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1553760" y="3747960"/>
              <a:ext cx="422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99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990000"/>
                  </a:solidFill>
                  <a:latin typeface="Tahoma"/>
                </a:rPr>
                <a:t>Effetto: </a:t>
              </a:r>
              <a:r>
                <a:rPr b="0" lang="en-US" sz="2800" spc="-1" strike="noStrike">
                  <a:solidFill>
                    <a:srgbClr val="990000"/>
                  </a:solidFill>
                  <a:latin typeface="Tahoma"/>
                </a:rPr>
                <a:t>lista di letteral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491760" y="3048120"/>
            <a:ext cx="4803120" cy="3035160"/>
            <a:chOff x="491760" y="3048120"/>
            <a:chExt cx="4803120" cy="3035160"/>
          </a:xfrm>
        </p:grpSpPr>
        <p:sp>
          <p:nvSpPr>
            <p:cNvPr id="144" name=""/>
            <p:cNvSpPr/>
            <p:nvPr/>
          </p:nvSpPr>
          <p:spPr>
            <a:xfrm>
              <a:off x="1944720" y="3048120"/>
              <a:ext cx="2093760" cy="4572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1800" y="3505320"/>
              <a:ext cx="0" cy="1752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1760" y="5257800"/>
              <a:ext cx="4803120" cy="825480"/>
            </a:xfrm>
            <a:prstGeom prst="rect">
              <a:avLst/>
            </a:prstGeom>
            <a:solidFill>
              <a:srgbClr val="ffd7a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Significa: Rimuove HANDEMPTY </a:t>
              </a:r>
              <a:br>
                <a:rPr sz="2400"/>
              </a:b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dallo sta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258160" y="2971800"/>
            <a:ext cx="3321720" cy="3110040"/>
            <a:chOff x="5258160" y="2971800"/>
            <a:chExt cx="3321720" cy="3110040"/>
          </a:xfrm>
        </p:grpSpPr>
        <p:sp>
          <p:nvSpPr>
            <p:cNvPr id="148" name=""/>
            <p:cNvSpPr/>
            <p:nvPr/>
          </p:nvSpPr>
          <p:spPr>
            <a:xfrm>
              <a:off x="5258160" y="5256360"/>
              <a:ext cx="3321720" cy="825480"/>
            </a:xfrm>
            <a:prstGeom prst="rect">
              <a:avLst/>
            </a:prstGeom>
            <a:solidFill>
              <a:srgbClr val="dee3f6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Significa: Aggiungi </a:t>
              </a:r>
              <a:br>
                <a:rPr sz="2400"/>
              </a:br>
              <a:r>
                <a:rPr b="0" lang="en-US" sz="2400" spc="-1" strike="noStrike">
                  <a:solidFill>
                    <a:srgbClr val="3333cc"/>
                  </a:solidFill>
                  <a:latin typeface="Tahoma"/>
                </a:rPr>
                <a:t>HOLDING(x) allo sta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715000" y="2971800"/>
              <a:ext cx="1752480" cy="6094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6629040" y="3581280"/>
              <a:ext cx="2052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emp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762120" y="1523880"/>
            <a:ext cx="3308400" cy="2637000"/>
            <a:chOff x="762120" y="1523880"/>
            <a:chExt cx="3308400" cy="2637000"/>
          </a:xfrm>
        </p:grpSpPr>
        <p:grpSp>
          <p:nvGrpSpPr>
            <p:cNvPr id="153" name=""/>
            <p:cNvGrpSpPr/>
            <p:nvPr/>
          </p:nvGrpSpPr>
          <p:grpSpPr>
            <a:xfrm>
              <a:off x="762120" y="1523880"/>
              <a:ext cx="3048120" cy="2438280"/>
              <a:chOff x="762120" y="1523880"/>
              <a:chExt cx="3048120" cy="2438280"/>
            </a:xfrm>
          </p:grpSpPr>
          <p:sp>
            <p:nvSpPr>
              <p:cNvPr id="154" name=""/>
              <p:cNvSpPr/>
              <p:nvPr/>
            </p:nvSpPr>
            <p:spPr>
              <a:xfrm>
                <a:off x="762120" y="3885840"/>
                <a:ext cx="3048120" cy="76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371960" y="3276360"/>
                <a:ext cx="609480" cy="6094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286360" y="3276360"/>
                <a:ext cx="609480" cy="6094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371960" y="2666880"/>
                <a:ext cx="609480" cy="6094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8" name=""/>
              <p:cNvGrpSpPr/>
              <p:nvPr/>
            </p:nvGrpSpPr>
            <p:grpSpPr>
              <a:xfrm>
                <a:off x="2286360" y="1523880"/>
                <a:ext cx="609480" cy="609120"/>
                <a:chOff x="2286360" y="1523880"/>
                <a:chExt cx="609480" cy="60912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2286360" y="1828440"/>
                  <a:ext cx="609480" cy="0"/>
                </a:xfrm>
                <a:prstGeom prst="line">
                  <a:avLst/>
                </a:prstGeom>
                <a:ln w="381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2286360" y="182844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2591280" y="152388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2895840" y="1828440"/>
                  <a:ext cx="0" cy="304560"/>
                </a:xfrm>
                <a:prstGeom prst="line">
                  <a:avLst/>
                </a:prstGeom>
                <a:ln w="381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3" name=""/>
            <p:cNvSpPr/>
            <p:nvPr/>
          </p:nvSpPr>
          <p:spPr>
            <a:xfrm>
              <a:off x="3886560" y="3581280"/>
              <a:ext cx="183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1079640" y="4321080"/>
            <a:ext cx="5795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stack(C,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P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ANDEMPTY, BLOCK(C), BLOCK(A), </a:t>
            </a:r>
            <a:br>
              <a:rPr sz="2000"/>
            </a:b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        CLEAR(C), ON(C,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E 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HANDEMPTY, </a:t>
            </a:r>
            <a:r>
              <a:rPr b="1" lang="en-US" sz="2000" spc="-1" strike="noStrike">
                <a:solidFill>
                  <a:srgbClr val="99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CLEAR(C), HOLDING(C),</a:t>
            </a:r>
            <a:br>
              <a:rPr sz="2000"/>
            </a:b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99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ON(C,A), CLEAR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346920" y="2263680"/>
            <a:ext cx="5226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8f5f"/>
                </a:solidFill>
                <a:latin typeface="Arial"/>
              </a:rPr>
              <a:t>BLOCK(A)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LOCK(B),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BLOCK(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(A,TAVOLO), ON(B,TAVOLO),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ON(C,A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(B),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CLEAR(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ANDEMP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emp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3886200"/>
            <a:ext cx="30477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371600" y="3276720"/>
            <a:ext cx="6094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0" y="3276720"/>
            <a:ext cx="6094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0" y="1828800"/>
            <a:ext cx="6094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2286000" y="1523880"/>
            <a:ext cx="609480" cy="609840"/>
            <a:chOff x="2286000" y="1523880"/>
            <a:chExt cx="609480" cy="609840"/>
          </a:xfrm>
        </p:grpSpPr>
        <p:sp>
          <p:nvSpPr>
            <p:cNvPr id="172" name=""/>
            <p:cNvSpPr/>
            <p:nvPr/>
          </p:nvSpPr>
          <p:spPr>
            <a:xfrm>
              <a:off x="2286000" y="1828800"/>
              <a:ext cx="60948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286000" y="1828800"/>
              <a:ext cx="0" cy="30492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90920" y="1523880"/>
              <a:ext cx="0" cy="30492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95480" y="1828800"/>
              <a:ext cx="0" cy="30492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3886200" y="35812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346920" y="2263680"/>
            <a:ext cx="5226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(A), BLOCK(B), BLOCK(C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(A,TAVOLO), ON(B,TAVOLO), ON(C,A)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(B), CLEAR(C), HANDEMPTY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HOLDING(C), CLEAR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079640" y="4321080"/>
            <a:ext cx="5795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stack(C,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P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ANDEMPTY, BLOCK(C), BLOCK(A), </a:t>
            </a:r>
            <a:br>
              <a:rPr sz="2000"/>
            </a:b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        CLEAR(C), ON(C,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E 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HANDEMPTY, </a:t>
            </a:r>
            <a:r>
              <a:rPr b="1" lang="en-US" sz="2000" spc="-1" strike="noStrike">
                <a:solidFill>
                  <a:srgbClr val="99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CLEAR(C), HOLDING(C),</a:t>
            </a:r>
            <a:br>
              <a:rPr sz="2000"/>
            </a:b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99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ON(C,A), CLEAR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4740120" y="2558520"/>
            <a:ext cx="3657600" cy="610200"/>
            <a:chOff x="4740120" y="2558520"/>
            <a:chExt cx="3657600" cy="610200"/>
          </a:xfrm>
        </p:grpSpPr>
        <p:sp>
          <p:nvSpPr>
            <p:cNvPr id="180" name=""/>
            <p:cNvSpPr/>
            <p:nvPr/>
          </p:nvSpPr>
          <p:spPr>
            <a:xfrm flipV="1">
              <a:off x="6264000" y="3016080"/>
              <a:ext cx="1752480" cy="15264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4740120" y="2939760"/>
              <a:ext cx="1371600" cy="22860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7254720" y="2558520"/>
              <a:ext cx="1143000" cy="304920"/>
            </a:xfrm>
            <a:prstGeom prst="line">
              <a:avLst/>
            </a:prstGeom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e “produrre” un Pi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ive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zza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rincipi prim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noscenza delle azioni) per generare un pi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chiede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modelli formali delle azion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-Based Plan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ecupe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n piano già prodotto per una situazione sim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evisio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l piano recuperato per adattarlo al problema in ogget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inforcement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egue azioni a caso, registrando gli effe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ende ricompense, modelli di azioni, politi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unzioni Tipic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o atomico: ogni azione è indivisib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zioni concorrenti non sono ammesse (anche se le azioni non hanno bisogno di essere ordinate fra loro nel pian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zioni deterministiche: il risultato delle azioni è completamente determinato, non c’è incertezza nel loro effet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’agente è la sola causa di cambiamento del mon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’agente è omniscente: ha conoscenza completa dello stato del mon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losed World Assump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utto quello che si sa vero è incluso nella descrizione dello stato. Ciò che non è descritto è fal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ning vs. problem sol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 e problem solving possono spesso risolvere lo stesso tipo di probl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 è più potente per le rappresentazioni e i metodi us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, goal, e azioni sono decomposte in insiemi di sentenze (usualmente in F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ricerca spesso procede attraverso lo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pazio dei pian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vece dello spazio degli stati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nche se esistono pianificatori basati sugli sta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goal possono essere pianificati indipendentemente, riducendo la complessità del problema di pianific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egliere le azioni per raggiungere un certo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 non è lo stesso obiettivo del problem solv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cune difficoltà con il problem solv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La funzione successore è una 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black box</a:t>
            </a: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: deve essere “applicata” ad uno stato per conoscere quali azioni sono possibili nello stato e quale è l’effetto di ognu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 del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375280" y="4807080"/>
            <a:ext cx="5414040" cy="825480"/>
          </a:xfrm>
          <a:prstGeom prst="rect">
            <a:avLst/>
          </a:prstGeom>
          <a:solidFill>
            <a:srgbClr val="ffdd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ltrimenti, nel mondo reale un agente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arebbe sopraffatto da azioni irrileva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19320" y="1676520"/>
            <a:ext cx="7315200" cy="3047760"/>
          </a:xfrm>
          <a:prstGeom prst="rect">
            <a:avLst/>
          </a:prstGeom>
          <a:solidFill>
            <a:srgbClr val="f7efcd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1676520"/>
            <a:ext cx="7239240" cy="28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993300"/>
                </a:solidFill>
                <a:latin typeface="Arial"/>
              </a:rPr>
              <a:t>Supponiamo che il goal sia HAVE(MILK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993300"/>
                </a:solidFill>
                <a:latin typeface="Arial"/>
              </a:rPr>
              <a:t>Da qualche stato iniziale dove HAVE(MILK) non è soddisfatto, la funzione successore deve essere applicata ripetutamente per generare eventualmente uno stato dove HAVE(MILK) è soddisfatt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993300"/>
                </a:solidFill>
                <a:latin typeface="Arial"/>
              </a:rPr>
              <a:t>Una rappresentazione esplicita delle azioni possibili e i loro effetti aiuterebbe il problem solver </a:t>
            </a:r>
            <a:br>
              <a:rPr sz="2200"/>
            </a:br>
            <a:r>
              <a:rPr b="0" lang="en-US" sz="2200" spc="-1" strike="noStrike">
                <a:solidFill>
                  <a:srgbClr val="993300"/>
                </a:solidFill>
                <a:latin typeface="Arial"/>
              </a:rPr>
              <a:t>a selezionare le azioni rilevant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egliere le azioni per raggiungere un certo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 non è lo stesso obiettivo del problem solv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cune difficoltà con il problem solv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Il test di goal è un’altra funzione black-box, gli stati sono strutture dati specializzate sul dominio, e le euristiche devono essere fornite per ogni nuovo probl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 del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1676520"/>
            <a:ext cx="7315200" cy="3047760"/>
          </a:xfrm>
          <a:prstGeom prst="rect">
            <a:avLst/>
          </a:prstGeom>
          <a:solidFill>
            <a:srgbClr val="bbe0e3"/>
          </a:solidFill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95280" y="1676520"/>
            <a:ext cx="7239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Supponiamo che il goal s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HAVE(MILK) </a:t>
            </a:r>
            <a:r>
              <a:rPr b="1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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HAVE(BOO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Senza una rappresentazione esplicita del goal, il problem solver non può sapere che uno stato dove HAVE(MILK) è già raggiunto è più promettente di uno stato dove né HAVE(MILK) né HAVE(BOOK) è raggiu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egliere le azioni per raggiungere un certo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 non è lo stesso obiettivo del problem solv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cune difficoltà con il problem solv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l goal può consistere di tanti sottogoal indipendenti, ma non c’è modo che il problem solver lo sapp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 del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02760" y="2286000"/>
            <a:ext cx="6330240" cy="1191240"/>
          </a:xfrm>
          <a:prstGeom prst="rect">
            <a:avLst/>
          </a:prstGeom>
          <a:solidFill>
            <a:srgbClr val="ffebeb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HAVE(MILK)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 HAVE(BOOK) possono ess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raggiunti da due sequenze di azioni quas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ndipend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ning: rappresenta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182880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l planning </a:t>
            </a: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apre le black-box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usando la </a:t>
            </a:r>
            <a:r>
              <a:rPr b="0" lang="en-US" sz="3600" spc="-1" strike="noStrike">
                <a:solidFill>
                  <a:srgbClr val="990000"/>
                </a:solidFill>
                <a:latin typeface="Arial"/>
              </a:rPr>
              <a:t>logic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er rappresentar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Azio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t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2570760" y="3276720"/>
            <a:ext cx="6272280" cy="1495800"/>
            <a:chOff x="2570760" y="3276720"/>
            <a:chExt cx="6272280" cy="1495800"/>
          </a:xfrm>
        </p:grpSpPr>
        <p:sp>
          <p:nvSpPr>
            <p:cNvPr id="67" name=""/>
            <p:cNvSpPr/>
            <p:nvPr/>
          </p:nvSpPr>
          <p:spPr>
            <a:xfrm>
              <a:off x="2570760" y="3276720"/>
              <a:ext cx="25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roblem sol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968000" y="3276720"/>
              <a:ext cx="387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Rappresentazioni Logich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269600" y="4191120"/>
              <a:ext cx="1870920" cy="581400"/>
            </a:xfrm>
            <a:prstGeom prst="rect">
              <a:avLst/>
            </a:prstGeom>
            <a:solidFill>
              <a:srgbClr val="e1ffe1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8000"/>
                  </a:solidFill>
                  <a:latin typeface="Tahoma"/>
                </a:rPr>
                <a:t>Plann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809880" y="3657600"/>
              <a:ext cx="13716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5181480" y="3657600"/>
              <a:ext cx="12952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30T19:51:38Z</dcterms:created>
  <dc:creator> Alessandro Sperduti</dc:creator>
  <dc:description/>
  <dc:language>en-US</dc:language>
  <cp:lastModifiedBy> Alessandro Sperduti</cp:lastModifiedBy>
  <dcterms:modified xsi:type="dcterms:W3CDTF">2006-05-30T19:52:04Z</dcterms:modified>
  <cp:revision>1</cp:revision>
  <dc:subject/>
  <dc:title>Pianificazione (Planning)</dc:title>
</cp:coreProperties>
</file>