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30A1-4BEC-4CDE-8AC6-9CE6B066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94B-8B57-4259-995A-E721C566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36F-C3F9-474A-A9AA-7240BCD11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81E-765A-4DFE-9C33-F1946FC5D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47C6-A2DB-4AEB-8414-69C08B70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7C90-354F-426E-8E9C-7C3E5776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727-0C23-4346-9AB5-8CDA5A8CE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7F4E-D393-4E1B-9307-34EAF87D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E5F-DAB6-4FDE-837B-2822899F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939-849C-4E87-863E-1397AFB3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9A49-3DCE-49D7-A356-48347DDA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11C-A1D1-4B1C-A7BB-211F0ABA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2109-7A8A-4F0C-87FD-7F91A11FDD7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 Non-line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38098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880" y="762120"/>
            <a:ext cx="6468840" cy="2288520"/>
          </a:xfrm>
          <a:prstGeom prst="rect">
            <a:avLst/>
          </a:prstGeom>
          <a:solidFill>
            <a:srgbClr val="ebf9f2"/>
          </a:solidFill>
          <a:ln w="381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~ euristica Most-constrained-variable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in CSP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sceglie la precondizione non raggiu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che può essere soddisfatta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nel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minor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numero di modi possi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ON(C,TAVO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19320" y="3809880"/>
            <a:ext cx="3657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84800" y="175248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219320" y="2057040"/>
            <a:ext cx="4647960" cy="3429000"/>
            <a:chOff x="1219320" y="2057040"/>
            <a:chExt cx="4647960" cy="3429000"/>
          </a:xfrm>
        </p:grpSpPr>
        <p:sp>
          <p:nvSpPr>
            <p:cNvPr id="323" name=""/>
            <p:cNvSpPr/>
            <p:nvPr/>
          </p:nvSpPr>
          <p:spPr>
            <a:xfrm flipV="1">
              <a:off x="1219320" y="2057400"/>
              <a:ext cx="426708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5029200" y="2057040"/>
              <a:ext cx="838080" cy="3429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352680" y="2057400"/>
              <a:ext cx="2286000" cy="281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42600" y="6095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46520" y="3657600"/>
            <a:ext cx="17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CLEAR(C)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63480" y="2438280"/>
            <a:ext cx="7099560" cy="1800360"/>
          </a:xfrm>
          <a:prstGeom prst="rect">
            <a:avLst/>
          </a:prstGeom>
          <a:solidFill>
            <a:srgbClr val="f7efcd"/>
          </a:solidFill>
          <a:ln w="28440">
            <a:solidFill>
              <a:srgbClr val="a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Il piano è </a:t>
            </a:r>
            <a:r>
              <a:rPr b="1" lang="en-US" sz="2800" spc="-1" strike="noStrike" u="sng">
                <a:solidFill>
                  <a:srgbClr val="a00050"/>
                </a:solidFill>
                <a:uFillTx/>
                <a:latin typeface="Tahoma"/>
              </a:rPr>
              <a:t>completo</a:t>
            </a: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 poiché ogn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recondizione di ogni passo è aggiunta</a:t>
            </a:r>
            <a:br>
              <a:rPr sz="2800"/>
            </a:b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da qualche passo precedente, e nes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asso intermedio  la canc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mo P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oritmo P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rietà di P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goritmo nondeterministico: in caso di fallimento effettua backtracking sui punti di scelta 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(choice poin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lta di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 raggiunger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lta di demotion o promotion in caso di minac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selezione di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irrevoc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P è corretto, completo e sistematico (nessuna ripetizio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istono estensioni (es. azioni rappresentate con FOL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iciente se fornito di euristiche derivate dalla descrizione del proble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: variabili non istanzi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zioni rappresentate con F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. Mondo dei blo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izione aperta:  </a:t>
            </a: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On(a,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93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(ACTION: MoveB(Z,X,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OND: On(Z,X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ear(Z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ear(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: On(Z,Y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ear(X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¬On(Z,X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¬Clear(Y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notare che </a:t>
            </a:r>
            <a:r>
              <a:rPr b="0" lang="en-US" sz="2700" spc="-1" strike="noStrike">
                <a:solidFill>
                  <a:srgbClr val="d60093"/>
                </a:solidFill>
                <a:latin typeface="Arial"/>
                <a:ea typeface="Arial"/>
              </a:rPr>
              <a:t>On(a,b)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= On(Z,Y)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  <a:ea typeface="Arial"/>
              </a:rPr>
              <a:t>  con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θ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{Z/a,Y/b} e quindi bisogna applicare 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7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l-GR" sz="2700" spc="-1" strike="noStrike">
                <a:solidFill>
                  <a:srgbClr val="000000"/>
                </a:solidFill>
                <a:latin typeface="Arial"/>
                <a:ea typeface="Arial"/>
              </a:rPr>
              <a:t>)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248520" y="1523880"/>
            <a:ext cx="2666880" cy="2743200"/>
            <a:chOff x="6248520" y="1523880"/>
            <a:chExt cx="2666880" cy="2743200"/>
          </a:xfrm>
        </p:grpSpPr>
        <p:sp>
          <p:nvSpPr>
            <p:cNvPr id="56" name=""/>
            <p:cNvSpPr/>
            <p:nvPr/>
          </p:nvSpPr>
          <p:spPr>
            <a:xfrm>
              <a:off x="6248520" y="1523880"/>
              <a:ext cx="121896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696080" y="3962520"/>
              <a:ext cx="1219320" cy="30456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0" y="1828800"/>
              <a:ext cx="1447920" cy="21337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59200" y="1219320"/>
            <a:ext cx="3394800" cy="1254960"/>
            <a:chOff x="1159200" y="1219320"/>
            <a:chExt cx="3394800" cy="1254960"/>
          </a:xfrm>
        </p:grpSpPr>
        <p:sp>
          <p:nvSpPr>
            <p:cNvPr id="61" name=""/>
            <p:cNvSpPr/>
            <p:nvPr/>
          </p:nvSpPr>
          <p:spPr>
            <a:xfrm>
              <a:off x="1159200" y="2014560"/>
              <a:ext cx="3394800" cy="459720"/>
            </a:xfrm>
            <a:prstGeom prst="rect">
              <a:avLst/>
            </a:prstGeom>
            <a:solidFill>
              <a:srgbClr val="fff5c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Il piano è incomple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43200" y="1219320"/>
              <a:ext cx="22860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077480" y="762120"/>
            <a:ext cx="6618600" cy="3581280"/>
            <a:chOff x="1077480" y="762120"/>
            <a:chExt cx="6618600" cy="3581280"/>
          </a:xfrm>
        </p:grpSpPr>
        <p:grpSp>
          <p:nvGrpSpPr>
            <p:cNvPr id="64" name=""/>
            <p:cNvGrpSpPr/>
            <p:nvPr/>
          </p:nvGrpSpPr>
          <p:grpSpPr>
            <a:xfrm>
              <a:off x="1077480" y="762120"/>
              <a:ext cx="5018400" cy="459720"/>
              <a:chOff x="1077480" y="762120"/>
              <a:chExt cx="5018400" cy="459720"/>
            </a:xfrm>
          </p:grpSpPr>
          <p:sp>
            <p:nvSpPr>
              <p:cNvPr id="65" name=""/>
              <p:cNvSpPr/>
              <p:nvPr/>
            </p:nvSpPr>
            <p:spPr>
              <a:xfrm>
                <a:off x="1077480" y="762120"/>
                <a:ext cx="3440520" cy="459720"/>
              </a:xfrm>
              <a:prstGeom prst="rect">
                <a:avLst/>
              </a:prstGeom>
              <a:solidFill>
                <a:srgbClr val="fff5cd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Tahoma"/>
                  </a:rPr>
                  <a:t>Precondizioni Aperte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267080" y="838080"/>
                <a:ext cx="1828800" cy="15264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4267080" y="990720"/>
              <a:ext cx="3429000" cy="3352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: variabili non istanzi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M1: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Move(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)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(ACTION: MoveB(a,X,b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OND: 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b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: On(a,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ear(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On(a,X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¬Clear(b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are che X rimane non istanzi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upponiamo di aggiungere M1 al piano. Quindi aggiungiamo il link caus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Mov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  →   Fin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e nel piano c’è già una azione M2 con effetto ¬On(a,Q) c’è una minaccia solo se Q prend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Per rappresentare questa situazione si deve aggiungere il vin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Q ≠ b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(in generale  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var ≠ cos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 oppure </a:t>
            </a:r>
            <a:r>
              <a:rPr b="0" lang="it-IT" sz="1600" spc="-1" strike="noStrike">
                <a:solidFill>
                  <a:srgbClr val="333399"/>
                </a:solidFill>
                <a:latin typeface="Arial"/>
                <a:ea typeface="Arial"/>
              </a:rPr>
              <a:t>var ≠ va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494960" y="441972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(a,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P con variabi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ltra azion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(ACTION: MoveT(W,X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ND: On(W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W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: On(W,t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lear(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On(W,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125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t  costante: significa TAV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638680" y="3657600"/>
            <a:ext cx="2590560" cy="2645280"/>
            <a:chOff x="5638680" y="3657600"/>
            <a:chExt cx="2590560" cy="2645280"/>
          </a:xfrm>
        </p:grpSpPr>
        <p:grpSp>
          <p:nvGrpSpPr>
            <p:cNvPr id="393" name=""/>
            <p:cNvGrpSpPr/>
            <p:nvPr/>
          </p:nvGrpSpPr>
          <p:grpSpPr>
            <a:xfrm>
              <a:off x="5638680" y="3657600"/>
              <a:ext cx="2590560" cy="2198520"/>
              <a:chOff x="5638680" y="3657600"/>
              <a:chExt cx="2590560" cy="219852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6705360" y="5029200"/>
                <a:ext cx="685800" cy="685440"/>
                <a:chOff x="6705360" y="5029200"/>
                <a:chExt cx="685800" cy="6854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6705360" y="502920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6973560" y="51969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6953400" y="521244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7241400" y="52124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6705360" y="4267080"/>
                <a:ext cx="685800" cy="761760"/>
                <a:chOff x="6705360" y="4267080"/>
                <a:chExt cx="685800" cy="76176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6705360" y="426708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7013520" y="44938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02000" y="448812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286760" y="45108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4" name=""/>
              <p:cNvSpPr/>
              <p:nvPr/>
            </p:nvSpPr>
            <p:spPr>
              <a:xfrm>
                <a:off x="5638680" y="571500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095880" y="521640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6" name=""/>
              <p:cNvGrpSpPr/>
              <p:nvPr/>
            </p:nvGrpSpPr>
            <p:grpSpPr>
              <a:xfrm>
                <a:off x="6705360" y="3657600"/>
                <a:ext cx="695160" cy="647640"/>
                <a:chOff x="6705360" y="3657600"/>
                <a:chExt cx="695160" cy="64764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705360" y="3657600"/>
                  <a:ext cx="695160" cy="647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7009920" y="38862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454800" y="52563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6671880" y="59976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1447920" y="4419720"/>
            <a:ext cx="2590560" cy="1943640"/>
            <a:chOff x="1447920" y="4419720"/>
            <a:chExt cx="2590560" cy="1943640"/>
          </a:xfrm>
        </p:grpSpPr>
        <p:grpSp>
          <p:nvGrpSpPr>
            <p:cNvPr id="412" name=""/>
            <p:cNvGrpSpPr/>
            <p:nvPr/>
          </p:nvGrpSpPr>
          <p:grpSpPr>
            <a:xfrm>
              <a:off x="1447920" y="4419720"/>
              <a:ext cx="2590560" cy="1474560"/>
              <a:chOff x="1447920" y="4419720"/>
              <a:chExt cx="2590560" cy="147456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2895480" y="4419720"/>
                <a:ext cx="685440" cy="685440"/>
                <a:chOff x="2895480" y="4419720"/>
                <a:chExt cx="685440" cy="6854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2895480" y="4419720"/>
                  <a:ext cx="68544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163680" y="45874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143160" y="4602960"/>
                  <a:ext cx="1317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431520" y="46029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676160" y="5029200"/>
                <a:ext cx="685440" cy="761760"/>
                <a:chOff x="1676160" y="5029200"/>
                <a:chExt cx="685440" cy="761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676160" y="5029200"/>
                  <a:ext cx="68544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983960" y="5256000"/>
                  <a:ext cx="33480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972800" y="52502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2257200" y="52729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3" name=""/>
              <p:cNvSpPr/>
              <p:nvPr/>
            </p:nvSpPr>
            <p:spPr>
              <a:xfrm>
                <a:off x="1447920" y="5753160"/>
                <a:ext cx="259056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904760" y="5254560"/>
                <a:ext cx="35676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2895480" y="5105520"/>
                <a:ext cx="694800" cy="647640"/>
                <a:chOff x="2895480" y="5105520"/>
                <a:chExt cx="694800" cy="64764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2895480" y="5105520"/>
                  <a:ext cx="694800" cy="647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199680" y="5334120"/>
                  <a:ext cx="14580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"/>
              <p:cNvSpPr/>
              <p:nvPr/>
            </p:nvSpPr>
            <p:spPr>
              <a:xfrm>
                <a:off x="2263320" y="52941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1981080" y="6058080"/>
              <a:ext cx="1557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432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440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448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454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462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465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0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471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47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48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48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494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"/>
          <p:cNvSpPr/>
          <p:nvPr/>
        </p:nvSpPr>
        <p:spPr>
          <a:xfrm>
            <a:off x="2286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c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0292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4008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80010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657600" y="231624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502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508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513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3581280" y="1951200"/>
            <a:ext cx="1371600" cy="457200"/>
            <a:chOff x="3581280" y="1951200"/>
            <a:chExt cx="1371600" cy="457200"/>
          </a:xfrm>
        </p:grpSpPr>
        <p:sp>
          <p:nvSpPr>
            <p:cNvPr id="520" name=""/>
            <p:cNvSpPr/>
            <p:nvPr/>
          </p:nvSpPr>
          <p:spPr>
            <a:xfrm>
              <a:off x="3581280" y="195120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950280" y="202752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066680" y="2408400"/>
            <a:ext cx="8153280" cy="350280"/>
            <a:chOff x="1066680" y="2408400"/>
            <a:chExt cx="8153280" cy="350280"/>
          </a:xfrm>
        </p:grpSpPr>
        <p:sp>
          <p:nvSpPr>
            <p:cNvPr id="523" name=""/>
            <p:cNvSpPr/>
            <p:nvPr/>
          </p:nvSpPr>
          <p:spPr>
            <a:xfrm>
              <a:off x="1066680" y="242244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292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4008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80010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57600" y="240840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53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53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54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546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551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554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56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56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57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1905120" y="3154320"/>
            <a:ext cx="1822320" cy="457200"/>
            <a:chOff x="1905120" y="3154320"/>
            <a:chExt cx="1822320" cy="457200"/>
          </a:xfrm>
        </p:grpSpPr>
        <p:sp>
          <p:nvSpPr>
            <p:cNvPr id="578" name=""/>
            <p:cNvSpPr/>
            <p:nvPr/>
          </p:nvSpPr>
          <p:spPr>
            <a:xfrm>
              <a:off x="1905120" y="31543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974960" y="32302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66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09680" y="37018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048120" y="3701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5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586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589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59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60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60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612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68560" y="457200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C,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19320" y="3809880"/>
            <a:ext cx="518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066680" y="1752480"/>
            <a:ext cx="6477120" cy="3733920"/>
            <a:chOff x="1066680" y="1752480"/>
            <a:chExt cx="6477120" cy="3733920"/>
          </a:xfrm>
        </p:grpSpPr>
        <p:sp>
          <p:nvSpPr>
            <p:cNvPr id="83" name=""/>
            <p:cNvSpPr/>
            <p:nvPr/>
          </p:nvSpPr>
          <p:spPr>
            <a:xfrm>
              <a:off x="1066680" y="5181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324480" y="1752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2286000" y="2057400"/>
              <a:ext cx="4800600" cy="3276360"/>
              <a:chOff x="2286000" y="2057400"/>
              <a:chExt cx="4800600" cy="3276360"/>
            </a:xfrm>
          </p:grpSpPr>
          <p:sp>
            <p:nvSpPr>
              <p:cNvPr id="86" name=""/>
              <p:cNvSpPr/>
              <p:nvPr/>
            </p:nvSpPr>
            <p:spPr>
              <a:xfrm>
                <a:off x="5867280" y="4800600"/>
                <a:ext cx="1219320" cy="304920"/>
              </a:xfrm>
              <a:prstGeom prst="ellipse">
                <a:avLst/>
              </a:prstGeom>
              <a:noFill/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>
                <a:off x="2286000" y="4952520"/>
                <a:ext cx="3581280" cy="38124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6477120" y="2057400"/>
                <a:ext cx="457200" cy="274320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623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626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633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639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644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649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652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4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663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666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673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679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684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689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699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3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704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707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714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720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725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730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048120" y="374796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739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2" name=""/>
          <p:cNvCxnSpPr>
            <a:stCxn id="711" idx="2"/>
            <a:endCxn id="718" idx="3"/>
          </p:cNvCxnSpPr>
          <p:nvPr/>
        </p:nvCxnSpPr>
        <p:spPr>
          <a:xfrm rot="5400000">
            <a:off x="5145120" y="1275480"/>
            <a:ext cx="2041920" cy="488844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sp>
        <p:nvSpPr>
          <p:cNvPr id="743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5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746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749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75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76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76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772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"/>
          <p:cNvSpPr/>
          <p:nvPr/>
        </p:nvSpPr>
        <p:spPr>
          <a:xfrm>
            <a:off x="1447920" y="29718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781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 flipH="1">
            <a:off x="4114440" y="2666880"/>
            <a:ext cx="2438280" cy="4572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4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785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786" name=""/>
            <p:cNvCxnSpPr>
              <a:stCxn id="754" idx="1"/>
              <a:endCxn id="758" idx="0"/>
            </p:cNvCxnSpPr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787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791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794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801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807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812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817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825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829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"/>
          <p:cNvSpPr/>
          <p:nvPr/>
        </p:nvSpPr>
        <p:spPr>
          <a:xfrm flipH="1">
            <a:off x="3962520" y="2743200"/>
            <a:ext cx="274320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833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834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835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8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839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842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849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855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860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1905120" y="3200400"/>
            <a:ext cx="1822320" cy="457200"/>
            <a:chOff x="1905120" y="3200400"/>
            <a:chExt cx="1822320" cy="457200"/>
          </a:xfrm>
        </p:grpSpPr>
        <p:sp>
          <p:nvSpPr>
            <p:cNvPr id="865" name=""/>
            <p:cNvSpPr/>
            <p:nvPr/>
          </p:nvSpPr>
          <p:spPr>
            <a:xfrm>
              <a:off x="1905120" y="320040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974960" y="327636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29528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2971800" y="28954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066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209680" y="374796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048120" y="3733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873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884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6" name=""/>
          <p:cNvSpPr/>
          <p:nvPr/>
        </p:nvSpPr>
        <p:spPr>
          <a:xfrm flipH="1">
            <a:off x="4038120" y="2666880"/>
            <a:ext cx="266724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7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888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889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890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1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895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1066680" y="2330280"/>
            <a:ext cx="8153280" cy="351000"/>
            <a:chOff x="1066680" y="2330280"/>
            <a:chExt cx="8153280" cy="351000"/>
          </a:xfrm>
        </p:grpSpPr>
        <p:sp>
          <p:nvSpPr>
            <p:cNvPr id="898" name=""/>
            <p:cNvSpPr/>
            <p:nvPr/>
          </p:nvSpPr>
          <p:spPr>
            <a:xfrm>
              <a:off x="1066680" y="2344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286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0292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4008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0010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657600" y="2330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905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911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5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916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923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926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219320" y="36259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209680" y="36259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3048120" y="36385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y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3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934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H="1">
            <a:off x="1981080" y="3962520"/>
            <a:ext cx="990720" cy="685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945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8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949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950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951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2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956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959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966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972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977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985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993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004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6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7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008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009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010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012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9" name=""/>
          <p:cNvGrpSpPr/>
          <p:nvPr/>
        </p:nvGrpSpPr>
        <p:grpSpPr>
          <a:xfrm>
            <a:off x="3581280" y="1859040"/>
            <a:ext cx="1371600" cy="457200"/>
            <a:chOff x="3581280" y="1859040"/>
            <a:chExt cx="1371600" cy="457200"/>
          </a:xfrm>
        </p:grpSpPr>
        <p:sp>
          <p:nvSpPr>
            <p:cNvPr id="1020" name=""/>
            <p:cNvSpPr/>
            <p:nvPr/>
          </p:nvSpPr>
          <p:spPr>
            <a:xfrm>
              <a:off x="3581280" y="185904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50280" y="193536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1066680" y="2316240"/>
            <a:ext cx="8153280" cy="350280"/>
            <a:chOff x="1066680" y="2316240"/>
            <a:chExt cx="8153280" cy="350280"/>
          </a:xfrm>
        </p:grpSpPr>
        <p:sp>
          <p:nvSpPr>
            <p:cNvPr id="1023" name=""/>
            <p:cNvSpPr/>
            <p:nvPr/>
          </p:nvSpPr>
          <p:spPr>
            <a:xfrm>
              <a:off x="106668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286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292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4008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0010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65760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03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03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04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4648320" y="4729320"/>
            <a:ext cx="2203200" cy="457200"/>
            <a:chOff x="4648320" y="4729320"/>
            <a:chExt cx="2203200" cy="457200"/>
          </a:xfrm>
        </p:grpSpPr>
        <p:sp>
          <p:nvSpPr>
            <p:cNvPr id="1047" name=""/>
            <p:cNvSpPr/>
            <p:nvPr/>
          </p:nvSpPr>
          <p:spPr>
            <a:xfrm>
              <a:off x="4648320" y="472932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732200" y="474372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4943520" y="44179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218640" y="44179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3969720" y="5135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5008680" y="51354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284880" y="51354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728480" y="51354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493760" y="44179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 flipH="1">
            <a:off x="1981080" y="4038480"/>
            <a:ext cx="91440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7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058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60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061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062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063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065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7" name=""/>
          <p:cNvSpPr/>
          <p:nvPr/>
        </p:nvSpPr>
        <p:spPr>
          <a:xfrm>
            <a:off x="4495680" y="3002040"/>
            <a:ext cx="698760" cy="1828800"/>
          </a:xfrm>
          <a:custGeom>
            <a:avLst/>
            <a:gdLst/>
            <a:ahLst/>
            <a:rect l="l" t="t" r="r" b="b"/>
            <a:pathLst>
              <a:path w="440" h="1152">
                <a:moveTo>
                  <a:pt x="96" y="1152"/>
                </a:moveTo>
                <a:cubicBezTo>
                  <a:pt x="48" y="1092"/>
                  <a:pt x="0" y="1032"/>
                  <a:pt x="48" y="864"/>
                </a:cubicBezTo>
                <a:cubicBezTo>
                  <a:pt x="96" y="696"/>
                  <a:pt x="328" y="288"/>
                  <a:pt x="384" y="144"/>
                </a:cubicBezTo>
                <a:cubicBezTo>
                  <a:pt x="440" y="0"/>
                  <a:pt x="412" y="0"/>
                  <a:pt x="38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7459560" y="5135400"/>
            <a:ext cx="1524240" cy="38124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 rot="21278400">
            <a:off x="3962520" y="2590560"/>
            <a:ext cx="281916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072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4" name=""/>
          <p:cNvGrpSpPr/>
          <p:nvPr/>
        </p:nvGrpSpPr>
        <p:grpSpPr>
          <a:xfrm>
            <a:off x="3581280" y="1905120"/>
            <a:ext cx="1371600" cy="457200"/>
            <a:chOff x="3581280" y="1905120"/>
            <a:chExt cx="1371600" cy="457200"/>
          </a:xfrm>
        </p:grpSpPr>
        <p:sp>
          <p:nvSpPr>
            <p:cNvPr id="1085" name=""/>
            <p:cNvSpPr/>
            <p:nvPr/>
          </p:nvSpPr>
          <p:spPr>
            <a:xfrm>
              <a:off x="3581280" y="19051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950280" y="198144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1066680" y="2362320"/>
            <a:ext cx="8153280" cy="350280"/>
            <a:chOff x="1066680" y="2362320"/>
            <a:chExt cx="8153280" cy="350280"/>
          </a:xfrm>
        </p:grpSpPr>
        <p:sp>
          <p:nvSpPr>
            <p:cNvPr id="1088" name=""/>
            <p:cNvSpPr/>
            <p:nvPr/>
          </p:nvSpPr>
          <p:spPr>
            <a:xfrm>
              <a:off x="1066680" y="237636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286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292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4008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0010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657600" y="236232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095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0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101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106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8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3581280" y="5334120"/>
            <a:ext cx="1524240" cy="380880"/>
          </a:xfrm>
          <a:prstGeom prst="ellipse">
            <a:avLst/>
          </a:prstGeom>
          <a:noFill/>
          <a:ln w="1260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"/>
          <p:cNvGrpSpPr/>
          <p:nvPr/>
        </p:nvGrpSpPr>
        <p:grpSpPr>
          <a:xfrm>
            <a:off x="4648320" y="4775040"/>
            <a:ext cx="2203200" cy="457200"/>
            <a:chOff x="4648320" y="4775040"/>
            <a:chExt cx="2203200" cy="457200"/>
          </a:xfrm>
        </p:grpSpPr>
        <p:sp>
          <p:nvSpPr>
            <p:cNvPr id="1114" name=""/>
            <p:cNvSpPr/>
            <p:nvPr/>
          </p:nvSpPr>
          <p:spPr>
            <a:xfrm>
              <a:off x="4648320" y="477504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32200" y="478944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4943520" y="446400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6218640" y="446400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969720" y="5181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008680" y="518148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6284880" y="518148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728480" y="518148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493760" y="4464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125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27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128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129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130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1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132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"/>
          <p:cNvSpPr/>
          <p:nvPr/>
        </p:nvSpPr>
        <p:spPr>
          <a:xfrm>
            <a:off x="3733920" y="3276720"/>
            <a:ext cx="1066680" cy="140148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136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9" name=""/>
          <p:cNvGrpSpPr/>
          <p:nvPr/>
        </p:nvGrpSpPr>
        <p:grpSpPr>
          <a:xfrm>
            <a:off x="3581280" y="1981080"/>
            <a:ext cx="1371600" cy="457200"/>
            <a:chOff x="3581280" y="1981080"/>
            <a:chExt cx="1371600" cy="457200"/>
          </a:xfrm>
        </p:grpSpPr>
        <p:sp>
          <p:nvSpPr>
            <p:cNvPr id="1150" name=""/>
            <p:cNvSpPr/>
            <p:nvPr/>
          </p:nvSpPr>
          <p:spPr>
            <a:xfrm>
              <a:off x="3581280" y="1981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950280" y="2057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2" name=""/>
          <p:cNvGrpSpPr/>
          <p:nvPr/>
        </p:nvGrpSpPr>
        <p:grpSpPr>
          <a:xfrm>
            <a:off x="1066680" y="2438280"/>
            <a:ext cx="8153280" cy="351000"/>
            <a:chOff x="1066680" y="2438280"/>
            <a:chExt cx="8153280" cy="351000"/>
          </a:xfrm>
        </p:grpSpPr>
        <p:sp>
          <p:nvSpPr>
            <p:cNvPr id="1153" name=""/>
            <p:cNvSpPr/>
            <p:nvPr/>
          </p:nvSpPr>
          <p:spPr>
            <a:xfrm>
              <a:off x="1066680" y="2452680"/>
              <a:ext cx="1219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286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292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4008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80010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657600" y="243828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160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166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0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171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3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1905120" y="3276720"/>
            <a:ext cx="1822320" cy="457200"/>
            <a:chOff x="1905120" y="3276720"/>
            <a:chExt cx="1822320" cy="457200"/>
          </a:xfrm>
        </p:grpSpPr>
        <p:sp>
          <p:nvSpPr>
            <p:cNvPr id="1176" name=""/>
            <p:cNvSpPr/>
            <p:nvPr/>
          </p:nvSpPr>
          <p:spPr>
            <a:xfrm>
              <a:off x="1905120" y="327672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74960" y="335268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129528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2971800" y="2971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1066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2209680" y="38242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3048120" y="38242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4943520" y="4540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218640" y="4540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3969720" y="5257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5008680" y="5257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6284880" y="5257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728480" y="5257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7493760" y="4540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192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194" name=""/>
          <p:cNvCxnSpPr/>
          <p:nvPr/>
        </p:nvCxnSpPr>
        <p:spPr>
          <a:xfrm rot="5400000">
            <a:off x="5147640" y="1279440"/>
            <a:ext cx="204372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195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196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197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199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1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819520" y="3352680"/>
            <a:ext cx="5486400" cy="2044800"/>
          </a:xfrm>
          <a:custGeom>
            <a:avLst/>
            <a:gdLst/>
            <a:ahLst/>
            <a:rect l="l" t="t" r="r" b="b"/>
            <a:pathLst>
              <a:path w="3360" h="2008">
                <a:moveTo>
                  <a:pt x="0" y="1872"/>
                </a:moveTo>
                <a:cubicBezTo>
                  <a:pt x="424" y="1853"/>
                  <a:pt x="1997" y="2008"/>
                  <a:pt x="2544" y="1760"/>
                </a:cubicBezTo>
                <a:cubicBezTo>
                  <a:pt x="3091" y="1512"/>
                  <a:pt x="3200" y="677"/>
                  <a:pt x="3280" y="384"/>
                </a:cubicBezTo>
                <a:cubicBezTo>
                  <a:pt x="3360" y="91"/>
                  <a:pt x="3077" y="80"/>
                  <a:pt x="3024" y="0"/>
                </a:cubicBezTo>
              </a:path>
            </a:pathLst>
          </a:custGeom>
          <a:noFill/>
          <a:ln w="76320">
            <a:solidFill>
              <a:srgbClr val="9c009c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 rot="18560400">
            <a:off x="6109560" y="3366360"/>
            <a:ext cx="2487600" cy="380880"/>
          </a:xfrm>
          <a:prstGeom prst="ellipse">
            <a:avLst/>
          </a:prstGeom>
          <a:noFill/>
          <a:ln w="19080">
            <a:solidFill>
              <a:srgbClr val="9c00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4648320" y="4851360"/>
            <a:ext cx="2203200" cy="457200"/>
            <a:chOff x="4648320" y="4851360"/>
            <a:chExt cx="2203200" cy="457200"/>
          </a:xfrm>
        </p:grpSpPr>
        <p:sp>
          <p:nvSpPr>
            <p:cNvPr id="1209" name=""/>
            <p:cNvSpPr/>
            <p:nvPr/>
          </p:nvSpPr>
          <p:spPr>
            <a:xfrm>
              <a:off x="4648320" y="4851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32200" y="4865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4" name=""/>
          <p:cNvGrpSpPr/>
          <p:nvPr/>
        </p:nvGrpSpPr>
        <p:grpSpPr>
          <a:xfrm>
            <a:off x="3581280" y="1873080"/>
            <a:ext cx="1371600" cy="457200"/>
            <a:chOff x="3581280" y="1873080"/>
            <a:chExt cx="1371600" cy="457200"/>
          </a:xfrm>
        </p:grpSpPr>
        <p:sp>
          <p:nvSpPr>
            <p:cNvPr id="1215" name=""/>
            <p:cNvSpPr/>
            <p:nvPr/>
          </p:nvSpPr>
          <p:spPr>
            <a:xfrm>
              <a:off x="3581280" y="187308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950280" y="1949400"/>
              <a:ext cx="67752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"/>
          <p:cNvGrpSpPr/>
          <p:nvPr/>
        </p:nvGrpSpPr>
        <p:grpSpPr>
          <a:xfrm>
            <a:off x="685800" y="2316240"/>
            <a:ext cx="8153280" cy="350280"/>
            <a:chOff x="685800" y="2316240"/>
            <a:chExt cx="8153280" cy="350280"/>
          </a:xfrm>
        </p:grpSpPr>
        <p:sp>
          <p:nvSpPr>
            <p:cNvPr id="1218" name=""/>
            <p:cNvSpPr/>
            <p:nvPr/>
          </p:nvSpPr>
          <p:spPr>
            <a:xfrm>
              <a:off x="685800" y="2330280"/>
              <a:ext cx="1219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905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c,a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6483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b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0199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201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76720" y="2316240"/>
              <a:ext cx="121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"/>
          <p:cNvGrpSpPr/>
          <p:nvPr/>
        </p:nvGrpSpPr>
        <p:grpSpPr>
          <a:xfrm>
            <a:off x="633240" y="4927680"/>
            <a:ext cx="2209680" cy="457200"/>
            <a:chOff x="633240" y="4927680"/>
            <a:chExt cx="2209680" cy="457200"/>
          </a:xfrm>
        </p:grpSpPr>
        <p:sp>
          <p:nvSpPr>
            <p:cNvPr id="1225" name=""/>
            <p:cNvSpPr/>
            <p:nvPr/>
          </p:nvSpPr>
          <p:spPr>
            <a:xfrm>
              <a:off x="633240" y="4927680"/>
              <a:ext cx="220968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17120" y="4942080"/>
              <a:ext cx="201780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a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326880" y="4572000"/>
            <a:ext cx="939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1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514520" y="4586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694240" y="4572000"/>
            <a:ext cx="94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324000" y="5365800"/>
            <a:ext cx="4542840" cy="370800"/>
            <a:chOff x="324000" y="5365800"/>
            <a:chExt cx="4542840" cy="370800"/>
          </a:xfrm>
        </p:grpSpPr>
        <p:sp>
          <p:nvSpPr>
            <p:cNvPr id="1231" name=""/>
            <p:cNvSpPr/>
            <p:nvPr/>
          </p:nvSpPr>
          <p:spPr>
            <a:xfrm>
              <a:off x="324000" y="5365800"/>
              <a:ext cx="88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376640" y="5365800"/>
              <a:ext cx="1058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on(a,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651040" y="5365800"/>
              <a:ext cx="1055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 (x</a:t>
              </a:r>
              <a:r>
                <a:rPr b="1" lang="en-US" sz="1600" spc="-1" strike="noStrike" baseline="-25000">
                  <a:solidFill>
                    <a:srgbClr val="00906a"/>
                  </a:solidFill>
                  <a:latin typeface="Verdana"/>
                </a:rPr>
                <a:t>1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802320" y="5365800"/>
              <a:ext cx="106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06a"/>
                  </a:solidFill>
                  <a:latin typeface="Arial"/>
                </a:rPr>
                <a:t>¬</a:t>
              </a:r>
              <a:r>
                <a:rPr b="1" lang="en-US" sz="1600" spc="-1" strike="noStrike">
                  <a:solidFill>
                    <a:srgbClr val="00906a"/>
                  </a:solidFill>
                  <a:latin typeface="Verdana"/>
                </a:rPr>
                <a:t>clear(b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3505320" y="6248520"/>
            <a:ext cx="1371600" cy="457200"/>
            <a:chOff x="3505320" y="6248520"/>
            <a:chExt cx="1371600" cy="457200"/>
          </a:xfrm>
        </p:grpSpPr>
        <p:sp>
          <p:nvSpPr>
            <p:cNvPr id="1236" name=""/>
            <p:cNvSpPr/>
            <p:nvPr/>
          </p:nvSpPr>
          <p:spPr>
            <a:xfrm>
              <a:off x="3505320" y="6248520"/>
              <a:ext cx="13716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27880" y="6324840"/>
              <a:ext cx="77040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n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"/>
          <p:cNvSpPr/>
          <p:nvPr/>
        </p:nvSpPr>
        <p:spPr>
          <a:xfrm>
            <a:off x="2752920" y="5943600"/>
            <a:ext cx="88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a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4596480" y="59436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1905120" y="3124080"/>
            <a:ext cx="1822320" cy="457200"/>
            <a:chOff x="1905120" y="3124080"/>
            <a:chExt cx="1822320" cy="457200"/>
          </a:xfrm>
        </p:grpSpPr>
        <p:sp>
          <p:nvSpPr>
            <p:cNvPr id="1241" name=""/>
            <p:cNvSpPr/>
            <p:nvPr/>
          </p:nvSpPr>
          <p:spPr>
            <a:xfrm>
              <a:off x="1905120" y="3124080"/>
              <a:ext cx="182232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974960" y="3200040"/>
              <a:ext cx="1663560" cy="36828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T(w,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129528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971800" y="281952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w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1066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209680" y="36720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3048120" y="3672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w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4648320" y="4743360"/>
            <a:ext cx="2203200" cy="457200"/>
            <a:chOff x="4648320" y="4743360"/>
            <a:chExt cx="2203200" cy="457200"/>
          </a:xfrm>
        </p:grpSpPr>
        <p:sp>
          <p:nvSpPr>
            <p:cNvPr id="1249" name=""/>
            <p:cNvSpPr/>
            <p:nvPr/>
          </p:nvSpPr>
          <p:spPr>
            <a:xfrm>
              <a:off x="4648320" y="4743360"/>
              <a:ext cx="2203200" cy="457200"/>
            </a:xfrm>
            <a:prstGeom prst="rect">
              <a:avLst/>
            </a:prstGeom>
            <a:solidFill>
              <a:srgbClr val="e1e1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732200" y="4757760"/>
              <a:ext cx="2010960" cy="405720"/>
            </a:xfrm>
            <a:prstGeom prst="rect">
              <a:avLst/>
            </a:prstGeom>
            <a:solidFill>
              <a:srgbClr val="e1e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veB (b,x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,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4943520" y="4432320"/>
            <a:ext cx="945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218640" y="44323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3969720" y="51498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008680" y="5149800"/>
            <a:ext cx="1064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on(b,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284880" y="5149800"/>
            <a:ext cx="1055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x</a:t>
            </a:r>
            <a:r>
              <a:rPr b="1" lang="en-US" sz="1600" spc="-1" strike="noStrike" baseline="-25000">
                <a:solidFill>
                  <a:srgbClr val="00906a"/>
                </a:solidFill>
                <a:latin typeface="Verdana"/>
              </a:rPr>
              <a:t>2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7728480" y="5149800"/>
            <a:ext cx="104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Arial"/>
              </a:rPr>
              <a:t>¬</a:t>
            </a: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493760" y="443232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06a"/>
                </a:solidFill>
                <a:latin typeface="Verdana"/>
              </a:rPr>
              <a:t>clear (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 flipH="1">
            <a:off x="1980720" y="4038480"/>
            <a:ext cx="838440" cy="6098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1785960" y="2600280"/>
            <a:ext cx="1085400" cy="428760"/>
            <a:chOff x="1785960" y="2600280"/>
            <a:chExt cx="1085400" cy="428760"/>
          </a:xfrm>
        </p:grpSpPr>
        <p:sp>
          <p:nvSpPr>
            <p:cNvPr id="1260" name=""/>
            <p:cNvSpPr/>
            <p:nvPr/>
          </p:nvSpPr>
          <p:spPr>
            <a:xfrm flipH="1">
              <a:off x="2428560" y="2648160"/>
              <a:ext cx="442800" cy="3808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785960" y="2600280"/>
              <a:ext cx="88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w=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62" name=""/>
          <p:cNvCxnSpPr/>
          <p:nvPr/>
        </p:nvCxnSpPr>
        <p:spPr>
          <a:xfrm rot="5400000">
            <a:off x="4999680" y="1247760"/>
            <a:ext cx="2044080" cy="4882320"/>
          </a:xfrm>
          <a:prstGeom prst="curvedConnector2">
            <a:avLst/>
          </a:prstGeom>
          <a:ln w="19080">
            <a:solidFill>
              <a:srgbClr val="000099"/>
            </a:solidFill>
            <a:miter/>
            <a:tailEnd len="med" type="triangle" w="lg"/>
          </a:ln>
        </p:spPr>
      </p:cxnSp>
      <p:grpSp>
        <p:nvGrpSpPr>
          <p:cNvPr id="1263" name=""/>
          <p:cNvGrpSpPr/>
          <p:nvPr/>
        </p:nvGrpSpPr>
        <p:grpSpPr>
          <a:xfrm>
            <a:off x="737280" y="2605680"/>
            <a:ext cx="2844000" cy="1965600"/>
            <a:chOff x="737280" y="2605680"/>
            <a:chExt cx="2844000" cy="1965600"/>
          </a:xfrm>
        </p:grpSpPr>
        <p:cxnSp>
          <p:nvCxnSpPr>
            <p:cNvPr id="1264" name=""/>
            <p:cNvCxnSpPr/>
            <p:nvPr/>
          </p:nvCxnSpPr>
          <p:spPr>
            <a:xfrm flipV="1" rot="10800000">
              <a:off x="797760" y="2605680"/>
              <a:ext cx="2783520" cy="1965960"/>
            </a:xfrm>
            <a:prstGeom prst="curvedConnector2">
              <a:avLst/>
            </a:prstGeom>
            <a:ln w="12600">
              <a:solidFill>
                <a:srgbClr val="000099"/>
              </a:solidFill>
              <a:miter/>
              <a:tailEnd len="sm" type="triangle" w="lg"/>
            </a:ln>
          </p:spPr>
        </p:cxnSp>
        <p:sp>
          <p:nvSpPr>
            <p:cNvPr id="1265" name=""/>
            <p:cNvSpPr/>
            <p:nvPr/>
          </p:nvSpPr>
          <p:spPr>
            <a:xfrm>
              <a:off x="737280" y="3255840"/>
              <a:ext cx="590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1800" spc="-1" strike="noStrike" baseline="-25000">
                  <a:solidFill>
                    <a:srgbClr val="000099"/>
                  </a:solidFill>
                  <a:latin typeface="Verdana"/>
                </a:rPr>
                <a:t>1</a:t>
              </a:r>
              <a:r>
                <a:rPr b="0" lang="en-US" sz="18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5334120" y="2635200"/>
            <a:ext cx="1143000" cy="1752480"/>
            <a:chOff x="5334120" y="2635200"/>
            <a:chExt cx="1143000" cy="1752480"/>
          </a:xfrm>
        </p:grpSpPr>
        <p:sp>
          <p:nvSpPr>
            <p:cNvPr id="1267" name=""/>
            <p:cNvSpPr/>
            <p:nvPr/>
          </p:nvSpPr>
          <p:spPr>
            <a:xfrm>
              <a:off x="5334120" y="2635200"/>
              <a:ext cx="304560" cy="175248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562720" y="3701880"/>
              <a:ext cx="914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x</a:t>
              </a:r>
              <a:r>
                <a:rPr b="0" lang="en-US" sz="2000" spc="-1" strike="noStrike" baseline="-25000">
                  <a:solidFill>
                    <a:srgbClr val="000099"/>
                  </a:solidFill>
                  <a:latin typeface="Verdana"/>
                </a:rPr>
                <a:t>2</a:t>
              </a:r>
              <a:r>
                <a:rPr b="0" lang="en-US" sz="2000" spc="-1" strike="noStrike">
                  <a:solidFill>
                    <a:srgbClr val="000099"/>
                  </a:solidFill>
                  <a:latin typeface="Verdana"/>
                </a:rPr>
                <a:t>=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9" name=""/>
          <p:cNvSpPr/>
          <p:nvPr/>
        </p:nvSpPr>
        <p:spPr>
          <a:xfrm>
            <a:off x="4876920" y="5486400"/>
            <a:ext cx="228600" cy="457200"/>
          </a:xfrm>
          <a:custGeom>
            <a:avLst/>
            <a:gdLst/>
            <a:ahLst/>
            <a:rect l="l" t="t" r="r" b="b"/>
            <a:pathLst>
              <a:path w="447" h="904">
                <a:moveTo>
                  <a:pt x="0" y="0"/>
                </a:moveTo>
                <a:cubicBezTo>
                  <a:pt x="27" y="39"/>
                  <a:pt x="119" y="171"/>
                  <a:pt x="160" y="232"/>
                </a:cubicBezTo>
                <a:cubicBezTo>
                  <a:pt x="201" y="293"/>
                  <a:pt x="217" y="316"/>
                  <a:pt x="248" y="368"/>
                </a:cubicBezTo>
                <a:cubicBezTo>
                  <a:pt x="279" y="420"/>
                  <a:pt x="316" y="479"/>
                  <a:pt x="344" y="544"/>
                </a:cubicBezTo>
                <a:cubicBezTo>
                  <a:pt x="372" y="609"/>
                  <a:pt x="399" y="700"/>
                  <a:pt x="416" y="760"/>
                </a:cubicBezTo>
                <a:cubicBezTo>
                  <a:pt x="433" y="820"/>
                  <a:pt x="441" y="874"/>
                  <a:pt x="447" y="904"/>
                </a:cubicBez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066680" y="5715000"/>
            <a:ext cx="1828800" cy="2286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3733920" y="3429000"/>
            <a:ext cx="1066680" cy="140184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 flipV="1" rot="13388400">
            <a:off x="3056040" y="4284720"/>
            <a:ext cx="1371600" cy="1325520"/>
          </a:xfrm>
          <a:custGeom>
            <a:avLst/>
            <a:gdLst/>
            <a:ahLst/>
            <a:rect l="l" t="t" r="r" b="b"/>
            <a:pathLst>
              <a:path w="672" h="584">
                <a:moveTo>
                  <a:pt x="0" y="56"/>
                </a:moveTo>
                <a:cubicBezTo>
                  <a:pt x="104" y="28"/>
                  <a:pt x="208" y="0"/>
                  <a:pt x="288" y="8"/>
                </a:cubicBezTo>
                <a:cubicBezTo>
                  <a:pt x="368" y="16"/>
                  <a:pt x="432" y="64"/>
                  <a:pt x="480" y="104"/>
                </a:cubicBezTo>
                <a:cubicBezTo>
                  <a:pt x="528" y="144"/>
                  <a:pt x="552" y="200"/>
                  <a:pt x="576" y="248"/>
                </a:cubicBezTo>
                <a:cubicBezTo>
                  <a:pt x="600" y="296"/>
                  <a:pt x="608" y="336"/>
                  <a:pt x="624" y="392"/>
                </a:cubicBezTo>
                <a:cubicBezTo>
                  <a:pt x="640" y="448"/>
                  <a:pt x="656" y="516"/>
                  <a:pt x="672" y="584"/>
                </a:cubicBezTo>
              </a:path>
            </a:pathLst>
          </a:custGeom>
          <a:noFill/>
          <a:ln w="38160">
            <a:solidFill>
              <a:srgbClr val="ff00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4114440" y="2666880"/>
            <a:ext cx="2438280" cy="30492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858000" y="2666880"/>
            <a:ext cx="990720" cy="172080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 flipH="1">
            <a:off x="6781320" y="2635200"/>
            <a:ext cx="1295640" cy="1752480"/>
          </a:xfrm>
          <a:prstGeom prst="line">
            <a:avLst/>
          </a:prstGeom>
          <a:ln w="19080">
            <a:solidFill>
              <a:srgbClr val="000099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: esempio con variabi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6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ecessità di avere delle buone euristich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a per planning lineari che per P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i problemi di planning non è facile derivare delle euristiche ammiss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no strumento molto utile per costruire delle euristiche ammissibile è il </a:t>
            </a:r>
            <a:r>
              <a:rPr b="0" lang="en-US" sz="3100" spc="-1" strike="noStrike">
                <a:solidFill>
                  <a:srgbClr val="333399"/>
                </a:solidFill>
                <a:latin typeface="Arial"/>
              </a:rPr>
              <a:t>grafo di plann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ccoglie informazioni su quali piani sono impossibili non prendendo in considerazione le minacce e il “consumo” dei letterali che chiudono le precondizion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69440" y="1736280"/>
            <a:ext cx="385308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grafo di planning è un grafo costruito a livelli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rimo livello è costituito dai letterali dello stato inizi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successivi livelli sono ottenuti dalla applicazione ripetuta delle azioni che hanno i prerequisiti soddisfat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oltre i letterali di un livello sono riportati al livello successivo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persistence ac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variabili !  No troppi oggetti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"/>
          <a:stretch/>
        </p:blipFill>
        <p:spPr>
          <a:xfrm>
            <a:off x="4267080" y="1523880"/>
            <a:ext cx="4283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3" name="" descr=""/>
          <p:cNvPicPr/>
          <p:nvPr/>
        </p:nvPicPr>
        <p:blipFill>
          <a:blip r:embed="rId1"/>
          <a:stretch/>
        </p:blipFill>
        <p:spPr>
          <a:xfrm>
            <a:off x="1219320" y="2324160"/>
            <a:ext cx="6400800" cy="3959280"/>
          </a:xfrm>
          <a:prstGeom prst="rect">
            <a:avLst/>
          </a:prstGeom>
          <a:ln w="0">
            <a:noFill/>
          </a:ln>
        </p:spPr>
      </p:pic>
      <p:sp>
        <p:nvSpPr>
          <p:cNvPr id="1284" name=""/>
          <p:cNvSpPr/>
          <p:nvPr/>
        </p:nvSpPr>
        <p:spPr>
          <a:xfrm>
            <a:off x="685800" y="1690560"/>
            <a:ext cx="74296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iamo un esempio su un problema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6" name="" descr=""/>
          <p:cNvPicPr/>
          <p:nvPr/>
        </p:nvPicPr>
        <p:blipFill>
          <a:blip r:embed="rId1"/>
          <a:stretch/>
        </p:blipFill>
        <p:spPr>
          <a:xfrm>
            <a:off x="609480" y="1511280"/>
            <a:ext cx="8077320" cy="4451400"/>
          </a:xfrm>
          <a:prstGeom prst="rect">
            <a:avLst/>
          </a:prstGeom>
          <a:ln w="0">
            <a:noFill/>
          </a:ln>
        </p:spPr>
      </p:pic>
      <p:sp>
        <p:nvSpPr>
          <p:cNvPr id="1287" name=""/>
          <p:cNvSpPr/>
          <p:nvPr/>
        </p:nvSpPr>
        <p:spPr>
          <a:xfrm>
            <a:off x="806760" y="5962680"/>
            <a:ext cx="76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’espansione del grafo termina quand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ivello i+1 = livello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9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848720" cy="5045040"/>
          </a:xfrm>
          <a:prstGeom prst="rect">
            <a:avLst/>
          </a:prstGeom>
          <a:ln w="0">
            <a:noFill/>
          </a:ln>
        </p:spPr>
      </p:pic>
      <p:sp>
        <p:nvSpPr>
          <p:cNvPr id="1290" name=""/>
          <p:cNvSpPr/>
          <p:nvPr/>
        </p:nvSpPr>
        <p:spPr>
          <a:xfrm>
            <a:off x="314280" y="1089000"/>
            <a:ext cx="24004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Arial"/>
              </a:rPr>
              <a:t>Conflitti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link di </a:t>
            </a: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mutua esclusione (mu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6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consistent eff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una azione nega l’effetto di un’alt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terfere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no degli effetti di una azione è la negazione di una precondizione di un’alt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mpeting nee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una delle precondizioni di una azione è la negazione di una delle precondizioni di un’alt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nconsistent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letterali allo stesso livello sono in conflitto se uno è la negazione dell’altro o se ogni possibile coppia di azioni che potrebbe raggiungere i due letterali è mutuamente esclus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891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gni livello contie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ti i letterali c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sere veri in quel passo, dipendentemente dalle azioni eseg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te le azioni ch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trebbe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e le precondizioni soddisfatte in quel p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no trascurate tutte le possibili interazioni negative fra azioni e letteral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 letterale che appare per la prima volta a livello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n implica l’esistenza di un piano in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 che lo raggiunge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ò sicuramente non esiste un piano con meno di </a:t>
            </a:r>
            <a:r>
              <a:rPr b="0" i="1" lang="en-US" sz="22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ssi che lo raggiunge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536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ostruzione in tempo polinomiale con grado bas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afi di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891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fo di planning usato per costruire euristiche ammissibili: h(s)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tanza tra lo stato s e il 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letterale che non compare nel grafo di planning implica la non esistenza di un piano, h(s) = </a:t>
            </a:r>
            <a:r>
              <a:rPr b="1" lang="en-US" sz="1800" spc="-1" strike="noStrike">
                <a:solidFill>
                  <a:srgbClr val="000000"/>
                </a:solidFill>
                <a:latin typeface="Symath"/>
                <a:ea typeface="Symath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 di un letterale: primo livello in cui comp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226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Stima migliore d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level co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ymath"/>
              </a:rPr>
              <a:t> se si usa grafo di planning seriale (usa mutua esclusione fra coppie di azioni (azioni persistenti escluse): una sola azione alla vol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Max-level: massimo livello fra tutti i sottogo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ymath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Symath"/>
              </a:rPr>
              <a:t>(ammissib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Level sum:somma i livelli dei sottogo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ymath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Symath"/>
              </a:rPr>
              <a:t>(inammissib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ymath"/>
              </a:rPr>
              <a:t>Set-level: livello dove tutti i sottogoal appaiono e nessuna coppia di sottogoal è in mutua esclusi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Symath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Symath"/>
              </a:rPr>
              <a:t>(ammissibile e buon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19320" y="3048120"/>
            <a:ext cx="4800600" cy="1600200"/>
            <a:chOff x="1219320" y="3048120"/>
            <a:chExt cx="4800600" cy="1600200"/>
          </a:xfrm>
        </p:grpSpPr>
        <p:sp>
          <p:nvSpPr>
            <p:cNvPr id="124" name=""/>
            <p:cNvSpPr/>
            <p:nvPr/>
          </p:nvSpPr>
          <p:spPr>
            <a:xfrm>
              <a:off x="1219320" y="3809880"/>
              <a:ext cx="4800600" cy="83844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976120" y="3048120"/>
              <a:ext cx="1453320" cy="1143000"/>
              <a:chOff x="2976120" y="3048120"/>
              <a:chExt cx="1453320" cy="1143000"/>
            </a:xfrm>
          </p:grpSpPr>
          <p:sp>
            <p:nvSpPr>
              <p:cNvPr id="126" name=""/>
              <p:cNvSpPr/>
              <p:nvPr/>
            </p:nvSpPr>
            <p:spPr>
              <a:xfrm>
                <a:off x="2976120" y="3048120"/>
                <a:ext cx="145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581280" y="3429000"/>
                <a:ext cx="0" cy="76212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"/>
          <p:cNvGrpSpPr/>
          <p:nvPr/>
        </p:nvGrpSpPr>
        <p:grpSpPr>
          <a:xfrm>
            <a:off x="4095000" y="1828800"/>
            <a:ext cx="2077200" cy="2743200"/>
            <a:chOff x="4095000" y="1828800"/>
            <a:chExt cx="2077200" cy="2743200"/>
          </a:xfrm>
        </p:grpSpPr>
        <p:sp>
          <p:nvSpPr>
            <p:cNvPr id="129" name=""/>
            <p:cNvSpPr/>
            <p:nvPr/>
          </p:nvSpPr>
          <p:spPr>
            <a:xfrm>
              <a:off x="5867280" y="1828800"/>
              <a:ext cx="304920" cy="274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4095000" y="3504960"/>
              <a:ext cx="1924920" cy="493200"/>
              <a:chOff x="4095000" y="3504960"/>
              <a:chExt cx="1924920" cy="493200"/>
            </a:xfrm>
          </p:grpSpPr>
          <p:sp>
            <p:nvSpPr>
              <p:cNvPr id="131" name=""/>
              <p:cNvSpPr/>
              <p:nvPr/>
            </p:nvSpPr>
            <p:spPr>
              <a:xfrm>
                <a:off x="4095000" y="3538440"/>
                <a:ext cx="15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ahoma"/>
                  </a:rPr>
                  <a:t>minacci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5257800" y="3504960"/>
                <a:ext cx="7621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"/>
          <p:cNvGrpSpPr/>
          <p:nvPr/>
        </p:nvGrpSpPr>
        <p:grpSpPr>
          <a:xfrm>
            <a:off x="1467360" y="1481040"/>
            <a:ext cx="5085720" cy="3090960"/>
            <a:chOff x="1467360" y="1481040"/>
            <a:chExt cx="5085720" cy="3090960"/>
          </a:xfrm>
        </p:grpSpPr>
        <p:sp>
          <p:nvSpPr>
            <p:cNvPr id="134" name=""/>
            <p:cNvSpPr/>
            <p:nvPr/>
          </p:nvSpPr>
          <p:spPr>
            <a:xfrm flipH="1">
              <a:off x="6248520" y="2743200"/>
              <a:ext cx="304560" cy="18288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1467360" y="1481040"/>
              <a:ext cx="4933440" cy="1871640"/>
              <a:chOff x="1467360" y="1481040"/>
              <a:chExt cx="4933440" cy="1871640"/>
            </a:xfrm>
          </p:grpSpPr>
          <p:sp>
            <p:nvSpPr>
              <p:cNvPr id="136" name=""/>
              <p:cNvSpPr/>
              <p:nvPr/>
            </p:nvSpPr>
            <p:spPr>
              <a:xfrm>
                <a:off x="3048120" y="2133720"/>
                <a:ext cx="3352680" cy="121896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467360" y="1481040"/>
                <a:ext cx="156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anche lu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3809880"/>
            <a:ext cx="4800600" cy="83844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6248520" y="2743200"/>
            <a:ext cx="304560" cy="182880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1828800"/>
            <a:ext cx="304920" cy="27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39440" y="17524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219320" y="1981080"/>
            <a:ext cx="4114800" cy="1828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638680" y="2057400"/>
            <a:ext cx="914400" cy="22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18800" y="1371600"/>
            <a:ext cx="5379120" cy="1191240"/>
          </a:xfrm>
          <a:prstGeom prst="rect">
            <a:avLst/>
          </a:prstGeom>
          <a:solidFill>
            <a:srgbClr val="ebf9f2"/>
          </a:solidFill>
          <a:ln w="93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Un piano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consistente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è uno in cui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non ci sono cicli e nessun conflitto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tra chi soddisfa e chi minac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5400" y="2743200"/>
            <a:ext cx="5255640" cy="1191240"/>
          </a:xfrm>
          <a:prstGeom prst="rect">
            <a:avLst/>
          </a:prstGeom>
          <a:solidFill>
            <a:srgbClr val="fff5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conflitto può essere elimina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ncolando l’ordine tra le azio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 aggiungendo nuove azi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219320" y="2057400"/>
            <a:ext cx="5028840" cy="3124080"/>
            <a:chOff x="1219320" y="2057400"/>
            <a:chExt cx="5028840" cy="3124080"/>
          </a:xfrm>
        </p:grpSpPr>
        <p:sp>
          <p:nvSpPr>
            <p:cNvPr id="203" name=""/>
            <p:cNvSpPr/>
            <p:nvPr/>
          </p:nvSpPr>
          <p:spPr>
            <a:xfrm flipH="1" flipV="1">
              <a:off x="5866920" y="2057400"/>
              <a:ext cx="38124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219320" y="2057400"/>
              <a:ext cx="464796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42000" y="579132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19320" y="3809880"/>
            <a:ext cx="4572000" cy="20574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6400440" y="2743200"/>
            <a:ext cx="152280" cy="31240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1828800"/>
            <a:ext cx="304920" cy="40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6019560" y="2057400"/>
            <a:ext cx="228600" cy="3124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219320" y="2057400"/>
            <a:ext cx="4647960" cy="17524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9:49:57Z</dcterms:created>
  <dc:creator> Alessandro Sperduti</dc:creator>
  <dc:description/>
  <dc:language>en-US</dc:language>
  <cp:lastModifiedBy> Alessandro Sperduti</cp:lastModifiedBy>
  <dcterms:modified xsi:type="dcterms:W3CDTF">2007-05-31T04:44:04Z</dcterms:modified>
  <cp:revision>6</cp:revision>
  <dc:subject/>
  <dc:title>Rappresentazione delle Azioni</dc:title>
</cp:coreProperties>
</file>