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camera.wav" ContentType="audio/x-wav"/>
  <Override PartName="/ppt/media/image7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8A3-4A9B-4256-8682-303A732C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7C9-AAA5-48D6-A7A1-C8D15F09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681-50E4-4A42-B4A8-0E87CF77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E06-7307-496F-88DC-E872F3FC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0AB7B-43A2-4AD4-BA35-4F2A4C58EE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DFB97-30E5-4F60-B352-3B0F9BC6AB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6741D-5B4A-4981-A2E5-80F06F02F4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DCAED-C7AD-450F-8440-617A61E6AA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3C77B-137E-4A72-ADBC-67B9DAE500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4AE9F-72A5-404F-B343-14158458DA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E3C96-1F29-4658-A88A-51742EDC37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A6F-FF22-4147-B784-6F4DD55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6EC06-D160-414C-A6A2-CBFD20A0AD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F5350-3326-4C33-A19A-F3E8F0293D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045E6-0D65-4EC8-9E6B-500C928760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A44F8-D4EE-4ECD-A473-A8AE5912FE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34C61-1502-4207-96B2-B9880696C5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15F76-8ECB-47C1-BCD7-C18F8E44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EDD18-0975-4E90-AB15-4054626D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313BD-C837-400A-8B7F-7590049A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F9022-6603-4624-BA9B-94762C1E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AC076-85C5-4C22-B3C0-74D2ED96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43B-ACC5-4166-A666-F9BDA348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D0BAE-4F2C-48FF-A216-43E62B18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1DEAB-8170-4C4E-BDAF-7C8E38D5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339DB-3E0B-4A85-8A28-64669DCE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8DFBF-27EC-4CB7-8862-581AFAF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B7A37-E0A7-456A-959E-60F163DC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2DF438-C14B-408B-9CCB-1A06DB66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38E07-CBD2-47DA-9F56-FEAF2128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56E-C779-482B-B501-AE372C71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AFE-96A6-47AD-9C0F-372A4C62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5DA-78B6-4C00-8D31-9F27C40F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B3D-F172-4292-B1EF-EC2B084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A7E-B0F8-423F-AB3C-6E450D3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6F4-AEEA-4A07-94E1-52FBE9C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A5AF-FC02-45BD-9867-7323D334D17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48D2-EA9E-439E-90BA-889291FF29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-7236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35480" indent="-28296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8400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3652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6969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6969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69696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69696"/>
                </a:solidFill>
                <a:latin typeface="Tw Cen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9966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B771-1BA8-4DFB-B7BA-C128DB355AAC}" type="slidenum">
              <a:rPr b="0" lang="en-GB" sz="2400" spc="-1" strike="noStrike">
                <a:solidFill>
                  <a:srgbClr val="9966ff"/>
                </a:solidFill>
                <a:latin typeface="Tw Cen MT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anificazione (Plann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olo 11, Russell &amp; Nor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0960" y="6427800"/>
            <a:ext cx="537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sta presentazione include lucidi creati da: B.J. Dorr, L. Getoor, A. Lazaric, Russel &amp; Norvig, M. Simi, S. Sce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cci Princip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77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olo delle situa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nello spazio degli st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artial order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afi di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composizione Gerarchica (HTN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Reattivo (Reactive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gni livello contie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ti i letterali c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sere veri in quel passo, dipendentemente dalle azioni eseg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te le azioni c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vere le precondizioni soddisfatte in quel p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o trascurate tutte le possibili interazioni negative fra azioni e letter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letterale che appare per la prima volta a livello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n implica l’esistenza di un piano i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ssi che lo raggiung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ò sicuramente non esiste un piano con meno di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ssi che lo raggiunge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ostruzione in tempo polinomiale con grado ba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fo di planning usato per costruire euristiche ammissibili: h(s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istanza tra lo stato s e il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letterale che non compare nel grafo di planning implica la non esistenza di un piano, h(s) = </a:t>
            </a:r>
            <a:r>
              <a:rPr b="1" lang="en-US" sz="1800" spc="-1" strike="noStrike">
                <a:solidFill>
                  <a:srgbClr val="000000"/>
                </a:solidFill>
                <a:latin typeface="Symath"/>
                <a:ea typeface="Sy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 di un letterale: primo livello in cui comp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Stima migliore d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 se si usa grafo di planning seriale (usa mutua esclusione fra coppie di azioni (azioni persistenti escluse): una sola azione alla vol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ath"/>
              </a:rPr>
              <a:t>Max-level: massimo livello fra tutti i sotto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Symath"/>
              </a:rPr>
              <a:t>(ammi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ath"/>
              </a:rPr>
              <a:t>Level sum:somma i livelli dei sotto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Symath"/>
              </a:rPr>
              <a:t>(inammi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ath"/>
              </a:rPr>
              <a:t>Set-level: livello dove tutti i sottogoal appaiono e nessuna coppia di sottogoal è in mutua esclus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Symath"/>
              </a:rPr>
              <a:t>(ammissibile e buono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con Calcolo delle Situ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base:  rappresentare il problema di planning i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calcolo delle situazioni ci permette di ragionare sui cambiamenti d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inferenza (theorem proving) per “provare” che una particolare sequenza di azioni, quando applicata alla situazione che caratterizza lo stato del mondo, condurrà al risultato desiderato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piano = pr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1720" y="1142640"/>
            <a:ext cx="865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Inizi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a sentenza logica su (situazione)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(Milk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At(Home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ono descrizioni di come il mondo cambia a causa delle azioni dell’ ag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,s) Have(Milk,Result(a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a=Buy(Milk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(Grocery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ve(Milk, 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(Milk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(a,s) già visto (la situazione risultante dalla esecuzione della azione a nella situazione 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ze di azioni: Result'(l,s) è il risultato della esecuzione della lista di azioni (l) a partire da 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Result'([ ],s) 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p,s) Result'([a|p],s) = Result'(p,Result(a,s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soluzione è un piano  che quando applicato allo stato iniziale conduce ad una situazione che soddisfa la query di go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(Home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Milk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Bananas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Drill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ci si aspetta un piano (cioè un assegnamento di variabile tramite unificazione) tale ch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[Go(Grocery), Buy(Milk), Buy(Bananas), Go(HardwareStore), Buy(Drill), Go(Home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olo delle Situazioni: Anali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oria va bene, ma il problem solving (ricerca) è esponenziale nel caso pe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ltre, la risoluzione trova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a (=piano), non necessariamente un buon piano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ordiamoci anche del Problema del Frame, della Qualifica e della Ramific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è meglio usar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guaggio ristret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lgoritmo specializzato (plann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uttosto che un dimostratore generale di teor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presentazioni base per i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9912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ccio classico usato negli anni 70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 rappresentati come una congiunzione di letterali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oal sono congiunzioni di letterali, ma possono avere variabili che sono assunte esser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antificate esistenzi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?x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c’è bisogno di specificare completamente lo st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pecificato significa non rilevante o assunto f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resenta molti casi in poca mem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sso rappresenta solo i cambiamenti nello stato piuttosto che l’intera situ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contrario di un dimostratore di teoremi, non cerca se il goal è vero, ma se c’è una sequenza di azioni che lo raggiu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ppresentazione Operatori/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698004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i operatori contengono tre componen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zione del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ondi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giunzione di letterali posi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t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giunzione di letterali positivi o negativi che descrivono come la situazione cambia quando si applica l’opera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[Action:  Go(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izioni:  At(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h(here,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tto:  At(t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(here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tte le variabili sono quantificate universal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variabili di situazione sono implic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precondizioni devono essere vere nello stato precedente all’applicazione dell’operatore; gli effetti sono veri immediatamente do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3124080"/>
            <a:ext cx="16002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09920" y="3200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(t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0" y="27432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 ,Path(here,t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89520" y="407664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there)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352680" y="3429000"/>
            <a:ext cx="3657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572000" y="4191120"/>
            <a:ext cx="22096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105520" y="312408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o dei bloc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41536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mondo dei blocchi è un micro-mondo che consiste di un tavolo, un insieme di blocchi e un manipolatore robo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uni vincoli del domi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olo blocco può essere immediatamente sopra un a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qualsiasi numero di blocchi sul tav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anipolatore può mantenere un solo bl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presentazione tip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0" y="4267080"/>
            <a:ext cx="3833640" cy="2471040"/>
            <a:chOff x="4572000" y="4267080"/>
            <a:chExt cx="3833640" cy="2471040"/>
          </a:xfrm>
        </p:grpSpPr>
        <p:sp>
          <p:nvSpPr>
            <p:cNvPr id="213" name=""/>
            <p:cNvSpPr/>
            <p:nvPr/>
          </p:nvSpPr>
          <p:spPr>
            <a:xfrm>
              <a:off x="4572000" y="6248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9200" y="5867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548640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5000" y="5867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486040" y="4267080"/>
              <a:ext cx="571320" cy="995040"/>
              <a:chOff x="5486040" y="4267080"/>
              <a:chExt cx="571320" cy="995040"/>
            </a:xfrm>
          </p:grpSpPr>
          <p:sp>
            <p:nvSpPr>
              <p:cNvPr id="218" name=""/>
              <p:cNvSpPr/>
              <p:nvPr/>
            </p:nvSpPr>
            <p:spPr>
              <a:xfrm flipV="1" rot="16200000">
                <a:off x="5521680" y="47260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53160" y="42670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7392960" y="640080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VO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o S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6120" y="4172040"/>
            <a:ext cx="722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(B), CLEAR(C), HAND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124080" y="1600200"/>
            <a:ext cx="4848120" cy="2638800"/>
            <a:chOff x="3124080" y="1600200"/>
            <a:chExt cx="4848120" cy="2638800"/>
          </a:xfrm>
        </p:grpSpPr>
        <p:grpSp>
          <p:nvGrpSpPr>
            <p:cNvPr id="224" name=""/>
            <p:cNvGrpSpPr/>
            <p:nvPr/>
          </p:nvGrpSpPr>
          <p:grpSpPr>
            <a:xfrm>
              <a:off x="3124080" y="1600200"/>
              <a:ext cx="3048120" cy="2438280"/>
              <a:chOff x="3124080" y="1600200"/>
              <a:chExt cx="3048120" cy="243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3124080" y="396216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339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483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33920" y="274320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4648320" y="1600200"/>
                <a:ext cx="609480" cy="609120"/>
                <a:chOff x="4648320" y="1600200"/>
                <a:chExt cx="609480" cy="609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48320" y="190476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64832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53240" y="160020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25780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6211080" y="3657600"/>
              <a:ext cx="176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AVOL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24080" y="1600200"/>
            <a:ext cx="3048120" cy="2438280"/>
            <a:chOff x="3124080" y="1600200"/>
            <a:chExt cx="3048120" cy="2438280"/>
          </a:xfrm>
        </p:grpSpPr>
        <p:sp>
          <p:nvSpPr>
            <p:cNvPr id="237" name=""/>
            <p:cNvSpPr/>
            <p:nvPr/>
          </p:nvSpPr>
          <p:spPr>
            <a:xfrm>
              <a:off x="3124080" y="3962520"/>
              <a:ext cx="30481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33920" y="3352680"/>
              <a:ext cx="60948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33920" y="274320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3920" y="213372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648320" y="1600200"/>
              <a:ext cx="609480" cy="609120"/>
              <a:chOff x="4648320" y="1600200"/>
              <a:chExt cx="609480" cy="609120"/>
            </a:xfrm>
          </p:grpSpPr>
          <p:sp>
            <p:nvSpPr>
              <p:cNvPr id="242" name=""/>
              <p:cNvSpPr/>
              <p:nvPr/>
            </p:nvSpPr>
            <p:spPr>
              <a:xfrm>
                <a:off x="4648320" y="1904760"/>
                <a:ext cx="609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4832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53240" y="160020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5780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995400" y="4400640"/>
            <a:ext cx="582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A), ON(C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000" y="541800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l goal G è raggiunto in uno stato S se tutte 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e proposizioni in G sono anche i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vare un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quenza di azioni (pian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 raggiunge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do eseguita a partire da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o iniziale del mo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ioè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sieme di descrizioni di operatori (azioni primitive dell’agent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iniziale,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olare un piano, che 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sequenza di istanze di operatori, tale che eseguita a partire dallo stato iniziale cambia il mondo in modo da portarlo in uno stato che soddisfa la descrizione dello stato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goal sono usualmente specificati come una  congiunzione di (sotto)goal da raggiung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1752480"/>
            <a:ext cx="6553440" cy="2057400"/>
          </a:xfrm>
          <a:prstGeom prst="rect">
            <a:avLst/>
          </a:prstGeom>
          <a:solidFill>
            <a:srgbClr val="d9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91160" y="1828800"/>
            <a:ext cx="6519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tack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HANDEMPTY, BLOCK(x), BLOCK(y), 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        CLEAR(x), ON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HANDEMPTY,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LEAR(x), HOLDING(x),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N(x,y), CLEAR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2120" y="2590920"/>
            <a:ext cx="8535240" cy="2181600"/>
            <a:chOff x="762120" y="2590920"/>
            <a:chExt cx="8535240" cy="2181600"/>
          </a:xfrm>
        </p:grpSpPr>
        <p:sp>
          <p:nvSpPr>
            <p:cNvPr id="252" name=""/>
            <p:cNvSpPr/>
            <p:nvPr/>
          </p:nvSpPr>
          <p:spPr>
            <a:xfrm>
              <a:off x="762120" y="2590920"/>
              <a:ext cx="914040" cy="1981080"/>
            </a:xfrm>
            <a:custGeom>
              <a:avLst/>
              <a:gdLst/>
              <a:ahLst/>
              <a:rect l="l" t="t" r="r" b="b"/>
              <a:pathLst>
                <a:path w="57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576" y="1248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3640" y="4191120"/>
              <a:ext cx="789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recondizioni: </a:t>
              </a:r>
              <a:r>
                <a:rPr b="0" lang="en-US" sz="2800" spc="-1" strike="noStrike">
                  <a:solidFill>
                    <a:srgbClr val="008000"/>
                  </a:solidFill>
                  <a:latin typeface="Tahoma"/>
                </a:rPr>
                <a:t>congiunzione di proposizio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42480" y="3290760"/>
            <a:ext cx="4839480" cy="1038600"/>
            <a:chOff x="942480" y="3290760"/>
            <a:chExt cx="4839480" cy="1038600"/>
          </a:xfrm>
        </p:grpSpPr>
        <p:grpSp>
          <p:nvGrpSpPr>
            <p:cNvPr id="255" name=""/>
            <p:cNvGrpSpPr/>
            <p:nvPr/>
          </p:nvGrpSpPr>
          <p:grpSpPr>
            <a:xfrm>
              <a:off x="942480" y="3290760"/>
              <a:ext cx="686160" cy="838440"/>
              <a:chOff x="942480" y="3290760"/>
              <a:chExt cx="686160" cy="8384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942480" y="3290760"/>
                <a:ext cx="2286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42840" y="3290760"/>
                <a:ext cx="0" cy="8384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942840" y="41292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553760" y="3747960"/>
              <a:ext cx="422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Effetto: </a:t>
              </a:r>
              <a:r>
                <a:rPr b="0" lang="en-US" sz="2800" spc="-1" strike="noStrike">
                  <a:solidFill>
                    <a:srgbClr val="990000"/>
                  </a:solidFill>
                  <a:latin typeface="Tahoma"/>
                </a:rPr>
                <a:t>lista di lettera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1760" y="3048120"/>
            <a:ext cx="4803120" cy="3035160"/>
            <a:chOff x="491760" y="3048120"/>
            <a:chExt cx="4803120" cy="3035160"/>
          </a:xfrm>
        </p:grpSpPr>
        <p:sp>
          <p:nvSpPr>
            <p:cNvPr id="261" name=""/>
            <p:cNvSpPr/>
            <p:nvPr/>
          </p:nvSpPr>
          <p:spPr>
            <a:xfrm>
              <a:off x="1944720" y="3048120"/>
              <a:ext cx="20937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1800" y="3505320"/>
              <a:ext cx="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1760" y="5257800"/>
              <a:ext cx="4803120" cy="825480"/>
            </a:xfrm>
            <a:prstGeom prst="rect">
              <a:avLst/>
            </a:prstGeom>
            <a:solidFill>
              <a:srgbClr val="ffd7a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ignifica: Rimuove HANDEMPTY 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258160" y="2971800"/>
            <a:ext cx="3321720" cy="3110040"/>
            <a:chOff x="5258160" y="2971800"/>
            <a:chExt cx="3321720" cy="3110040"/>
          </a:xfrm>
        </p:grpSpPr>
        <p:sp>
          <p:nvSpPr>
            <p:cNvPr id="265" name=""/>
            <p:cNvSpPr/>
            <p:nvPr/>
          </p:nvSpPr>
          <p:spPr>
            <a:xfrm>
              <a:off x="5258160" y="5256360"/>
              <a:ext cx="3321720" cy="825480"/>
            </a:xfrm>
            <a:prstGeom prst="rect">
              <a:avLst/>
            </a:prstGeom>
            <a:solidFill>
              <a:srgbClr val="dee3f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Significa: Aggiungi 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HOLDING(x) 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15000" y="2971800"/>
              <a:ext cx="1752480" cy="60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629040" y="3581280"/>
              <a:ext cx="205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1523880"/>
            <a:ext cx="3308400" cy="2637000"/>
            <a:chOff x="762120" y="1523880"/>
            <a:chExt cx="3308400" cy="2637000"/>
          </a:xfrm>
        </p:grpSpPr>
        <p:grpSp>
          <p:nvGrpSpPr>
            <p:cNvPr id="270" name=""/>
            <p:cNvGrpSpPr/>
            <p:nvPr/>
          </p:nvGrpSpPr>
          <p:grpSpPr>
            <a:xfrm>
              <a:off x="762120" y="1523880"/>
              <a:ext cx="3048120" cy="2438280"/>
              <a:chOff x="762120" y="1523880"/>
              <a:chExt cx="3048120" cy="2438280"/>
            </a:xfrm>
          </p:grpSpPr>
          <p:sp>
            <p:nvSpPr>
              <p:cNvPr id="271" name=""/>
              <p:cNvSpPr/>
              <p:nvPr/>
            </p:nvSpPr>
            <p:spPr>
              <a:xfrm>
                <a:off x="762120" y="388584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9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863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71960" y="26668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2286360" y="1523880"/>
                <a:ext cx="609480" cy="609120"/>
                <a:chOff x="2286360" y="1523880"/>
                <a:chExt cx="609480" cy="609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286360" y="182844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8636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591280" y="15238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89584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>
              <a:off x="3886560" y="35812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46920" y="2263680"/>
            <a:ext cx="522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8f5f"/>
                </a:solidFill>
                <a:latin typeface="Arial"/>
              </a:rPr>
              <a:t>BLOCK(A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LOCK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N(C,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LEAR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3886200"/>
            <a:ext cx="30477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286000" y="1523880"/>
            <a:ext cx="609480" cy="609840"/>
            <a:chOff x="2286000" y="1523880"/>
            <a:chExt cx="609480" cy="609840"/>
          </a:xfrm>
        </p:grpSpPr>
        <p:sp>
          <p:nvSpPr>
            <p:cNvPr id="289" name=""/>
            <p:cNvSpPr/>
            <p:nvPr/>
          </p:nvSpPr>
          <p:spPr>
            <a:xfrm>
              <a:off x="2286000" y="18288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0920" y="152388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9548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886200" y="3581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6920" y="2263680"/>
            <a:ext cx="522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CLEAR(C), HANDEMP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OLDING(C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40120" y="2558520"/>
            <a:ext cx="3657600" cy="610200"/>
            <a:chOff x="4740120" y="2558520"/>
            <a:chExt cx="3657600" cy="610200"/>
          </a:xfrm>
        </p:grpSpPr>
        <p:sp>
          <p:nvSpPr>
            <p:cNvPr id="297" name=""/>
            <p:cNvSpPr/>
            <p:nvPr/>
          </p:nvSpPr>
          <p:spPr>
            <a:xfrm flipV="1">
              <a:off x="6264000" y="3016080"/>
              <a:ext cx="175248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740120" y="2939760"/>
              <a:ext cx="1371600" cy="2286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54720" y="2558520"/>
              <a:ext cx="1143000" cy="3049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53560" y="1606680"/>
            <a:ext cx="8154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BLOCK(y), CLEAR(x), ON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(x,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45640" y="2825640"/>
            <a:ext cx="7919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, BLOCK(x), BLOCK(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27160" y="491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800" y="5187960"/>
            <a:ext cx="7371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utDow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TAVOLO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6800" y="4044960"/>
            <a:ext cx="7733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cku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CLEAR(x), 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309" name="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314" name="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317" name="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322" name="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6629400" y="1752480"/>
            <a:ext cx="20574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328" name="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333" name="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336" name="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341" name="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6629400" y="1752480"/>
            <a:ext cx="2190600" cy="376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down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ward Planning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62120" y="1600200"/>
            <a:ext cx="1752480" cy="1503360"/>
            <a:chOff x="762120" y="1600200"/>
            <a:chExt cx="1752480" cy="1503360"/>
          </a:xfrm>
        </p:grpSpPr>
        <p:sp>
          <p:nvSpPr>
            <p:cNvPr id="346" name=""/>
            <p:cNvSpPr/>
            <p:nvPr/>
          </p:nvSpPr>
          <p:spPr>
            <a:xfrm>
              <a:off x="762120" y="160020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762120" y="1600200"/>
              <a:ext cx="1752480" cy="1503360"/>
              <a:chOff x="762120" y="1600200"/>
              <a:chExt cx="1752480" cy="1503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62120" y="1600200"/>
                <a:ext cx="1582560" cy="1181880"/>
                <a:chOff x="762120" y="1600200"/>
                <a:chExt cx="1582560" cy="1181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62120" y="27453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07856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55340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078560" y="215424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1553400" y="1600200"/>
                  <a:ext cx="316440" cy="295200"/>
                  <a:chOff x="1553400" y="1600200"/>
                  <a:chExt cx="316440" cy="29520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1553400" y="174780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155340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711800" y="16002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86984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8" name=""/>
              <p:cNvSpPr/>
              <p:nvPr/>
            </p:nvSpPr>
            <p:spPr>
              <a:xfrm>
                <a:off x="2345760" y="264636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228600" y="3352680"/>
            <a:ext cx="4876920" cy="2935440"/>
            <a:chOff x="228600" y="3352680"/>
            <a:chExt cx="4876920" cy="2935440"/>
          </a:xfrm>
        </p:grpSpPr>
        <p:grpSp>
          <p:nvGrpSpPr>
            <p:cNvPr id="360" name=""/>
            <p:cNvGrpSpPr/>
            <p:nvPr/>
          </p:nvGrpSpPr>
          <p:grpSpPr>
            <a:xfrm>
              <a:off x="3352680" y="3352680"/>
              <a:ext cx="1752840" cy="1503360"/>
              <a:chOff x="3352680" y="3352680"/>
              <a:chExt cx="1752840" cy="1503360"/>
            </a:xfrm>
          </p:grpSpPr>
          <p:sp>
            <p:nvSpPr>
              <p:cNvPr id="361" name=""/>
              <p:cNvSpPr/>
              <p:nvPr/>
            </p:nvSpPr>
            <p:spPr>
              <a:xfrm>
                <a:off x="3352680" y="33526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3352680" y="3352680"/>
                <a:ext cx="1752840" cy="1503360"/>
                <a:chOff x="3352680" y="3352680"/>
                <a:chExt cx="1752840" cy="1503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352680" y="4498920"/>
                  <a:ext cx="158292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68760" y="4202280"/>
                  <a:ext cx="3175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145040" y="420228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46480" y="3906720"/>
                  <a:ext cx="31752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4145040" y="3352680"/>
                  <a:ext cx="315720" cy="295200"/>
                  <a:chOff x="4145040" y="3352680"/>
                  <a:chExt cx="315720" cy="2952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4145040" y="3500280"/>
                    <a:ext cx="31572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414504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4303080" y="33526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446076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2" name=""/>
                <p:cNvSpPr/>
                <p:nvPr/>
              </p:nvSpPr>
              <p:spPr>
                <a:xfrm>
                  <a:off x="4937040" y="4398840"/>
                  <a:ext cx="168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" name=""/>
            <p:cNvGrpSpPr/>
            <p:nvPr/>
          </p:nvGrpSpPr>
          <p:grpSpPr>
            <a:xfrm>
              <a:off x="762120" y="5105520"/>
              <a:ext cx="1600200" cy="1182600"/>
              <a:chOff x="762120" y="5105520"/>
              <a:chExt cx="1600200" cy="1182600"/>
            </a:xfrm>
          </p:grpSpPr>
          <p:sp>
            <p:nvSpPr>
              <p:cNvPr id="374" name=""/>
              <p:cNvSpPr/>
              <p:nvPr/>
            </p:nvSpPr>
            <p:spPr>
              <a:xfrm>
                <a:off x="7621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762120" y="5105520"/>
                <a:ext cx="1582560" cy="1182600"/>
                <a:chOff x="762120" y="5105520"/>
                <a:chExt cx="1582560" cy="11826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62120" y="6251760"/>
                  <a:ext cx="1582560" cy="36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077840" y="5954760"/>
                  <a:ext cx="3171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54120" y="5954760"/>
                  <a:ext cx="3153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6680" y="5958000"/>
                  <a:ext cx="317160" cy="2952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1554120" y="5105520"/>
                  <a:ext cx="315360" cy="295200"/>
                  <a:chOff x="1554120" y="5105520"/>
                  <a:chExt cx="315360" cy="295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15541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15541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7118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8694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85" name=""/>
            <p:cNvSpPr/>
            <p:nvPr/>
          </p:nvSpPr>
          <p:spPr>
            <a:xfrm>
              <a:off x="2362320" y="39625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388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28600" y="45720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952880" y="2133720"/>
            <a:ext cx="609840" cy="1828800"/>
            <a:chOff x="4952880" y="2133720"/>
            <a:chExt cx="609840" cy="1828800"/>
          </a:xfrm>
        </p:grpSpPr>
        <p:sp>
          <p:nvSpPr>
            <p:cNvPr id="389" name=""/>
            <p:cNvSpPr/>
            <p:nvPr/>
          </p:nvSpPr>
          <p:spPr>
            <a:xfrm>
              <a:off x="495288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5288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362320" y="5105520"/>
            <a:ext cx="2666520" cy="1503360"/>
            <a:chOff x="2362320" y="5105520"/>
            <a:chExt cx="2666520" cy="1503360"/>
          </a:xfrm>
        </p:grpSpPr>
        <p:grpSp>
          <p:nvGrpSpPr>
            <p:cNvPr id="392" name=""/>
            <p:cNvGrpSpPr/>
            <p:nvPr/>
          </p:nvGrpSpPr>
          <p:grpSpPr>
            <a:xfrm>
              <a:off x="3276720" y="5105520"/>
              <a:ext cx="1752120" cy="1503360"/>
              <a:chOff x="3276720" y="5105520"/>
              <a:chExt cx="1752120" cy="1503360"/>
            </a:xfrm>
          </p:grpSpPr>
          <p:sp>
            <p:nvSpPr>
              <p:cNvPr id="393" name=""/>
              <p:cNvSpPr/>
              <p:nvPr/>
            </p:nvSpPr>
            <p:spPr>
              <a:xfrm>
                <a:off x="32767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36840" y="6075360"/>
                <a:ext cx="16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276720" y="5105520"/>
                <a:ext cx="1752120" cy="1503360"/>
                <a:chOff x="3276720" y="5105520"/>
                <a:chExt cx="1752120" cy="15033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276720" y="62517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592440" y="595512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95680" y="594396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070160" y="52531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4068720" y="5105520"/>
                  <a:ext cx="315360" cy="295200"/>
                  <a:chOff x="4068720" y="5105520"/>
                  <a:chExt cx="315360" cy="295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40687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0687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2264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3840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5" name=""/>
                <p:cNvSpPr/>
                <p:nvPr/>
              </p:nvSpPr>
              <p:spPr>
                <a:xfrm>
                  <a:off x="4860720" y="615168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"/>
            <p:cNvSpPr/>
            <p:nvPr/>
          </p:nvSpPr>
          <p:spPr>
            <a:xfrm>
              <a:off x="2362320" y="563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62320" y="624852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5105520"/>
            <a:ext cx="2742840" cy="1503360"/>
            <a:chOff x="4876920" y="5105520"/>
            <a:chExt cx="2742840" cy="1503360"/>
          </a:xfrm>
        </p:grpSpPr>
        <p:grpSp>
          <p:nvGrpSpPr>
            <p:cNvPr id="409" name=""/>
            <p:cNvGrpSpPr/>
            <p:nvPr/>
          </p:nvGrpSpPr>
          <p:grpSpPr>
            <a:xfrm>
              <a:off x="5867280" y="5105520"/>
              <a:ext cx="1752480" cy="1503360"/>
              <a:chOff x="5867280" y="5105520"/>
              <a:chExt cx="1752480" cy="1503360"/>
            </a:xfrm>
          </p:grpSpPr>
          <p:sp>
            <p:nvSpPr>
              <p:cNvPr id="410" name=""/>
              <p:cNvSpPr/>
              <p:nvPr/>
            </p:nvSpPr>
            <p:spPr>
              <a:xfrm>
                <a:off x="586728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5867280" y="5105520"/>
                <a:ext cx="1752480" cy="1503360"/>
                <a:chOff x="5867280" y="5105520"/>
                <a:chExt cx="1752480" cy="150336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5867280" y="5105520"/>
                  <a:ext cx="1582920" cy="1181880"/>
                  <a:chOff x="5867280" y="5105520"/>
                  <a:chExt cx="1582920" cy="118188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5867280" y="6250680"/>
                    <a:ext cx="158292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1837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6589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183720" y="565956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6658920" y="5105520"/>
                    <a:ext cx="316440" cy="295200"/>
                    <a:chOff x="6658920" y="5105520"/>
                    <a:chExt cx="316440" cy="29520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6658920" y="5253120"/>
                      <a:ext cx="31644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665892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817320" y="51055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97536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22" name=""/>
                <p:cNvSpPr/>
                <p:nvPr/>
              </p:nvSpPr>
              <p:spPr>
                <a:xfrm>
                  <a:off x="7450920" y="6151680"/>
                  <a:ext cx="168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"/>
            <p:cNvSpPr/>
            <p:nvPr/>
          </p:nvSpPr>
          <p:spPr>
            <a:xfrm>
              <a:off x="4876920" y="56386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76920" y="6248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248520" y="3352680"/>
            <a:ext cx="1981080" cy="2286000"/>
            <a:chOff x="6248520" y="3352680"/>
            <a:chExt cx="1981080" cy="2286000"/>
          </a:xfrm>
        </p:grpSpPr>
        <p:grpSp>
          <p:nvGrpSpPr>
            <p:cNvPr id="426" name=""/>
            <p:cNvGrpSpPr/>
            <p:nvPr/>
          </p:nvGrpSpPr>
          <p:grpSpPr>
            <a:xfrm>
              <a:off x="6248520" y="3352680"/>
              <a:ext cx="1752120" cy="1752840"/>
              <a:chOff x="6248520" y="3352680"/>
              <a:chExt cx="1752120" cy="17528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248520" y="3352680"/>
                <a:ext cx="1752120" cy="1503360"/>
                <a:chOff x="6248520" y="3352680"/>
                <a:chExt cx="1752120" cy="15033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48520" y="335268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6248520" y="3352680"/>
                  <a:ext cx="1752120" cy="1503360"/>
                  <a:chOff x="6248520" y="3352680"/>
                  <a:chExt cx="1752120" cy="15033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6248520" y="4498920"/>
                    <a:ext cx="158256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564240" y="4201920"/>
                    <a:ext cx="31716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040520" y="3490920"/>
                    <a:ext cx="3153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564240" y="3906720"/>
                    <a:ext cx="31716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7040520" y="3352680"/>
                    <a:ext cx="315360" cy="295200"/>
                    <a:chOff x="7040520" y="3352680"/>
                    <a:chExt cx="315360" cy="29520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040520" y="3500280"/>
                      <a:ext cx="31536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70405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19820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35588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9" name=""/>
                  <p:cNvSpPr/>
                  <p:nvPr/>
                </p:nvSpPr>
                <p:spPr>
                  <a:xfrm>
                    <a:off x="783252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0" name=""/>
              <p:cNvSpPr/>
              <p:nvPr/>
            </p:nvSpPr>
            <p:spPr>
              <a:xfrm flipV="1">
                <a:off x="6705720" y="4495680"/>
                <a:ext cx="38088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7467480" y="5638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629400" y="1523880"/>
            <a:ext cx="1905120" cy="2438640"/>
            <a:chOff x="6629400" y="1523880"/>
            <a:chExt cx="1905120" cy="2438640"/>
          </a:xfrm>
        </p:grpSpPr>
        <p:grpSp>
          <p:nvGrpSpPr>
            <p:cNvPr id="443" name=""/>
            <p:cNvGrpSpPr/>
            <p:nvPr/>
          </p:nvGrpSpPr>
          <p:grpSpPr>
            <a:xfrm>
              <a:off x="6629400" y="1523880"/>
              <a:ext cx="1752480" cy="1503360"/>
              <a:chOff x="6629400" y="1523880"/>
              <a:chExt cx="1752480" cy="1503360"/>
            </a:xfrm>
          </p:grpSpPr>
          <p:sp>
            <p:nvSpPr>
              <p:cNvPr id="444" name=""/>
              <p:cNvSpPr/>
              <p:nvPr/>
            </p:nvSpPr>
            <p:spPr>
              <a:xfrm>
                <a:off x="6629400" y="15238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6629400" y="1523880"/>
                <a:ext cx="1752480" cy="1503360"/>
                <a:chOff x="6629400" y="1523880"/>
                <a:chExt cx="1752480" cy="15033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629400" y="267012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945480" y="237348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943680" y="1792440"/>
                  <a:ext cx="31608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945480" y="20779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7421400" y="1523880"/>
                  <a:ext cx="316080" cy="295200"/>
                  <a:chOff x="7421400" y="1523880"/>
                  <a:chExt cx="316080" cy="2952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421400" y="1671480"/>
                    <a:ext cx="31608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42140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579440" y="15238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73748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5" name=""/>
                <p:cNvSpPr/>
                <p:nvPr/>
              </p:nvSpPr>
              <p:spPr>
                <a:xfrm>
                  <a:off x="8213760" y="257004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6" name=""/>
            <p:cNvSpPr/>
            <p:nvPr/>
          </p:nvSpPr>
          <p:spPr>
            <a:xfrm flipV="1">
              <a:off x="7010280" y="26665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48720" y="3962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62120" y="1600200"/>
            <a:ext cx="4343400" cy="3255840"/>
            <a:chOff x="762120" y="1600200"/>
            <a:chExt cx="4343400" cy="3255840"/>
          </a:xfrm>
        </p:grpSpPr>
        <p:grpSp>
          <p:nvGrpSpPr>
            <p:cNvPr id="459" name=""/>
            <p:cNvGrpSpPr/>
            <p:nvPr/>
          </p:nvGrpSpPr>
          <p:grpSpPr>
            <a:xfrm>
              <a:off x="762120" y="1600200"/>
              <a:ext cx="4343400" cy="3255840"/>
              <a:chOff x="762120" y="1600200"/>
              <a:chExt cx="4343400" cy="325584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3352680" y="1600200"/>
                <a:ext cx="1752840" cy="1503360"/>
                <a:chOff x="3352680" y="1600200"/>
                <a:chExt cx="1752840" cy="15033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3352680" y="160020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3352680" y="1600200"/>
                  <a:ext cx="1752840" cy="1503360"/>
                  <a:chOff x="3352680" y="1600200"/>
                  <a:chExt cx="1752840" cy="15033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3352680" y="2746440"/>
                    <a:ext cx="158292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668760" y="2449440"/>
                    <a:ext cx="31752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145040" y="1738440"/>
                    <a:ext cx="31572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668760" y="2154240"/>
                    <a:ext cx="31752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4145040" y="1600200"/>
                    <a:ext cx="315720" cy="295200"/>
                    <a:chOff x="4145040" y="1600200"/>
                    <a:chExt cx="315720" cy="29520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4145040" y="1747800"/>
                      <a:ext cx="31572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14504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303080" y="16002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446076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2" name=""/>
                  <p:cNvSpPr/>
                  <p:nvPr/>
                </p:nvSpPr>
                <p:spPr>
                  <a:xfrm>
                    <a:off x="4937040" y="2646360"/>
                    <a:ext cx="1684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" name=""/>
              <p:cNvGrpSpPr/>
              <p:nvPr/>
            </p:nvGrpSpPr>
            <p:grpSpPr>
              <a:xfrm>
                <a:off x="762120" y="3352680"/>
                <a:ext cx="1752480" cy="1503360"/>
                <a:chOff x="762120" y="3352680"/>
                <a:chExt cx="1752480" cy="15033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62120" y="337032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762120" y="3352680"/>
                  <a:ext cx="1752480" cy="1503360"/>
                  <a:chOff x="762120" y="3352680"/>
                  <a:chExt cx="1752480" cy="15033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762120" y="4498920"/>
                    <a:ext cx="158256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1078200" y="4202280"/>
                    <a:ext cx="3171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1554120" y="4202280"/>
                    <a:ext cx="31608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1555920" y="3500280"/>
                    <a:ext cx="31752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1554120" y="3352680"/>
                    <a:ext cx="316080" cy="295200"/>
                    <a:chOff x="1554120" y="3352680"/>
                    <a:chExt cx="316080" cy="2952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1554120" y="3500280"/>
                      <a:ext cx="31608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15541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171216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187020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5" name=""/>
                  <p:cNvSpPr/>
                  <p:nvPr/>
                </p:nvSpPr>
                <p:spPr>
                  <a:xfrm>
                    <a:off x="234648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6" name=""/>
              <p:cNvSpPr/>
              <p:nvPr/>
            </p:nvSpPr>
            <p:spPr>
              <a:xfrm>
                <a:off x="2362320" y="21337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23880" y="28195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1552320" y="2895480"/>
              <a:ext cx="14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stack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15520" y="175248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ickup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190080" y="3200400"/>
            <a:ext cx="871668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Forward planning ricerca lo spazio degli 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4480" y="4648320"/>
            <a:ext cx="8050320" cy="1068840"/>
          </a:xfrm>
          <a:prstGeom prst="rect">
            <a:avLst/>
          </a:prstGeom>
          <a:solidFill>
            <a:srgbClr val="ffe5e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 generale, molte azioni applicabili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o stato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fattore di branching e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oni Rileva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zione è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ileva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un goal se uno dei suoi effetti combacia con una proposizione de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(B,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HOLDING(B), BLOCK(A), CLEA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ON(B,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(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ING(B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CLEAR(B), HANDEMP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rilevante per ON(B,A), ON(C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44880" y="1676520"/>
            <a:ext cx="219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078800" y="23623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41200" y="2971800"/>
            <a:ext cx="3955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499" name="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"/>
          <p:cNvSpPr/>
          <p:nvPr/>
        </p:nvSpPr>
        <p:spPr>
          <a:xfrm>
            <a:off x="4100400" y="2087640"/>
            <a:ext cx="1440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569760" y="2075040"/>
            <a:ext cx="536760" cy="42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92480" y="2090880"/>
            <a:ext cx="1422360" cy="3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90360" y="3962520"/>
            <a:ext cx="7697160" cy="2043720"/>
          </a:xfrm>
          <a:prstGeom prst="rect">
            <a:avLst/>
          </a:prstGeom>
          <a:solidFill>
            <a:srgbClr val="efffe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In generale, ci sono molte meno azioni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rilevanti per un goal che 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applicabili 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 fattore di branching p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piccolo che con il forwar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379600" y="16081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46800" y="198900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61480" y="229392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520" name="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3454560" y="198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3225600" y="198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90360" y="3284640"/>
            <a:ext cx="8949600" cy="2760840"/>
            <a:chOff x="90360" y="3284640"/>
            <a:chExt cx="8949600" cy="2760840"/>
          </a:xfrm>
        </p:grpSpPr>
        <p:sp>
          <p:nvSpPr>
            <p:cNvPr id="536" name=""/>
            <p:cNvSpPr/>
            <p:nvPr/>
          </p:nvSpPr>
          <p:spPr>
            <a:xfrm>
              <a:off x="90360" y="4275000"/>
              <a:ext cx="89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C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C,TAVOLO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A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ANDEMPTY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B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965880" y="3284640"/>
              <a:ext cx="7241400" cy="2760840"/>
              <a:chOff x="965880" y="3284640"/>
              <a:chExt cx="7241400" cy="2760840"/>
            </a:xfrm>
          </p:grpSpPr>
          <p:sp>
            <p:nvSpPr>
              <p:cNvPr id="538" name=""/>
              <p:cNvSpPr/>
              <p:nvPr/>
            </p:nvSpPr>
            <p:spPr>
              <a:xfrm>
                <a:off x="965880" y="3589200"/>
                <a:ext cx="598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C), ON(C,TAVOLO), HOLDING(B), CLEAR(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43920" y="3284640"/>
                <a:ext cx="120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Stack(B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636360" y="3970440"/>
                <a:ext cx="113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ickup(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636720" y="4579920"/>
                <a:ext cx="1355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utdown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572840" y="4960800"/>
                <a:ext cx="598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A), CLEAR(B), ON(B,TAVOLO), HOLDING(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35280" y="5342040"/>
                <a:ext cx="147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Unstack(C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92240" y="5646600"/>
                <a:ext cx="711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B), ON(B,TAVOLO), CLEAR(C), HANDEMPTY, ON(C,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4560" y="3360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4560" y="3970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454560" y="46562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454560" y="5342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225600" y="336060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225600" y="39704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225600" y="46562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225600" y="53420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331920" y="2674800"/>
            <a:ext cx="7115040" cy="703800"/>
            <a:chOff x="331920" y="2674800"/>
            <a:chExt cx="7115040" cy="703800"/>
          </a:xfrm>
        </p:grpSpPr>
        <p:sp>
          <p:nvSpPr>
            <p:cNvPr id="554" name=""/>
            <p:cNvSpPr/>
            <p:nvPr/>
          </p:nvSpPr>
          <p:spPr>
            <a:xfrm>
              <a:off x="3636720" y="267480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ahoma"/>
                </a:rPr>
                <a:t>Pickup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1920" y="2979720"/>
              <a:ext cx="71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A), CLEAR(B), HANDEMPTY, CLEAR(C), ON(C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54560" y="2674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225600" y="26748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90800" y="3200400"/>
            <a:ext cx="865116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Backward planning ricerca lo spazio dei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“produrre” un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v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z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ncipi pri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oscenza delle azioni) per generare un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ied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delli formali delle a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-Based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cup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 piano già prodotto per una situazione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isi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l piano recuperato per adattarlo al problema in 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e azioni a caso, registrando gli eff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nde ricompense, modelli di azioni, poli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ning in STRIP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PS mantiene due strutture da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sta di Sta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utti i predicati correntemente ve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la di Go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una pila di goal da risolvere, con il goal corrente in testa alla pi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il goal corrente non è soddisfatto dallo stato presente, esamina gli effetti positivi degli operatori, e inserisce l’operatore e la lista delle precondizioni sulla pila.  (Subgo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do il goal corrente è soddisfatto, lo rimuove dalla pi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do un operatore è in testa alla pila, registra l’applicazione dell’operatore sulla sequenza del piano e usa gli effetti per aggiornare lo stato cor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26520" y="64533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fonte: R. Si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21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6520" y="64533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fonte: R. Si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979640" y="1903320"/>
            <a:ext cx="1665360" cy="27450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627200" cy="14353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766520" y="404640"/>
            <a:ext cx="556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zione di STR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181080" y="189000"/>
            <a:ext cx="4338360" cy="3076560"/>
            <a:chOff x="181080" y="189000"/>
            <a:chExt cx="4338360" cy="3076560"/>
          </a:xfrm>
        </p:grpSpPr>
        <p:sp>
          <p:nvSpPr>
            <p:cNvPr id="569" name=""/>
            <p:cNvSpPr/>
            <p:nvPr/>
          </p:nvSpPr>
          <p:spPr>
            <a:xfrm>
              <a:off x="20016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0160" y="549360"/>
              <a:ext cx="4319280" cy="2716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9200" y="26892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20880" y="267336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4160" y="225756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64160" y="117792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7000" y="27097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43880" y="26938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1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645080" y="189000"/>
            <a:ext cx="4338720" cy="3076560"/>
            <a:chOff x="4645080" y="189000"/>
            <a:chExt cx="4338720" cy="3076560"/>
          </a:xfrm>
        </p:grpSpPr>
        <p:sp>
          <p:nvSpPr>
            <p:cNvPr id="579" name=""/>
            <p:cNvSpPr/>
            <p:nvPr/>
          </p:nvSpPr>
          <p:spPr>
            <a:xfrm>
              <a:off x="466416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64160" y="549360"/>
              <a:ext cx="4319640" cy="2716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13200" y="26892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84880" y="267336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8160" y="225756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28160" y="117792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11000" y="27097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07880" y="26938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45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49080" y="19162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49080" y="155736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79280" y="3429000"/>
            <a:ext cx="4319640" cy="3095640"/>
            <a:chOff x="179280" y="3429000"/>
            <a:chExt cx="4319640" cy="3095640"/>
          </a:xfrm>
        </p:grpSpPr>
        <p:sp>
          <p:nvSpPr>
            <p:cNvPr id="591" name=""/>
            <p:cNvSpPr/>
            <p:nvPr/>
          </p:nvSpPr>
          <p:spPr>
            <a:xfrm>
              <a:off x="179280" y="348156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9280" y="378936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7680" y="594828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00360" y="5932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2280" y="5516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43640" y="443700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15120" y="59691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3360" y="5952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1080" y="342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78760" y="517536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5680" y="479592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0920" y="443700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643280" y="3429000"/>
            <a:ext cx="4319640" cy="3095640"/>
            <a:chOff x="4643280" y="3429000"/>
            <a:chExt cx="4319640" cy="3095640"/>
          </a:xfrm>
        </p:grpSpPr>
        <p:sp>
          <p:nvSpPr>
            <p:cNvPr id="604" name=""/>
            <p:cNvSpPr/>
            <p:nvPr/>
          </p:nvSpPr>
          <p:spPr>
            <a:xfrm>
              <a:off x="4643280" y="348156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3280" y="378936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81680" y="60930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64360" y="6076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76280" y="566100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07640" y="458136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79480" y="6113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87360" y="60976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45080" y="342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42760" y="53020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79680" y="494028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4920" y="4581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55200" y="4221000"/>
              <a:ext cx="12384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68600" y="3860640"/>
              <a:ext cx="10112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179280" y="189000"/>
            <a:ext cx="4319640" cy="3095640"/>
            <a:chOff x="179280" y="189000"/>
            <a:chExt cx="4319640" cy="3095640"/>
          </a:xfrm>
        </p:grpSpPr>
        <p:sp>
          <p:nvSpPr>
            <p:cNvPr id="619" name=""/>
            <p:cNvSpPr/>
            <p:nvPr/>
          </p:nvSpPr>
          <p:spPr>
            <a:xfrm>
              <a:off x="17928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9280" y="54936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7680" y="285264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00360" y="2836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2280" y="242100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43640" y="134136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15120" y="2873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23360" y="28576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1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78760" y="20620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5680" y="170028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920" y="1341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1200" y="981000"/>
              <a:ext cx="12384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643280" y="189000"/>
            <a:ext cx="4319640" cy="3456000"/>
            <a:chOff x="4643280" y="189000"/>
            <a:chExt cx="4319640" cy="3456000"/>
          </a:xfrm>
        </p:grpSpPr>
        <p:sp>
          <p:nvSpPr>
            <p:cNvPr id="633" name=""/>
            <p:cNvSpPr/>
            <p:nvPr/>
          </p:nvSpPr>
          <p:spPr>
            <a:xfrm>
              <a:off x="464328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43280" y="549360"/>
              <a:ext cx="4319640" cy="309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54760" y="321300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36000" y="31971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49360" y="2852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78920" y="170172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52200" y="32338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8640" y="32180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45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15840" y="24940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52760" y="213372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88000" y="1773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24600" y="1413000"/>
              <a:ext cx="1445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STACK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17080" y="1052640"/>
              <a:ext cx="291924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,CLEAR(C),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09440" y="3429000"/>
            <a:ext cx="4389480" cy="3168720"/>
            <a:chOff x="109440" y="3429000"/>
            <a:chExt cx="4389480" cy="3168720"/>
          </a:xfrm>
        </p:grpSpPr>
        <p:sp>
          <p:nvSpPr>
            <p:cNvPr id="648" name=""/>
            <p:cNvSpPr/>
            <p:nvPr/>
          </p:nvSpPr>
          <p:spPr>
            <a:xfrm>
              <a:off x="179280" y="348156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9280" y="3789360"/>
              <a:ext cx="4319640" cy="2808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17680" y="616428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00360" y="6148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2280" y="5732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43640" y="465300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15120" y="6184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3360" y="6168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9440" y="342900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78760" y="539100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5680" y="501156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920" y="465300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1440" y="4292640"/>
              <a:ext cx="1445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STACK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573440" y="3689280"/>
            <a:ext cx="4389480" cy="2908440"/>
            <a:chOff x="4573440" y="3689280"/>
            <a:chExt cx="4389480" cy="2908440"/>
          </a:xfrm>
        </p:grpSpPr>
        <p:sp>
          <p:nvSpPr>
            <p:cNvPr id="662" name=""/>
            <p:cNvSpPr/>
            <p:nvPr/>
          </p:nvSpPr>
          <p:spPr>
            <a:xfrm>
              <a:off x="4643280" y="374184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43280" y="4049640"/>
              <a:ext cx="4319640" cy="2548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50000" y="60213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32680" y="60055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44600" y="558972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75960" y="451008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HOLD</a:t>
              </a: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ING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47440" y="60418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55320" y="60260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3440" y="36892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11080" y="524844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48000" y="486900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83240" y="451008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51960" y="3727440"/>
              <a:ext cx="15339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79280" y="457200"/>
            <a:ext cx="360360" cy="28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79280" y="765000"/>
            <a:ext cx="4319640" cy="254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85640" y="2736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668680" y="27208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80600" y="2305080"/>
            <a:ext cx="159660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,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1960" y="1225440"/>
            <a:ext cx="129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HOLDING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LEAR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B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83440" y="27576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091320" y="27417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09440" y="40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46720" y="1963800"/>
            <a:ext cx="8636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4000" y="1584360"/>
            <a:ext cx="1189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7960" y="442800"/>
            <a:ext cx="1533960" cy="291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[ UNSTACK(C,A) 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573800" y="404640"/>
            <a:ext cx="4389120" cy="2908440"/>
            <a:chOff x="4573800" y="404640"/>
            <a:chExt cx="4389120" cy="2908440"/>
          </a:xfrm>
        </p:grpSpPr>
        <p:sp>
          <p:nvSpPr>
            <p:cNvPr id="688" name=""/>
            <p:cNvSpPr/>
            <p:nvPr/>
          </p:nvSpPr>
          <p:spPr>
            <a:xfrm>
              <a:off x="4643280" y="457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3280" y="765000"/>
              <a:ext cx="4319640" cy="2548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50000" y="273672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32680" y="27208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44600" y="230508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75960" y="122544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47440" y="27576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55320" y="27417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3800" y="404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11080" y="196380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53400" y="44280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09800" y="3573360"/>
            <a:ext cx="4389120" cy="2908440"/>
            <a:chOff x="109800" y="3573360"/>
            <a:chExt cx="4389120" cy="2908440"/>
          </a:xfrm>
        </p:grpSpPr>
        <p:sp>
          <p:nvSpPr>
            <p:cNvPr id="700" name=""/>
            <p:cNvSpPr/>
            <p:nvPr/>
          </p:nvSpPr>
          <p:spPr>
            <a:xfrm>
              <a:off x="179280" y="362592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9280" y="3933720"/>
              <a:ext cx="4319640" cy="2548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5640" y="5905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68680" y="58896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0600" y="547380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44360" y="443700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3440" y="59259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91320" y="59101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9800" y="35733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2200" y="508464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9400" y="361152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0920" y="472428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573800" y="3355920"/>
            <a:ext cx="4389120" cy="3095640"/>
            <a:chOff x="4573800" y="3355920"/>
            <a:chExt cx="4389120" cy="3095640"/>
          </a:xfrm>
        </p:grpSpPr>
        <p:sp>
          <p:nvSpPr>
            <p:cNvPr id="713" name=""/>
            <p:cNvSpPr/>
            <p:nvPr/>
          </p:nvSpPr>
          <p:spPr>
            <a:xfrm>
              <a:off x="4643280" y="340848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43280" y="371628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00760" y="60199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49960" y="60040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95360" y="558792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09800" y="450864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8560" y="604044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72960" y="60246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800" y="3355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9920" y="522756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53400" y="339408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45160" y="486720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89760" y="4510080"/>
              <a:ext cx="12294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94160" y="4149720"/>
              <a:ext cx="10206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4573800" y="1555920"/>
            <a:ext cx="4389120" cy="3240000"/>
            <a:chOff x="4573800" y="1555920"/>
            <a:chExt cx="4389120" cy="3240000"/>
          </a:xfrm>
        </p:grpSpPr>
        <p:sp>
          <p:nvSpPr>
            <p:cNvPr id="728" name=""/>
            <p:cNvSpPr/>
            <p:nvPr/>
          </p:nvSpPr>
          <p:spPr>
            <a:xfrm>
              <a:off x="4643280" y="160812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73800" y="1555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3280" y="1916280"/>
              <a:ext cx="4319640" cy="2879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00760" y="42926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49960" y="4276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95360" y="3860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09800" y="278136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98560" y="43131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72960" y="42973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1840" y="351936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98760" y="313992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53400" y="159372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4000" y="27795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21080" y="2419200"/>
              <a:ext cx="1081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KUP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16360" y="2060640"/>
              <a:ext cx="339624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,CLEAR(A), 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50920" y="1752480"/>
            <a:ext cx="360360" cy="28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0920" y="2060640"/>
            <a:ext cx="4319640" cy="273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8040" y="43639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757600" y="43480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2640" y="3932280"/>
            <a:ext cx="159660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,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17440" y="2852640"/>
            <a:ext cx="129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B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05840" y="4384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180240" y="4368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1080" y="170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69120" y="3591000"/>
            <a:ext cx="8636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6040" y="3211560"/>
            <a:ext cx="1189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0680" y="1738440"/>
            <a:ext cx="2558160" cy="291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[ UNSTACK(C,A); STACK(C,B) 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41280" y="2851200"/>
            <a:ext cx="211932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(A),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86240" y="2494080"/>
            <a:ext cx="122940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250920" y="312840"/>
            <a:ext cx="360360" cy="28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50920" y="620640"/>
            <a:ext cx="4319640" cy="208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36400" y="227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685960" y="22604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31360" y="1844640"/>
            <a:ext cx="159660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,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844360" y="765000"/>
            <a:ext cx="129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HAND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LEAR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ON(A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B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34200" y="2297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108960" y="2281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81080" y="26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5680" y="1486080"/>
            <a:ext cx="1189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60680" y="298440"/>
            <a:ext cx="2558160" cy="291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[ UNSTACK(C,A); STACK(C,B) 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50920" y="1125360"/>
            <a:ext cx="211932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(A),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57080" y="765000"/>
            <a:ext cx="1081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4646880" y="260280"/>
            <a:ext cx="4389120" cy="2448000"/>
            <a:chOff x="4646880" y="260280"/>
            <a:chExt cx="4389120" cy="2448000"/>
          </a:xfrm>
        </p:grpSpPr>
        <p:sp>
          <p:nvSpPr>
            <p:cNvPr id="771" name=""/>
            <p:cNvSpPr/>
            <p:nvPr/>
          </p:nvSpPr>
          <p:spPr>
            <a:xfrm>
              <a:off x="4716360" y="31284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16360" y="620640"/>
              <a:ext cx="4319640" cy="2087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14800" y="22795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64360" y="22636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09760" y="184788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48960" y="1128600"/>
              <a:ext cx="129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HOLDING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12600" y="23004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87360" y="22845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46880" y="2602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252760" y="148608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27560" y="298440"/>
              <a:ext cx="34815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; PICKUP(A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88000" y="1125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81080" y="2886120"/>
            <a:ext cx="4389480" cy="1982880"/>
            <a:chOff x="181080" y="2886120"/>
            <a:chExt cx="4389480" cy="1982880"/>
          </a:xfrm>
        </p:grpSpPr>
        <p:sp>
          <p:nvSpPr>
            <p:cNvPr id="784" name=""/>
            <p:cNvSpPr/>
            <p:nvPr/>
          </p:nvSpPr>
          <p:spPr>
            <a:xfrm>
              <a:off x="250920" y="293832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0920" y="3246480"/>
              <a:ext cx="4319640" cy="1622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6560" y="443556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616120" y="44197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1520" y="400356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0720" y="3284640"/>
              <a:ext cx="129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HOLDING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64360" y="4456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39120" y="44402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1080" y="28861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7240" y="364320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1760" y="2924280"/>
              <a:ext cx="34815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; PICKUP(A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43640" y="2854440"/>
            <a:ext cx="4389120" cy="2446200"/>
            <a:chOff x="4643640" y="2854440"/>
            <a:chExt cx="4389120" cy="2446200"/>
          </a:xfrm>
        </p:grpSpPr>
        <p:sp>
          <p:nvSpPr>
            <p:cNvPr id="796" name=""/>
            <p:cNvSpPr/>
            <p:nvPr/>
          </p:nvSpPr>
          <p:spPr>
            <a:xfrm>
              <a:off x="4713120" y="290664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713120" y="3214800"/>
              <a:ext cx="4319640" cy="2085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37040" y="47242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86600" y="4708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32000" y="4292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64720" y="3429000"/>
              <a:ext cx="129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34840" y="47451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09600" y="47293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43640" y="2854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24320" y="2892600"/>
              <a:ext cx="3435840" cy="489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; PICKUP(A)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STACK(A,C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5003640" y="6093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73040" y="5013360"/>
            <a:ext cx="3733920" cy="1684440"/>
            <a:chOff x="473040" y="5013360"/>
            <a:chExt cx="3733920" cy="1684440"/>
          </a:xfrm>
        </p:grpSpPr>
        <p:sp>
          <p:nvSpPr>
            <p:cNvPr id="808" name=""/>
            <p:cNvSpPr/>
            <p:nvPr/>
          </p:nvSpPr>
          <p:spPr>
            <a:xfrm>
              <a:off x="473040" y="63086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22600" y="6292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00720" y="5013360"/>
              <a:ext cx="129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cc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cc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70840" y="6329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45240" y="63133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 txBox="1"/>
            <p:nvPr/>
          </p:nvSpPr>
          <p:spPr>
            <a:xfrm>
              <a:off x="539640" y="5229360"/>
              <a:ext cx="165600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Goa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raggiunto!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ani subottim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89000" indent="-189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amo le seguenti a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obj,loc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Un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Inside(obj,plane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Fly(plane,from,to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plane,from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plane,to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from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tato iniziale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t(obj1,locA), At(obj2,locA), At(747,locA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oal: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1,locB), At(obj2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iano: 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ad(obj1,747,locA); Fly(747,locA,locB); Unload(obj1,747,locB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y(747,locB,locA); Load(obj2,747,locA); Fly(747,locA,locB); Unload(obj2,747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560" y="37944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Esercizio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sp>
        <p:nvSpPr>
          <p:cNvPr id="817" name=""/>
          <p:cNvSpPr/>
          <p:nvPr/>
        </p:nvSpPr>
        <p:spPr>
          <a:xfrm>
            <a:off x="6283440" y="302580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092320" y="306396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632560" y="549360"/>
            <a:ext cx="2590560" cy="2644920"/>
            <a:chOff x="5632560" y="549360"/>
            <a:chExt cx="2590560" cy="2644920"/>
          </a:xfrm>
        </p:grpSpPr>
        <p:grpSp>
          <p:nvGrpSpPr>
            <p:cNvPr id="820" name=""/>
            <p:cNvGrpSpPr/>
            <p:nvPr/>
          </p:nvGrpSpPr>
          <p:grpSpPr>
            <a:xfrm>
              <a:off x="5632560" y="549360"/>
              <a:ext cx="2590560" cy="2197800"/>
              <a:chOff x="5632560" y="549360"/>
              <a:chExt cx="2590560" cy="219780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9240" y="1920600"/>
                <a:ext cx="685800" cy="685080"/>
                <a:chOff x="6699240" y="1920600"/>
                <a:chExt cx="685800" cy="68508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6699240" y="1920600"/>
                  <a:ext cx="685800" cy="68508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967440" y="20883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935040" y="21038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235280" y="21038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6699240" y="1158480"/>
                <a:ext cx="685800" cy="761400"/>
                <a:chOff x="6699240" y="1158480"/>
                <a:chExt cx="685800" cy="7614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6699240" y="1158480"/>
                  <a:ext cx="685800" cy="7614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007400" y="13852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981120" y="137952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280640" y="14022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632560" y="2606400"/>
                <a:ext cx="2590560" cy="14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89760" y="2107800"/>
                <a:ext cx="3571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6699240" y="549360"/>
                <a:ext cx="695160" cy="647280"/>
                <a:chOff x="6699240" y="549360"/>
                <a:chExt cx="695160" cy="6472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9240" y="549360"/>
                  <a:ext cx="695160" cy="647280"/>
                </a:xfrm>
                <a:prstGeom prst="rect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03800" y="7776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6" name=""/>
              <p:cNvSpPr/>
              <p:nvPr/>
            </p:nvSpPr>
            <p:spPr>
              <a:xfrm>
                <a:off x="6448680" y="21477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6665760" y="28890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441440" y="1311120"/>
            <a:ext cx="2590920" cy="1943640"/>
            <a:chOff x="1441440" y="1311120"/>
            <a:chExt cx="2590920" cy="1943640"/>
          </a:xfrm>
        </p:grpSpPr>
        <p:grpSp>
          <p:nvGrpSpPr>
            <p:cNvPr id="839" name=""/>
            <p:cNvGrpSpPr/>
            <p:nvPr/>
          </p:nvGrpSpPr>
          <p:grpSpPr>
            <a:xfrm>
              <a:off x="1441440" y="1311120"/>
              <a:ext cx="2590920" cy="1474560"/>
              <a:chOff x="1441440" y="1311120"/>
              <a:chExt cx="2590920" cy="147456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2889360" y="1311120"/>
                <a:ext cx="685800" cy="685440"/>
                <a:chOff x="2889360" y="1311120"/>
                <a:chExt cx="685800" cy="6854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2889360" y="131112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157560" y="14788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125160" y="149436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425400" y="14943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1670040" y="1920600"/>
                <a:ext cx="685800" cy="761760"/>
                <a:chOff x="1670040" y="1920600"/>
                <a:chExt cx="685800" cy="76176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670040" y="192060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978200" y="214740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51920" y="214164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251440" y="21643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"/>
              <p:cNvSpPr/>
              <p:nvPr/>
            </p:nvSpPr>
            <p:spPr>
              <a:xfrm>
                <a:off x="1441440" y="2644560"/>
                <a:ext cx="259092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898640" y="214596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2889360" y="1996920"/>
                <a:ext cx="695160" cy="647640"/>
                <a:chOff x="2889360" y="1996920"/>
                <a:chExt cx="695160" cy="6476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2889360" y="1996920"/>
                  <a:ext cx="695160" cy="647640"/>
                </a:xfrm>
                <a:prstGeom prst="rect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193920" y="222552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2257560" y="21855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1974960" y="2949480"/>
              <a:ext cx="155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nzioni Tip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 atomico: ogni azione è indivis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concorrenti non sono ammesse (anche se le azioni non hanno bisogno di essere ordinate fra loro nel p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deterministiche: il risultato delle azioni è completamente determinato, non c’è incertezza nel loro eff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la sola causa di cambiamento del mo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omniscente: ha conoscenza completa dello stato del m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osed World As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utto quello che si sa vero è incluso nella descrizione dello stato. Ciò che non è descritto è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azione fra sottogo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7568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i di planning semplici assumono che i sottogoal possano essere raggiunti indipenden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1720" indent="-176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ni sottogoal può essere risolto separatamente e poi le relative soluzioni concate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568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sercizio precedente mostra questo aspetto tramite la così detta  “Anomalia di Sussman”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1720" indent="-176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luzione a on(a,b)  (tramite unstack(c,a), stack(a,b) ) è disfatta quando si risolve il secondo  sottogoal on(b,c) (tramite unstack(a,b), stack(b,c)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1720" indent="-176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i risolve per primo on(b,c), la soluzione sarà disfatta da on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568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classico non è in grado di superare questo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i non risolvi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694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vuti alla linearità e ad azioni irrevers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obj,loc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Un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Inside(obj,plane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Fly(plane,from,to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plane,from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Have-fuel(plane)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plane,to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from)]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Have-fuel(pl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tato iniziale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t(obj1,locA), At(obj2,locA), At(747,locA), Have-fuel(74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oal: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1,locB), At(obj2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i non risolvi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694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iamo di risolvere prima il sottogoal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1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obj1,747,locA); Fly(747,locA,locB); Unload(obj1,747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 non riusciamo a raggiungere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At(obj2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ché è finito il carbur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iamo di risolvere prima il sottogoal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2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obj2,747,locA); Fly(747,locA,locB); Unload(obj2,747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 non riusciamo a raggiungere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At(obj1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ché è finito il carbur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ogni caso STRIPS non è in grado di risolvere il problem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ning nello spazio degli stati: riassun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zio delle situazioni (localizzazione, possedimenti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iano è una soluzione trovata “cercando” tra le situazioni i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progress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ca il goal in avanti (forward) a partire dallo stato ini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regress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ca all’indietro (backward) a partire da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zio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lema della Anomalia di Sus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ning nello spazio dei pian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alternativa è la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icerca attraverso lo spazio dei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ian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iuttosto che delle situ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parte da u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iano parzi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e viene espanso e raffinato fino a raggiungere un piano completo che risolve il probl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peratori di raffin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ggiungono vincoli a piani parziali e operatori di modifica effettuano altri cambiamen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i alla STRIP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hoe, PRECOND: RightSockOn, EFFECT: Righ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ock, EFFECT: Righ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hoe, PRECOND: LeftSockOn, EFFECT: Lef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ock, EFFECT: lef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ono risultare in un piano parziale del go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ghtShoe, LeftSho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tial-order planning (POP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line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truisce un piano come un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quenza totalmente ordi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non-lineare (aka partial-order plann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truisce un piano come un insieme di passi con alcuni vincoli tempor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coli della form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1&lt;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il passo S1 deve venire prima di S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ff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piano  ordinato parzialmente (POP) per mezz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ggiunta di un nuovo passo al pia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ggiunta di un nuovo vinco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i passi già presenti nel p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P può esser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nearizza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vertito in un piano totalmente ordinato) attraverso un ordinamento top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nimo Impegn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lanner non-lineari  incorporano il principio del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inimo impegno (least commitmen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scelgono solo quelle azioni, ordinamenti, e assegnamenti di variabili che sono assolutamente necessari, lasciando le altre decisioni a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ta di prendere decisioni premature su aspetti che non con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lanner lineare sceglie sempre di aggiungere un passo in un punto preciso della seq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lanner non-lineare sceglie di aggiungere un passo ed eventualmente qualche vincolo temporale fra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ano Non-linea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Un insieme di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ass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7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ni passo ha la descrizione di un operatore, precondizioni e post-cond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Un insieme di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nk causa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 …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7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 significa che uno dei propositi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di raggiungere la precondizione C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Un insieme di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incoli di ordin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 …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7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 caso in cui i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ve venire prima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iano non-lineare è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ni passo menzionato in (2) e (3) è in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 prerequisito C, allora esiste un link causale in (2) nella forma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er qualch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è in (2) e il pass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in (1), 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minaccia”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rende C falso), allora (3) contien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 Piano Inizi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piano inizia nello stesso 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758040" y="3124080"/>
            <a:ext cx="1628280" cy="2590920"/>
            <a:chOff x="3758040" y="3124080"/>
            <a:chExt cx="1628280" cy="2590920"/>
          </a:xfrm>
        </p:grpSpPr>
        <p:sp>
          <p:nvSpPr>
            <p:cNvPr id="876" name=""/>
            <p:cNvSpPr/>
            <p:nvPr/>
          </p:nvSpPr>
          <p:spPr>
            <a:xfrm>
              <a:off x="4114800" y="312408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91120" y="3276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4114800" y="5029200"/>
              <a:ext cx="1020600" cy="685800"/>
              <a:chOff x="4114800" y="5029200"/>
              <a:chExt cx="1020600" cy="685800"/>
            </a:xfrm>
          </p:grpSpPr>
          <p:sp>
            <p:nvSpPr>
              <p:cNvPr id="879" name=""/>
              <p:cNvSpPr/>
              <p:nvPr/>
            </p:nvSpPr>
            <p:spPr>
              <a:xfrm>
                <a:off x="4114800" y="502920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14800" y="523080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3758040" y="3809880"/>
              <a:ext cx="162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Inizi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27960" y="464832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72000" y="38098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empio Ban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o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hoe, PRECOND: RightSockOn, EFFECT: Righ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ock, EFFECT: Righ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hoe, PRECOND: LeftSockOn, EFFECT: Lef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ock, EFFECT: lef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59720" y="3429000"/>
            <a:ext cx="2462040" cy="2590920"/>
            <a:chOff x="459720" y="3429000"/>
            <a:chExt cx="2462040" cy="2590920"/>
          </a:xfrm>
        </p:grpSpPr>
        <p:sp>
          <p:nvSpPr>
            <p:cNvPr id="887" name=""/>
            <p:cNvSpPr/>
            <p:nvPr/>
          </p:nvSpPr>
          <p:spPr>
            <a:xfrm>
              <a:off x="1265400" y="342900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341720" y="35816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265400" y="5334120"/>
              <a:ext cx="1020600" cy="685800"/>
              <a:chOff x="1265400" y="5334120"/>
              <a:chExt cx="1020600" cy="685800"/>
            </a:xfrm>
          </p:grpSpPr>
          <p:sp>
            <p:nvSpPr>
              <p:cNvPr id="890" name=""/>
              <p:cNvSpPr/>
              <p:nvPr/>
            </p:nvSpPr>
            <p:spPr>
              <a:xfrm>
                <a:off x="1265400" y="533412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265400" y="553572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>
              <a:off x="1630440" y="41148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9720" y="4977000"/>
              <a:ext cx="24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ightShoeOn  ^ LeftShoe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22600" y="411480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3505320" y="3657600"/>
            <a:ext cx="4800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: {S1:[Op(Action:Start)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[Op(Action:Finis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: RightShoeOn^LeftShoeOn)]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: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menti: {S1&lt;S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vs.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e problem solving possono spesso risolvere lo stesso tipo d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è più potente per le rappresentazioni e i metodi u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, goal, e azioni sono decomposte in insiemi di sentenze (usualmente in F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cerca spesso procede attraverso l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azio dei pia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ece dello spazio degli stat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che se esistono pianificatori basati sugli st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goal possono essere pianificati indipendentemente, riducendo la complessità del problema di 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zi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733920" y="213372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819520" y="3352680"/>
            <a:ext cx="9903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724280" y="3352680"/>
            <a:ext cx="990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724280" y="4572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19520" y="457200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09880" y="5715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335232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34340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27672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18148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2900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49532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: vincoli ed euristich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iungere solo passi che raggiungono una precondizione correntemente non raggi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e un approccio a minimo-impegn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ordinare passi a meno che non sia strettamente neces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orare link causal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ggo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a condizio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aggiungere mai un passo intermedi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viol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una azione parallela minacci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eat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cioè, ha l’effetto di negare (in gergo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obbe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isolvere la minaccia aggiungendo vincoli tempor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inare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ma di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mo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opp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inare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opo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49440" y="3284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" descr=""/>
          <p:cNvPicPr/>
          <p:nvPr/>
        </p:nvPicPr>
        <p:blipFill>
          <a:blip r:embed="rId1"/>
          <a:srcRect l="0" t="12121" r="15686" b="48485"/>
          <a:stretch/>
        </p:blipFill>
        <p:spPr>
          <a:xfrm>
            <a:off x="0" y="990720"/>
            <a:ext cx="8507520" cy="51451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1908000" y="5103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a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479480" y="51037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81120" y="5103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soluzione delle Minac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ning Non-line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219320" y="38098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248520" y="1523880"/>
            <a:ext cx="2666880" cy="2743200"/>
            <a:chOff x="6248520" y="1523880"/>
            <a:chExt cx="2666880" cy="2743200"/>
          </a:xfrm>
        </p:grpSpPr>
        <p:sp>
          <p:nvSpPr>
            <p:cNvPr id="932" name=""/>
            <p:cNvSpPr/>
            <p:nvPr/>
          </p:nvSpPr>
          <p:spPr>
            <a:xfrm>
              <a:off x="6248520" y="1523880"/>
              <a:ext cx="121896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96080" y="3962520"/>
              <a:ext cx="1219320" cy="30456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58000" y="1828800"/>
              <a:ext cx="1447920" cy="21337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159200" y="1219320"/>
            <a:ext cx="3394800" cy="1254960"/>
            <a:chOff x="1159200" y="1219320"/>
            <a:chExt cx="3394800" cy="1254960"/>
          </a:xfrm>
        </p:grpSpPr>
        <p:sp>
          <p:nvSpPr>
            <p:cNvPr id="937" name=""/>
            <p:cNvSpPr/>
            <p:nvPr/>
          </p:nvSpPr>
          <p:spPr>
            <a:xfrm>
              <a:off x="1159200" y="2014560"/>
              <a:ext cx="3394800" cy="459720"/>
            </a:xfrm>
            <a:prstGeom prst="rect">
              <a:avLst/>
            </a:prstGeom>
            <a:solidFill>
              <a:srgbClr val="fff5c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Il piano è incomple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43200" y="1219320"/>
              <a:ext cx="22860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077480" y="762120"/>
            <a:ext cx="6618600" cy="3581280"/>
            <a:chOff x="1077480" y="762120"/>
            <a:chExt cx="6618600" cy="3581280"/>
          </a:xfrm>
        </p:grpSpPr>
        <p:grpSp>
          <p:nvGrpSpPr>
            <p:cNvPr id="940" name=""/>
            <p:cNvGrpSpPr/>
            <p:nvPr/>
          </p:nvGrpSpPr>
          <p:grpSpPr>
            <a:xfrm>
              <a:off x="1077480" y="762120"/>
              <a:ext cx="5018400" cy="459720"/>
              <a:chOff x="1077480" y="762120"/>
              <a:chExt cx="5018400" cy="459720"/>
            </a:xfrm>
          </p:grpSpPr>
          <p:sp>
            <p:nvSpPr>
              <p:cNvPr id="941" name=""/>
              <p:cNvSpPr/>
              <p:nvPr/>
            </p:nvSpPr>
            <p:spPr>
              <a:xfrm>
                <a:off x="1077480" y="762120"/>
                <a:ext cx="3440520" cy="459720"/>
              </a:xfrm>
              <a:prstGeom prst="rect">
                <a:avLst/>
              </a:prstGeom>
              <a:solidFill>
                <a:srgbClr val="fff5cd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Tahoma"/>
                  </a:rPr>
                  <a:t>Precondizioni Apert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4267080" y="838080"/>
                <a:ext cx="1828800" cy="15264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4267080" y="990720"/>
              <a:ext cx="3429000" cy="3352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668560" y="457200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C,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19320" y="3809880"/>
            <a:ext cx="518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066680" y="1752480"/>
            <a:ext cx="6477120" cy="3733920"/>
            <a:chOff x="1066680" y="1752480"/>
            <a:chExt cx="6477120" cy="3733920"/>
          </a:xfrm>
        </p:grpSpPr>
        <p:sp>
          <p:nvSpPr>
            <p:cNvPr id="959" name=""/>
            <p:cNvSpPr/>
            <p:nvPr/>
          </p:nvSpPr>
          <p:spPr>
            <a:xfrm>
              <a:off x="1066680" y="5181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324480" y="1752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2286000" y="2057400"/>
              <a:ext cx="4800600" cy="3276360"/>
              <a:chOff x="2286000" y="2057400"/>
              <a:chExt cx="4800600" cy="3276360"/>
            </a:xfrm>
          </p:grpSpPr>
          <p:sp>
            <p:nvSpPr>
              <p:cNvPr id="962" name=""/>
              <p:cNvSpPr/>
              <p:nvPr/>
            </p:nvSpPr>
            <p:spPr>
              <a:xfrm>
                <a:off x="5867280" y="4800600"/>
                <a:ext cx="1219320" cy="304920"/>
              </a:xfrm>
              <a:prstGeom prst="ellipse">
                <a:avLst/>
              </a:prstGeom>
              <a:noFill/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86000" y="4952520"/>
                <a:ext cx="3581280" cy="38124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6477120" y="2057400"/>
                <a:ext cx="457200" cy="274320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1219320" y="3048120"/>
            <a:ext cx="4800600" cy="1600200"/>
            <a:chOff x="1219320" y="3048120"/>
            <a:chExt cx="4800600" cy="1600200"/>
          </a:xfrm>
        </p:grpSpPr>
        <p:sp>
          <p:nvSpPr>
            <p:cNvPr id="1000" name=""/>
            <p:cNvSpPr/>
            <p:nvPr/>
          </p:nvSpPr>
          <p:spPr>
            <a:xfrm>
              <a:off x="1219320" y="3809880"/>
              <a:ext cx="4800600" cy="83844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2976120" y="3048120"/>
              <a:ext cx="1453320" cy="1143000"/>
              <a:chOff x="2976120" y="3048120"/>
              <a:chExt cx="1453320" cy="1143000"/>
            </a:xfrm>
          </p:grpSpPr>
          <p:sp>
            <p:nvSpPr>
              <p:cNvPr id="1002" name=""/>
              <p:cNvSpPr/>
              <p:nvPr/>
            </p:nvSpPr>
            <p:spPr>
              <a:xfrm>
                <a:off x="2976120" y="3048120"/>
                <a:ext cx="145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581280" y="3429000"/>
                <a:ext cx="0" cy="76212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4" name=""/>
          <p:cNvGrpSpPr/>
          <p:nvPr/>
        </p:nvGrpSpPr>
        <p:grpSpPr>
          <a:xfrm>
            <a:off x="4095000" y="1828800"/>
            <a:ext cx="2077200" cy="2743200"/>
            <a:chOff x="4095000" y="1828800"/>
            <a:chExt cx="2077200" cy="2743200"/>
          </a:xfrm>
        </p:grpSpPr>
        <p:sp>
          <p:nvSpPr>
            <p:cNvPr id="1005" name=""/>
            <p:cNvSpPr/>
            <p:nvPr/>
          </p:nvSpPr>
          <p:spPr>
            <a:xfrm>
              <a:off x="5867280" y="1828800"/>
              <a:ext cx="304920" cy="274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4095000" y="3504960"/>
              <a:ext cx="1924920" cy="493200"/>
              <a:chOff x="4095000" y="3504960"/>
              <a:chExt cx="1924920" cy="493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4095000" y="3538440"/>
                <a:ext cx="15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ahoma"/>
                  </a:rPr>
                  <a:t>minacc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5257800" y="3504960"/>
                <a:ext cx="7621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9" name=""/>
          <p:cNvGrpSpPr/>
          <p:nvPr/>
        </p:nvGrpSpPr>
        <p:grpSpPr>
          <a:xfrm>
            <a:off x="1467360" y="1481040"/>
            <a:ext cx="5085720" cy="3090960"/>
            <a:chOff x="1467360" y="1481040"/>
            <a:chExt cx="5085720" cy="3090960"/>
          </a:xfrm>
        </p:grpSpPr>
        <p:sp>
          <p:nvSpPr>
            <p:cNvPr id="1010" name=""/>
            <p:cNvSpPr/>
            <p:nvPr/>
          </p:nvSpPr>
          <p:spPr>
            <a:xfrm flipH="1">
              <a:off x="6248520" y="2743200"/>
              <a:ext cx="304560" cy="18288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1467360" y="1481040"/>
              <a:ext cx="4933440" cy="1871640"/>
              <a:chOff x="1467360" y="1481040"/>
              <a:chExt cx="4933440" cy="1871640"/>
            </a:xfrm>
          </p:grpSpPr>
          <p:sp>
            <p:nvSpPr>
              <p:cNvPr id="1012" name=""/>
              <p:cNvSpPr/>
              <p:nvPr/>
            </p:nvSpPr>
            <p:spPr>
              <a:xfrm>
                <a:off x="3048120" y="2133720"/>
                <a:ext cx="3352680" cy="121896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67360" y="1481040"/>
                <a:ext cx="156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anche lu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219320" y="3809880"/>
            <a:ext cx="4800600" cy="83844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6248520" y="2743200"/>
            <a:ext cx="304560" cy="182880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867280" y="1828800"/>
            <a:ext cx="304920" cy="27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239440" y="17524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219320" y="1981080"/>
            <a:ext cx="4114800" cy="1828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 flipV="1">
            <a:off x="5638680" y="2057400"/>
            <a:ext cx="914400" cy="22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018800" y="1371600"/>
            <a:ext cx="5379120" cy="1191240"/>
          </a:xfrm>
          <a:prstGeom prst="rect">
            <a:avLst/>
          </a:prstGeom>
          <a:solidFill>
            <a:srgbClr val="ebf9f2"/>
          </a:solidFill>
          <a:ln w="93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Un piano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consistente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è uno in cui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non ci sono cicli e nessun conflitto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tra chi soddisfa e chi minac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985400" y="2743200"/>
            <a:ext cx="5255640" cy="1191240"/>
          </a:xfrm>
          <a:prstGeom prst="rect">
            <a:avLst/>
          </a:prstGeom>
          <a:solidFill>
            <a:srgbClr val="fff5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conflitto può essere elimina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ncolando l’ordine tra le azio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 aggiungendo nuove 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La funzione successore è un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: deve essere “applicata” ad uno stato per conoscere quali azioni sono possibili nello stato e quale è l’effetto di ogn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5280" y="4807080"/>
            <a:ext cx="5414040" cy="825480"/>
          </a:xfrm>
          <a:prstGeom prst="rect">
            <a:avLst/>
          </a:prstGeom>
          <a:solidFill>
            <a:srgbClr val="ffdd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trimenti, nel mondo reale un agent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rebbe sopraffatto da azioni irrilev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f7efcd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76520"/>
            <a:ext cx="72392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Supponiamo che il goal sia HAVE(MILK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Da qualche stato iniziale dove HAVE(MILK) non è soddisfatto, la funzione successore deve essere applicata ripetutamente per generare eventualmente uno stato dove HAVE(MILK) è soddisfat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Una rappresentazione esplicita delle azioni possibili e i loro effetti aiuterebbe il problem solver </a:t>
            </a:r>
            <a:br>
              <a:rPr sz="2200"/>
            </a:b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a selezionare le azioni rilevan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1219320" y="2057400"/>
            <a:ext cx="5028840" cy="3124080"/>
            <a:chOff x="1219320" y="2057400"/>
            <a:chExt cx="5028840" cy="3124080"/>
          </a:xfrm>
        </p:grpSpPr>
        <p:sp>
          <p:nvSpPr>
            <p:cNvPr id="1079" name=""/>
            <p:cNvSpPr/>
            <p:nvPr/>
          </p:nvSpPr>
          <p:spPr>
            <a:xfrm flipH="1" flipV="1">
              <a:off x="5866920" y="2057400"/>
              <a:ext cx="38124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1219320" y="2057400"/>
              <a:ext cx="464796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742000" y="579132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219320" y="3809880"/>
            <a:ext cx="4572000" cy="20574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6400440" y="2743200"/>
            <a:ext cx="152280" cy="31240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867280" y="1828800"/>
            <a:ext cx="304920" cy="40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019560" y="2057400"/>
            <a:ext cx="228600" cy="3124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219320" y="2057400"/>
            <a:ext cx="4647960" cy="17524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85880" y="762120"/>
            <a:ext cx="6468840" cy="2288520"/>
          </a:xfrm>
          <a:prstGeom prst="rect">
            <a:avLst/>
          </a:prstGeom>
          <a:solidFill>
            <a:srgbClr val="ebf9f2"/>
          </a:solidFill>
          <a:ln w="381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~ euristica Most-constrained-variable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in CSP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sceglie la precondizione non raggi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che può essere soddisfatta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nel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minor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numero di modi poss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ON(C,TAVO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219320" y="3809880"/>
            <a:ext cx="3657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284800" y="175248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1219320" y="2057040"/>
            <a:ext cx="4647960" cy="3429000"/>
            <a:chOff x="1219320" y="2057040"/>
            <a:chExt cx="4647960" cy="3429000"/>
          </a:xfrm>
        </p:grpSpPr>
        <p:sp>
          <p:nvSpPr>
            <p:cNvPr id="1199" name=""/>
            <p:cNvSpPr/>
            <p:nvPr/>
          </p:nvSpPr>
          <p:spPr>
            <a:xfrm flipV="1">
              <a:off x="1219320" y="2057400"/>
              <a:ext cx="426708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029200" y="2057040"/>
              <a:ext cx="838080" cy="3429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3352680" y="2057400"/>
              <a:ext cx="2286000" cy="281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242600" y="6095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846520" y="3657600"/>
            <a:ext cx="17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CLEAR(C)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563480" y="2438280"/>
            <a:ext cx="7099560" cy="1800360"/>
          </a:xfrm>
          <a:prstGeom prst="rect">
            <a:avLst/>
          </a:prstGeom>
          <a:solidFill>
            <a:srgbClr val="f7efcd"/>
          </a:solidFill>
          <a:ln w="28440">
            <a:solidFill>
              <a:srgbClr val="a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Il piano è </a:t>
            </a:r>
            <a:r>
              <a:rPr b="1" lang="en-US" sz="2800" spc="-1" strike="noStrike" u="sng">
                <a:solidFill>
                  <a:srgbClr val="a00050"/>
                </a:solidFill>
                <a:uFillTx/>
                <a:latin typeface="Tahoma"/>
              </a:rPr>
              <a:t>completo</a:t>
            </a: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 poiché og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recondizione di ogni passo è aggiunta</a:t>
            </a:r>
            <a:br>
              <a:rPr sz="2800"/>
            </a:b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da qualche passo precedente, e nes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asso intermedio  la canc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goritmo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goritmo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l test di goal è un’altra funzione black-box, gli stati sono strutture dati specializzate sul dominio, e le euristiche devono essere fornite per ogni nuov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676520"/>
            <a:ext cx="723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upponiamo che il goal 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MILK)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nza una rappresentazione esplicita del goal, il problem solver non può sapere che uno stato dove HAVE(MILK) è già raggiunto è più promettente di uno stato dove né HAVE(MILK) né HAVE(BOOK) è raggi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rietà di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mo nondeterministico: in caso di fallimento effettua backtracking sui punti di scelta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(choice poi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lta d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 raggiunger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lta di demotion o promotion in caso di minac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elezione d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irrevoc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P è corretto, completo e sistematico (nessuna ripetizion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istono estensioni (es. azioni rappresentate con FO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e se fornito di euristiche derivate dalla descrizione de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: variabili non istanzi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zioni rappresentate con F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. Mondo dei bloc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ondizione aperta:  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(ACTION: MoveB(Z,X,Y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OND: On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Z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Y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: On(Z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On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Clear(Y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notare che </a:t>
            </a:r>
            <a:r>
              <a:rPr b="0" lang="en-US" sz="2200" spc="-1" strike="noStrike">
                <a:solidFill>
                  <a:srgbClr val="d60093"/>
                </a:solidFill>
                <a:latin typeface="Times New Roman"/>
                <a:ea typeface="Arial"/>
              </a:rPr>
              <a:t>On(a,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= On(Z,Y)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con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{Z/a,Y/b} e quindi bisogna applicar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ov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)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: variabili non istanzi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1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ve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(ACTION: MoveB(a,X,b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OND: 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b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: On(a,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Clear(b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otare che X rimane non istanzi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upponiamo di aggiungere M1 al piano. Quindi aggiungiamo il link caus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v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→   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 nel piano c’è già una azione M2 con effetto ¬On(a,Q) c’è una minaccia solo se Q pren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er rappresentare questa situazione si deve aggiungere il vin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Q ≠ b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in generale  </a:t>
            </a:r>
            <a:r>
              <a:rPr b="0" lang="it-IT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var ≠ cost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oppure </a:t>
            </a:r>
            <a:r>
              <a:rPr b="0" lang="it-IT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var ≠ va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4960" y="4419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 con variabil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tra 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(ACTION: MoveT(W,X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OND: On(W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W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: On(W,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On(W,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Arial"/>
              </a:rPr>
              <a:t>t  costante: significa TAV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638680" y="3657600"/>
            <a:ext cx="2590560" cy="2645280"/>
            <a:chOff x="5638680" y="3657600"/>
            <a:chExt cx="2590560" cy="2645280"/>
          </a:xfrm>
        </p:grpSpPr>
        <p:grpSp>
          <p:nvGrpSpPr>
            <p:cNvPr id="1269" name=""/>
            <p:cNvGrpSpPr/>
            <p:nvPr/>
          </p:nvGrpSpPr>
          <p:grpSpPr>
            <a:xfrm>
              <a:off x="5638680" y="3657600"/>
              <a:ext cx="2590560" cy="2198520"/>
              <a:chOff x="5638680" y="3657600"/>
              <a:chExt cx="2590560" cy="2198520"/>
            </a:xfrm>
          </p:grpSpPr>
          <p:grpSp>
            <p:nvGrpSpPr>
              <p:cNvPr id="1270" name=""/>
              <p:cNvGrpSpPr/>
              <p:nvPr/>
            </p:nvGrpSpPr>
            <p:grpSpPr>
              <a:xfrm>
                <a:off x="6705360" y="5029200"/>
                <a:ext cx="685800" cy="685440"/>
                <a:chOff x="6705360" y="5029200"/>
                <a:chExt cx="685800" cy="68544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6705360" y="502920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973560" y="51969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953400" y="521244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7241400" y="52124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705360" y="4267080"/>
                <a:ext cx="685800" cy="761760"/>
                <a:chOff x="6705360" y="4267080"/>
                <a:chExt cx="685800" cy="761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705360" y="426708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013520" y="44938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7002000" y="448812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286760" y="45108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5638680" y="571500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95880" y="521640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"/>
              <p:cNvGrpSpPr/>
              <p:nvPr/>
            </p:nvGrpSpPr>
            <p:grpSpPr>
              <a:xfrm>
                <a:off x="6705360" y="3657600"/>
                <a:ext cx="695160" cy="647640"/>
                <a:chOff x="6705360" y="3657600"/>
                <a:chExt cx="695160" cy="64764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705360" y="3657600"/>
                  <a:ext cx="695160" cy="647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009920" y="38862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5" name=""/>
              <p:cNvSpPr/>
              <p:nvPr/>
            </p:nvSpPr>
            <p:spPr>
              <a:xfrm>
                <a:off x="6454800" y="52563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6671880" y="59976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447920" y="4419720"/>
            <a:ext cx="2590560" cy="1943640"/>
            <a:chOff x="1447920" y="4419720"/>
            <a:chExt cx="2590560" cy="1943640"/>
          </a:xfrm>
        </p:grpSpPr>
        <p:grpSp>
          <p:nvGrpSpPr>
            <p:cNvPr id="1288" name=""/>
            <p:cNvGrpSpPr/>
            <p:nvPr/>
          </p:nvGrpSpPr>
          <p:grpSpPr>
            <a:xfrm>
              <a:off x="1447920" y="4419720"/>
              <a:ext cx="2590560" cy="1474560"/>
              <a:chOff x="1447920" y="4419720"/>
              <a:chExt cx="2590560" cy="1474560"/>
            </a:xfrm>
          </p:grpSpPr>
          <p:grpSp>
            <p:nvGrpSpPr>
              <p:cNvPr id="1289" name=""/>
              <p:cNvGrpSpPr/>
              <p:nvPr/>
            </p:nvGrpSpPr>
            <p:grpSpPr>
              <a:xfrm>
                <a:off x="2895480" y="4419720"/>
                <a:ext cx="685440" cy="685440"/>
                <a:chOff x="2895480" y="4419720"/>
                <a:chExt cx="685440" cy="68544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2895480" y="4419720"/>
                  <a:ext cx="68544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163680" y="45874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143160" y="460296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431520" y="46029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1676160" y="5029200"/>
                <a:ext cx="685440" cy="761760"/>
                <a:chOff x="1676160" y="5029200"/>
                <a:chExt cx="685440" cy="76176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1676160" y="5029200"/>
                  <a:ext cx="68544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1983960" y="5256000"/>
                  <a:ext cx="3348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972800" y="52502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257200" y="52729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1447920" y="575316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904760" y="5254560"/>
                <a:ext cx="3567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2895480" y="5105520"/>
                <a:ext cx="694800" cy="647640"/>
                <a:chOff x="2895480" y="5105520"/>
                <a:chExt cx="694800" cy="64764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2895480" y="5105520"/>
                  <a:ext cx="694800" cy="647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3199680" y="5334120"/>
                  <a:ext cx="145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4" name=""/>
              <p:cNvSpPr/>
              <p:nvPr/>
            </p:nvSpPr>
            <p:spPr>
              <a:xfrm>
                <a:off x="2263320" y="52941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1981080" y="6058080"/>
              <a:ext cx="1557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08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16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24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9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30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38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4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47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55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35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6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70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78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384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89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3581280" y="1951200"/>
            <a:ext cx="1371600" cy="457200"/>
            <a:chOff x="3581280" y="1951200"/>
            <a:chExt cx="1371600" cy="457200"/>
          </a:xfrm>
        </p:grpSpPr>
        <p:sp>
          <p:nvSpPr>
            <p:cNvPr id="1396" name=""/>
            <p:cNvSpPr/>
            <p:nvPr/>
          </p:nvSpPr>
          <p:spPr>
            <a:xfrm>
              <a:off x="3581280" y="195120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50280" y="202752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066680" y="2408400"/>
            <a:ext cx="8153280" cy="350280"/>
            <a:chOff x="1066680" y="2408400"/>
            <a:chExt cx="8153280" cy="350280"/>
          </a:xfrm>
        </p:grpSpPr>
        <p:sp>
          <p:nvSpPr>
            <p:cNvPr id="1399" name=""/>
            <p:cNvSpPr/>
            <p:nvPr/>
          </p:nvSpPr>
          <p:spPr>
            <a:xfrm>
              <a:off x="1066680" y="242244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286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0292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4008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001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576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0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1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1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422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l goal può consistere di tanti sottogoal indipendenti, ma non c’è modo che il problem solver lo sa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02760" y="2286000"/>
            <a:ext cx="6330240" cy="1191240"/>
          </a:xfrm>
          <a:prstGeom prst="rect">
            <a:avLst/>
          </a:prstGeom>
          <a:solidFill>
            <a:srgbClr val="ffebe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AVE(MILK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 HAVE(BOOK) possono 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ggiunti da due sequenze di azioni qu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dipen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427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430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37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43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48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905120" y="3154320"/>
            <a:ext cx="1822320" cy="457200"/>
            <a:chOff x="1905120" y="3154320"/>
            <a:chExt cx="1822320" cy="457200"/>
          </a:xfrm>
        </p:grpSpPr>
        <p:sp>
          <p:nvSpPr>
            <p:cNvPr id="1454" name=""/>
            <p:cNvSpPr/>
            <p:nvPr/>
          </p:nvSpPr>
          <p:spPr>
            <a:xfrm>
              <a:off x="1905120" y="31543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974960" y="32302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"/>
          <p:cNvSpPr/>
          <p:nvPr/>
        </p:nvSpPr>
        <p:spPr>
          <a:xfrm>
            <a:off x="1066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209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048120" y="3701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462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465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72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7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8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488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8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499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02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0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1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52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525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528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539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42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4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5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56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565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575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580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83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9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9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0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606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615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8" name=""/>
          <p:cNvCxnSpPr>
            <a:stCxn id="1587" idx="2"/>
            <a:endCxn id="1594" idx="3"/>
          </p:cNvCxnSpPr>
          <p:nvPr/>
        </p:nvCxnSpPr>
        <p:spPr>
          <a:xfrm rot="5400000">
            <a:off x="5145120" y="1275480"/>
            <a:ext cx="2041920" cy="488844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sp>
        <p:nvSpPr>
          <p:cNvPr id="161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1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622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625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632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63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4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648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1447920" y="2971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657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9" name=""/>
          <p:cNvSpPr/>
          <p:nvPr/>
        </p:nvSpPr>
        <p:spPr>
          <a:xfrm flipH="1">
            <a:off x="4114440" y="2666880"/>
            <a:ext cx="2438280" cy="4572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0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661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662" name=""/>
            <p:cNvCxnSpPr>
              <a:stCxn id="1630" idx="1"/>
              <a:endCxn id="1634" idx="0"/>
            </p:cNvCxnSpPr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663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6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667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670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677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683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88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693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0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1701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705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7" name=""/>
          <p:cNvSpPr/>
          <p:nvPr/>
        </p:nvSpPr>
        <p:spPr>
          <a:xfrm flipH="1">
            <a:off x="3962520" y="2743200"/>
            <a:ext cx="274320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8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709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710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711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2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715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718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725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7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731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736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741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04812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1749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760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"/>
          <p:cNvSpPr/>
          <p:nvPr/>
        </p:nvSpPr>
        <p:spPr>
          <a:xfrm flipH="1">
            <a:off x="4038120" y="2666880"/>
            <a:ext cx="266724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3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764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765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766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0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1771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1066680" y="2330280"/>
            <a:ext cx="8153280" cy="351000"/>
            <a:chOff x="1066680" y="2330280"/>
            <a:chExt cx="8153280" cy="351000"/>
          </a:xfrm>
        </p:grpSpPr>
        <p:sp>
          <p:nvSpPr>
            <p:cNvPr id="1774" name=""/>
            <p:cNvSpPr/>
            <p:nvPr/>
          </p:nvSpPr>
          <p:spPr>
            <a:xfrm>
              <a:off x="1066680" y="2344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286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292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4008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001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6576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78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78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79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799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802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219320" y="36259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209680" y="3625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3048120" y="363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y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1810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2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H="1">
            <a:off x="1981080" y="3962520"/>
            <a:ext cx="990720" cy="685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821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4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825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826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827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1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832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1835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842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84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85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861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8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1869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880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3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884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885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886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888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: rappresent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 planning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pre le black-b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sando la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gic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 rappresent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7160" y="3789360"/>
            <a:ext cx="6272280" cy="1495800"/>
            <a:chOff x="2747160" y="3789360"/>
            <a:chExt cx="6272280" cy="1495800"/>
          </a:xfrm>
        </p:grpSpPr>
        <p:sp>
          <p:nvSpPr>
            <p:cNvPr id="184" name=""/>
            <p:cNvSpPr/>
            <p:nvPr/>
          </p:nvSpPr>
          <p:spPr>
            <a:xfrm>
              <a:off x="2747160" y="378936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 sol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44400" y="3789360"/>
              <a:ext cx="38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appresentazioni Logic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46000" y="4703760"/>
              <a:ext cx="1870920" cy="581400"/>
            </a:xfrm>
            <a:prstGeom prst="rect">
              <a:avLst/>
            </a:prstGeom>
            <a:solidFill>
              <a:srgbClr val="e1ffe1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lan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86280" y="417024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357880" y="417024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5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896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1899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90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91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91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1923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5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1981080" y="4038480"/>
            <a:ext cx="91440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934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36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937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938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939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941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3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7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948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0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0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961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964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97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97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98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581280" y="5334120"/>
            <a:ext cx="1524240" cy="38088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1990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2001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03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2004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2005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2006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2008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2012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4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5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2026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2029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203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204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204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2052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4943520" y="4540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218640" y="4540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969720" y="5257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5008680" y="5257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6284880" y="5257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7728480" y="5257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7493760" y="4540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2068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70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2071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2072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2073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2075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2085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7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0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2091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685800" y="2316240"/>
            <a:ext cx="8153280" cy="350280"/>
            <a:chOff x="685800" y="2316240"/>
            <a:chExt cx="8153280" cy="350280"/>
          </a:xfrm>
        </p:grpSpPr>
        <p:sp>
          <p:nvSpPr>
            <p:cNvPr id="2094" name=""/>
            <p:cNvSpPr/>
            <p:nvPr/>
          </p:nvSpPr>
          <p:spPr>
            <a:xfrm>
              <a:off x="68580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905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6483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0199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620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2767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210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210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211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2117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9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2125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2136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38" name=""/>
          <p:cNvCxnSpPr/>
          <p:nvPr/>
        </p:nvCxnSpPr>
        <p:spPr>
          <a:xfrm rot="5400000">
            <a:off x="4999680" y="1247760"/>
            <a:ext cx="204408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2139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2140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2141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2143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cessità di avere delle buone euristi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 per planning lineari che per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 problemi di planning non è facile derivare delle euristiche ammiss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o strumento molto utile per costruire delle euristiche ammissibile è il 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grafo di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ccoglie informazioni su quali piani sono impossibili non prendendo in considerazione le minacce e il “consumo” dei letterali che chiudono le precondi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69440" y="1736280"/>
            <a:ext cx="385308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grafo di planning è un grafo costruito a livell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rimo livello è costituito dai letterali dello stato ini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uccessivi livelli sono ottenuti dalla applicazione ripetuta delle azioni che hanno i prerequisiti soddisfat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ltre i letterali di un livello sono riportati al livello successiv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persistence 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variabili !  No troppi oggetti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7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28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9" name="" descr=""/>
          <p:cNvPicPr/>
          <p:nvPr/>
        </p:nvPicPr>
        <p:blipFill>
          <a:blip r:embed="rId1"/>
          <a:stretch/>
        </p:blipFill>
        <p:spPr>
          <a:xfrm>
            <a:off x="1219320" y="2324160"/>
            <a:ext cx="6400800" cy="3959280"/>
          </a:xfrm>
          <a:prstGeom prst="rect">
            <a:avLst/>
          </a:prstGeom>
          <a:ln w="0">
            <a:noFill/>
          </a:ln>
        </p:spPr>
      </p:pic>
      <p:sp>
        <p:nvSpPr>
          <p:cNvPr id="2160" name=""/>
          <p:cNvSpPr/>
          <p:nvPr/>
        </p:nvSpPr>
        <p:spPr>
          <a:xfrm>
            <a:off x="685800" y="1690560"/>
            <a:ext cx="7429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diamo un esempio su un problema sempl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2" name="" descr=""/>
          <p:cNvPicPr/>
          <p:nvPr/>
        </p:nvPicPr>
        <p:blipFill>
          <a:blip r:embed="rId1"/>
          <a:stretch/>
        </p:blipFill>
        <p:spPr>
          <a:xfrm>
            <a:off x="609480" y="1511280"/>
            <a:ext cx="8077320" cy="4451400"/>
          </a:xfrm>
          <a:prstGeom prst="rect">
            <a:avLst/>
          </a:prstGeom>
          <a:ln w="0">
            <a:noFill/>
          </a:ln>
        </p:spPr>
      </p:pic>
      <p:sp>
        <p:nvSpPr>
          <p:cNvPr id="2163" name=""/>
          <p:cNvSpPr/>
          <p:nvPr/>
        </p:nvSpPr>
        <p:spPr>
          <a:xfrm>
            <a:off x="806760" y="5962680"/>
            <a:ext cx="76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espansione del grafo termina qu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vello i+1 = livello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045040"/>
          </a:xfrm>
          <a:prstGeom prst="rect">
            <a:avLst/>
          </a:prstGeom>
          <a:ln w="0">
            <a:noFill/>
          </a:ln>
        </p:spPr>
      </p:pic>
      <p:sp>
        <p:nvSpPr>
          <p:cNvPr id="2166" name=""/>
          <p:cNvSpPr/>
          <p:nvPr/>
        </p:nvSpPr>
        <p:spPr>
          <a:xfrm>
            <a:off x="314280" y="1089000"/>
            <a:ext cx="2400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onflitti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link di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mutua esclusione (mu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consistent eff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na azione nega l’effetto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o degli effetti di una azione è la negazione di una precondizione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mpeting nee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na delle precondizioni di una azione è la negazione di una delle precondizioni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consistent supp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etterali allo stesso livello sono in conflitto se uno è la negazione dell’altro o se ogni possibile coppia di azioni che potrebbe raggiungere i due letterali è mutuamente esclus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8:04:48Z</dcterms:created>
  <dc:creator> Alessandro Sperduti</dc:creator>
  <dc:description/>
  <dc:language>en-US</dc:language>
  <cp:lastModifiedBy> Alessandro Sperduti</cp:lastModifiedBy>
  <dcterms:modified xsi:type="dcterms:W3CDTF">2007-05-30T09:15:22Z</dcterms:modified>
  <cp:revision>98</cp:revision>
  <dc:subject/>
  <dc:title>Pianificazione (Planning)</dc:title>
</cp:coreProperties>
</file>