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883-D286-4F15-AE32-44ECE6AD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FFF-8344-421B-9FBB-F23A552A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C9C-3AA0-4755-807E-2AADC44D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57C-65B9-4E4A-9C09-481B09B6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4BB-544C-44FD-B295-06679346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96C-8691-42A6-97FA-83D79CC0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E51-24A6-4C4A-8FEE-13174F88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CBD-8F2D-4FF4-82FD-A6302CA5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ECD-532E-4326-94CC-FEA2689D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5EA-7010-4B55-AA89-7BD1BDD1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7EA-859A-459D-92A5-B3C0822E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DF3-05C5-415F-AD05-0EFA4D06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91F5-6BB7-45FB-A9F4-9C6324EE0E3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ianificazione (Planning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olo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0960" y="6427800"/>
            <a:ext cx="537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Questa presentazione include lucidi creati da: B.J. Dorr, L. Getoor, A. Lazaric, Russel &amp; Norvig, M. Simi, S. Scef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ci Princip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77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0520" indent="-20052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colo delle situa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nello spazio degli st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artial order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rafi di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composizione Gerarchica (HTN pla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Reattivo (Reactive pla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con Calcolo delle Situ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3840" indent="-213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base:  rappresentare il problema di planning in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1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calcolo delle situazioni ci permette di ragionare sui cambiamenti del mo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1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 inferenza (theorem proving) per “provare” che una particolare sequenza di azioni, quando applicata alla situazione che caratterizza lo stato del mondo, condurrà al risultato desiderato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piano = pro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olo delle Situ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1720" y="1142640"/>
            <a:ext cx="865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164160" indent="-164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o Inizi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una sentenza logica su (situazione)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(Home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Milk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(Bananas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(Drill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160" indent="-164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o 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) At(Home,s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(Milk,s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(Bananas,s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(Drill,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160" indent="-164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or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ono descrizioni di come il mondo cambia a causa delle azioni dell’ agen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,s) Have(Milk,Result(a,s)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(a=Buy(Milk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(Grocery,s)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ve(Milk, s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(Milk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160" indent="-164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(a,s) già visto (la situazione risultante dalla esecuzione della azione a nella situazione 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160" indent="-164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ze di azioni: Result'(l,s) è il risultato della esecuzione della lista di azioni (l) a partire da 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) Result'([ ],s) 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p,s) Result'([a|p],s) = Result'(p,Result(a,s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olo delle Situ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6840" indent="-186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uzione è un piano  che quando applicato allo stato iniziale conduce ad una situazione che soddisfa la query di 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(Home,Result'(p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(Milk,Result'(p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(Bananas,Result'(p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(Drill,Result'(p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ndi ci si aspetta un piano (cioè un assegnamento di variabile tramite unificazione) tale ch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[Go(Grocery), Buy(Milk), Buy(Bananas), Go(HardwareStore), Buy(Drill), Go(Home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olo delle Situazioni: Anali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6840" indent="-186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oria va bene, ma il problem solving (ricerca) è esponenziale nel caso pess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6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ltre, la risoluzione trova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u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a (=piano), non necessariamente un buon pian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6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ordiamoci anche del Problema del Frame, della Qualifica e della Ramificazion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6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ndi è meglio usare u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nguaggio ristr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u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lgoritmo specializzato (planne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uttosto che un dimostratore generale di teor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presentazioni base per i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73520" indent="-17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ccio classico usato negli anni 70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 rappresentati come una congiunzione di letterali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(Home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(Milk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(bananas)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oal sono congiunzioni di letterali, ma possono avere variabili che sono assunte esser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antificate esistenzi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(?x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(Milk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(bananas)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c’è bisogno di specificare completamente lo st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pecificato significa non rilevante o assunto f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presenta molti casi in poca mem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sso rappresenta solo i cambiamenti nello stato piuttosto che l’intera situ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contrario di un dimostratore di teoremi, non cerca se il goal è vero, ma se c’è una sequenza di azioni che lo raggiu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ppresentazione Operatori/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698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30680" indent="-1306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li operatori contengono tre componenti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3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zione delle 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3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condizio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ngiunzione di letterali positiv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3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t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congiunzione di letterali positivi o negativi che descrivono come la situazione cambia quando si applica l’opera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680" indent="-1306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sempio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[Action:  Go(there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ondizioni:  At(her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h(here,there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tto:  At(ther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(here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680" indent="-130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utte le variabili sono quantificate universalm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680" indent="-1306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 variabili di situazione sono implici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3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precondizioni devono essere vere nello stato precedente all’applicazione dell’operatore; gli effetti sono veri immediatamente do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3124080"/>
            <a:ext cx="16002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09920" y="3200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(t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02400" y="274320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here) ,Path(here,t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89520" y="407664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there)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52680" y="3429000"/>
            <a:ext cx="3657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72000" y="4191120"/>
            <a:ext cx="22096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3124080"/>
            <a:ext cx="14475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o dei bloc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132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mondo dei blocchi è un micro-mondo che consiste di un tavolo, un insieme di blocchi e un manipolatore robo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2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i vincoli del domin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33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solo blocco può essere immediatamente sopra un al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33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qualsiasi numero di blocchi sul tav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33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manipolatore può mantenere un solo blo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2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presentazione tip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b,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0" y="4267080"/>
            <a:ext cx="3833640" cy="2471040"/>
            <a:chOff x="4572000" y="4267080"/>
            <a:chExt cx="3833640" cy="2471040"/>
          </a:xfrm>
        </p:grpSpPr>
        <p:sp>
          <p:nvSpPr>
            <p:cNvPr id="96" name=""/>
            <p:cNvSpPr/>
            <p:nvPr/>
          </p:nvSpPr>
          <p:spPr>
            <a:xfrm>
              <a:off x="4572000" y="6248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9200" y="5867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29200" y="548640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5867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486040" y="4267080"/>
              <a:ext cx="571320" cy="995040"/>
              <a:chOff x="5486040" y="4267080"/>
              <a:chExt cx="571320" cy="995040"/>
            </a:xfrm>
          </p:grpSpPr>
          <p:sp>
            <p:nvSpPr>
              <p:cNvPr id="101" name=""/>
              <p:cNvSpPr/>
              <p:nvPr/>
            </p:nvSpPr>
            <p:spPr>
              <a:xfrm flipV="1" rot="16200000">
                <a:off x="5521680" y="47260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53160" y="42670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392960" y="6400800"/>
              <a:ext cx="101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VO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o S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6120" y="4172040"/>
            <a:ext cx="722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iunzione di proposi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(A), BLOCK(B), BLOCK(C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, ON(B,TAVOLO), ON(C,A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(B), CLEAR(C), HAND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124080" y="1600200"/>
            <a:ext cx="4848120" cy="2638800"/>
            <a:chOff x="3124080" y="1600200"/>
            <a:chExt cx="4848120" cy="2638800"/>
          </a:xfrm>
        </p:grpSpPr>
        <p:grpSp>
          <p:nvGrpSpPr>
            <p:cNvPr id="107" name=""/>
            <p:cNvGrpSpPr/>
            <p:nvPr/>
          </p:nvGrpSpPr>
          <p:grpSpPr>
            <a:xfrm>
              <a:off x="3124080" y="1600200"/>
              <a:ext cx="3048120" cy="2438280"/>
              <a:chOff x="3124080" y="1600200"/>
              <a:chExt cx="3048120" cy="2438280"/>
            </a:xfrm>
          </p:grpSpPr>
          <p:sp>
            <p:nvSpPr>
              <p:cNvPr id="108" name=""/>
              <p:cNvSpPr/>
              <p:nvPr/>
            </p:nvSpPr>
            <p:spPr>
              <a:xfrm>
                <a:off x="3124080" y="3962160"/>
                <a:ext cx="3048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3920" y="33526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48320" y="33526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33920" y="274320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4648320" y="1600200"/>
                <a:ext cx="609480" cy="609120"/>
                <a:chOff x="4648320" y="1600200"/>
                <a:chExt cx="609480" cy="6091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648320" y="190476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648320" y="1904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953240" y="160020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57800" y="1904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"/>
            <p:cNvSpPr/>
            <p:nvPr/>
          </p:nvSpPr>
          <p:spPr>
            <a:xfrm>
              <a:off x="6211080" y="3657600"/>
              <a:ext cx="176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AVOL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124080" y="1600200"/>
            <a:ext cx="3048120" cy="2438280"/>
            <a:chOff x="3124080" y="1600200"/>
            <a:chExt cx="3048120" cy="2438280"/>
          </a:xfrm>
        </p:grpSpPr>
        <p:sp>
          <p:nvSpPr>
            <p:cNvPr id="120" name=""/>
            <p:cNvSpPr/>
            <p:nvPr/>
          </p:nvSpPr>
          <p:spPr>
            <a:xfrm>
              <a:off x="3124080" y="3962520"/>
              <a:ext cx="30481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33920" y="3352680"/>
              <a:ext cx="60948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33920" y="274320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213372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648320" y="1600200"/>
              <a:ext cx="609480" cy="609120"/>
              <a:chOff x="4648320" y="1600200"/>
              <a:chExt cx="609480" cy="609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648320" y="1904760"/>
                <a:ext cx="609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48320" y="190476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953240" y="160020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57800" y="190476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995400" y="4400640"/>
            <a:ext cx="582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iunzione di proposi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, ON(B,A), ON(C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000" y="5418000"/>
            <a:ext cx="79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l goal G è raggiunto in uno stato S se tutte 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e proposizioni in G sono anche i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175680" indent="-17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vare un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quenza di azioni (pian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 raggiunge un dato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do eseguita a partire da un dato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ato iniziale del mon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Cioè 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1720" indent="-17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insieme di descrizioni di operatori (azioni primitive dell’agent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1720" indent="-17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descrizione dello stato iniziale,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1720" indent="-17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descrizione dello stato go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1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olare un piano, che 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56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1720" indent="-17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sequenza di istanze di operatori, tale che eseguita a partire dallo stato iniziale cambia il mondo in modo da portarlo in uno stato che soddisfa la descrizione dello stato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5680" indent="-17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oal sono usualmente specificati come una  congiunzione di (sotto)goal da raggiung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1752480"/>
            <a:ext cx="6553440" cy="2057400"/>
          </a:xfrm>
          <a:prstGeom prst="rect">
            <a:avLst/>
          </a:prstGeom>
          <a:solidFill>
            <a:srgbClr val="d9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e 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1160" y="1828800"/>
            <a:ext cx="6519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stack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HANDEMPTY, BLOCK(x), BLOCK(y), 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        CLEAR(x), ON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E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HANDEMPTY,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LEAR(x), HOLDING(x),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N(x,y), CLEAR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62120" y="2590920"/>
            <a:ext cx="8535240" cy="2181600"/>
            <a:chOff x="762120" y="2590920"/>
            <a:chExt cx="8535240" cy="2181600"/>
          </a:xfrm>
        </p:grpSpPr>
        <p:sp>
          <p:nvSpPr>
            <p:cNvPr id="135" name=""/>
            <p:cNvSpPr/>
            <p:nvPr/>
          </p:nvSpPr>
          <p:spPr>
            <a:xfrm>
              <a:off x="762120" y="2590920"/>
              <a:ext cx="914040" cy="1981080"/>
            </a:xfrm>
            <a:custGeom>
              <a:avLst/>
              <a:gdLst/>
              <a:ahLst/>
              <a:rect l="l" t="t" r="r" b="b"/>
              <a:pathLst>
                <a:path w="576" h="1248">
                  <a:moveTo>
                    <a:pt x="288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576" y="1248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03640" y="4191120"/>
              <a:ext cx="789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Precondizioni: </a:t>
              </a:r>
              <a:r>
                <a:rPr b="0" lang="en-US" sz="2800" spc="-1" strike="noStrike">
                  <a:solidFill>
                    <a:srgbClr val="008000"/>
                  </a:solidFill>
                  <a:latin typeface="Tahoma"/>
                </a:rPr>
                <a:t>congiunzione di proposizio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942480" y="3290760"/>
            <a:ext cx="4839480" cy="1038600"/>
            <a:chOff x="942480" y="3290760"/>
            <a:chExt cx="4839480" cy="1038600"/>
          </a:xfrm>
        </p:grpSpPr>
        <p:grpSp>
          <p:nvGrpSpPr>
            <p:cNvPr id="138" name=""/>
            <p:cNvGrpSpPr/>
            <p:nvPr/>
          </p:nvGrpSpPr>
          <p:grpSpPr>
            <a:xfrm>
              <a:off x="942480" y="3290760"/>
              <a:ext cx="686160" cy="838440"/>
              <a:chOff x="942480" y="3290760"/>
              <a:chExt cx="686160" cy="83844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942480" y="3290760"/>
                <a:ext cx="2286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42840" y="3290760"/>
                <a:ext cx="0" cy="8384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42840" y="412920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553760" y="3747960"/>
              <a:ext cx="422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990000"/>
                  </a:solidFill>
                  <a:latin typeface="Tahoma"/>
                </a:rPr>
                <a:t>Effetto: </a:t>
              </a:r>
              <a:r>
                <a:rPr b="0" lang="en-US" sz="2800" spc="-1" strike="noStrike">
                  <a:solidFill>
                    <a:srgbClr val="990000"/>
                  </a:solidFill>
                  <a:latin typeface="Tahoma"/>
                </a:rPr>
                <a:t>lista di letteral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1760" y="3048120"/>
            <a:ext cx="4803120" cy="3035160"/>
            <a:chOff x="491760" y="3048120"/>
            <a:chExt cx="4803120" cy="3035160"/>
          </a:xfrm>
        </p:grpSpPr>
        <p:sp>
          <p:nvSpPr>
            <p:cNvPr id="144" name=""/>
            <p:cNvSpPr/>
            <p:nvPr/>
          </p:nvSpPr>
          <p:spPr>
            <a:xfrm>
              <a:off x="1944720" y="3048120"/>
              <a:ext cx="20937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3505320"/>
              <a:ext cx="0" cy="175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1760" y="5257800"/>
              <a:ext cx="4803120" cy="825480"/>
            </a:xfrm>
            <a:prstGeom prst="rect">
              <a:avLst/>
            </a:prstGeom>
            <a:solidFill>
              <a:srgbClr val="ffd7a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ignifica: Rimuove HANDEMPTY 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allo s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258160" y="2971800"/>
            <a:ext cx="3321720" cy="3110040"/>
            <a:chOff x="5258160" y="2971800"/>
            <a:chExt cx="3321720" cy="3110040"/>
          </a:xfrm>
        </p:grpSpPr>
        <p:sp>
          <p:nvSpPr>
            <p:cNvPr id="148" name=""/>
            <p:cNvSpPr/>
            <p:nvPr/>
          </p:nvSpPr>
          <p:spPr>
            <a:xfrm>
              <a:off x="5258160" y="5256360"/>
              <a:ext cx="3321720" cy="825480"/>
            </a:xfrm>
            <a:prstGeom prst="rect">
              <a:avLst/>
            </a:prstGeom>
            <a:solidFill>
              <a:srgbClr val="dee3f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Significa: Aggiungi 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HOLDING(x) allo s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2971800"/>
              <a:ext cx="1752480" cy="609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629040" y="3581280"/>
              <a:ext cx="205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2120" y="1523880"/>
            <a:ext cx="3308400" cy="2637000"/>
            <a:chOff x="762120" y="1523880"/>
            <a:chExt cx="3308400" cy="2637000"/>
          </a:xfrm>
        </p:grpSpPr>
        <p:grpSp>
          <p:nvGrpSpPr>
            <p:cNvPr id="153" name=""/>
            <p:cNvGrpSpPr/>
            <p:nvPr/>
          </p:nvGrpSpPr>
          <p:grpSpPr>
            <a:xfrm>
              <a:off x="762120" y="1523880"/>
              <a:ext cx="3048120" cy="2438280"/>
              <a:chOff x="762120" y="1523880"/>
              <a:chExt cx="3048120" cy="243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762120" y="3885840"/>
                <a:ext cx="3048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71960" y="327636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360" y="327636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371960" y="26668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2286360" y="1523880"/>
                <a:ext cx="609480" cy="609120"/>
                <a:chOff x="2286360" y="1523880"/>
                <a:chExt cx="609480" cy="60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286360" y="182844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286360" y="182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591280" y="15238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840" y="182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3886560" y="358128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079640" y="4321080"/>
            <a:ext cx="579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, BLOCK(C), BLOCK(A),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CLEAR(C), ON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EAR(C), HOLDING(C),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N(C,A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6920" y="2263680"/>
            <a:ext cx="522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8f5f"/>
                </a:solidFill>
                <a:latin typeface="Arial"/>
              </a:rPr>
              <a:t>BLOCK(A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(B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BLOCK(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, ON(B,TAVOLO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ON(C,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LEAR(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86200"/>
            <a:ext cx="30477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276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3276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18288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0" y="1523880"/>
            <a:ext cx="609480" cy="609840"/>
            <a:chOff x="2286000" y="1523880"/>
            <a:chExt cx="609480" cy="609840"/>
          </a:xfrm>
        </p:grpSpPr>
        <p:sp>
          <p:nvSpPr>
            <p:cNvPr id="172" name=""/>
            <p:cNvSpPr/>
            <p:nvPr/>
          </p:nvSpPr>
          <p:spPr>
            <a:xfrm>
              <a:off x="2286000" y="182880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0" y="182880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152388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182880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886200" y="3581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6920" y="2263680"/>
            <a:ext cx="522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(A), BLOCK(B), BLOCK(C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, ON(B,TAVOLO), ON(C,A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, CLEAR(C), HANDEMP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OLDING(C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9640" y="4321080"/>
            <a:ext cx="579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, BLOCK(C), BLOCK(A),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CLEAR(C), ON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EAR(C), HOLDING(C),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N(C,A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740120" y="2558520"/>
            <a:ext cx="3657600" cy="610200"/>
            <a:chOff x="4740120" y="2558520"/>
            <a:chExt cx="3657600" cy="610200"/>
          </a:xfrm>
        </p:grpSpPr>
        <p:sp>
          <p:nvSpPr>
            <p:cNvPr id="180" name=""/>
            <p:cNvSpPr/>
            <p:nvPr/>
          </p:nvSpPr>
          <p:spPr>
            <a:xfrm flipV="1">
              <a:off x="6264000" y="3016080"/>
              <a:ext cx="175248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740120" y="2939760"/>
              <a:ext cx="1371600" cy="22860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254720" y="2558520"/>
              <a:ext cx="1143000" cy="30492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e 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53560" y="1606680"/>
            <a:ext cx="8154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stack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ANDEMPTY, BLOCK(x), BLOCK(y), CLEAR(x), ON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x), HOLDING(x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(x,y), CLEAR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45640" y="2825640"/>
            <a:ext cx="7919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ck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OLDING(x), BLOCK(x), BLOCK(y), CLEAR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ON(x,y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y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(x), CLEAR(x), 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27160" y="491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800" y="5187960"/>
            <a:ext cx="7371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utDown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OLDING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ON(x,TAVOLO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(x), CLEAR(x), 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56800" y="4044960"/>
            <a:ext cx="7733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cku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ANDEMPTY, BLOCK(x), CLEAR(x), ON(x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x), HOLDING(x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x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2860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o iniz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819520" y="2286000"/>
            <a:ext cx="3581280" cy="1828800"/>
            <a:chOff x="2819520" y="2286000"/>
            <a:chExt cx="3581280" cy="1828800"/>
          </a:xfrm>
        </p:grpSpPr>
        <p:sp>
          <p:nvSpPr>
            <p:cNvPr id="192" name=""/>
            <p:cNvSpPr/>
            <p:nvPr/>
          </p:nvSpPr>
          <p:spPr>
            <a:xfrm>
              <a:off x="2819520" y="3962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76720" y="3581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86400" y="358128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62520" y="3581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3200040" y="2286000"/>
              <a:ext cx="571320" cy="995040"/>
              <a:chOff x="3200040" y="2286000"/>
              <a:chExt cx="571320" cy="995040"/>
            </a:xfrm>
          </p:grpSpPr>
          <p:sp>
            <p:nvSpPr>
              <p:cNvPr id="197" name=""/>
              <p:cNvSpPr/>
              <p:nvPr/>
            </p:nvSpPr>
            <p:spPr>
              <a:xfrm flipV="1" rot="16200000">
                <a:off x="3235680" y="274500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67160" y="22860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819520" y="4952880"/>
            <a:ext cx="3581280" cy="1523880"/>
            <a:chOff x="2819520" y="4952880"/>
            <a:chExt cx="3581280" cy="1523880"/>
          </a:xfrm>
        </p:grpSpPr>
        <p:sp>
          <p:nvSpPr>
            <p:cNvPr id="200" name=""/>
            <p:cNvSpPr/>
            <p:nvPr/>
          </p:nvSpPr>
          <p:spPr>
            <a:xfrm>
              <a:off x="2819520" y="6324480"/>
              <a:ext cx="3581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15000" y="518148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15000" y="5562360"/>
              <a:ext cx="38124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5000" y="5943240"/>
              <a:ext cx="3812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419360" y="4952880"/>
              <a:ext cx="571320" cy="995040"/>
              <a:chOff x="4419360" y="4952880"/>
              <a:chExt cx="571320" cy="995040"/>
            </a:xfrm>
          </p:grpSpPr>
          <p:sp>
            <p:nvSpPr>
              <p:cNvPr id="205" name=""/>
              <p:cNvSpPr/>
              <p:nvPr/>
            </p:nvSpPr>
            <p:spPr>
              <a:xfrm flipV="1" rot="16200000">
                <a:off x="4455000" y="54118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686480" y="49528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6629400" y="1752480"/>
            <a:ext cx="20574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ia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u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(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2860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o iniz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19520" y="2286000"/>
            <a:ext cx="3581280" cy="1828800"/>
            <a:chOff x="2819520" y="2286000"/>
            <a:chExt cx="3581280" cy="1828800"/>
          </a:xfrm>
        </p:grpSpPr>
        <p:sp>
          <p:nvSpPr>
            <p:cNvPr id="211" name=""/>
            <p:cNvSpPr/>
            <p:nvPr/>
          </p:nvSpPr>
          <p:spPr>
            <a:xfrm>
              <a:off x="2819520" y="3962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76720" y="3581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6400" y="358128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62520" y="3581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200040" y="2286000"/>
              <a:ext cx="571320" cy="995040"/>
              <a:chOff x="3200040" y="2286000"/>
              <a:chExt cx="571320" cy="995040"/>
            </a:xfrm>
          </p:grpSpPr>
          <p:sp>
            <p:nvSpPr>
              <p:cNvPr id="216" name=""/>
              <p:cNvSpPr/>
              <p:nvPr/>
            </p:nvSpPr>
            <p:spPr>
              <a:xfrm flipV="1" rot="16200000">
                <a:off x="3235680" y="274500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467160" y="22860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2819520" y="4952880"/>
            <a:ext cx="3581280" cy="1523880"/>
            <a:chOff x="2819520" y="4952880"/>
            <a:chExt cx="3581280" cy="1523880"/>
          </a:xfrm>
        </p:grpSpPr>
        <p:sp>
          <p:nvSpPr>
            <p:cNvPr id="219" name=""/>
            <p:cNvSpPr/>
            <p:nvPr/>
          </p:nvSpPr>
          <p:spPr>
            <a:xfrm>
              <a:off x="2819520" y="6324480"/>
              <a:ext cx="3581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15000" y="518148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15000" y="5562360"/>
              <a:ext cx="38124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5943240"/>
              <a:ext cx="3812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419360" y="4952880"/>
              <a:ext cx="571320" cy="995040"/>
              <a:chOff x="4419360" y="4952880"/>
              <a:chExt cx="571320" cy="995040"/>
            </a:xfrm>
          </p:grpSpPr>
          <p:sp>
            <p:nvSpPr>
              <p:cNvPr id="224" name=""/>
              <p:cNvSpPr/>
              <p:nvPr/>
            </p:nvSpPr>
            <p:spPr>
              <a:xfrm flipV="1" rot="16200000">
                <a:off x="4455000" y="54118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86480" y="49528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6553080" y="2286000"/>
            <a:ext cx="236232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ia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down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ward Planning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2120" y="1600200"/>
            <a:ext cx="1752480" cy="1503360"/>
            <a:chOff x="762120" y="1600200"/>
            <a:chExt cx="1752480" cy="1503360"/>
          </a:xfrm>
        </p:grpSpPr>
        <p:sp>
          <p:nvSpPr>
            <p:cNvPr id="229" name=""/>
            <p:cNvSpPr/>
            <p:nvPr/>
          </p:nvSpPr>
          <p:spPr>
            <a:xfrm>
              <a:off x="762120" y="160020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762120" y="1600200"/>
              <a:ext cx="1752480" cy="1503360"/>
              <a:chOff x="762120" y="1600200"/>
              <a:chExt cx="1752480" cy="150336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62120" y="1600200"/>
                <a:ext cx="1582560" cy="1181880"/>
                <a:chOff x="762120" y="1600200"/>
                <a:chExt cx="1582560" cy="11818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62120" y="274536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078560" y="244980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553400" y="244980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078560" y="215424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"/>
                <p:cNvGrpSpPr/>
                <p:nvPr/>
              </p:nvGrpSpPr>
              <p:grpSpPr>
                <a:xfrm>
                  <a:off x="1553400" y="1600200"/>
                  <a:ext cx="316440" cy="295200"/>
                  <a:chOff x="1553400" y="1600200"/>
                  <a:chExt cx="316440" cy="295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1553400" y="174780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553400" y="17478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1711800" y="16002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1869840" y="17478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1" name=""/>
              <p:cNvSpPr/>
              <p:nvPr/>
            </p:nvSpPr>
            <p:spPr>
              <a:xfrm>
                <a:off x="2345760" y="264636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228600" y="3352680"/>
            <a:ext cx="4876920" cy="2935440"/>
            <a:chOff x="228600" y="3352680"/>
            <a:chExt cx="4876920" cy="2935440"/>
          </a:xfrm>
        </p:grpSpPr>
        <p:grpSp>
          <p:nvGrpSpPr>
            <p:cNvPr id="243" name=""/>
            <p:cNvGrpSpPr/>
            <p:nvPr/>
          </p:nvGrpSpPr>
          <p:grpSpPr>
            <a:xfrm>
              <a:off x="3352680" y="3352680"/>
              <a:ext cx="1752840" cy="1503360"/>
              <a:chOff x="3352680" y="3352680"/>
              <a:chExt cx="1752840" cy="1503360"/>
            </a:xfrm>
          </p:grpSpPr>
          <p:sp>
            <p:nvSpPr>
              <p:cNvPr id="244" name=""/>
              <p:cNvSpPr/>
              <p:nvPr/>
            </p:nvSpPr>
            <p:spPr>
              <a:xfrm>
                <a:off x="3352680" y="335268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3352680" y="3352680"/>
                <a:ext cx="1752840" cy="1503360"/>
                <a:chOff x="3352680" y="3352680"/>
                <a:chExt cx="1752840" cy="15033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352680" y="4498920"/>
                  <a:ext cx="158292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668760" y="4202280"/>
                  <a:ext cx="3175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145040" y="4202280"/>
                  <a:ext cx="3157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146480" y="3906720"/>
                  <a:ext cx="31752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4145040" y="3352680"/>
                  <a:ext cx="315720" cy="295200"/>
                  <a:chOff x="4145040" y="3352680"/>
                  <a:chExt cx="315720" cy="2952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4145040" y="3500280"/>
                    <a:ext cx="31572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145040" y="35002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303080" y="33526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460760" y="35002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5" name=""/>
                <p:cNvSpPr/>
                <p:nvPr/>
              </p:nvSpPr>
              <p:spPr>
                <a:xfrm>
                  <a:off x="4937040" y="4398840"/>
                  <a:ext cx="168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6" name=""/>
            <p:cNvGrpSpPr/>
            <p:nvPr/>
          </p:nvGrpSpPr>
          <p:grpSpPr>
            <a:xfrm>
              <a:off x="762120" y="5105520"/>
              <a:ext cx="1600200" cy="1182600"/>
              <a:chOff x="762120" y="5105520"/>
              <a:chExt cx="1600200" cy="1182600"/>
            </a:xfrm>
          </p:grpSpPr>
          <p:sp>
            <p:nvSpPr>
              <p:cNvPr id="257" name=""/>
              <p:cNvSpPr/>
              <p:nvPr/>
            </p:nvSpPr>
            <p:spPr>
              <a:xfrm>
                <a:off x="76212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762120" y="5105520"/>
                <a:ext cx="1582560" cy="1182600"/>
                <a:chOff x="762120" y="5105520"/>
                <a:chExt cx="1582560" cy="11826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62120" y="6251760"/>
                  <a:ext cx="1582560" cy="36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077840" y="5954760"/>
                  <a:ext cx="317160" cy="297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554120" y="5954760"/>
                  <a:ext cx="315360" cy="297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966680" y="5958000"/>
                  <a:ext cx="317160" cy="2952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3" name=""/>
                <p:cNvGrpSpPr/>
                <p:nvPr/>
              </p:nvGrpSpPr>
              <p:grpSpPr>
                <a:xfrm>
                  <a:off x="1554120" y="5105520"/>
                  <a:ext cx="315360" cy="295200"/>
                  <a:chOff x="1554120" y="5105520"/>
                  <a:chExt cx="315360" cy="2952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554120" y="5253120"/>
                    <a:ext cx="31536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55412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711800" y="5105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86948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8" name=""/>
            <p:cNvSpPr/>
            <p:nvPr/>
          </p:nvSpPr>
          <p:spPr>
            <a:xfrm>
              <a:off x="2362320" y="39625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4572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28600" y="45720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52880" y="2133720"/>
            <a:ext cx="609840" cy="1828800"/>
            <a:chOff x="4952880" y="2133720"/>
            <a:chExt cx="609840" cy="1828800"/>
          </a:xfrm>
        </p:grpSpPr>
        <p:sp>
          <p:nvSpPr>
            <p:cNvPr id="272" name=""/>
            <p:cNvSpPr/>
            <p:nvPr/>
          </p:nvSpPr>
          <p:spPr>
            <a:xfrm>
              <a:off x="4952880" y="2133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288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362320" y="5105520"/>
            <a:ext cx="2666520" cy="1503360"/>
            <a:chOff x="2362320" y="5105520"/>
            <a:chExt cx="2666520" cy="1503360"/>
          </a:xfrm>
        </p:grpSpPr>
        <p:grpSp>
          <p:nvGrpSpPr>
            <p:cNvPr id="275" name=""/>
            <p:cNvGrpSpPr/>
            <p:nvPr/>
          </p:nvGrpSpPr>
          <p:grpSpPr>
            <a:xfrm>
              <a:off x="3276720" y="5105520"/>
              <a:ext cx="1752120" cy="1503360"/>
              <a:chOff x="3276720" y="5105520"/>
              <a:chExt cx="1752120" cy="1503360"/>
            </a:xfrm>
          </p:grpSpPr>
          <p:sp>
            <p:nvSpPr>
              <p:cNvPr id="276" name=""/>
              <p:cNvSpPr/>
              <p:nvPr/>
            </p:nvSpPr>
            <p:spPr>
              <a:xfrm>
                <a:off x="327672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36840" y="6075360"/>
                <a:ext cx="168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3276720" y="5105520"/>
                <a:ext cx="1752120" cy="1503360"/>
                <a:chOff x="3276720" y="5105520"/>
                <a:chExt cx="1752120" cy="15033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276720" y="625176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592440" y="5955120"/>
                  <a:ext cx="31716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495680" y="5943960"/>
                  <a:ext cx="3157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070160" y="5253120"/>
                  <a:ext cx="31716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3" name=""/>
                <p:cNvGrpSpPr/>
                <p:nvPr/>
              </p:nvGrpSpPr>
              <p:grpSpPr>
                <a:xfrm>
                  <a:off x="4068720" y="5105520"/>
                  <a:ext cx="315360" cy="295200"/>
                  <a:chOff x="4068720" y="5105520"/>
                  <a:chExt cx="315360" cy="2952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68720" y="5253120"/>
                    <a:ext cx="31536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06872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226400" y="5105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438408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860720" y="6151680"/>
                  <a:ext cx="168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2362320" y="563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624852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876920" y="5105520"/>
            <a:ext cx="2742840" cy="1503360"/>
            <a:chOff x="4876920" y="5105520"/>
            <a:chExt cx="2742840" cy="1503360"/>
          </a:xfrm>
        </p:grpSpPr>
        <p:grpSp>
          <p:nvGrpSpPr>
            <p:cNvPr id="292" name=""/>
            <p:cNvGrpSpPr/>
            <p:nvPr/>
          </p:nvGrpSpPr>
          <p:grpSpPr>
            <a:xfrm>
              <a:off x="5867280" y="5105520"/>
              <a:ext cx="1752480" cy="1503360"/>
              <a:chOff x="5867280" y="5105520"/>
              <a:chExt cx="1752480" cy="1503360"/>
            </a:xfrm>
          </p:grpSpPr>
          <p:sp>
            <p:nvSpPr>
              <p:cNvPr id="293" name=""/>
              <p:cNvSpPr/>
              <p:nvPr/>
            </p:nvSpPr>
            <p:spPr>
              <a:xfrm>
                <a:off x="586728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5867280" y="5105520"/>
                <a:ext cx="1752480" cy="1503360"/>
                <a:chOff x="5867280" y="5105520"/>
                <a:chExt cx="1752480" cy="150336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5867280" y="5105520"/>
                  <a:ext cx="1582920" cy="1181880"/>
                  <a:chOff x="5867280" y="5105520"/>
                  <a:chExt cx="1582920" cy="118188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5867280" y="6250680"/>
                    <a:ext cx="1582920" cy="3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183720" y="595512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658920" y="595512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183720" y="565956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6658920" y="5105520"/>
                    <a:ext cx="316440" cy="295200"/>
                    <a:chOff x="6658920" y="5105520"/>
                    <a:chExt cx="316440" cy="29520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6658920" y="5253120"/>
                      <a:ext cx="31644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6658920" y="52531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6817320" y="51055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6975360" y="52531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05" name=""/>
                <p:cNvSpPr/>
                <p:nvPr/>
              </p:nvSpPr>
              <p:spPr>
                <a:xfrm>
                  <a:off x="7450920" y="6151680"/>
                  <a:ext cx="168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4876920" y="56386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6248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248520" y="3352680"/>
            <a:ext cx="1981080" cy="2286000"/>
            <a:chOff x="6248520" y="3352680"/>
            <a:chExt cx="1981080" cy="2286000"/>
          </a:xfrm>
        </p:grpSpPr>
        <p:grpSp>
          <p:nvGrpSpPr>
            <p:cNvPr id="309" name=""/>
            <p:cNvGrpSpPr/>
            <p:nvPr/>
          </p:nvGrpSpPr>
          <p:grpSpPr>
            <a:xfrm>
              <a:off x="6248520" y="3352680"/>
              <a:ext cx="1752120" cy="1752840"/>
              <a:chOff x="6248520" y="3352680"/>
              <a:chExt cx="1752120" cy="175284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6248520" y="3352680"/>
                <a:ext cx="1752120" cy="1503360"/>
                <a:chOff x="6248520" y="3352680"/>
                <a:chExt cx="1752120" cy="15033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248520" y="335268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6248520" y="3352680"/>
                  <a:ext cx="1752120" cy="1503360"/>
                  <a:chOff x="6248520" y="3352680"/>
                  <a:chExt cx="1752120" cy="150336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6248520" y="4498920"/>
                    <a:ext cx="1582560" cy="36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564240" y="4201920"/>
                    <a:ext cx="317160" cy="297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7040520" y="3490920"/>
                    <a:ext cx="31536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564240" y="3906720"/>
                    <a:ext cx="317160" cy="2952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7040520" y="3352680"/>
                    <a:ext cx="315360" cy="295200"/>
                    <a:chOff x="7040520" y="3352680"/>
                    <a:chExt cx="315360" cy="29520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7040520" y="3500280"/>
                      <a:ext cx="31536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704052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7198200" y="33526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35588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2" name=""/>
                  <p:cNvSpPr/>
                  <p:nvPr/>
                </p:nvSpPr>
                <p:spPr>
                  <a:xfrm>
                    <a:off x="7832520" y="4398840"/>
                    <a:ext cx="1681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 flipV="1">
                <a:off x="6705720" y="4495680"/>
                <a:ext cx="38088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7467480" y="5638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629400" y="1523880"/>
            <a:ext cx="1905120" cy="2438640"/>
            <a:chOff x="6629400" y="1523880"/>
            <a:chExt cx="1905120" cy="2438640"/>
          </a:xfrm>
        </p:grpSpPr>
        <p:grpSp>
          <p:nvGrpSpPr>
            <p:cNvPr id="326" name=""/>
            <p:cNvGrpSpPr/>
            <p:nvPr/>
          </p:nvGrpSpPr>
          <p:grpSpPr>
            <a:xfrm>
              <a:off x="6629400" y="1523880"/>
              <a:ext cx="1752480" cy="1503360"/>
              <a:chOff x="6629400" y="1523880"/>
              <a:chExt cx="1752480" cy="1503360"/>
            </a:xfrm>
          </p:grpSpPr>
          <p:sp>
            <p:nvSpPr>
              <p:cNvPr id="327" name=""/>
              <p:cNvSpPr/>
              <p:nvPr/>
            </p:nvSpPr>
            <p:spPr>
              <a:xfrm>
                <a:off x="6629400" y="152388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6629400" y="1523880"/>
                <a:ext cx="1752480" cy="1503360"/>
                <a:chOff x="6629400" y="1523880"/>
                <a:chExt cx="1752480" cy="15033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629400" y="267012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945480" y="2373480"/>
                  <a:ext cx="31716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43680" y="1792440"/>
                  <a:ext cx="31608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45480" y="2077920"/>
                  <a:ext cx="31716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7421400" y="1523880"/>
                  <a:ext cx="316080" cy="295200"/>
                  <a:chOff x="7421400" y="1523880"/>
                  <a:chExt cx="316080" cy="29520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7421400" y="1671480"/>
                    <a:ext cx="31608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421400" y="16714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7579440" y="15238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737480" y="16714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" name=""/>
                <p:cNvSpPr/>
                <p:nvPr/>
              </p:nvSpPr>
              <p:spPr>
                <a:xfrm>
                  <a:off x="8213760" y="2570040"/>
                  <a:ext cx="168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 flipV="1">
              <a:off x="7010280" y="266652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48720" y="3962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62120" y="1600200"/>
            <a:ext cx="4343400" cy="3255840"/>
            <a:chOff x="762120" y="1600200"/>
            <a:chExt cx="4343400" cy="3255840"/>
          </a:xfrm>
        </p:grpSpPr>
        <p:grpSp>
          <p:nvGrpSpPr>
            <p:cNvPr id="342" name=""/>
            <p:cNvGrpSpPr/>
            <p:nvPr/>
          </p:nvGrpSpPr>
          <p:grpSpPr>
            <a:xfrm>
              <a:off x="762120" y="1600200"/>
              <a:ext cx="4343400" cy="3255840"/>
              <a:chOff x="762120" y="1600200"/>
              <a:chExt cx="4343400" cy="325584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3352680" y="1600200"/>
                <a:ext cx="1752840" cy="1503360"/>
                <a:chOff x="3352680" y="1600200"/>
                <a:chExt cx="1752840" cy="15033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3352680" y="160020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3352680" y="1600200"/>
                  <a:ext cx="1752840" cy="1503360"/>
                  <a:chOff x="3352680" y="1600200"/>
                  <a:chExt cx="1752840" cy="150336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3352680" y="2746440"/>
                    <a:ext cx="1582920" cy="36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3668760" y="2449440"/>
                    <a:ext cx="317520" cy="297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145040" y="1738440"/>
                    <a:ext cx="31572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668760" y="2154240"/>
                    <a:ext cx="317520" cy="2952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4145040" y="1600200"/>
                    <a:ext cx="315720" cy="295200"/>
                    <a:chOff x="4145040" y="1600200"/>
                    <a:chExt cx="315720" cy="29520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4145040" y="1747800"/>
                      <a:ext cx="31572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145040" y="17478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303080" y="16002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4460760" y="17478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5" name=""/>
                  <p:cNvSpPr/>
                  <p:nvPr/>
                </p:nvSpPr>
                <p:spPr>
                  <a:xfrm>
                    <a:off x="4937040" y="2646360"/>
                    <a:ext cx="1684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6" name=""/>
              <p:cNvGrpSpPr/>
              <p:nvPr/>
            </p:nvGrpSpPr>
            <p:grpSpPr>
              <a:xfrm>
                <a:off x="762120" y="3352680"/>
                <a:ext cx="1752480" cy="1503360"/>
                <a:chOff x="762120" y="3352680"/>
                <a:chExt cx="1752480" cy="15033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62120" y="337032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762120" y="3352680"/>
                  <a:ext cx="1752480" cy="1503360"/>
                  <a:chOff x="762120" y="3352680"/>
                  <a:chExt cx="1752480" cy="15033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762120" y="4498920"/>
                    <a:ext cx="1582560" cy="3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078200" y="4202280"/>
                    <a:ext cx="31716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1554120" y="4202280"/>
                    <a:ext cx="31608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1555920" y="3500280"/>
                    <a:ext cx="31752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1554120" y="3352680"/>
                    <a:ext cx="316080" cy="295200"/>
                    <a:chOff x="1554120" y="3352680"/>
                    <a:chExt cx="316080" cy="29520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1554120" y="3500280"/>
                      <a:ext cx="31608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155412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1712160" y="33526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187020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8" name=""/>
                  <p:cNvSpPr/>
                  <p:nvPr/>
                </p:nvSpPr>
                <p:spPr>
                  <a:xfrm>
                    <a:off x="2346480" y="4398840"/>
                    <a:ext cx="1681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9" name=""/>
              <p:cNvSpPr/>
              <p:nvPr/>
            </p:nvSpPr>
            <p:spPr>
              <a:xfrm>
                <a:off x="2362320" y="213372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523880" y="28195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552320" y="2895480"/>
              <a:ext cx="14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stack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15520" y="175248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ickup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90080" y="3200400"/>
            <a:ext cx="8716680" cy="581400"/>
          </a:xfrm>
          <a:prstGeom prst="rect">
            <a:avLst/>
          </a:prstGeom>
          <a:solidFill>
            <a:srgbClr val="ffe5f8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Forward planning ricerca lo spazio degli s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4480" y="4648320"/>
            <a:ext cx="8050320" cy="1068840"/>
          </a:xfrm>
          <a:prstGeom prst="rect">
            <a:avLst/>
          </a:prstGeom>
          <a:solidFill>
            <a:srgbClr val="ffe5e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 generale, molte azioni applicabili 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o stato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fattore di branching en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oni Rileva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azione è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rileva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un goal se uno dei suoi effetti combacia con una proposizione del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(B,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HOLDING(B), BLOCK(A), CLEA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ON(B,A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(A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ING(B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CLEAR(B), HANDEMP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rilevante per ON(B,A), ON(C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44880" y="1676520"/>
            <a:ext cx="219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ON(C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78800" y="236232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ack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41200" y="2971800"/>
            <a:ext cx="3955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HOLDING(C), 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400800" y="1676520"/>
            <a:ext cx="1752480" cy="1503360"/>
            <a:chOff x="6400800" y="1676520"/>
            <a:chExt cx="1752480" cy="1503360"/>
          </a:xfrm>
        </p:grpSpPr>
        <p:sp>
          <p:nvSpPr>
            <p:cNvPr id="382" name=""/>
            <p:cNvSpPr/>
            <p:nvPr/>
          </p:nvSpPr>
          <p:spPr>
            <a:xfrm>
              <a:off x="6400800" y="167652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400800" y="1676520"/>
              <a:ext cx="1752480" cy="1503360"/>
              <a:chOff x="6400800" y="1676520"/>
              <a:chExt cx="1752480" cy="150336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6400800" y="1676520"/>
                <a:ext cx="1582560" cy="1181880"/>
                <a:chOff x="6400800" y="1676520"/>
                <a:chExt cx="1582560" cy="11818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6400800" y="282168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71724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19208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717240" y="223056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7192080" y="1676520"/>
                  <a:ext cx="316440" cy="295200"/>
                  <a:chOff x="7192080" y="1676520"/>
                  <a:chExt cx="316440" cy="2952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7192080" y="182412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19208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350480" y="1676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750852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4" name=""/>
              <p:cNvSpPr/>
              <p:nvPr/>
            </p:nvSpPr>
            <p:spPr>
              <a:xfrm>
                <a:off x="7984440" y="272268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4100400" y="2087640"/>
            <a:ext cx="14400" cy="88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69760" y="2075040"/>
            <a:ext cx="536760" cy="42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92480" y="2090880"/>
            <a:ext cx="1422360" cy="3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90360" y="3962520"/>
            <a:ext cx="7697160" cy="2043720"/>
          </a:xfrm>
          <a:prstGeom prst="rect">
            <a:avLst/>
          </a:prstGeom>
          <a:solidFill>
            <a:srgbClr val="efffe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In generale, ci sono molte meno azioni 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rilevanti per un goal che 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applicabili 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 fattore di branching p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piccolo che con il forward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379600" y="16081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ON(C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46800" y="198900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ack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61480" y="229392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HOLDING(C), 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400800" y="1676520"/>
            <a:ext cx="1752480" cy="1503360"/>
            <a:chOff x="6400800" y="1676520"/>
            <a:chExt cx="1752480" cy="1503360"/>
          </a:xfrm>
        </p:grpSpPr>
        <p:sp>
          <p:nvSpPr>
            <p:cNvPr id="403" name=""/>
            <p:cNvSpPr/>
            <p:nvPr/>
          </p:nvSpPr>
          <p:spPr>
            <a:xfrm>
              <a:off x="6400800" y="167652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400800" y="1676520"/>
              <a:ext cx="1752480" cy="1503360"/>
              <a:chOff x="6400800" y="1676520"/>
              <a:chExt cx="1752480" cy="15033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6400800" y="1676520"/>
                <a:ext cx="1582560" cy="1181880"/>
                <a:chOff x="6400800" y="1676520"/>
                <a:chExt cx="1582560" cy="11818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400800" y="282168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71724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19208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717240" y="223056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7192080" y="1676520"/>
                  <a:ext cx="316440" cy="295200"/>
                  <a:chOff x="7192080" y="1676520"/>
                  <a:chExt cx="316440" cy="2952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7192080" y="182412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19208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350480" y="1676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50852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5" name=""/>
              <p:cNvSpPr/>
              <p:nvPr/>
            </p:nvSpPr>
            <p:spPr>
              <a:xfrm>
                <a:off x="7984440" y="272268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6" name=""/>
          <p:cNvSpPr/>
          <p:nvPr/>
        </p:nvSpPr>
        <p:spPr>
          <a:xfrm>
            <a:off x="3454560" y="198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225600" y="1989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90360" y="3284640"/>
            <a:ext cx="8949600" cy="2760840"/>
            <a:chOff x="90360" y="3284640"/>
            <a:chExt cx="8949600" cy="2760840"/>
          </a:xfrm>
        </p:grpSpPr>
        <p:sp>
          <p:nvSpPr>
            <p:cNvPr id="419" name=""/>
            <p:cNvSpPr/>
            <p:nvPr/>
          </p:nvSpPr>
          <p:spPr>
            <a:xfrm>
              <a:off x="90360" y="4275000"/>
              <a:ext cx="89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C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C,TAVOLO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A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ANDEMPTY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B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B,TAVOL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965880" y="3284640"/>
              <a:ext cx="7241400" cy="2760840"/>
              <a:chOff x="965880" y="3284640"/>
              <a:chExt cx="7241400" cy="2760840"/>
            </a:xfrm>
          </p:grpSpPr>
          <p:sp>
            <p:nvSpPr>
              <p:cNvPr id="421" name=""/>
              <p:cNvSpPr/>
              <p:nvPr/>
            </p:nvSpPr>
            <p:spPr>
              <a:xfrm>
                <a:off x="965880" y="3589200"/>
                <a:ext cx="598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C), ON(C,TAVOLO), HOLDING(B), CLEAR(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43920" y="3284640"/>
                <a:ext cx="120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Stack(B,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36360" y="3970440"/>
                <a:ext cx="113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Pickup(B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36720" y="4579920"/>
                <a:ext cx="1355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Putdown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2840" y="4960800"/>
                <a:ext cx="598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A), CLEAR(B), ON(B,TAVOLO), HOLDING(C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35280" y="5342040"/>
                <a:ext cx="147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Unstack(C,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092240" y="5646600"/>
                <a:ext cx="711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B), ON(B,TAVOLO), CLEAR(C), HANDEMPTY, ON(C,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54560" y="3360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54560" y="3970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54560" y="46562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54560" y="5342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3225600" y="336060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3225600" y="39704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3225600" y="46562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3225600" y="53420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31920" y="2674800"/>
            <a:ext cx="7115040" cy="703800"/>
            <a:chOff x="331920" y="2674800"/>
            <a:chExt cx="7115040" cy="703800"/>
          </a:xfrm>
        </p:grpSpPr>
        <p:sp>
          <p:nvSpPr>
            <p:cNvPr id="437" name=""/>
            <p:cNvSpPr/>
            <p:nvPr/>
          </p:nvSpPr>
          <p:spPr>
            <a:xfrm>
              <a:off x="3636720" y="267480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ahoma"/>
                </a:rPr>
                <a:t>Pickup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1920" y="2979720"/>
              <a:ext cx="71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B,A), CLEAR(B), HANDEMPTY, CLEAR(C), ON(C,TAVOL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54560" y="2674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225600" y="267480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90800" y="3200400"/>
            <a:ext cx="8651160" cy="581400"/>
          </a:xfrm>
          <a:prstGeom prst="rect">
            <a:avLst/>
          </a:prstGeom>
          <a:solidFill>
            <a:srgbClr val="ffe5f8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Backward planning ricerca lo spazio dei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“produrre” un P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164160" indent="-164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-165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z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incipi pri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noscenza delle azioni) per generare un p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-165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ied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delli formali delle azio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160" indent="-164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-Based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-1652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cupe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 piano già prodotto per una situazione 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-1652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visio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l piano recuperato per adattarlo al problema in og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160" indent="-164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em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-165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gui azioni a caso, registrando gli eff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-165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di ricompense, modelli di azioni, poli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nzioni Tip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168840" indent="-168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 atomico: ogni azione è indivis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ioni concorrenti non sono ammesse (anche se le azioni non hanno bisogno di essere ordinate fra loro nel pia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ioni deterministiche: il risultato delle azioni è completamente determinato, non c’è incertezza nel loro eff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gente è la sola causa di cambiamento del mo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gente è omniscente: ha conoscenza completa dello stato del m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osed World Assum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utto quello che si sa vero è incluso nella descrizione dello stato. Ciò che non è descritto è f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vs. 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180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e problem solving possono spesso risolvere lo stesso tipo d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0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è più potente per le rappresentazioni e i metodi us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0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, goal, e azioni sono decomposte in insiemi di sentenze (usualmente in F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0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ricerca spesso procede attraverso lo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pazio dei pia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ece dello spazio degli stat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che se esistono pianificatori basati sugli sta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0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goal possono essere pianificati indipendentemente, rideucendo la complessità del problema di pianif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La funzione successore è un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lack box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: deve essere “applicata” ad uno stato per conoscere quali azioni sono possibili nello stato e quale è l’effetto di ogn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75280" y="4807080"/>
            <a:ext cx="5414040" cy="825480"/>
          </a:xfrm>
          <a:prstGeom prst="rect">
            <a:avLst/>
          </a:prstGeom>
          <a:solidFill>
            <a:srgbClr val="ffdd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trimenti, nel mondo reale un agent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rebbe sopraffatto da azioni irrilev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676520"/>
            <a:ext cx="7315200" cy="3047760"/>
          </a:xfrm>
          <a:prstGeom prst="rect">
            <a:avLst/>
          </a:prstGeom>
          <a:solidFill>
            <a:srgbClr val="f7efcd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676520"/>
            <a:ext cx="723924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Supponiamo che il goal sia HAVE(MILK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Da qualche stato iniziale dove HAVE(MILK) non è soddisfatto, la funzione successore deve essere applicata ripetutamente per generare eventualmente uno stato dove HAVE(MILK) è soddisfat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Una rappresentazione esplicita delle azioni possibili e i loro effetti aiuterebbe il problem solver </a:t>
            </a:r>
            <a:br>
              <a:rPr sz="2200"/>
            </a:b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a selezionare le azioni rilevan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l test di goal è un’altra funzione black-box, gli stati sono strutture dati specializzate sul dominio, e le euristiche devono essere fornite per ogni nuov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676520"/>
            <a:ext cx="7315200" cy="3047760"/>
          </a:xfrm>
          <a:prstGeom prst="rect">
            <a:avLst/>
          </a:prstGeom>
          <a:solidFill>
            <a:srgbClr val="009999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1676520"/>
            <a:ext cx="723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upponiamo che il goal 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VE(MILK)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VE(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nza una rappresentazione esplicita del goal, il problem solver non può sapere che uno stato dove HAVE(MILK) è già raggiunto è più promettente di uno stato dove né HAVE(MILK) né HAVE(BOOK) è raggi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l goal può consistere di tanti sottogoal indipendenti, ma non c’è modo che il problem solver lo sa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02760" y="2286000"/>
            <a:ext cx="6330240" cy="1191240"/>
          </a:xfrm>
          <a:prstGeom prst="rect">
            <a:avLst/>
          </a:prstGeom>
          <a:solidFill>
            <a:srgbClr val="ffebeb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AVE(MILK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 HAVE(BOOK) possono ess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aggiunti da due sequenze di azioni qua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dipen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: rappresent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 planning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apre le black-bo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sando la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gic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r rappresent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570760" y="3276720"/>
            <a:ext cx="6272280" cy="1495800"/>
            <a:chOff x="2570760" y="3276720"/>
            <a:chExt cx="6272280" cy="1495800"/>
          </a:xfrm>
        </p:grpSpPr>
        <p:sp>
          <p:nvSpPr>
            <p:cNvPr id="67" name=""/>
            <p:cNvSpPr/>
            <p:nvPr/>
          </p:nvSpPr>
          <p:spPr>
            <a:xfrm>
              <a:off x="2570760" y="3276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blem sol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68000" y="3276720"/>
              <a:ext cx="38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appresentazioni Logic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69600" y="4191120"/>
              <a:ext cx="1870920" cy="581400"/>
            </a:xfrm>
            <a:prstGeom prst="rect">
              <a:avLst/>
            </a:prstGeom>
            <a:solidFill>
              <a:srgbClr val="e1ffe1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Plann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365760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181480" y="3657600"/>
              <a:ext cx="1295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8:04:48Z</dcterms:created>
  <dc:creator> Alessandro Sperduti</dc:creator>
  <dc:description/>
  <dc:language>en-US</dc:language>
  <cp:lastModifiedBy> Alessandro Sperduti</cp:lastModifiedBy>
  <dcterms:modified xsi:type="dcterms:W3CDTF">2005-05-18T08:04:59Z</dcterms:modified>
  <cp:revision>1</cp:revision>
  <dc:subject/>
  <dc:title>Pianificazione (Planning)</dc:title>
</cp:coreProperties>
</file>