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ACD75-8D63-4E21-9BFF-0BCB124A9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E7B0E-29E2-4D86-9C30-FF4E94BD1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1A35-DCBB-456F-A5FD-7F3DFF38BE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24993-CADA-4F1E-8753-008D9AD247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5F38E-4978-4427-9E9C-786E9D07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0B4C4-A90E-46A5-982D-6DA0340D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EDB5A-08BD-44D3-B7D5-73D3764C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31357-2EC4-4E1F-9706-B0F3947D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8734C-A3D9-4CAF-93C0-34F5DC56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281D9-BAC5-4CDD-9422-0D7C2D43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28E2E7-D3DD-4C0E-B03E-6772B8A11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A288F-EAC2-4D4F-A3B7-E87CC7B97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461A8-0DB4-461F-9568-76E148E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F69FF-A923-46BF-B858-E36CAA824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33E673-62B0-4629-BEEC-5CB58097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D88AD-53C4-4C2F-BB76-F98C9B5D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12B7D-6EE3-41DF-920C-F316AEEE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1966C-2C87-4760-BCE7-3529F498509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BDF8C-6877-4AD4-A024-D05251433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643B-E0B5-45B6-85B5-838510AC5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C14FD-1FB2-40A3-8F17-C0C7F1E3A0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25AE-7F02-4C09-BA73-CE81DB40D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5B30-B7DF-4C59-881D-C64871503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78F37-2E03-4026-91E3-A5069136AE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4240" indent="-225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601640" indent="-2332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A7CC-E166-4417-91A4-6EDBC08C67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7160" y="-7236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1" marL="735480" indent="-28296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2" marL="1131480" indent="-226080">
              <a:spcBef>
                <a:spcPts val="799"/>
              </a:spcBef>
              <a:buClr>
                <a:srgbClr val="96969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3" marL="158400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4" marL="2036520" indent="-22608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6969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69696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969696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69696"/>
                </a:solidFill>
                <a:latin typeface="Tw Cen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9966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BFDD9-A161-4E72-BBDC-FABDE152B434}" type="slidenum">
              <a:rPr b="0" lang="en-GB" sz="2400" spc="-1" strike="noStrike">
                <a:solidFill>
                  <a:srgbClr val="9966ff"/>
                </a:solidFill>
                <a:latin typeface="Tw Cen MT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Click to edit the title text format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ning in STRIP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PS mantiene due strutture da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a di Sta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tutti i predicati correntemente ver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la di Go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una pila di goal da risolvere, con il goal corrente in testa alla pil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il goal corrente non è soddisfatto dallo stato presente, esamina gli effetti positivi degli operatori, e inserisce l’operatore e la lista delle precondizioni sulla pila.  (Subgo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il goal corrente è soddisfatto, lo rimuove dalla pi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un operatore è in testa alla pila, registra l’applicazione dell’operatore sulla sequenza del piano e usa gli effetti per aggiornare lo stato corr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37799-498F-4881-9A52-0D4332F620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iano Non-linear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07000" indent="-20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 Un insieme 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ass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gni passo ha la descrizione di un operatore, precondizioni e post-condizio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 Un insieme 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link caus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…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…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 significa che uno dei propositi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è di raggiungere la precondizione C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 Un insieme di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vincoli di ordina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 …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40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 caso in cui i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ve venire prima del pass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iano non-linear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mpl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ni passo menzionato in (2) e (3) è in 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 prerequisito C, allora esiste un link causale in (2) nella forma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er qualch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-208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è in (2) e il pass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in (1), 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minaccia” (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C,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(rende C falso), allora (3) contien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1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E18D-A8F5-4B87-8595-00749D45B0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 Piano Inizi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piano inizia nello stesso 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758040" y="3124080"/>
            <a:ext cx="1628280" cy="2590920"/>
            <a:chOff x="3758040" y="3124080"/>
            <a:chExt cx="1628280" cy="2590920"/>
          </a:xfrm>
        </p:grpSpPr>
        <p:sp>
          <p:nvSpPr>
            <p:cNvPr id="294" name=""/>
            <p:cNvSpPr/>
            <p:nvPr/>
          </p:nvSpPr>
          <p:spPr>
            <a:xfrm>
              <a:off x="4114800" y="312408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91120" y="32767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6" name=""/>
            <p:cNvGrpSpPr/>
            <p:nvPr/>
          </p:nvGrpSpPr>
          <p:grpSpPr>
            <a:xfrm>
              <a:off x="4114800" y="5029200"/>
              <a:ext cx="1020600" cy="685800"/>
              <a:chOff x="4114800" y="5029200"/>
              <a:chExt cx="1020600" cy="685800"/>
            </a:xfrm>
          </p:grpSpPr>
          <p:sp>
            <p:nvSpPr>
              <p:cNvPr id="297" name=""/>
              <p:cNvSpPr/>
              <p:nvPr/>
            </p:nvSpPr>
            <p:spPr>
              <a:xfrm>
                <a:off x="4114800" y="502920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14800" y="523080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9" name=""/>
            <p:cNvSpPr/>
            <p:nvPr/>
          </p:nvSpPr>
          <p:spPr>
            <a:xfrm>
              <a:off x="3758040" y="3809880"/>
              <a:ext cx="162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Inizi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927960" y="4648320"/>
              <a:ext cx="122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tato Go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72000" y="380988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6E1D0-4FBA-402A-8F17-37046E6E8F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sempio Bana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06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55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06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59720" y="3429000"/>
            <a:ext cx="2462040" cy="2590920"/>
            <a:chOff x="459720" y="3429000"/>
            <a:chExt cx="2462040" cy="2590920"/>
          </a:xfrm>
        </p:grpSpPr>
        <p:sp>
          <p:nvSpPr>
            <p:cNvPr id="305" name=""/>
            <p:cNvSpPr/>
            <p:nvPr/>
          </p:nvSpPr>
          <p:spPr>
            <a:xfrm>
              <a:off x="1265400" y="3429000"/>
              <a:ext cx="990720" cy="685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341720" y="358164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1:St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7" name=""/>
            <p:cNvGrpSpPr/>
            <p:nvPr/>
          </p:nvGrpSpPr>
          <p:grpSpPr>
            <a:xfrm>
              <a:off x="1265400" y="5334120"/>
              <a:ext cx="1020600" cy="685800"/>
              <a:chOff x="1265400" y="5334120"/>
              <a:chExt cx="1020600" cy="685800"/>
            </a:xfrm>
          </p:grpSpPr>
          <p:sp>
            <p:nvSpPr>
              <p:cNvPr id="308" name=""/>
              <p:cNvSpPr/>
              <p:nvPr/>
            </p:nvSpPr>
            <p:spPr>
              <a:xfrm>
                <a:off x="1265400" y="5334120"/>
                <a:ext cx="996840" cy="685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265400" y="5535720"/>
                <a:ext cx="1020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imes New Roman"/>
                  </a:rPr>
                  <a:t>S2:Finis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30440" y="411480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9720" y="4977000"/>
              <a:ext cx="246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RightShoeOn  ^ LeftShoe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22600" y="4114800"/>
              <a:ext cx="0" cy="121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3505320" y="3657600"/>
            <a:ext cx="48006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: {S1:[Op(Action:Start)]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2:[Op(Action:Finish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: RightShoeOn^LeftShoeOn)]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: {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inamenti: {S1&lt;S2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F5D5-D2F5-4FC9-89B4-AB8AC3516E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213372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9520" y="3352680"/>
            <a:ext cx="9903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3352680"/>
            <a:ext cx="99072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724280" y="4572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19520" y="4572000"/>
            <a:ext cx="99036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9880" y="5715000"/>
            <a:ext cx="99072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335232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343400" y="297180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181480" y="41911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42900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4495320" y="5410080"/>
            <a:ext cx="6858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6AE1D-05D6-4660-A9A9-C8E99BD051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P: vincoli ed euristich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giungere solo passi che raggiungono una precondizione correntemente non raggiu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e un approccio a minimo-impegn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ordinare passi a meno che non sia strettamente necess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orare link causal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eggo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a condizion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aggiungere mai un passo intermedio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e viol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una azione parallela minaccia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eate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ioè, ha l’effetto di negare (in gergo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bber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risolvere la minaccia aggiungendo vincoli temporal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ima di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, opp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332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dinare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po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mo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59040" y="350532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0C592-AE5D-4D25-94ED-19AD8749D8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rcRect l="0" t="12121" r="15686" b="48485"/>
          <a:stretch/>
        </p:blipFill>
        <p:spPr>
          <a:xfrm>
            <a:off x="0" y="990720"/>
            <a:ext cx="8507520" cy="51451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1908000" y="51037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ac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79480" y="5103720"/>
            <a:ext cx="11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81120" y="51037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isoluzione delle Minacc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2935B-D8F6-4796-8CED-010F3C9B37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ning Non-linear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219320" y="3809880"/>
            <a:ext cx="670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3AAA7-E4C4-48F5-AF00-3C71C20F01E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248520" y="1523880"/>
            <a:ext cx="2666880" cy="2743200"/>
            <a:chOff x="6248520" y="1523880"/>
            <a:chExt cx="2666880" cy="2743200"/>
          </a:xfrm>
        </p:grpSpPr>
        <p:sp>
          <p:nvSpPr>
            <p:cNvPr id="350" name=""/>
            <p:cNvSpPr/>
            <p:nvPr/>
          </p:nvSpPr>
          <p:spPr>
            <a:xfrm>
              <a:off x="6248520" y="1523880"/>
              <a:ext cx="121896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696080" y="3962520"/>
              <a:ext cx="1219320" cy="30456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58000" y="1828800"/>
              <a:ext cx="1447920" cy="2133720"/>
            </a:xfrm>
            <a:prstGeom prst="line">
              <a:avLst/>
            </a:prstGeom>
            <a:ln w="93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59200" y="1219320"/>
            <a:ext cx="3394800" cy="1254960"/>
            <a:chOff x="1159200" y="1219320"/>
            <a:chExt cx="3394800" cy="1254960"/>
          </a:xfrm>
        </p:grpSpPr>
        <p:sp>
          <p:nvSpPr>
            <p:cNvPr id="355" name=""/>
            <p:cNvSpPr/>
            <p:nvPr/>
          </p:nvSpPr>
          <p:spPr>
            <a:xfrm>
              <a:off x="1159200" y="2014560"/>
              <a:ext cx="3394800" cy="459720"/>
            </a:xfrm>
            <a:prstGeom prst="rect">
              <a:avLst/>
            </a:prstGeom>
            <a:solidFill>
              <a:srgbClr val="fff5cd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ahoma"/>
                </a:rPr>
                <a:t>Il piano è incomple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743200" y="1219320"/>
              <a:ext cx="228600" cy="761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1077480" y="762120"/>
            <a:ext cx="6618600" cy="3581280"/>
            <a:chOff x="1077480" y="762120"/>
            <a:chExt cx="6618600" cy="3581280"/>
          </a:xfrm>
        </p:grpSpPr>
        <p:grpSp>
          <p:nvGrpSpPr>
            <p:cNvPr id="358" name=""/>
            <p:cNvGrpSpPr/>
            <p:nvPr/>
          </p:nvGrpSpPr>
          <p:grpSpPr>
            <a:xfrm>
              <a:off x="1077480" y="762120"/>
              <a:ext cx="5018400" cy="459720"/>
              <a:chOff x="1077480" y="762120"/>
              <a:chExt cx="5018400" cy="459720"/>
            </a:xfrm>
          </p:grpSpPr>
          <p:sp>
            <p:nvSpPr>
              <p:cNvPr id="359" name=""/>
              <p:cNvSpPr/>
              <p:nvPr/>
            </p:nvSpPr>
            <p:spPr>
              <a:xfrm>
                <a:off x="1077480" y="762120"/>
                <a:ext cx="3440520" cy="459720"/>
              </a:xfrm>
              <a:prstGeom prst="rect">
                <a:avLst/>
              </a:prstGeom>
              <a:solidFill>
                <a:srgbClr val="fff5cd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990000"/>
                    </a:solidFill>
                    <a:latin typeface="Tahoma"/>
                  </a:rPr>
                  <a:t>Precondizioni Apert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4267080" y="838080"/>
                <a:ext cx="1828800" cy="15264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4267080" y="990720"/>
              <a:ext cx="3429000" cy="3352680"/>
            </a:xfrm>
            <a:prstGeom prst="line">
              <a:avLst/>
            </a:prstGeom>
            <a:ln w="936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94BD-CC01-46EA-8549-6872848BAB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49800" y="53352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68560" y="4572000"/>
            <a:ext cx="17323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HOLDING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C,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3809880"/>
            <a:ext cx="518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066680" y="1752480"/>
            <a:ext cx="6477120" cy="3733920"/>
            <a:chOff x="1066680" y="1752480"/>
            <a:chExt cx="6477120" cy="3733920"/>
          </a:xfrm>
        </p:grpSpPr>
        <p:sp>
          <p:nvSpPr>
            <p:cNvPr id="377" name=""/>
            <p:cNvSpPr/>
            <p:nvPr/>
          </p:nvSpPr>
          <p:spPr>
            <a:xfrm>
              <a:off x="1066680" y="5181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324480" y="1752480"/>
              <a:ext cx="1219320" cy="304920"/>
            </a:xfrm>
            <a:prstGeom prst="ellipse">
              <a:avLst/>
            </a:prstGeom>
            <a:noFill/>
            <a:ln w="9360">
              <a:solidFill>
                <a:srgbClr val="cc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2286000" y="2057400"/>
              <a:ext cx="4800600" cy="3276360"/>
              <a:chOff x="2286000" y="2057400"/>
              <a:chExt cx="4800600" cy="3276360"/>
            </a:xfrm>
          </p:grpSpPr>
          <p:sp>
            <p:nvSpPr>
              <p:cNvPr id="380" name=""/>
              <p:cNvSpPr/>
              <p:nvPr/>
            </p:nvSpPr>
            <p:spPr>
              <a:xfrm>
                <a:off x="5867280" y="4800600"/>
                <a:ext cx="1219320" cy="304920"/>
              </a:xfrm>
              <a:prstGeom prst="ellipse">
                <a:avLst/>
              </a:prstGeom>
              <a:noFill/>
              <a:ln w="93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286000" y="4952520"/>
                <a:ext cx="3581280" cy="381240"/>
              </a:xfrm>
              <a:prstGeom prst="line">
                <a:avLst/>
              </a:prstGeom>
              <a:ln w="9360">
                <a:solidFill>
                  <a:srgbClr val="cc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6477120" y="2057400"/>
                <a:ext cx="457200" cy="274320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40A4-796E-4484-9A2F-5382457014B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1219320" y="2590920"/>
            <a:ext cx="518148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63120-B8F6-4FDC-AB11-84ABC3767AD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199080"/>
            <a:ext cx="863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Esempio di funzionamento di STRIPS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5334120" y="1447920"/>
            <a:ext cx="2590560" cy="1939680"/>
            <a:chOff x="5334120" y="1447920"/>
            <a:chExt cx="2590560" cy="1939680"/>
          </a:xfrm>
        </p:grpSpPr>
        <p:grpSp>
          <p:nvGrpSpPr>
            <p:cNvPr id="121" name=""/>
            <p:cNvGrpSpPr/>
            <p:nvPr/>
          </p:nvGrpSpPr>
          <p:grpSpPr>
            <a:xfrm>
              <a:off x="6781680" y="1447920"/>
              <a:ext cx="685800" cy="685440"/>
              <a:chOff x="6781680" y="1447920"/>
              <a:chExt cx="685800" cy="685440"/>
            </a:xfrm>
          </p:grpSpPr>
          <p:sp>
            <p:nvSpPr>
              <p:cNvPr id="122" name=""/>
              <p:cNvSpPr/>
              <p:nvPr/>
            </p:nvSpPr>
            <p:spPr>
              <a:xfrm>
                <a:off x="6781680" y="144792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049880" y="161568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017480" y="163116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17720" y="16311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6781680" y="2057400"/>
              <a:ext cx="685800" cy="761760"/>
              <a:chOff x="6781680" y="2057400"/>
              <a:chExt cx="685800" cy="761760"/>
            </a:xfrm>
          </p:grpSpPr>
          <p:sp>
            <p:nvSpPr>
              <p:cNvPr id="127" name=""/>
              <p:cNvSpPr/>
              <p:nvPr/>
            </p:nvSpPr>
            <p:spPr>
              <a:xfrm>
                <a:off x="6781680" y="205740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089840" y="228420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63560" y="227844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63080" y="230112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5334120" y="2743200"/>
              <a:ext cx="2590560" cy="1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91320" y="22446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5629320" y="2095560"/>
              <a:ext cx="695160" cy="647640"/>
              <a:chOff x="5629320" y="2095560"/>
              <a:chExt cx="695160" cy="647640"/>
            </a:xfrm>
          </p:grpSpPr>
          <p:sp>
            <p:nvSpPr>
              <p:cNvPr id="134" name=""/>
              <p:cNvSpPr/>
              <p:nvPr/>
            </p:nvSpPr>
            <p:spPr>
              <a:xfrm>
                <a:off x="5629320" y="2095560"/>
                <a:ext cx="695160" cy="64764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33880" y="232416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6150240" y="22845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83440" y="3025800"/>
              <a:ext cx="48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67320" y="30258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07520" y="30258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43000" y="1409760"/>
            <a:ext cx="2590920" cy="1977840"/>
            <a:chOff x="1143000" y="1409760"/>
            <a:chExt cx="2590920" cy="1977840"/>
          </a:xfrm>
        </p:grpSpPr>
        <p:grpSp>
          <p:nvGrpSpPr>
            <p:cNvPr id="141" name=""/>
            <p:cNvGrpSpPr/>
            <p:nvPr/>
          </p:nvGrpSpPr>
          <p:grpSpPr>
            <a:xfrm>
              <a:off x="1523880" y="2057400"/>
              <a:ext cx="685800" cy="685440"/>
              <a:chOff x="1523880" y="2057400"/>
              <a:chExt cx="685800" cy="685440"/>
            </a:xfrm>
          </p:grpSpPr>
          <p:sp>
            <p:nvSpPr>
              <p:cNvPr id="142" name=""/>
              <p:cNvSpPr/>
              <p:nvPr/>
            </p:nvSpPr>
            <p:spPr>
              <a:xfrm>
                <a:off x="1523880" y="205740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2080" y="222516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59680" y="224064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059920" y="224064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590920" y="2057400"/>
              <a:ext cx="685800" cy="761760"/>
              <a:chOff x="2590920" y="2057400"/>
              <a:chExt cx="685800" cy="761760"/>
            </a:xfrm>
          </p:grpSpPr>
          <p:sp>
            <p:nvSpPr>
              <p:cNvPr id="147" name=""/>
              <p:cNvSpPr/>
              <p:nvPr/>
            </p:nvSpPr>
            <p:spPr>
              <a:xfrm>
                <a:off x="2590920" y="205740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99080" y="228420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72800" y="227844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172320" y="230112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143000" y="2743200"/>
              <a:ext cx="2590920" cy="14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00200" y="22446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1523880" y="1409760"/>
              <a:ext cx="695160" cy="647640"/>
              <a:chOff x="1523880" y="1409760"/>
              <a:chExt cx="695160" cy="647640"/>
            </a:xfrm>
          </p:grpSpPr>
          <p:sp>
            <p:nvSpPr>
              <p:cNvPr id="154" name=""/>
              <p:cNvSpPr/>
              <p:nvPr/>
            </p:nvSpPr>
            <p:spPr>
              <a:xfrm>
                <a:off x="1523880" y="1409760"/>
                <a:ext cx="695160" cy="64764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828440" y="163836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1959120" y="22845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092320" y="3025800"/>
              <a:ext cx="48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048120"/>
              <a:ext cx="155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16400" y="30258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948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Table(a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Table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able 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abl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PI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943600" y="4343400"/>
            <a:ext cx="2590920" cy="2248560"/>
            <a:chOff x="5943600" y="4343400"/>
            <a:chExt cx="2590920" cy="2248560"/>
          </a:xfrm>
        </p:grpSpPr>
        <p:grpSp>
          <p:nvGrpSpPr>
            <p:cNvPr id="164" name=""/>
            <p:cNvGrpSpPr/>
            <p:nvPr/>
          </p:nvGrpSpPr>
          <p:grpSpPr>
            <a:xfrm>
              <a:off x="6324480" y="4991040"/>
              <a:ext cx="685800" cy="685440"/>
              <a:chOff x="6324480" y="4991040"/>
              <a:chExt cx="685800" cy="685440"/>
            </a:xfrm>
          </p:grpSpPr>
          <p:sp>
            <p:nvSpPr>
              <p:cNvPr id="165" name=""/>
              <p:cNvSpPr/>
              <p:nvPr/>
            </p:nvSpPr>
            <p:spPr>
              <a:xfrm>
                <a:off x="6324480" y="499104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92680" y="515880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560280" y="517428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60520" y="517428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7391520" y="4991040"/>
              <a:ext cx="685800" cy="761760"/>
              <a:chOff x="7391520" y="4991040"/>
              <a:chExt cx="685800" cy="761760"/>
            </a:xfrm>
          </p:grpSpPr>
          <p:sp>
            <p:nvSpPr>
              <p:cNvPr id="170" name=""/>
              <p:cNvSpPr/>
              <p:nvPr/>
            </p:nvSpPr>
            <p:spPr>
              <a:xfrm>
                <a:off x="7391520" y="499104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99680" y="521784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673400" y="521208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972920" y="52347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943600" y="5676840"/>
              <a:ext cx="2590920" cy="1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1786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6324480" y="4343400"/>
              <a:ext cx="695160" cy="647640"/>
              <a:chOff x="6324480" y="4343400"/>
              <a:chExt cx="695160" cy="647640"/>
            </a:xfrm>
          </p:grpSpPr>
          <p:sp>
            <p:nvSpPr>
              <p:cNvPr id="177" name=""/>
              <p:cNvSpPr/>
              <p:nvPr/>
            </p:nvSpPr>
            <p:spPr>
              <a:xfrm>
                <a:off x="6324480" y="4343400"/>
                <a:ext cx="695160" cy="64764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29040" y="457200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" name=""/>
            <p:cNvSpPr/>
            <p:nvPr/>
          </p:nvSpPr>
          <p:spPr>
            <a:xfrm>
              <a:off x="6759720" y="52182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92920" y="5959440"/>
              <a:ext cx="48888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77120" y="5981760"/>
              <a:ext cx="155736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w Cen MT"/>
                </a:rPr>
                <a:t>Stato corr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17000" y="595944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29400" y="5162400"/>
              <a:ext cx="357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988320" y="520236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121520" y="5943600"/>
              <a:ext cx="48888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45600" y="5943600"/>
              <a:ext cx="6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w Cen MT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5715000" y="4343400"/>
            <a:ext cx="3048120" cy="1904760"/>
            <a:chOff x="5715000" y="4343400"/>
            <a:chExt cx="3048120" cy="1904760"/>
          </a:xfrm>
        </p:grpSpPr>
        <p:sp>
          <p:nvSpPr>
            <p:cNvPr id="188" name=""/>
            <p:cNvSpPr/>
            <p:nvPr/>
          </p:nvSpPr>
          <p:spPr>
            <a:xfrm>
              <a:off x="5715000" y="4343400"/>
              <a:ext cx="3048120" cy="190476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5791320" y="4724280"/>
              <a:ext cx="2590920" cy="1406520"/>
              <a:chOff x="5791320" y="4724280"/>
              <a:chExt cx="2590920" cy="1406520"/>
            </a:xfrm>
          </p:grpSpPr>
          <p:sp>
            <p:nvSpPr>
              <p:cNvPr id="190" name=""/>
              <p:cNvSpPr/>
              <p:nvPr/>
            </p:nvSpPr>
            <p:spPr>
              <a:xfrm>
                <a:off x="6664320" y="5769000"/>
                <a:ext cx="489240" cy="36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260760" y="5790960"/>
                <a:ext cx="170748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w Cen MT"/>
                  </a:rPr>
                  <a:t>Stato corren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088400" y="576900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6858000" y="4724280"/>
                <a:ext cx="685800" cy="685440"/>
                <a:chOff x="6858000" y="4724280"/>
                <a:chExt cx="685800" cy="68544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858000" y="472428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126200" y="489204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7093800" y="490752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394040" y="49075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7620120" y="4724280"/>
                <a:ext cx="685800" cy="685440"/>
                <a:chOff x="7620120" y="4724280"/>
                <a:chExt cx="685800" cy="685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620120" y="4724280"/>
                  <a:ext cx="685800" cy="68544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7928280" y="4928400"/>
                  <a:ext cx="335160" cy="38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902000" y="492336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201520" y="49435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" name=""/>
              <p:cNvSpPr/>
              <p:nvPr/>
            </p:nvSpPr>
            <p:spPr>
              <a:xfrm>
                <a:off x="5791320" y="5410080"/>
                <a:ext cx="259092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248520" y="491148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6019920" y="4724280"/>
                <a:ext cx="695160" cy="685440"/>
                <a:chOff x="6019920" y="4724280"/>
                <a:chExt cx="695160" cy="6854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6019920" y="4724280"/>
                  <a:ext cx="695160" cy="68544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324480" y="49662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6607440" y="495144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"/>
          <p:cNvGrpSpPr/>
          <p:nvPr/>
        </p:nvGrpSpPr>
        <p:grpSpPr>
          <a:xfrm>
            <a:off x="5638680" y="3657600"/>
            <a:ext cx="3048120" cy="2514600"/>
            <a:chOff x="5638680" y="3657600"/>
            <a:chExt cx="3048120" cy="2514600"/>
          </a:xfrm>
        </p:grpSpPr>
        <p:sp>
          <p:nvSpPr>
            <p:cNvPr id="210" name=""/>
            <p:cNvSpPr/>
            <p:nvPr/>
          </p:nvSpPr>
          <p:spPr>
            <a:xfrm>
              <a:off x="5638680" y="3657600"/>
              <a:ext cx="3048120" cy="2514600"/>
            </a:xfrm>
            <a:prstGeom prst="rect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7391520" y="4213440"/>
              <a:ext cx="685800" cy="685440"/>
              <a:chOff x="7391520" y="4213440"/>
              <a:chExt cx="685800" cy="685440"/>
            </a:xfrm>
          </p:grpSpPr>
          <p:sp>
            <p:nvSpPr>
              <p:cNvPr id="212" name=""/>
              <p:cNvSpPr/>
              <p:nvPr/>
            </p:nvSpPr>
            <p:spPr>
              <a:xfrm>
                <a:off x="7391520" y="4213440"/>
                <a:ext cx="685800" cy="685440"/>
              </a:xfrm>
              <a:prstGeom prst="rect">
                <a:avLst/>
              </a:prstGeom>
              <a:solidFill>
                <a:srgbClr val="99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659720" y="4381200"/>
                <a:ext cx="3499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627320" y="4396680"/>
                <a:ext cx="162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927560" y="439668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7391520" y="4822920"/>
              <a:ext cx="685800" cy="761760"/>
              <a:chOff x="7391520" y="4822920"/>
              <a:chExt cx="685800" cy="76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7391520" y="4822920"/>
                <a:ext cx="685800" cy="76176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699680" y="5049720"/>
                <a:ext cx="335160" cy="42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673400" y="5043960"/>
                <a:ext cx="1713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972920" y="506664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5943600" y="5508720"/>
              <a:ext cx="2590920" cy="14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6238800" y="4861080"/>
              <a:ext cx="695160" cy="647640"/>
              <a:chOff x="6238800" y="4861080"/>
              <a:chExt cx="695160" cy="647640"/>
            </a:xfrm>
          </p:grpSpPr>
          <p:sp>
            <p:nvSpPr>
              <p:cNvPr id="223" name=""/>
              <p:cNvSpPr/>
              <p:nvPr/>
            </p:nvSpPr>
            <p:spPr>
              <a:xfrm>
                <a:off x="6238800" y="4861080"/>
                <a:ext cx="695160" cy="647640"/>
              </a:xfrm>
              <a:prstGeom prst="rect">
                <a:avLst/>
              </a:prstGeom>
              <a:solidFill>
                <a:srgbClr val="99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543360" y="5089680"/>
                <a:ext cx="14616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000000"/>
                    </a:solidFill>
                    <a:latin typeface="Tw Cen MT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6400800" y="5791320"/>
              <a:ext cx="1905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w Cen MT"/>
                </a:rPr>
                <a:t>Stato corr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abl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ear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w Cen MT"/>
              </a:rPr>
              <a:t>Unstack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abl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w Cen MT"/>
              </a:rPr>
              <a:t>Unstack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abl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able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ear(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ear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w Cen MT"/>
              </a:rPr>
              <a:t>Stack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ear(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w Cen MT"/>
              </a:rPr>
              <a:t>Stack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365760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w Cen MT"/>
              </a:rPr>
              <a:t>Stack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On(c,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3733920"/>
            <a:ext cx="4800600" cy="25146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A3B615-3865-41DA-9AB8-6ADAD7AEEF37}" type="slidenum">
              <a:t>2</a:t>
            </a:fld>
          </a:p>
        </p:txBody>
      </p:sp>
    </p:spTree>
  </p:cSld>
  <p:transition spd="med">
    <p:randomBar dir="vert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219320" y="3048120"/>
            <a:ext cx="4800600" cy="1600200"/>
            <a:chOff x="1219320" y="3048120"/>
            <a:chExt cx="4800600" cy="1600200"/>
          </a:xfrm>
        </p:grpSpPr>
        <p:sp>
          <p:nvSpPr>
            <p:cNvPr id="418" name=""/>
            <p:cNvSpPr/>
            <p:nvPr/>
          </p:nvSpPr>
          <p:spPr>
            <a:xfrm>
              <a:off x="1219320" y="3809880"/>
              <a:ext cx="4800600" cy="8384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2976120" y="3048120"/>
              <a:ext cx="1453320" cy="1143000"/>
              <a:chOff x="2976120" y="3048120"/>
              <a:chExt cx="1453320" cy="1143000"/>
            </a:xfrm>
          </p:grpSpPr>
          <p:sp>
            <p:nvSpPr>
              <p:cNvPr id="420" name=""/>
              <p:cNvSpPr/>
              <p:nvPr/>
            </p:nvSpPr>
            <p:spPr>
              <a:xfrm>
                <a:off x="2976120" y="3048120"/>
                <a:ext cx="145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581280" y="3429000"/>
                <a:ext cx="0" cy="76212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4095000" y="1828800"/>
            <a:ext cx="2077200" cy="2743200"/>
            <a:chOff x="4095000" y="1828800"/>
            <a:chExt cx="2077200" cy="2743200"/>
          </a:xfrm>
        </p:grpSpPr>
        <p:sp>
          <p:nvSpPr>
            <p:cNvPr id="423" name=""/>
            <p:cNvSpPr/>
            <p:nvPr/>
          </p:nvSpPr>
          <p:spPr>
            <a:xfrm>
              <a:off x="5867280" y="1828800"/>
              <a:ext cx="304920" cy="2743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4" name=""/>
            <p:cNvGrpSpPr/>
            <p:nvPr/>
          </p:nvGrpSpPr>
          <p:grpSpPr>
            <a:xfrm>
              <a:off x="4095000" y="3504960"/>
              <a:ext cx="1924920" cy="493200"/>
              <a:chOff x="4095000" y="3504960"/>
              <a:chExt cx="1924920" cy="493200"/>
            </a:xfrm>
          </p:grpSpPr>
          <p:sp>
            <p:nvSpPr>
              <p:cNvPr id="425" name=""/>
              <p:cNvSpPr/>
              <p:nvPr/>
            </p:nvSpPr>
            <p:spPr>
              <a:xfrm>
                <a:off x="4095000" y="3538440"/>
                <a:ext cx="15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ahoma"/>
                  </a:rPr>
                  <a:t>minacc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5257800" y="3504960"/>
                <a:ext cx="762120" cy="2286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1467360" y="1481040"/>
            <a:ext cx="5085720" cy="3090960"/>
            <a:chOff x="1467360" y="1481040"/>
            <a:chExt cx="5085720" cy="3090960"/>
          </a:xfrm>
        </p:grpSpPr>
        <p:sp>
          <p:nvSpPr>
            <p:cNvPr id="428" name=""/>
            <p:cNvSpPr/>
            <p:nvPr/>
          </p:nvSpPr>
          <p:spPr>
            <a:xfrm flipH="1">
              <a:off x="6248520" y="2743200"/>
              <a:ext cx="304560" cy="18288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467360" y="1481040"/>
              <a:ext cx="4933440" cy="1871640"/>
              <a:chOff x="1467360" y="1481040"/>
              <a:chExt cx="4933440" cy="1871640"/>
            </a:xfrm>
          </p:grpSpPr>
          <p:sp>
            <p:nvSpPr>
              <p:cNvPr id="430" name=""/>
              <p:cNvSpPr/>
              <p:nvPr/>
            </p:nvSpPr>
            <p:spPr>
              <a:xfrm>
                <a:off x="3048120" y="2133720"/>
                <a:ext cx="3352680" cy="1218960"/>
              </a:xfrm>
              <a:prstGeom prst="line">
                <a:avLst/>
              </a:prstGeom>
              <a:ln w="9360">
                <a:solidFill>
                  <a:srgbClr val="cc0099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467360" y="1481040"/>
                <a:ext cx="1566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anche lu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cc0099"/>
                    </a:solidFill>
                    <a:latin typeface="Tahoma"/>
                  </a:rPr>
                  <a:t>soddisf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70E1D-7FA6-44C9-957E-29B43331022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705720" y="2590920"/>
            <a:ext cx="121896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925240" y="44956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19320" y="3809880"/>
            <a:ext cx="4800600" cy="83844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248520" y="2743200"/>
            <a:ext cx="304560" cy="182880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67280" y="1828800"/>
            <a:ext cx="304920" cy="2743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239440" y="175248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219320" y="1981080"/>
            <a:ext cx="4114800" cy="18288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 flipV="1">
            <a:off x="5638680" y="2057400"/>
            <a:ext cx="914400" cy="220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C0779-8ADF-4328-B67A-651FDB35C3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018800" y="1371600"/>
            <a:ext cx="5379120" cy="1191240"/>
          </a:xfrm>
          <a:prstGeom prst="rect">
            <a:avLst/>
          </a:prstGeom>
          <a:solidFill>
            <a:srgbClr val="ebf9f2"/>
          </a:solidFill>
          <a:ln w="93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Un piano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consistente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è uno in cui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non ci sono cicli e nessun conflitto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tra chi soddisfa e chi minac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985400" y="2743200"/>
            <a:ext cx="5255640" cy="1191240"/>
          </a:xfrm>
          <a:prstGeom prst="rect">
            <a:avLst/>
          </a:prstGeom>
          <a:solidFill>
            <a:srgbClr val="fff5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conflitto può essere elimina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incolando l’ordine tra le azioni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 aggiungendo nuove azio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047C-3559-4B02-9012-97408AC732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1219320" y="2057400"/>
            <a:ext cx="5028840" cy="3124080"/>
            <a:chOff x="1219320" y="2057400"/>
            <a:chExt cx="5028840" cy="3124080"/>
          </a:xfrm>
        </p:grpSpPr>
        <p:sp>
          <p:nvSpPr>
            <p:cNvPr id="497" name=""/>
            <p:cNvSpPr/>
            <p:nvPr/>
          </p:nvSpPr>
          <p:spPr>
            <a:xfrm flipH="1" flipV="1">
              <a:off x="5866920" y="2057400"/>
              <a:ext cx="38124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1219320" y="2057400"/>
              <a:ext cx="464796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1E536-E4E7-416E-A430-744498A841B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553080" y="27432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219320" y="3809880"/>
            <a:ext cx="487656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742000" y="579132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219320" y="3809880"/>
            <a:ext cx="4572000" cy="2057400"/>
          </a:xfrm>
          <a:prstGeom prst="line">
            <a:avLst/>
          </a:prstGeom>
          <a:ln w="1908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6400440" y="2743200"/>
            <a:ext cx="152280" cy="31240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867280" y="1828800"/>
            <a:ext cx="304920" cy="4038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132520" y="182880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H="1" flipV="1">
            <a:off x="6019560" y="2057400"/>
            <a:ext cx="228600" cy="3124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1219320" y="2057400"/>
            <a:ext cx="4647960" cy="1752480"/>
          </a:xfrm>
          <a:prstGeom prst="line">
            <a:avLst/>
          </a:prstGeom>
          <a:ln w="284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E7355-ECAF-4415-A51D-E5F0564E77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990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85880" y="762120"/>
            <a:ext cx="6468840" cy="2288520"/>
          </a:xfrm>
          <a:prstGeom prst="rect">
            <a:avLst/>
          </a:prstGeom>
          <a:solidFill>
            <a:srgbClr val="ebf9f2"/>
          </a:solidFill>
          <a:ln w="38160">
            <a:solidFill>
              <a:srgbClr val="2f8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~ euristica Most-constrained-variable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in CSP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sceglie la precondizione non raggi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che può essere soddisfatta</a:t>
            </a:r>
            <a:br>
              <a:rPr sz="2400"/>
            </a:b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  nel </a:t>
            </a:r>
            <a:r>
              <a:rPr b="1" lang="en-US" sz="2400" spc="-1" strike="noStrike" u="sng">
                <a:solidFill>
                  <a:srgbClr val="2f8f5f"/>
                </a:solidFill>
                <a:uFillTx/>
                <a:latin typeface="Tahoma"/>
              </a:rPr>
              <a:t>minor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numero di modi poss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8f5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2f8f5f"/>
                </a:solidFill>
                <a:latin typeface="Tahoma"/>
              </a:rPr>
              <a:t>ON(C,TAVO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071F-6EDB-4EB8-8274-425444CA88B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19320" y="3809880"/>
            <a:ext cx="36576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917F1-2088-49DE-9BB7-C66D993891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DD616-D581-4ADB-AC49-0B8869F53F2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1219320" y="1676520"/>
            <a:ext cx="449568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5181480" y="5334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84800" y="1752480"/>
            <a:ext cx="17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219320" y="2057040"/>
            <a:ext cx="4647960" cy="3429000"/>
            <a:chOff x="1219320" y="2057040"/>
            <a:chExt cx="4647960" cy="3429000"/>
          </a:xfrm>
        </p:grpSpPr>
        <p:sp>
          <p:nvSpPr>
            <p:cNvPr id="617" name=""/>
            <p:cNvSpPr/>
            <p:nvPr/>
          </p:nvSpPr>
          <p:spPr>
            <a:xfrm flipV="1">
              <a:off x="1219320" y="2057400"/>
              <a:ext cx="4267080" cy="1752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5029200" y="2057040"/>
              <a:ext cx="838080" cy="34290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3352680" y="2057400"/>
              <a:ext cx="2286000" cy="2819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311FA-8CCB-495E-A13D-3167687479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5DA1-0115-4E60-ADC6-6B9CF5FF6D7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4d4d"/>
            </a:gs>
            <a:gs pos="100000">
              <a:srgbClr val="23232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79440"/>
            <a:ext cx="863748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00"/>
                </a:solidFill>
                <a:latin typeface="Tw Cen MT Condensed"/>
              </a:rPr>
              <a:t>Esercizio</a:t>
            </a:r>
            <a:endParaRPr b="0" lang="en-US" sz="4800" spc="-1" strike="noStrike">
              <a:solidFill>
                <a:srgbClr val="ff9900"/>
              </a:solidFill>
              <a:latin typeface="Tw Cen MT Condensed"/>
            </a:endParaRPr>
          </a:p>
        </p:txBody>
      </p:sp>
      <p:sp>
        <p:nvSpPr>
          <p:cNvPr id="237" name=""/>
          <p:cNvSpPr/>
          <p:nvPr/>
        </p:nvSpPr>
        <p:spPr>
          <a:xfrm>
            <a:off x="6283440" y="302580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92320" y="3063960"/>
            <a:ext cx="488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5632560" y="549360"/>
            <a:ext cx="2590560" cy="2644920"/>
            <a:chOff x="5632560" y="549360"/>
            <a:chExt cx="2590560" cy="2644920"/>
          </a:xfrm>
        </p:grpSpPr>
        <p:grpSp>
          <p:nvGrpSpPr>
            <p:cNvPr id="240" name=""/>
            <p:cNvGrpSpPr/>
            <p:nvPr/>
          </p:nvGrpSpPr>
          <p:grpSpPr>
            <a:xfrm>
              <a:off x="5632560" y="549360"/>
              <a:ext cx="2590560" cy="2197800"/>
              <a:chOff x="5632560" y="549360"/>
              <a:chExt cx="2590560" cy="219780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6699240" y="1920600"/>
                <a:ext cx="685800" cy="685080"/>
                <a:chOff x="6699240" y="1920600"/>
                <a:chExt cx="685800" cy="68508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699240" y="1920600"/>
                  <a:ext cx="685800" cy="68508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967440" y="208836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935040" y="210384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7235280" y="210384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699240" y="1158480"/>
                <a:ext cx="685800" cy="761400"/>
                <a:chOff x="6699240" y="1158480"/>
                <a:chExt cx="685800" cy="7614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699240" y="1158480"/>
                  <a:ext cx="685800" cy="76140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007400" y="138528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6981120" y="137952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280640" y="140220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1" name=""/>
              <p:cNvSpPr/>
              <p:nvPr/>
            </p:nvSpPr>
            <p:spPr>
              <a:xfrm>
                <a:off x="5632560" y="2606400"/>
                <a:ext cx="2590560" cy="140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89760" y="2107800"/>
                <a:ext cx="357120" cy="36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3" name=""/>
              <p:cNvGrpSpPr/>
              <p:nvPr/>
            </p:nvGrpSpPr>
            <p:grpSpPr>
              <a:xfrm>
                <a:off x="6699240" y="549360"/>
                <a:ext cx="695160" cy="647280"/>
                <a:chOff x="6699240" y="549360"/>
                <a:chExt cx="695160" cy="64728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6699240" y="549360"/>
                  <a:ext cx="695160" cy="64728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7003800" y="77760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"/>
              <p:cNvSpPr/>
              <p:nvPr/>
            </p:nvSpPr>
            <p:spPr>
              <a:xfrm>
                <a:off x="6448680" y="21477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6665760" y="2889000"/>
              <a:ext cx="719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go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1440" y="1311120"/>
            <a:ext cx="2590920" cy="1943640"/>
            <a:chOff x="1441440" y="1311120"/>
            <a:chExt cx="2590920" cy="1943640"/>
          </a:xfrm>
        </p:grpSpPr>
        <p:grpSp>
          <p:nvGrpSpPr>
            <p:cNvPr id="259" name=""/>
            <p:cNvGrpSpPr/>
            <p:nvPr/>
          </p:nvGrpSpPr>
          <p:grpSpPr>
            <a:xfrm>
              <a:off x="1441440" y="1311120"/>
              <a:ext cx="2590920" cy="1474560"/>
              <a:chOff x="1441440" y="1311120"/>
              <a:chExt cx="2590920" cy="147456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2889360" y="1311120"/>
                <a:ext cx="685800" cy="685440"/>
                <a:chOff x="2889360" y="1311120"/>
                <a:chExt cx="685800" cy="6854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2889360" y="1311120"/>
                  <a:ext cx="685800" cy="685440"/>
                </a:xfrm>
                <a:prstGeom prst="rect">
                  <a:avLst/>
                </a:prstGeom>
                <a:solidFill>
                  <a:srgbClr val="99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157560" y="1478880"/>
                  <a:ext cx="349920" cy="38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125160" y="1494360"/>
                  <a:ext cx="162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425400" y="149436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670040" y="1920600"/>
                <a:ext cx="685800" cy="761760"/>
                <a:chOff x="1670040" y="1920600"/>
                <a:chExt cx="685800" cy="7617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670040" y="1920600"/>
                  <a:ext cx="685800" cy="761760"/>
                </a:xfrm>
                <a:prstGeom prst="rect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978200" y="2147400"/>
                  <a:ext cx="335160" cy="428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1951920" y="2141640"/>
                  <a:ext cx="1713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B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251440" y="2164320"/>
                  <a:ext cx="6624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>
                <a:off x="1441440" y="2644560"/>
                <a:ext cx="2590920" cy="14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98640" y="2145960"/>
                <a:ext cx="357120" cy="3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2889360" y="1996920"/>
                <a:ext cx="695160" cy="647640"/>
                <a:chOff x="2889360" y="1996920"/>
                <a:chExt cx="695160" cy="64764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2889360" y="1996920"/>
                  <a:ext cx="695160" cy="647640"/>
                </a:xfrm>
                <a:prstGeom prst="rect">
                  <a:avLst/>
                </a:prstGeom>
                <a:solidFill>
                  <a:srgbClr val="9966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3193920" y="2225520"/>
                  <a:ext cx="146160" cy="30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000" spc="-1" strike="noStrike">
                      <a:solidFill>
                        <a:srgbClr val="000000"/>
                      </a:solidFill>
                      <a:latin typeface="Tw Cen MT"/>
                    </a:rPr>
                    <a:t>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2257560" y="2185560"/>
                <a:ext cx="662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w Cen MT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1974960" y="2949480"/>
              <a:ext cx="1557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Tw Cen MT"/>
                </a:rPr>
                <a:t>Stato inizia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2D7E1-B9CF-44BC-979E-A69E816DD1EC}" type="slidenum">
              <a:t>3</a:t>
            </a:fld>
          </a:p>
        </p:txBody>
      </p:sp>
    </p:spTree>
  </p:cSld>
  <p:transition spd="med">
    <p:randomBar dir="vert"/>
    <p:sndAc>
      <p:stSnd>
        <p:snd r:embed="rId1" name="camera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924680" y="365760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05680" y="3962520"/>
            <a:ext cx="1930320" cy="21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 ON(A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B,TAVOLO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ON(C,A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 HANDEMP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588080" y="3962520"/>
            <a:ext cx="123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+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400800" y="24382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400800" y="42670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828040" y="276876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B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907960" y="39117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Stack(C,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6705720" y="3809880"/>
            <a:ext cx="12189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095880" y="51814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6248520" y="457164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668920" y="548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715000" y="1523880"/>
            <a:ext cx="30492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210280" y="114300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ickup(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867280" y="182880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 flipH="1">
            <a:off x="6248520" y="2743200"/>
            <a:ext cx="30456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876920" y="5486400"/>
            <a:ext cx="30456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22080" y="579132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utdown(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219320" y="3809880"/>
            <a:ext cx="18288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2680" y="5029200"/>
            <a:ext cx="1524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2845800" y="44956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Unstack(C,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5029200" y="1828800"/>
            <a:ext cx="838080" cy="365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679360" y="5791320"/>
            <a:ext cx="187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C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C,TAVO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918760" y="44956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842080" y="3048120"/>
            <a:ext cx="1663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297760" y="1752480"/>
            <a:ext cx="1877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CLEAR(B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ON(B,TAVOL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42600" y="6095880"/>
            <a:ext cx="165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OLDING(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46520" y="3657600"/>
            <a:ext cx="17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: </a:t>
            </a: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HANDEMPTY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CLEAR(C)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    ON(C,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63480" y="2438280"/>
            <a:ext cx="7099560" cy="1800360"/>
          </a:xfrm>
          <a:prstGeom prst="rect">
            <a:avLst/>
          </a:prstGeom>
          <a:solidFill>
            <a:srgbClr val="f7efcd"/>
          </a:solidFill>
          <a:ln w="28440">
            <a:solidFill>
              <a:srgbClr val="a00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Il piano è </a:t>
            </a:r>
            <a:r>
              <a:rPr b="1" lang="en-US" sz="2800" spc="-1" strike="noStrike" u="sng">
                <a:solidFill>
                  <a:srgbClr val="a00050"/>
                </a:solidFill>
                <a:uFillTx/>
                <a:latin typeface="Tahoma"/>
              </a:rPr>
              <a:t>completo</a:t>
            </a: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 poiché og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recondizione di ogni passo è aggiunta</a:t>
            </a:r>
            <a:br>
              <a:rPr sz="2800"/>
            </a:b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da qualche passo precedente, e nes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00050"/>
                </a:solidFill>
                <a:latin typeface="Tahoma"/>
              </a:rPr>
              <a:t>passo intermedio  la canc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B732-B79C-4F73-B3E8-E67599FB1F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mo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4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513F4-5E2D-49BE-BCA4-E2DACDCBFFC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mo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784872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180FE-1F68-4DE2-B758-7EAB40127A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prietà di POP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goritmo nondeterministico: in caso di fallimento effettua backtracking sui punti di scelta </a:t>
            </a:r>
            <a:r>
              <a:rPr b="0" lang="en-US" sz="2200" spc="-1" strike="noStrike">
                <a:solidFill>
                  <a:srgbClr val="3333cc"/>
                </a:solidFill>
                <a:latin typeface="Arial"/>
              </a:rPr>
              <a:t>(choice poin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lta d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raggiunger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elta di demotion o promotion in caso di minac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elezione di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irrevocab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P è corretto, completo e sistematico (nessuna ripetizion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istono estensioni (es. azioni rappresentate con FO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te se fornito di euristiche derivate dalla descrizione del proble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52E61-AC6A-4D92-9248-931258E023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zion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651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ossibile piano generato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t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 altro piano generabile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Un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Un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Un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Stack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Stack(a,b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 piano ideale non sempre ottenibile con pianificazione “lineare” (dipende dalla rappresentazione scelta per lo stato iniziale, ad esempio se Table(c) è in fondo alla pil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[Unstack(c), Stack(b, c), Stack(a, b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A606-38FB-4EB7-8E61-08167BF220E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azione fra sottogoa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77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171000" indent="-17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mi di planning semplici assumono che i sottogoal possano essere raggiunti indipendente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560" indent="-17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gni sottogoal può essere risolto separatamente e poi le relative soluzioni concate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esercizio precedente mostra questo aspetto tramite la così detta  “Anomalia di Sussman”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560" indent="-17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oluzione a on(a,b)  (tramite unstack(c,a), stack(a,b) ) è disfatta quando si risolve il secondo  sottogoal on(b,c) (tramite unstack(a,b), stack(b,c)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560" indent="-172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si risolve per primo on(b,c), la soluzione sarà disfatta da on(a,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-17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S classico non è in grado di superare quest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1CE88-A6E8-4A14-8DE7-F8B6074B37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ning nello spazio degli stati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zio delle situazioni (localizzazione, possedimenti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piano è una soluzione trovata “cercando” tra le situazioni i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ner progress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rca il goal in avanti (forward) a partire dallo stato ini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ner regress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rca all’indietro (backward) a partire dal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ttenzion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lema della Anomalia di Suss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C465A-3DDC-4CC3-B38C-E5E2F86084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ning nello spazio dei piani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alternativa è la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icerca attraverso lo spazio dei </a:t>
            </a: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pia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iuttosto che delle situazion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parte da u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piano parzi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 viene espanso e raffinato fino a raggiungere un piano completo che risolve il problem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tori di raffina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ggiungono vincoli a piani parziali e operatori di modifica effettuano altri cambiamen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ori alla STRIP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RightShoe, PRECOND: RightSockOn, EFFECT: Righ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RightSock, EFFECT: Righ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LeftShoe, PRECOND: LeftSockOn, EFFECT: LeftShoe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(ACTION: LeftSock, EFFECT: leftSock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ono risultare in un piano parziale d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RightShoe, LeftSho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500E-7A7E-49F5-8C97-DC38A6BDB7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ial-order planning (POP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ner line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struisce un piano com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quenza totalmente ordin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planner non-lineare (aka partial-order planner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struisce un piano come un insieme di passi con alcuni vincoli tempora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ncoli della forma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1&lt;S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il passo S1 deve venire prima di S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aff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piano  ordinato parzialmente (POP) per mezz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ggiunta di un nuovo passo al pian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880" indent="-224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ggiunta di un nuovo vincol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i passi già presenti nel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OP può essere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inearizza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nvertito in un piano totalmente ordinato) attraverso un ordinamento top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56B0F-A930-4745-953F-BD630146FE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imo Impegno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lanner non-lineari  incorporano il principio del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minimo impegno (least commitmen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scelgono solo quelle azioni, ordinamenti, e assegnamenti di variabili che sono assolutamente necessari, lasciando le altre decisioni al fut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6640" indent="-226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ita di prendere decisioni premature su aspetti che non cont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lanner lineare sceglie sempre di aggiungere un passo in un punto preciso della sequenz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-22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planner non-lineare sceglie di aggiungere un passo ed eventualmente qualche vincolo temporale fra pa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E5DB-9CAE-40AE-A07B-4DD542BF5C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7T02:50:39Z</dcterms:created>
  <dc:creator>Sperduti</dc:creator>
  <dc:description/>
  <dc:language>en-US</dc:language>
  <cp:lastModifiedBy> Alessandro Sperduti</cp:lastModifiedBy>
  <cp:lastPrinted>1999-12-02T01:59:51Z</cp:lastPrinted>
  <dcterms:modified xsi:type="dcterms:W3CDTF">2005-05-24T15:12:00Z</dcterms:modified>
  <cp:revision>501</cp:revision>
  <dc:subject/>
  <dc:title>Plann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umbc.edu/~finin</vt:lpwstr>
  </property>
  <property fmtid="{D5CDD505-2E9C-101B-9397-08002B2CF9AE}" pid="9" name="LinkColor">
    <vt:r8>16711782</vt:r8>
  </property>
  <property fmtid="{D5CDD505-2E9C-101B-9397-08002B2CF9AE}" pid="10" name="MailAddress">
    <vt:lpwstr>finin@umbc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finin\teaching\AI\RN\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