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60228-E152-4CEB-85AB-BD0BE2FDB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B1CE-9EF6-4B14-A35F-7E9259769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0B0A9-B0BD-408E-9061-8DBBD82AD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59BD-3B1B-477F-AFEA-DB5A170D9C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8BEEC-7939-4866-8321-EDB3B6CF53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C6ED-1962-4CD9-A15B-67E41B502A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2B5B-C45E-4EFC-AB8F-15E6BC4D9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B4A9A-46BF-4842-8153-B691BD3E3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0DDB-4E3F-49E7-AD51-A0218FBD0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7B5B6-157F-4229-A11D-F32CF412F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66DF-3A66-41D1-B51B-E231C1A66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4179C-1715-4DE4-A234-03F3F0CF1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3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1640" indent="-2332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1640" indent="-2332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1640" indent="-2332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BBAC-C73F-43FF-BBC1-DACE5AE2C6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P: variabili non istanzi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zioni rappresentate con F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. Mondo dei bloc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ondizione aperta:  </a:t>
            </a:r>
            <a:r>
              <a:rPr b="0" lang="en-US" sz="2000" spc="-1" strike="noStrike">
                <a:solidFill>
                  <a:srgbClr val="d60093"/>
                </a:solidFill>
                <a:latin typeface="Arial"/>
              </a:rPr>
              <a:t>On(a,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i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(ACTION: MoveB(Z,X,Y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OND: On(Z,X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ear(Z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ear(Y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: On(Z,Y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ear(X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¬On(Z,X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¬Clear(Y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otare che </a:t>
            </a:r>
            <a:r>
              <a:rPr b="0" lang="en-US" sz="2200" spc="-1" strike="noStrike">
                <a:solidFill>
                  <a:srgbClr val="d60093"/>
                </a:solidFill>
                <a:latin typeface="Arial"/>
                <a:ea typeface="Arial"/>
              </a:rPr>
              <a:t>On(a,b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 On(Z,Y)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  con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{Z/a,Y/b} e quindi bisogna applicare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Mov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)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99EC-58C8-438F-9C51-B2B95176C7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205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208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215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221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226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905120" y="3154320"/>
            <a:ext cx="1822320" cy="457200"/>
            <a:chOff x="1905120" y="3154320"/>
            <a:chExt cx="1822320" cy="457200"/>
          </a:xfrm>
        </p:grpSpPr>
        <p:sp>
          <p:nvSpPr>
            <p:cNvPr id="232" name=""/>
            <p:cNvSpPr/>
            <p:nvPr/>
          </p:nvSpPr>
          <p:spPr>
            <a:xfrm>
              <a:off x="1905120" y="315432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74960" y="323028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066680" y="37018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09680" y="37018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3701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7EF6A-E24C-4C9B-99DB-0D791D1A87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240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243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250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256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261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266" name="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29528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7479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7ABE4-6D79-43F2-A70F-62E8AB346D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277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280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287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293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298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303" name="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306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129528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7180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09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8120" y="37479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AAEC-0E31-474C-8687-6AD8F8BC33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317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320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327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333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338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343" name="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29528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7180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66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09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37479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353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65B8-3A9E-4887-BC07-5DA3BB0E43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358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361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368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374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379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384" name="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29528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97180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66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09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8120" y="37479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393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65" idx="2"/>
            <a:endCxn id="372" idx="3"/>
          </p:cNvCxnSpPr>
          <p:nvPr/>
        </p:nvCxnSpPr>
        <p:spPr>
          <a:xfrm rot="5400000">
            <a:off x="5145120" y="1275480"/>
            <a:ext cx="2041920" cy="488844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sp>
        <p:nvSpPr>
          <p:cNvPr id="397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8609A-6E4F-448E-A8BF-BB47CFF528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3581280" y="1981080"/>
            <a:ext cx="1371600" cy="457200"/>
            <a:chOff x="3581280" y="1981080"/>
            <a:chExt cx="1371600" cy="457200"/>
          </a:xfrm>
        </p:grpSpPr>
        <p:sp>
          <p:nvSpPr>
            <p:cNvPr id="400" name=""/>
            <p:cNvSpPr/>
            <p:nvPr/>
          </p:nvSpPr>
          <p:spPr>
            <a:xfrm>
              <a:off x="3581280" y="198108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50280" y="205740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066680" y="2438280"/>
            <a:ext cx="8153280" cy="351000"/>
            <a:chOff x="1066680" y="2438280"/>
            <a:chExt cx="8153280" cy="351000"/>
          </a:xfrm>
        </p:grpSpPr>
        <p:sp>
          <p:nvSpPr>
            <p:cNvPr id="403" name=""/>
            <p:cNvSpPr/>
            <p:nvPr/>
          </p:nvSpPr>
          <p:spPr>
            <a:xfrm>
              <a:off x="1066680" y="2452680"/>
              <a:ext cx="1219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86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008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001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6576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410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416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421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905120" y="3276720"/>
            <a:ext cx="1822320" cy="457200"/>
            <a:chOff x="1905120" y="3276720"/>
            <a:chExt cx="1822320" cy="457200"/>
          </a:xfrm>
        </p:grpSpPr>
        <p:sp>
          <p:nvSpPr>
            <p:cNvPr id="426" name=""/>
            <p:cNvSpPr/>
            <p:nvPr/>
          </p:nvSpPr>
          <p:spPr>
            <a:xfrm>
              <a:off x="1905120" y="327672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74960" y="335268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1447920" y="29718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971800" y="2971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66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09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8120" y="3824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435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 flipH="1">
            <a:off x="4114440" y="2666880"/>
            <a:ext cx="2438280" cy="4572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8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439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440" name=""/>
            <p:cNvCxnSpPr>
              <a:stCxn id="408" idx="1"/>
              <a:endCxn id="412" idx="0"/>
            </p:cNvCxnSpPr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441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0957A-2781-4CBF-B494-1280CA745E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3581280" y="1981080"/>
            <a:ext cx="1371600" cy="457200"/>
            <a:chOff x="3581280" y="1981080"/>
            <a:chExt cx="1371600" cy="457200"/>
          </a:xfrm>
        </p:grpSpPr>
        <p:sp>
          <p:nvSpPr>
            <p:cNvPr id="445" name=""/>
            <p:cNvSpPr/>
            <p:nvPr/>
          </p:nvSpPr>
          <p:spPr>
            <a:xfrm>
              <a:off x="3581280" y="198108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50280" y="205740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066680" y="2438280"/>
            <a:ext cx="8153280" cy="351000"/>
            <a:chOff x="1066680" y="2438280"/>
            <a:chExt cx="8153280" cy="351000"/>
          </a:xfrm>
        </p:grpSpPr>
        <p:sp>
          <p:nvSpPr>
            <p:cNvPr id="448" name=""/>
            <p:cNvSpPr/>
            <p:nvPr/>
          </p:nvSpPr>
          <p:spPr>
            <a:xfrm>
              <a:off x="1066680" y="2452680"/>
              <a:ext cx="1219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286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292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4008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001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6576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455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461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466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1905120" y="3276720"/>
            <a:ext cx="1822320" cy="457200"/>
            <a:chOff x="1905120" y="3276720"/>
            <a:chExt cx="1822320" cy="457200"/>
          </a:xfrm>
        </p:grpSpPr>
        <p:sp>
          <p:nvSpPr>
            <p:cNvPr id="471" name=""/>
            <p:cNvSpPr/>
            <p:nvPr/>
          </p:nvSpPr>
          <p:spPr>
            <a:xfrm>
              <a:off x="1905120" y="327672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74960" y="335268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1295280" y="2971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971800" y="2971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066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09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48120" y="3824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648320" y="4851360"/>
            <a:ext cx="2203200" cy="457200"/>
            <a:chOff x="4648320" y="4851360"/>
            <a:chExt cx="2203200" cy="457200"/>
          </a:xfrm>
        </p:grpSpPr>
        <p:sp>
          <p:nvSpPr>
            <p:cNvPr id="479" name=""/>
            <p:cNvSpPr/>
            <p:nvPr/>
          </p:nvSpPr>
          <p:spPr>
            <a:xfrm>
              <a:off x="4648320" y="485136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732200" y="486576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483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 flipH="1">
            <a:off x="3962520" y="2743200"/>
            <a:ext cx="274320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487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488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489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FB821-CA81-47E5-9854-B72B81047C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493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496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503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509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514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519" name="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129528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97180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066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09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48120" y="37339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4648320" y="4775040"/>
            <a:ext cx="2203200" cy="457200"/>
            <a:chOff x="4648320" y="4775040"/>
            <a:chExt cx="2203200" cy="457200"/>
          </a:xfrm>
        </p:grpSpPr>
        <p:sp>
          <p:nvSpPr>
            <p:cNvPr id="527" name=""/>
            <p:cNvSpPr/>
            <p:nvPr/>
          </p:nvSpPr>
          <p:spPr>
            <a:xfrm>
              <a:off x="4648320" y="477504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732200" y="478944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4943520" y="446400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218640" y="446400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9720" y="518148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08680" y="518148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284880" y="518148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728480" y="518148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493760" y="4464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538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 flipH="1">
            <a:off x="4038120" y="2666880"/>
            <a:ext cx="266724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542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543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544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2B9F4-CA71-44A3-AA88-83D4D4B517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"/>
          <p:cNvGrpSpPr/>
          <p:nvPr/>
        </p:nvGrpSpPr>
        <p:grpSpPr>
          <a:xfrm>
            <a:off x="3581280" y="1873080"/>
            <a:ext cx="1371600" cy="457200"/>
            <a:chOff x="3581280" y="1873080"/>
            <a:chExt cx="1371600" cy="457200"/>
          </a:xfrm>
        </p:grpSpPr>
        <p:sp>
          <p:nvSpPr>
            <p:cNvPr id="549" name=""/>
            <p:cNvSpPr/>
            <p:nvPr/>
          </p:nvSpPr>
          <p:spPr>
            <a:xfrm>
              <a:off x="3581280" y="187308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950280" y="194940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1066680" y="2330280"/>
            <a:ext cx="8153280" cy="351000"/>
            <a:chOff x="1066680" y="2330280"/>
            <a:chExt cx="8153280" cy="351000"/>
          </a:xfrm>
        </p:grpSpPr>
        <p:sp>
          <p:nvSpPr>
            <p:cNvPr id="552" name=""/>
            <p:cNvSpPr/>
            <p:nvPr/>
          </p:nvSpPr>
          <p:spPr>
            <a:xfrm>
              <a:off x="1066680" y="2344680"/>
              <a:ext cx="1219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286000" y="2330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29200" y="2330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00800" y="2330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001000" y="2330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657600" y="2330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559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565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570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577" name="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1905120" y="3124080"/>
            <a:ext cx="1822320" cy="457200"/>
            <a:chOff x="1905120" y="3124080"/>
            <a:chExt cx="1822320" cy="457200"/>
          </a:xfrm>
        </p:grpSpPr>
        <p:sp>
          <p:nvSpPr>
            <p:cNvPr id="580" name=""/>
            <p:cNvSpPr/>
            <p:nvPr/>
          </p:nvSpPr>
          <p:spPr>
            <a:xfrm>
              <a:off x="1905120" y="312408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74960" y="320004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129528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97180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6259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209680" y="36259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048120" y="3638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y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4648320" y="4743360"/>
            <a:ext cx="2203200" cy="457200"/>
            <a:chOff x="4648320" y="4743360"/>
            <a:chExt cx="2203200" cy="457200"/>
          </a:xfrm>
        </p:grpSpPr>
        <p:sp>
          <p:nvSpPr>
            <p:cNvPr id="588" name=""/>
            <p:cNvSpPr/>
            <p:nvPr/>
          </p:nvSpPr>
          <p:spPr>
            <a:xfrm>
              <a:off x="4648320" y="474336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732200" y="475776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4943520" y="443232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218640" y="44323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969720" y="51498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008680" y="514980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284880" y="514980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728480" y="514980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493760" y="44323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1981080" y="3962520"/>
            <a:ext cx="990720" cy="685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599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2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603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604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605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C832-258A-47B5-BB87-C27E5F6E48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610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1066680" y="2316240"/>
            <a:ext cx="8153280" cy="350280"/>
            <a:chOff x="1066680" y="2316240"/>
            <a:chExt cx="8153280" cy="350280"/>
          </a:xfrm>
        </p:grpSpPr>
        <p:sp>
          <p:nvSpPr>
            <p:cNvPr id="613" name=""/>
            <p:cNvSpPr/>
            <p:nvPr/>
          </p:nvSpPr>
          <p:spPr>
            <a:xfrm>
              <a:off x="1066680" y="233028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860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292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008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0010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6576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620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626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631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495680" y="3002040"/>
            <a:ext cx="698760" cy="1828800"/>
          </a:xfrm>
          <a:custGeom>
            <a:avLst/>
            <a:gdLst/>
            <a:ahLst/>
            <a:rect l="l" t="t" r="r" b="b"/>
            <a:pathLst>
              <a:path w="440" h="1152">
                <a:moveTo>
                  <a:pt x="96" y="1152"/>
                </a:moveTo>
                <a:cubicBezTo>
                  <a:pt x="48" y="1092"/>
                  <a:pt x="0" y="1032"/>
                  <a:pt x="48" y="864"/>
                </a:cubicBezTo>
                <a:cubicBezTo>
                  <a:pt x="96" y="696"/>
                  <a:pt x="328" y="288"/>
                  <a:pt x="384" y="144"/>
                </a:cubicBezTo>
                <a:cubicBezTo>
                  <a:pt x="440" y="0"/>
                  <a:pt x="412" y="0"/>
                  <a:pt x="384" y="0"/>
                </a:cubicBezTo>
              </a:path>
            </a:pathLst>
          </a:custGeom>
          <a:noFill/>
          <a:ln w="76320">
            <a:solidFill>
              <a:srgbClr val="9c009c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459560" y="5135400"/>
            <a:ext cx="1524240" cy="381240"/>
          </a:xfrm>
          <a:prstGeom prst="ellipse">
            <a:avLst/>
          </a:prstGeom>
          <a:noFill/>
          <a:ln w="1260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rot="21278400">
            <a:off x="3962520" y="2590560"/>
            <a:ext cx="2819160" cy="380880"/>
          </a:xfrm>
          <a:prstGeom prst="ellipse">
            <a:avLst/>
          </a:prstGeom>
          <a:noFill/>
          <a:ln w="1908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1905120" y="3124080"/>
            <a:ext cx="1822320" cy="457200"/>
            <a:chOff x="1905120" y="3124080"/>
            <a:chExt cx="1822320" cy="457200"/>
          </a:xfrm>
        </p:grpSpPr>
        <p:sp>
          <p:nvSpPr>
            <p:cNvPr id="639" name=""/>
            <p:cNvSpPr/>
            <p:nvPr/>
          </p:nvSpPr>
          <p:spPr>
            <a:xfrm>
              <a:off x="1905120" y="312408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74960" y="320004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129528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97180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066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209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048120" y="36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4648320" y="4729320"/>
            <a:ext cx="2203200" cy="457200"/>
            <a:chOff x="4648320" y="4729320"/>
            <a:chExt cx="2203200" cy="457200"/>
          </a:xfrm>
        </p:grpSpPr>
        <p:sp>
          <p:nvSpPr>
            <p:cNvPr id="647" name=""/>
            <p:cNvSpPr/>
            <p:nvPr/>
          </p:nvSpPr>
          <p:spPr>
            <a:xfrm>
              <a:off x="4648320" y="472932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32200" y="474372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43520" y="441792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218640" y="44179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969720" y="51354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008680" y="513540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284880" y="513540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728480" y="513540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493760" y="44179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658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1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662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663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664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666" name="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0E47C-0F06-4839-8AFB-51D4BDB22F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P: variabili non istanzi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0680" indent="-22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M1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Move(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)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(ACTION: MoveB(a,X,b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OND: On(a,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ear(a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ear(b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: On(a,b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ear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¬On(a,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¬Clear(b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9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are che x rimane non istanzi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niamo di aggiungere M1 al piano. Quindi aggiungiamo il link causa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Mov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  →   Fi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e nel piano c’è già una azione M2 con effetto ¬On(a,Q) c’è una minaccia solo se Q prend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Per rappresentare questa situazione si deve aggiungere il vinc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Q ≠ b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(in generale  </a:t>
            </a:r>
            <a:r>
              <a:rPr b="0" lang="it-IT" sz="1600" spc="-1" strike="noStrike">
                <a:solidFill>
                  <a:srgbClr val="3333cc"/>
                </a:solidFill>
                <a:latin typeface="Arial"/>
                <a:ea typeface="Arial"/>
              </a:rPr>
              <a:t>var ≠ cost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  oppure </a:t>
            </a:r>
            <a:r>
              <a:rPr b="0" lang="it-IT" sz="1600" spc="-1" strike="noStrike">
                <a:solidFill>
                  <a:srgbClr val="3333cc"/>
                </a:solidFill>
                <a:latin typeface="Arial"/>
                <a:ea typeface="Arial"/>
              </a:rPr>
              <a:t>var ≠ va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94960" y="441972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a,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7FC1-8213-4EF2-9558-84801DCD3A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674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1066680" y="2316240"/>
            <a:ext cx="8153280" cy="350280"/>
            <a:chOff x="1066680" y="2316240"/>
            <a:chExt cx="8153280" cy="350280"/>
          </a:xfrm>
        </p:grpSpPr>
        <p:sp>
          <p:nvSpPr>
            <p:cNvPr id="677" name=""/>
            <p:cNvSpPr/>
            <p:nvPr/>
          </p:nvSpPr>
          <p:spPr>
            <a:xfrm>
              <a:off x="1066680" y="233028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2860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0292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08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0010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6576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684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690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695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733920" y="3276720"/>
            <a:ext cx="1066680" cy="1401480"/>
          </a:xfrm>
          <a:custGeom>
            <a:avLst/>
            <a:gdLst/>
            <a:ahLst/>
            <a:rect l="l" t="t" r="r" b="b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4648320" y="4729320"/>
            <a:ext cx="2203200" cy="457200"/>
            <a:chOff x="4648320" y="4729320"/>
            <a:chExt cx="2203200" cy="457200"/>
          </a:xfrm>
        </p:grpSpPr>
        <p:sp>
          <p:nvSpPr>
            <p:cNvPr id="701" name=""/>
            <p:cNvSpPr/>
            <p:nvPr/>
          </p:nvSpPr>
          <p:spPr>
            <a:xfrm>
              <a:off x="4648320" y="472932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732200" y="474372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4943520" y="441792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218640" y="44179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69720" y="51354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008680" y="513540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284880" y="513540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728480" y="513540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493760" y="44179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1981080" y="4038480"/>
            <a:ext cx="91440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712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4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715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716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717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719" name="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4495680" y="3002040"/>
            <a:ext cx="698760" cy="1828800"/>
          </a:xfrm>
          <a:custGeom>
            <a:avLst/>
            <a:gdLst/>
            <a:ahLst/>
            <a:rect l="l" t="t" r="r" b="b"/>
            <a:pathLst>
              <a:path w="440" h="1152">
                <a:moveTo>
                  <a:pt x="96" y="1152"/>
                </a:moveTo>
                <a:cubicBezTo>
                  <a:pt x="48" y="1092"/>
                  <a:pt x="0" y="1032"/>
                  <a:pt x="48" y="864"/>
                </a:cubicBezTo>
                <a:cubicBezTo>
                  <a:pt x="96" y="696"/>
                  <a:pt x="328" y="288"/>
                  <a:pt x="384" y="144"/>
                </a:cubicBezTo>
                <a:cubicBezTo>
                  <a:pt x="440" y="0"/>
                  <a:pt x="412" y="0"/>
                  <a:pt x="384" y="0"/>
                </a:cubicBezTo>
              </a:path>
            </a:pathLst>
          </a:custGeom>
          <a:noFill/>
          <a:ln w="76320">
            <a:solidFill>
              <a:srgbClr val="9c009c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459560" y="5135400"/>
            <a:ext cx="1524240" cy="381240"/>
          </a:xfrm>
          <a:prstGeom prst="ellipse">
            <a:avLst/>
          </a:prstGeom>
          <a:noFill/>
          <a:ln w="1260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rot="21278400">
            <a:off x="3962520" y="2590560"/>
            <a:ext cx="2819160" cy="380880"/>
          </a:xfrm>
          <a:prstGeom prst="ellipse">
            <a:avLst/>
          </a:prstGeom>
          <a:noFill/>
          <a:ln w="1908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1905120" y="3124080"/>
            <a:ext cx="1822320" cy="457200"/>
            <a:chOff x="1905120" y="3124080"/>
            <a:chExt cx="1822320" cy="457200"/>
          </a:xfrm>
        </p:grpSpPr>
        <p:sp>
          <p:nvSpPr>
            <p:cNvPr id="726" name=""/>
            <p:cNvSpPr/>
            <p:nvPr/>
          </p:nvSpPr>
          <p:spPr>
            <a:xfrm>
              <a:off x="1905120" y="312408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974960" y="320004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129528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7180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066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209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048120" y="36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00FD6-2884-4B8F-A107-5B66E300CE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739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742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749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755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760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819520" y="3352680"/>
            <a:ext cx="5486400" cy="2044800"/>
          </a:xfrm>
          <a:custGeom>
            <a:avLst/>
            <a:gdLst/>
            <a:ahLst/>
            <a:rect l="l" t="t" r="r" b="b"/>
            <a:pathLst>
              <a:path w="3360" h="2008">
                <a:moveTo>
                  <a:pt x="0" y="1872"/>
                </a:moveTo>
                <a:cubicBezTo>
                  <a:pt x="424" y="1853"/>
                  <a:pt x="1997" y="2008"/>
                  <a:pt x="2544" y="1760"/>
                </a:cubicBezTo>
                <a:cubicBezTo>
                  <a:pt x="3091" y="1512"/>
                  <a:pt x="3200" y="677"/>
                  <a:pt x="3280" y="384"/>
                </a:cubicBezTo>
                <a:cubicBezTo>
                  <a:pt x="3360" y="91"/>
                  <a:pt x="3077" y="80"/>
                  <a:pt x="3024" y="0"/>
                </a:cubicBezTo>
              </a:path>
            </a:pathLst>
          </a:custGeom>
          <a:noFill/>
          <a:ln w="76320">
            <a:solidFill>
              <a:srgbClr val="9c009c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581280" y="5334120"/>
            <a:ext cx="1524240" cy="380880"/>
          </a:xfrm>
          <a:prstGeom prst="ellipse">
            <a:avLst/>
          </a:prstGeom>
          <a:noFill/>
          <a:ln w="1260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rot="18560400">
            <a:off x="6109560" y="3366360"/>
            <a:ext cx="2487600" cy="380880"/>
          </a:xfrm>
          <a:prstGeom prst="ellipse">
            <a:avLst/>
          </a:prstGeom>
          <a:noFill/>
          <a:ln w="1908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648320" y="4775040"/>
            <a:ext cx="2203200" cy="457200"/>
            <a:chOff x="4648320" y="4775040"/>
            <a:chExt cx="2203200" cy="457200"/>
          </a:xfrm>
        </p:grpSpPr>
        <p:sp>
          <p:nvSpPr>
            <p:cNvPr id="768" name=""/>
            <p:cNvSpPr/>
            <p:nvPr/>
          </p:nvSpPr>
          <p:spPr>
            <a:xfrm>
              <a:off x="4648320" y="477504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32200" y="478944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943520" y="446400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218640" y="446400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69720" y="518148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008680" y="518148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84880" y="518148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728480" y="518148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493760" y="4464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779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1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782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783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784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786" name="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3733920" y="3276720"/>
            <a:ext cx="1066680" cy="1401480"/>
          </a:xfrm>
          <a:custGeom>
            <a:avLst/>
            <a:gdLst/>
            <a:ahLst/>
            <a:rect l="l" t="t" r="r" b="b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1905120" y="3124080"/>
            <a:ext cx="1822320" cy="457200"/>
            <a:chOff x="1905120" y="3124080"/>
            <a:chExt cx="1822320" cy="457200"/>
          </a:xfrm>
        </p:grpSpPr>
        <p:sp>
          <p:nvSpPr>
            <p:cNvPr id="790" name=""/>
            <p:cNvSpPr/>
            <p:nvPr/>
          </p:nvSpPr>
          <p:spPr>
            <a:xfrm>
              <a:off x="1905120" y="312408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974960" y="320004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129528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97180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066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09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048120" y="36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C8ED8-337C-4452-B582-771A20C2AC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"/>
          <p:cNvGrpSpPr/>
          <p:nvPr/>
        </p:nvGrpSpPr>
        <p:grpSpPr>
          <a:xfrm>
            <a:off x="3581280" y="1981080"/>
            <a:ext cx="1371600" cy="457200"/>
            <a:chOff x="3581280" y="1981080"/>
            <a:chExt cx="1371600" cy="457200"/>
          </a:xfrm>
        </p:grpSpPr>
        <p:sp>
          <p:nvSpPr>
            <p:cNvPr id="804" name=""/>
            <p:cNvSpPr/>
            <p:nvPr/>
          </p:nvSpPr>
          <p:spPr>
            <a:xfrm>
              <a:off x="3581280" y="198108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950280" y="205740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1066680" y="2438280"/>
            <a:ext cx="8153280" cy="351000"/>
            <a:chOff x="1066680" y="2438280"/>
            <a:chExt cx="8153280" cy="351000"/>
          </a:xfrm>
        </p:grpSpPr>
        <p:sp>
          <p:nvSpPr>
            <p:cNvPr id="807" name=""/>
            <p:cNvSpPr/>
            <p:nvPr/>
          </p:nvSpPr>
          <p:spPr>
            <a:xfrm>
              <a:off x="1066680" y="2452680"/>
              <a:ext cx="1219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286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0292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4008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001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6576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814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820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825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1905120" y="3276720"/>
            <a:ext cx="1822320" cy="457200"/>
            <a:chOff x="1905120" y="3276720"/>
            <a:chExt cx="1822320" cy="457200"/>
          </a:xfrm>
        </p:grpSpPr>
        <p:sp>
          <p:nvSpPr>
            <p:cNvPr id="830" name=""/>
            <p:cNvSpPr/>
            <p:nvPr/>
          </p:nvSpPr>
          <p:spPr>
            <a:xfrm>
              <a:off x="1905120" y="327672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974960" y="335268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2" name=""/>
          <p:cNvSpPr/>
          <p:nvPr/>
        </p:nvSpPr>
        <p:spPr>
          <a:xfrm>
            <a:off x="1295280" y="2971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971800" y="2971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66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09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048120" y="3824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943520" y="454032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218640" y="45403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969720" y="52578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008680" y="525780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284880" y="525780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728480" y="525780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493760" y="45403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846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8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849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850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851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853" name="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819520" y="3352680"/>
            <a:ext cx="5486400" cy="2044800"/>
          </a:xfrm>
          <a:custGeom>
            <a:avLst/>
            <a:gdLst/>
            <a:ahLst/>
            <a:rect l="l" t="t" r="r" b="b"/>
            <a:pathLst>
              <a:path w="3360" h="2008">
                <a:moveTo>
                  <a:pt x="0" y="1872"/>
                </a:moveTo>
                <a:cubicBezTo>
                  <a:pt x="424" y="1853"/>
                  <a:pt x="1997" y="2008"/>
                  <a:pt x="2544" y="1760"/>
                </a:cubicBezTo>
                <a:cubicBezTo>
                  <a:pt x="3091" y="1512"/>
                  <a:pt x="3200" y="677"/>
                  <a:pt x="3280" y="384"/>
                </a:cubicBezTo>
                <a:cubicBezTo>
                  <a:pt x="3360" y="91"/>
                  <a:pt x="3077" y="80"/>
                  <a:pt x="3024" y="0"/>
                </a:cubicBezTo>
              </a:path>
            </a:pathLst>
          </a:custGeom>
          <a:noFill/>
          <a:ln w="76320">
            <a:solidFill>
              <a:srgbClr val="9c009c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rot="18560400">
            <a:off x="6109560" y="3366360"/>
            <a:ext cx="2487600" cy="380880"/>
          </a:xfrm>
          <a:prstGeom prst="ellipse">
            <a:avLst/>
          </a:prstGeom>
          <a:noFill/>
          <a:ln w="1908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4648320" y="4851360"/>
            <a:ext cx="2203200" cy="457200"/>
            <a:chOff x="4648320" y="4851360"/>
            <a:chExt cx="2203200" cy="457200"/>
          </a:xfrm>
        </p:grpSpPr>
        <p:sp>
          <p:nvSpPr>
            <p:cNvPr id="863" name=""/>
            <p:cNvSpPr/>
            <p:nvPr/>
          </p:nvSpPr>
          <p:spPr>
            <a:xfrm>
              <a:off x="4648320" y="485136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732200" y="486576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3733920" y="3429000"/>
            <a:ext cx="1066680" cy="1401840"/>
          </a:xfrm>
          <a:custGeom>
            <a:avLst/>
            <a:gdLst/>
            <a:ahLst/>
            <a:rect l="l" t="t" r="r" b="b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 rot="13388400">
            <a:off x="3056040" y="4284720"/>
            <a:ext cx="1371600" cy="1325520"/>
          </a:xfrm>
          <a:custGeom>
            <a:avLst/>
            <a:gdLst/>
            <a:ahLst/>
            <a:rect l="l" t="t" r="r" b="b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8E1C-5646-4093-8B9A-D0A2995A80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"/>
          <p:cNvGrpSpPr/>
          <p:nvPr/>
        </p:nvGrpSpPr>
        <p:grpSpPr>
          <a:xfrm>
            <a:off x="3581280" y="1873080"/>
            <a:ext cx="1371600" cy="457200"/>
            <a:chOff x="3581280" y="1873080"/>
            <a:chExt cx="1371600" cy="457200"/>
          </a:xfrm>
        </p:grpSpPr>
        <p:sp>
          <p:nvSpPr>
            <p:cNvPr id="869" name=""/>
            <p:cNvSpPr/>
            <p:nvPr/>
          </p:nvSpPr>
          <p:spPr>
            <a:xfrm>
              <a:off x="3581280" y="187308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950280" y="194940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685800" y="2316240"/>
            <a:ext cx="8153280" cy="350280"/>
            <a:chOff x="685800" y="2316240"/>
            <a:chExt cx="8153280" cy="350280"/>
          </a:xfrm>
        </p:grpSpPr>
        <p:sp>
          <p:nvSpPr>
            <p:cNvPr id="872" name=""/>
            <p:cNvSpPr/>
            <p:nvPr/>
          </p:nvSpPr>
          <p:spPr>
            <a:xfrm>
              <a:off x="685800" y="233028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90512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64832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01992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62012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27672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879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885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890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1905120" y="3124080"/>
            <a:ext cx="1822320" cy="457200"/>
            <a:chOff x="1905120" y="3124080"/>
            <a:chExt cx="1822320" cy="457200"/>
          </a:xfrm>
        </p:grpSpPr>
        <p:sp>
          <p:nvSpPr>
            <p:cNvPr id="895" name=""/>
            <p:cNvSpPr/>
            <p:nvPr/>
          </p:nvSpPr>
          <p:spPr>
            <a:xfrm>
              <a:off x="1905120" y="312408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974960" y="320004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129528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97180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066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209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048120" y="36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4648320" y="4743360"/>
            <a:ext cx="2203200" cy="457200"/>
            <a:chOff x="4648320" y="4743360"/>
            <a:chExt cx="2203200" cy="457200"/>
          </a:xfrm>
        </p:grpSpPr>
        <p:sp>
          <p:nvSpPr>
            <p:cNvPr id="903" name=""/>
            <p:cNvSpPr/>
            <p:nvPr/>
          </p:nvSpPr>
          <p:spPr>
            <a:xfrm>
              <a:off x="4648320" y="474336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32200" y="475776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4943520" y="443232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218640" y="44323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969720" y="51498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008680" y="514980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284880" y="514980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728480" y="514980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493760" y="44323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914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16" name=""/>
          <p:cNvCxnSpPr/>
          <p:nvPr/>
        </p:nvCxnSpPr>
        <p:spPr>
          <a:xfrm rot="5400000">
            <a:off x="4999680" y="1247760"/>
            <a:ext cx="204408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917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918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919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921" name="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733920" y="3429000"/>
            <a:ext cx="1066680" cy="1401840"/>
          </a:xfrm>
          <a:custGeom>
            <a:avLst/>
            <a:gdLst/>
            <a:ahLst/>
            <a:rect l="l" t="t" r="r" b="b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 rot="13388400">
            <a:off x="3056040" y="4284720"/>
            <a:ext cx="1371600" cy="1325520"/>
          </a:xfrm>
          <a:custGeom>
            <a:avLst/>
            <a:gdLst/>
            <a:ahLst/>
            <a:rect l="l" t="t" r="r" b="b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C3CE4-1868-4BCA-AC49-A6FC1F6283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fi di Plan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42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cessità di avere delle buone euristic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a per planning lineari che per P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 problemi di planning non è facile derivare delle euristiche ammissi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o strumento molto utile per costruire delle euristiche ammissibile è il 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grafo di plan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ccoglie informazioni su quali piani sono impossibili non prendendo in considerazione le minacce e il “consumo” dei letterali che chiudono le precondizio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7EAEA-F440-4EB0-887B-8E16FEAB3C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fi di Plan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69440" y="1736280"/>
            <a:ext cx="385308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 grafo di planning è un grafo costruito a livelli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primo livello è costituito dai letterali dello stato iniz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successivi livelli sono ottenuti dalla applicazione ripetuta delle azioni che hanno i prerequisiti soddisfat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oltre i letterali di un livello sono riportati al livello successivo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persistence ac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variabili !  No troppi oggetti 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4267080" y="1523880"/>
            <a:ext cx="428328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9A06E-9F9E-4C95-B6FF-E21FDD2080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fi di Plan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1219320" y="2324160"/>
            <a:ext cx="6400800" cy="3959280"/>
          </a:xfrm>
          <a:prstGeom prst="rect">
            <a:avLst/>
          </a:prstGeom>
          <a:ln w="0">
            <a:noFill/>
          </a:ln>
        </p:spPr>
      </p:pic>
      <p:sp>
        <p:nvSpPr>
          <p:cNvPr id="938" name=""/>
          <p:cNvSpPr/>
          <p:nvPr/>
        </p:nvSpPr>
        <p:spPr>
          <a:xfrm>
            <a:off x="685800" y="1690560"/>
            <a:ext cx="7429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diamo un esempio su un problema sempl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8304-714C-4F39-A055-49C2E3A3662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fi di Plan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1"/>
          <a:stretch/>
        </p:blipFill>
        <p:spPr>
          <a:xfrm>
            <a:off x="609480" y="1511280"/>
            <a:ext cx="8077320" cy="44514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806760" y="5962680"/>
            <a:ext cx="76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’espansione del grafo termina quando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livello i+1 = livell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DB558-CA33-4A9B-8FAE-1001F872D7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fi di Plan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848720" cy="5045040"/>
          </a:xfrm>
          <a:prstGeom prst="rect">
            <a:avLst/>
          </a:prstGeom>
          <a:ln w="0">
            <a:noFill/>
          </a:ln>
        </p:spPr>
      </p:pic>
      <p:sp>
        <p:nvSpPr>
          <p:cNvPr id="944" name=""/>
          <p:cNvSpPr/>
          <p:nvPr/>
        </p:nvSpPr>
        <p:spPr>
          <a:xfrm>
            <a:off x="314280" y="1089000"/>
            <a:ext cx="24004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Arial"/>
              </a:rPr>
              <a:t>Conflitti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link di </a:t>
            </a:r>
            <a:r>
              <a:rPr b="1" i="1" lang="it-IT" sz="2000" spc="-1" strike="noStrike">
                <a:solidFill>
                  <a:srgbClr val="ff0000"/>
                </a:solidFill>
                <a:latin typeface="Arial"/>
              </a:rPr>
              <a:t>mutua esclusione (mute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4F2AB-3F8A-454F-A2EB-29307C15CB3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fi di Plan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42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consistent effe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una azione nega l’effetto di un’al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terferen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o degli effetti di una azione è la negazione di una precondizione di un’al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eting need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una delle precondizioni di una azione è la negazione di una delle precondizioni di un’al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consistent suppo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letterali allo stesso livello sono in conflitto se uno è la negazione dell’altro o se ogni possibile coppia di azioni che potrebbe raggiungere i due letterali è mutuamente esclus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A509F-CC3A-4AE5-9B11-9DC5CC76EB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P con variabil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ra az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(ACTION: MoveT(W,X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OND: On(W,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ear(W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: On(W,t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ear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¬On(W,X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t  costante: significa TAV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638680" y="3657600"/>
            <a:ext cx="2590560" cy="2645280"/>
            <a:chOff x="5638680" y="3657600"/>
            <a:chExt cx="2590560" cy="2645280"/>
          </a:xfrm>
        </p:grpSpPr>
        <p:grpSp>
          <p:nvGrpSpPr>
            <p:cNvPr id="47" name=""/>
            <p:cNvGrpSpPr/>
            <p:nvPr/>
          </p:nvGrpSpPr>
          <p:grpSpPr>
            <a:xfrm>
              <a:off x="5638680" y="3657600"/>
              <a:ext cx="2590560" cy="2198520"/>
              <a:chOff x="5638680" y="3657600"/>
              <a:chExt cx="2590560" cy="219852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6705360" y="5029200"/>
                <a:ext cx="685800" cy="685440"/>
                <a:chOff x="6705360" y="5029200"/>
                <a:chExt cx="685800" cy="68544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705360" y="5029200"/>
                  <a:ext cx="685800" cy="685440"/>
                </a:xfrm>
                <a:prstGeom prst="rect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6973560" y="5196960"/>
                  <a:ext cx="3499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6953400" y="5212440"/>
                  <a:ext cx="1317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241400" y="521244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6705360" y="4267080"/>
                <a:ext cx="685800" cy="761760"/>
                <a:chOff x="6705360" y="4267080"/>
                <a:chExt cx="685800" cy="76176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705360" y="4267080"/>
                  <a:ext cx="685800" cy="76176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7013520" y="4493880"/>
                  <a:ext cx="33516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002000" y="4488120"/>
                  <a:ext cx="162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7286760" y="451080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" name=""/>
              <p:cNvSpPr/>
              <p:nvPr/>
            </p:nvSpPr>
            <p:spPr>
              <a:xfrm>
                <a:off x="5638680" y="5715000"/>
                <a:ext cx="2590560" cy="14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95880" y="5216400"/>
                <a:ext cx="3571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6705360" y="3657600"/>
                <a:ext cx="695160" cy="647640"/>
                <a:chOff x="6705360" y="3657600"/>
                <a:chExt cx="695160" cy="6476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6705360" y="3657600"/>
                  <a:ext cx="695160" cy="6476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7009920" y="3886200"/>
                  <a:ext cx="1461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6454800" y="525636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6671880" y="5997600"/>
              <a:ext cx="719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w Cen MT"/>
                </a:rPr>
                <a:t>go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447920" y="4419720"/>
            <a:ext cx="2590560" cy="1943640"/>
            <a:chOff x="1447920" y="4419720"/>
            <a:chExt cx="2590560" cy="1943640"/>
          </a:xfrm>
        </p:grpSpPr>
        <p:grpSp>
          <p:nvGrpSpPr>
            <p:cNvPr id="66" name=""/>
            <p:cNvGrpSpPr/>
            <p:nvPr/>
          </p:nvGrpSpPr>
          <p:grpSpPr>
            <a:xfrm>
              <a:off x="1447920" y="4419720"/>
              <a:ext cx="2590560" cy="1474560"/>
              <a:chOff x="1447920" y="4419720"/>
              <a:chExt cx="2590560" cy="1474560"/>
            </a:xfrm>
          </p:grpSpPr>
          <p:grpSp>
            <p:nvGrpSpPr>
              <p:cNvPr id="67" name=""/>
              <p:cNvGrpSpPr/>
              <p:nvPr/>
            </p:nvGrpSpPr>
            <p:grpSpPr>
              <a:xfrm>
                <a:off x="2895480" y="4419720"/>
                <a:ext cx="685440" cy="685440"/>
                <a:chOff x="2895480" y="4419720"/>
                <a:chExt cx="685440" cy="68544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2895480" y="4419720"/>
                  <a:ext cx="685440" cy="685440"/>
                </a:xfrm>
                <a:prstGeom prst="rect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163680" y="4587480"/>
                  <a:ext cx="3499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143160" y="4602960"/>
                  <a:ext cx="1317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431520" y="460296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1676160" y="5029200"/>
                <a:ext cx="685440" cy="761760"/>
                <a:chOff x="1676160" y="5029200"/>
                <a:chExt cx="685440" cy="76176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1676160" y="5029200"/>
                  <a:ext cx="685440" cy="76176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983960" y="5256000"/>
                  <a:ext cx="33480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972800" y="5250240"/>
                  <a:ext cx="162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257200" y="527292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1447920" y="5753160"/>
                <a:ext cx="2590560" cy="14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904760" y="5254560"/>
                <a:ext cx="3567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2895480" y="5105520"/>
                <a:ext cx="694800" cy="647640"/>
                <a:chOff x="2895480" y="5105520"/>
                <a:chExt cx="694800" cy="64764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2895480" y="5105520"/>
                  <a:ext cx="694800" cy="6476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199680" y="5334120"/>
                  <a:ext cx="1458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" name=""/>
              <p:cNvSpPr/>
              <p:nvPr/>
            </p:nvSpPr>
            <p:spPr>
              <a:xfrm>
                <a:off x="2263320" y="529416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1981080" y="6058080"/>
              <a:ext cx="1557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w Cen MT"/>
                </a:rPr>
                <a:t>Stato inizi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BD56E-5251-4ACB-8DBC-BFBBEA9C43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fi di Plan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9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gni livello contien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tti i letterali c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trebbe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sere veri in quel passo, dipendentemente dalle azioni eseg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tte le azioni c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trebbe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vere le precondizioni soddisfatte in quel pa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no trascurate tutte le possibili interazioni negative fra azioni e lettera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 letterale che appare per la prima volta a livello </a:t>
            </a:r>
            <a:r>
              <a:rPr b="0" i="1" lang="en-US" sz="22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on implica l’esistenza di un piano in </a:t>
            </a:r>
            <a:r>
              <a:rPr b="0" i="1" lang="en-US" sz="22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assi che lo raggiunge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ò sicuramente non esiste un piano con meno di </a:t>
            </a:r>
            <a:r>
              <a:rPr b="0" i="1" lang="en-US" sz="22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assi che lo raggiunge 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struzione in tempo polinomiale con grado bas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738C-414E-4C40-B9CF-C0033FB0817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fi di Plan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9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2840" indent="-222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fo di planning usato per costruire euristiche ammissibili: h(s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distanza tra lo stato s e il go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880" indent="-224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letterale che non compare nel grafo di planning implica la non esistenza di un piano, h(s) = </a:t>
            </a:r>
            <a:r>
              <a:rPr b="1" lang="en-US" sz="1800" spc="-1" strike="noStrike">
                <a:solidFill>
                  <a:srgbClr val="000000"/>
                </a:solidFill>
                <a:latin typeface="Symath"/>
                <a:ea typeface="Symath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880" indent="-224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Symath"/>
              </a:rPr>
              <a:t>level co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ymath"/>
              </a:rPr>
              <a:t> di un letterale: primo livello in cui comp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880" indent="-224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ymath"/>
              </a:rPr>
              <a:t>Stima migliore di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Symath"/>
              </a:rPr>
              <a:t>level co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ymath"/>
              </a:rPr>
              <a:t> se si usa grafo di planning seriale (usa mutua esclusione fra coppie di azioni: una sola azione alla vol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ymath"/>
              </a:rPr>
              <a:t>Max-level: massimo livello fra tutti i sottogo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ymath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Symath"/>
              </a:rPr>
              <a:t>(ammissib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ymath"/>
              </a:rPr>
              <a:t>Level sum:somma i livelli dei sottogo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ymath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Symath"/>
              </a:rPr>
              <a:t>(inammissib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ymath"/>
              </a:rPr>
              <a:t>Set-level: livello dove tutti i sottogoal appaiono e nessuna coppia di sottogoal è in mutua esclusi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ymath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Symath"/>
              </a:rPr>
              <a:t>(ammissibile e buono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5858C-5085-40F5-A2A8-ED70DF0709A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86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2286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c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01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2893D-B90B-43DA-8B82-9F2AF4CD39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94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286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c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02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D5C48-B1B3-4806-85C9-B19A59B6E1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108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286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c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01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16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19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064B-E2DF-4719-A9D3-5A3C082966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125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286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c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001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33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36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41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1506-6169-41A7-946E-1EF9B3547E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148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286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c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01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576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56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62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67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02592-7313-4FFF-9909-6BAE995459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3581280" y="1951200"/>
            <a:ext cx="1371600" cy="457200"/>
            <a:chOff x="3581280" y="1951200"/>
            <a:chExt cx="1371600" cy="457200"/>
          </a:xfrm>
        </p:grpSpPr>
        <p:sp>
          <p:nvSpPr>
            <p:cNvPr id="174" name=""/>
            <p:cNvSpPr/>
            <p:nvPr/>
          </p:nvSpPr>
          <p:spPr>
            <a:xfrm>
              <a:off x="3581280" y="195120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50280" y="202752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066680" y="2408400"/>
            <a:ext cx="8153280" cy="350280"/>
            <a:chOff x="1066680" y="2408400"/>
            <a:chExt cx="8153280" cy="350280"/>
          </a:xfrm>
        </p:grpSpPr>
        <p:sp>
          <p:nvSpPr>
            <p:cNvPr id="177" name=""/>
            <p:cNvSpPr/>
            <p:nvPr/>
          </p:nvSpPr>
          <p:spPr>
            <a:xfrm>
              <a:off x="1066680" y="242244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0" y="24084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29200" y="24084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00800" y="24084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01000" y="24084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57600" y="24084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84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90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95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200" name="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9800F-C3EF-471C-901F-98216C1033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7T02:50:39Z</dcterms:created>
  <dc:creator>Sperduti</dc:creator>
  <dc:description/>
  <dc:language>en-US</dc:language>
  <cp:lastModifiedBy> Alessandro Sperduti</cp:lastModifiedBy>
  <cp:lastPrinted>1999-12-02T01:59:51Z</cp:lastPrinted>
  <dcterms:modified xsi:type="dcterms:W3CDTF">2005-05-30T14:22:03Z</dcterms:modified>
  <cp:revision>504</cp:revision>
  <dc:subject/>
  <dc:title>Plan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umbc.edu/~finin</vt:lpwstr>
  </property>
  <property fmtid="{D5CDD505-2E9C-101B-9397-08002B2CF9AE}" pid="9" name="LinkColor">
    <vt:r8>16711782</vt:r8>
  </property>
  <property fmtid="{D5CDD505-2E9C-101B-9397-08002B2CF9AE}" pid="10" name="MailAddress">
    <vt:lpwstr>finin@umbc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finin\teaching\AI\RN\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