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38E-C707-4C74-8B82-D8B1E247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A6D-3718-4599-BA40-6C4C0147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642-5E15-4960-92BF-C6D41341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EF1-1D99-4D57-A40D-89467A92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D6F-4B4F-4A8F-B845-8C811D96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4C5-BA0B-4926-93F7-85A14D6E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6F9-D556-4C3C-84DD-D58D098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2BD-9A1A-4B2C-8C3C-4A94DF7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C15-35E6-4348-96DA-1B7AB7BC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FFD-7B5C-4BEB-BE2E-FAD7ACB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7DE-E730-4AFE-AB97-1173EA1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AFF-E01A-4A02-ABF5-E1E4B31B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AA8-6760-4D9C-8CD2-9A533F62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94480" y="64620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92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7068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56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7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61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2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191120" y="3657600"/>
            <a:ext cx="1134000" cy="684360"/>
            <a:chOff x="4191120" y="3657600"/>
            <a:chExt cx="1134000" cy="684360"/>
          </a:xfrm>
        </p:grpSpPr>
        <p:grpSp>
          <p:nvGrpSpPr>
            <p:cNvPr id="66" name=""/>
            <p:cNvGrpSpPr/>
            <p:nvPr/>
          </p:nvGrpSpPr>
          <p:grpSpPr>
            <a:xfrm>
              <a:off x="4877640" y="4046400"/>
              <a:ext cx="447480" cy="295560"/>
              <a:chOff x="4877640" y="4046400"/>
              <a:chExt cx="447480" cy="295560"/>
            </a:xfrm>
          </p:grpSpPr>
          <p:sp>
            <p:nvSpPr>
              <p:cNvPr id="67" name=""/>
              <p:cNvSpPr/>
              <p:nvPr/>
            </p:nvSpPr>
            <p:spPr>
              <a:xfrm>
                <a:off x="4951440" y="404640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7640" y="406728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191120" y="3657600"/>
              <a:ext cx="857160" cy="3906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10200" y="3648240"/>
            <a:ext cx="2243160" cy="684000"/>
            <a:chOff x="4210200" y="3648240"/>
            <a:chExt cx="2243160" cy="684000"/>
          </a:xfrm>
        </p:grpSpPr>
        <p:grpSp>
          <p:nvGrpSpPr>
            <p:cNvPr id="71" name=""/>
            <p:cNvGrpSpPr/>
            <p:nvPr/>
          </p:nvGrpSpPr>
          <p:grpSpPr>
            <a:xfrm>
              <a:off x="5978520" y="4037040"/>
              <a:ext cx="474840" cy="295200"/>
              <a:chOff x="5978520" y="4037040"/>
              <a:chExt cx="474840" cy="295200"/>
            </a:xfrm>
          </p:grpSpPr>
          <p:sp>
            <p:nvSpPr>
              <p:cNvPr id="72" name=""/>
              <p:cNvSpPr/>
              <p:nvPr/>
            </p:nvSpPr>
            <p:spPr>
              <a:xfrm>
                <a:off x="6056280" y="403704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78520" y="4057560"/>
                <a:ext cx="47484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210200" y="3648240"/>
              <a:ext cx="1933560" cy="39996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33840" y="416232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 rot="5400000">
            <a:off x="2139480" y="152280"/>
            <a:ext cx="46432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6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663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664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6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7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7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677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680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8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8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9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9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698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0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02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376440" y="452520"/>
            <a:ext cx="428760" cy="2399760"/>
            <a:chOff x="3376440" y="452520"/>
            <a:chExt cx="428760" cy="2399760"/>
          </a:xfrm>
        </p:grpSpPr>
        <p:sp>
          <p:nvSpPr>
            <p:cNvPr id="708" name=""/>
            <p:cNvSpPr/>
            <p:nvPr/>
          </p:nvSpPr>
          <p:spPr>
            <a:xfrm>
              <a:off x="3558960" y="452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76440" y="614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284640" y="503280"/>
            <a:ext cx="71424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112560" y="52236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26200" y="14616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1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1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1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2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2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72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734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735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738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741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4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4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5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5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59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763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766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69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7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7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8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82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95680" y="577224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8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82520" y="955800"/>
            <a:ext cx="8569080" cy="144360"/>
            <a:chOff x="182520" y="955800"/>
            <a:chExt cx="8569080" cy="144360"/>
          </a:xfrm>
        </p:grpSpPr>
        <p:sp>
          <p:nvSpPr>
            <p:cNvPr id="792" name=""/>
            <p:cNvSpPr/>
            <p:nvPr/>
          </p:nvSpPr>
          <p:spPr>
            <a:xfrm>
              <a:off x="182520" y="9842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9960" y="9558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95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385040" y="460440"/>
            <a:ext cx="428760" cy="2399760"/>
            <a:chOff x="7385040" y="460440"/>
            <a:chExt cx="428760" cy="2399760"/>
          </a:xfrm>
        </p:grpSpPr>
        <p:sp>
          <p:nvSpPr>
            <p:cNvPr id="799" name=""/>
            <p:cNvSpPr/>
            <p:nvPr/>
          </p:nvSpPr>
          <p:spPr>
            <a:xfrm>
              <a:off x="756756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8504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634800" y="154080"/>
            <a:ext cx="2058120" cy="2728800"/>
            <a:chOff x="6634800" y="154080"/>
            <a:chExt cx="2058120" cy="2728800"/>
          </a:xfrm>
        </p:grpSpPr>
        <p:sp>
          <p:nvSpPr>
            <p:cNvPr id="802" name=""/>
            <p:cNvSpPr/>
            <p:nvPr/>
          </p:nvSpPr>
          <p:spPr>
            <a:xfrm>
              <a:off x="7292880" y="51120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121160" y="53028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34800" y="15408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0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0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1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1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1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2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24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829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832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384720" y="469800"/>
            <a:ext cx="428400" cy="2400480"/>
            <a:chOff x="3384720" y="469800"/>
            <a:chExt cx="428400" cy="2400480"/>
          </a:xfrm>
        </p:grpSpPr>
        <p:sp>
          <p:nvSpPr>
            <p:cNvPr id="835" name=""/>
            <p:cNvSpPr/>
            <p:nvPr/>
          </p:nvSpPr>
          <p:spPr>
            <a:xfrm>
              <a:off x="3566880" y="46980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84720" y="63180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2634120" y="173160"/>
            <a:ext cx="2058120" cy="2728800"/>
            <a:chOff x="2634120" y="173160"/>
            <a:chExt cx="2058120" cy="2728800"/>
          </a:xfrm>
        </p:grpSpPr>
        <p:sp>
          <p:nvSpPr>
            <p:cNvPr id="838" name=""/>
            <p:cNvSpPr/>
            <p:nvPr/>
          </p:nvSpPr>
          <p:spPr>
            <a:xfrm>
              <a:off x="3292200" y="53028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120480" y="54936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34120" y="173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4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4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4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5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51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56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60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865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866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869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872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7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7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8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8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89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93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898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901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904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07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08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8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cap="rnd" w="936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9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9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1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04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8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835520" y="482760"/>
            <a:ext cx="428760" cy="2399760"/>
            <a:chOff x="4835520" y="482760"/>
            <a:chExt cx="428760" cy="2399760"/>
          </a:xfrm>
        </p:grpSpPr>
        <p:sp>
          <p:nvSpPr>
            <p:cNvPr id="112" name=""/>
            <p:cNvSpPr/>
            <p:nvPr/>
          </p:nvSpPr>
          <p:spPr>
            <a:xfrm>
              <a:off x="5018040" y="4827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35520" y="6444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407360" y="473040"/>
            <a:ext cx="428400" cy="2400480"/>
            <a:chOff x="7407360" y="473040"/>
            <a:chExt cx="428400" cy="2400480"/>
          </a:xfrm>
        </p:grpSpPr>
        <p:sp>
          <p:nvSpPr>
            <p:cNvPr id="115" name=""/>
            <p:cNvSpPr/>
            <p:nvPr/>
          </p:nvSpPr>
          <p:spPr>
            <a:xfrm>
              <a:off x="758952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736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743360" y="533520"/>
            <a:ext cx="71460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71640" y="55260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20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85280" y="1760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57520" y="4033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1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1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1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2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21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26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30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934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937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40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46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47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5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5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59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60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65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69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973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7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7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82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83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 rot="5400000">
            <a:off x="2130120" y="676080"/>
            <a:ext cx="4367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9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9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1005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1006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1010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013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904640" y="4016520"/>
            <a:ext cx="447480" cy="295200"/>
            <a:chOff x="4904640" y="4016520"/>
            <a:chExt cx="447480" cy="295200"/>
          </a:xfrm>
        </p:grpSpPr>
        <p:sp>
          <p:nvSpPr>
            <p:cNvPr id="1018" name=""/>
            <p:cNvSpPr/>
            <p:nvPr/>
          </p:nvSpPr>
          <p:spPr>
            <a:xfrm>
              <a:off x="497844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04640" y="40370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218120" y="364644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005160" y="4016520"/>
            <a:ext cx="474840" cy="295200"/>
            <a:chOff x="6005160" y="4016520"/>
            <a:chExt cx="474840" cy="295200"/>
          </a:xfrm>
        </p:grpSpPr>
        <p:sp>
          <p:nvSpPr>
            <p:cNvPr id="1022" name=""/>
            <p:cNvSpPr/>
            <p:nvPr/>
          </p:nvSpPr>
          <p:spPr>
            <a:xfrm>
              <a:off x="608328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05160" y="40370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4237200" y="363708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6535800" y="477720"/>
            <a:ext cx="428400" cy="2400480"/>
            <a:chOff x="6535800" y="477720"/>
            <a:chExt cx="428400" cy="2400480"/>
          </a:xfrm>
        </p:grpSpPr>
        <p:sp>
          <p:nvSpPr>
            <p:cNvPr id="1026" name=""/>
            <p:cNvSpPr/>
            <p:nvPr/>
          </p:nvSpPr>
          <p:spPr>
            <a:xfrm>
              <a:off x="6717960" y="47772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35800" y="63972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964200" y="477720"/>
            <a:ext cx="428760" cy="2400480"/>
            <a:chOff x="6964200" y="477720"/>
            <a:chExt cx="428760" cy="2400480"/>
          </a:xfrm>
        </p:grpSpPr>
        <p:sp>
          <p:nvSpPr>
            <p:cNvPr id="1029" name=""/>
            <p:cNvSpPr/>
            <p:nvPr/>
          </p:nvSpPr>
          <p:spPr>
            <a:xfrm>
              <a:off x="7146720" y="4777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64200" y="6397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3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1040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1041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4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4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5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54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057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6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61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6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6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7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1075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7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8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8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8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9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9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109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110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1104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1105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1108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111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1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1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1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2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2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2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1133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3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3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142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146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150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cc00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01600" y="1908000"/>
            <a:ext cx="8569080" cy="144360"/>
            <a:chOff x="201600" y="1908000"/>
            <a:chExt cx="8569080" cy="144360"/>
          </a:xfrm>
        </p:grpSpPr>
        <p:sp>
          <p:nvSpPr>
            <p:cNvPr id="154" name=""/>
            <p:cNvSpPr/>
            <p:nvPr/>
          </p:nvSpPr>
          <p:spPr>
            <a:xfrm>
              <a:off x="201600" y="19364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40" y="19080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370400" y="465120"/>
            <a:ext cx="428760" cy="2400480"/>
            <a:chOff x="4370400" y="465120"/>
            <a:chExt cx="428760" cy="2400480"/>
          </a:xfrm>
        </p:grpSpPr>
        <p:sp>
          <p:nvSpPr>
            <p:cNvPr id="157" name=""/>
            <p:cNvSpPr/>
            <p:nvPr/>
          </p:nvSpPr>
          <p:spPr>
            <a:xfrm>
              <a:off x="455292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7040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6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61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65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170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835520" y="463680"/>
            <a:ext cx="428760" cy="2399760"/>
            <a:chOff x="4835520" y="463680"/>
            <a:chExt cx="428760" cy="2399760"/>
          </a:xfrm>
        </p:grpSpPr>
        <p:sp>
          <p:nvSpPr>
            <p:cNvPr id="176" name=""/>
            <p:cNvSpPr/>
            <p:nvPr/>
          </p:nvSpPr>
          <p:spPr>
            <a:xfrm>
              <a:off x="501804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552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540480" y="453960"/>
            <a:ext cx="428760" cy="2400480"/>
            <a:chOff x="6540480" y="453960"/>
            <a:chExt cx="428760" cy="2400480"/>
          </a:xfrm>
        </p:grpSpPr>
        <p:sp>
          <p:nvSpPr>
            <p:cNvPr id="179" name=""/>
            <p:cNvSpPr/>
            <p:nvPr/>
          </p:nvSpPr>
          <p:spPr>
            <a:xfrm>
              <a:off x="672300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048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1440" y="4332240"/>
            <a:ext cx="559440" cy="884160"/>
            <a:chOff x="3421440" y="4332240"/>
            <a:chExt cx="559440" cy="884160"/>
          </a:xfrm>
        </p:grpSpPr>
        <p:grpSp>
          <p:nvGrpSpPr>
            <p:cNvPr id="185" name=""/>
            <p:cNvGrpSpPr/>
            <p:nvPr/>
          </p:nvGrpSpPr>
          <p:grpSpPr>
            <a:xfrm>
              <a:off x="3428280" y="4921200"/>
              <a:ext cx="552600" cy="295200"/>
              <a:chOff x="3428280" y="4921200"/>
              <a:chExt cx="552600" cy="29520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3536640" y="49212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3427920" y="4941720"/>
                <a:ext cx="552600" cy="246240"/>
              </a:xfrm>
              <a:prstGeom prst="rect">
                <a:avLst/>
              </a:prstGeom>
              <a:noFill/>
              <a:ln cap="rnd" w="93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421440" y="4332240"/>
              <a:ext cx="266400" cy="590400"/>
            </a:xfrm>
            <a:prstGeom prst="line">
              <a:avLst/>
            </a:prstGeom>
            <a:ln cap="rnd" w="936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7664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3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4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4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5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1155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1156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1159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1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162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6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6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7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7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79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1184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1187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1190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193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194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9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20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0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20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212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1216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1219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22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1228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1229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3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23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3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24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24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247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1251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254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255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1260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1261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 rot="5400000">
            <a:off x="2162880" y="43560"/>
            <a:ext cx="4538520" cy="73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742320" y="302724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2109960" y="1362240"/>
            <a:ext cx="5497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9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0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05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09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213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01600" y="2136600"/>
            <a:ext cx="8569080" cy="144360"/>
            <a:chOff x="201600" y="2136600"/>
            <a:chExt cx="8569080" cy="144360"/>
          </a:xfrm>
        </p:grpSpPr>
        <p:sp>
          <p:nvSpPr>
            <p:cNvPr id="217" name=""/>
            <p:cNvSpPr/>
            <p:nvPr/>
          </p:nvSpPr>
          <p:spPr>
            <a:xfrm>
              <a:off x="201600" y="21650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040" y="21366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20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2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4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228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229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233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857840" y="399096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69240" y="453960"/>
            <a:ext cx="428400" cy="2400480"/>
            <a:chOff x="6969240" y="453960"/>
            <a:chExt cx="428400" cy="2400480"/>
          </a:xfrm>
        </p:grpSpPr>
        <p:sp>
          <p:nvSpPr>
            <p:cNvPr id="239" name=""/>
            <p:cNvSpPr/>
            <p:nvPr/>
          </p:nvSpPr>
          <p:spPr>
            <a:xfrm>
              <a:off x="7151400" y="45396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9240" y="61596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242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83320" y="473040"/>
            <a:ext cx="428400" cy="2400480"/>
            <a:chOff x="5683320" y="473040"/>
            <a:chExt cx="428400" cy="2400480"/>
          </a:xfrm>
        </p:grpSpPr>
        <p:sp>
          <p:nvSpPr>
            <p:cNvPr id="247" name=""/>
            <p:cNvSpPr/>
            <p:nvPr/>
          </p:nvSpPr>
          <p:spPr>
            <a:xfrm>
              <a:off x="586548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8332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253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257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19800" y="40622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7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7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78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82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286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01600" y="2270160"/>
            <a:ext cx="8569080" cy="144360"/>
            <a:chOff x="201600" y="2270160"/>
            <a:chExt cx="8569080" cy="144360"/>
          </a:xfrm>
        </p:grpSpPr>
        <p:sp>
          <p:nvSpPr>
            <p:cNvPr id="290" name=""/>
            <p:cNvSpPr/>
            <p:nvPr/>
          </p:nvSpPr>
          <p:spPr>
            <a:xfrm>
              <a:off x="201600" y="22986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040" y="22701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93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9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7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01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06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972040" y="39816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540480" y="453960"/>
            <a:ext cx="428760" cy="2400480"/>
            <a:chOff x="6540480" y="453960"/>
            <a:chExt cx="428760" cy="2400480"/>
          </a:xfrm>
        </p:grpSpPr>
        <p:sp>
          <p:nvSpPr>
            <p:cNvPr id="312" name=""/>
            <p:cNvSpPr/>
            <p:nvPr/>
          </p:nvSpPr>
          <p:spPr>
            <a:xfrm>
              <a:off x="672300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4048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15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16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64280" y="473040"/>
            <a:ext cx="428400" cy="2400480"/>
            <a:chOff x="5264280" y="473040"/>
            <a:chExt cx="428400" cy="2400480"/>
          </a:xfrm>
        </p:grpSpPr>
        <p:sp>
          <p:nvSpPr>
            <p:cNvPr id="320" name=""/>
            <p:cNvSpPr/>
            <p:nvPr/>
          </p:nvSpPr>
          <p:spPr>
            <a:xfrm>
              <a:off x="544644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428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326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181480" y="4330800"/>
            <a:ext cx="514440" cy="884160"/>
            <a:chOff x="5181480" y="4330800"/>
            <a:chExt cx="514440" cy="884160"/>
          </a:xfrm>
        </p:grpSpPr>
        <p:grpSp>
          <p:nvGrpSpPr>
            <p:cNvPr id="330" name=""/>
            <p:cNvGrpSpPr/>
            <p:nvPr/>
          </p:nvGrpSpPr>
          <p:grpSpPr>
            <a:xfrm>
              <a:off x="5186160" y="4919760"/>
              <a:ext cx="509760" cy="295200"/>
              <a:chOff x="5186160" y="4919760"/>
              <a:chExt cx="509760" cy="29520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5289120" y="4919760"/>
                <a:ext cx="2833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186160" y="4940280"/>
                <a:ext cx="50976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181480" y="4330800"/>
              <a:ext cx="24768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335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24080" y="4948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53040" y="4338720"/>
            <a:ext cx="801360" cy="1114200"/>
            <a:chOff x="6053040" y="4338720"/>
            <a:chExt cx="801360" cy="1114200"/>
          </a:xfrm>
        </p:grpSpPr>
        <p:sp>
          <p:nvSpPr>
            <p:cNvPr id="346" name=""/>
            <p:cNvSpPr/>
            <p:nvPr/>
          </p:nvSpPr>
          <p:spPr>
            <a:xfrm flipH="1">
              <a:off x="6396120" y="492768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74800" y="4938840"/>
              <a:ext cx="57924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80200" y="433872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53040" y="5348160"/>
              <a:ext cx="523800" cy="104760"/>
            </a:xfrm>
            <a:custGeom>
              <a:avLst/>
              <a:gdLst>
                <a:gd name="textAreaLeft" fmla="*/ 91440 w 523800"/>
                <a:gd name="textAreaRight" fmla="*/ 379800 w 523800"/>
                <a:gd name="textAreaTop" fmla="*/ 14040 h 104760"/>
                <a:gd name="textAreaBottom" fmla="*/ 90720 h 1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35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35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35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36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36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2240" y="831960"/>
            <a:ext cx="8569080" cy="144360"/>
            <a:chOff x="192240" y="831960"/>
            <a:chExt cx="8569080" cy="144360"/>
          </a:xfrm>
        </p:grpSpPr>
        <p:sp>
          <p:nvSpPr>
            <p:cNvPr id="371" name=""/>
            <p:cNvSpPr/>
            <p:nvPr/>
          </p:nvSpPr>
          <p:spPr>
            <a:xfrm>
              <a:off x="192240" y="8604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9680" y="8319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374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37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378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82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87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93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398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02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06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11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15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42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43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434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438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442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10960" y="2384280"/>
            <a:ext cx="8569080" cy="144360"/>
            <a:chOff x="210960" y="2384280"/>
            <a:chExt cx="8569080" cy="144360"/>
          </a:xfrm>
        </p:grpSpPr>
        <p:sp>
          <p:nvSpPr>
            <p:cNvPr id="446" name=""/>
            <p:cNvSpPr/>
            <p:nvPr/>
          </p:nvSpPr>
          <p:spPr>
            <a:xfrm>
              <a:off x="21096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840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449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45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45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457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462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40984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468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473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77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81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86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90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91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111400" y="473040"/>
            <a:ext cx="428760" cy="2400480"/>
            <a:chOff x="2111400" y="473040"/>
            <a:chExt cx="428760" cy="2400480"/>
          </a:xfrm>
        </p:grpSpPr>
        <p:sp>
          <p:nvSpPr>
            <p:cNvPr id="495" name=""/>
            <p:cNvSpPr/>
            <p:nvPr/>
          </p:nvSpPr>
          <p:spPr>
            <a:xfrm>
              <a:off x="2293920" y="47304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11400" y="63504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498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1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1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17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21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25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529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53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53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537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542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548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553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557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562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566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571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8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8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8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8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9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9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601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0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0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60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61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620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621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625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113440" y="4330800"/>
            <a:ext cx="621000" cy="884160"/>
            <a:chOff x="5113440" y="4330800"/>
            <a:chExt cx="621000" cy="884160"/>
          </a:xfrm>
        </p:grpSpPr>
        <p:grpSp>
          <p:nvGrpSpPr>
            <p:cNvPr id="629" name=""/>
            <p:cNvGrpSpPr/>
            <p:nvPr/>
          </p:nvGrpSpPr>
          <p:grpSpPr>
            <a:xfrm>
              <a:off x="5119200" y="4919760"/>
              <a:ext cx="615240" cy="295200"/>
              <a:chOff x="5119200" y="4919760"/>
              <a:chExt cx="615240" cy="29520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5229360" y="491976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11884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5113440" y="433080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634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638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00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643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cc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cc00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cap="rnd" w="324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3-10-09T15:55:56Z</dcterms:modified>
  <cp:revision>126</cp:revision>
  <dc:subject/>
  <dc:title>Diapositiva 1</dc:title>
</cp:coreProperties>
</file>